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10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95D83-E493-4E5A-B25B-5043ED16F2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70B68F-4F65-4B3D-807F-E24A00C18909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E62B5698-5AF8-4592-9B9A-8C0078AEFE7E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542783-1F00-41D3-B8CD-95990C1FBD03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CF75BD37-28C3-49C8-8032-BA689D5A9C8C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2A9FC1-A5EF-483E-A1A6-238159BCD198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D9B5ECC8-B114-4C4F-9156-0C9D324334C1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86E5F8-F064-4894-9954-825A14106439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2EBE9A13-B8E2-4BB7-9845-B8A860AAD82C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8AA4F5-3407-4C6F-B6A5-3C763B18BF4E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8ACFE288-2317-469B-85C0-739C16BE5FC5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A29DC3-6CB9-43CC-98F1-48D467CE92FB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BCED2C59-FA52-43B1-ABAE-A2C9F6999712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Журавлева С.В. Фестиваль авторской песни. г. Магнитогор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94067F-9866-4082-BAB1-E3F174D190E1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DB638DB8-A26C-4F85-A527-3D988BA4D28B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Лях В.И. Мой друг – физкультура. 1-4 классы. – М.: Просвещение,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2854E7-BA9F-48F4-90C5-1A5C56F55F77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6A749948-AD89-438B-A248-0B31E4AFC7E7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www.posternazakaz.ru/shop/7698b957-13c9bfed463b0d5d55dc75b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Лях В.И. Мой друг – физкультура. 1-4 классы. – М.: Просвещение,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A94BDB-81F3-4945-B067-247DCFF31DD8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6D990545-BBDD-4E8E-B2BA-724C83D74BAC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Лях В.И. Мой друг – физкультура. 1-4 классы. – М.: Просвещение,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6F7A56-90E6-40D7-8575-D377086A5B41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A48BDB5B-C86D-4B5C-BEC7-6DAD4E44BA2D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A68271-ED9B-4D13-AABD-99898344E86D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D73E559F-EDE8-4507-BFB9-01F120A60FC7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8D0-25FC-401B-8C67-88CCB8C1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2FE-5F16-4B9C-B64D-7BF9BC5E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014-2FDB-4992-90D5-EFF623DE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0CD-211E-4B4F-8B62-E90BC388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0E521-212C-4DBA-8F83-AC16297A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5177A-BDF1-4228-8976-02CD8CC0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D9335-1F3A-4C1B-B89C-C8940F8E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6BB42-D6E6-408B-9647-A116EEE2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61B11-844C-48EE-9ABF-BB3D8781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E07FC-93F6-4627-A0FB-9C51ECFB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ECA13-2562-435D-91EC-13EB33A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234-D8BB-4DEF-8E4A-745A89CB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4F459-A67F-4B39-A62B-1189F76D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CB7D5-488E-4142-BC69-6CF2EFA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33547-3C24-4A88-802D-C9CB1954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A463C-F609-471E-9514-4F53E7D2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D4B70-42AD-4B71-A995-B4BC380C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C48E-BCDA-4324-9531-9E35C378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90E8-A037-4A8C-BD56-B5E85E20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46C0-2ACE-4FDE-A548-A5C6B4F9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62B7-C590-4EE6-84BC-CF130ED1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9430-A6AC-4029-A440-6F6E7305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20E-D778-4B56-B654-F67AFC17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F7768-2698-4AD1-9EF6-8B58F640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76E1-3B33-4FDC-B504-636C67FE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1A68-9DCF-41B3-9ADB-B85A2192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790A-9F4B-4CBE-A973-CC8EB420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8AC1-3840-49D8-BF13-2AE863E4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D59E-F8A5-4E4F-A283-9572F66B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6A57-57C6-4039-9EF1-8D449E80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4DC-A868-4DBB-A74E-366E6FBE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FDC-F7F4-4BCD-B776-FD3A80A9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E90-9B06-42B3-BAAF-75222F2C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669-C616-4419-B639-80FDBE8E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986-B129-4587-B3D5-0AC196CC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E7E-A855-4290-9101-0E8BB92A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016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1F4526-D8E4-456C-9B71-A85EBC5694D2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fld id="{478E1700-7992-4FC5-975B-96EA4F6E5DFF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A6BD1A-84CD-4968-909D-63C474740D2F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fld id="{15A6914A-61AC-4326-B4B8-6108B6036063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FB9C9B-C1FF-4EC5-A789-EA98602AFA8A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fld id="{F178199B-6AC0-47BD-B33F-C1645815A1E4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4.xml" TargetMode="External"/><Relationship Id="rId3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4.xml" TargetMode="External"/><Relationship Id="rId4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4.xml" TargetMode="External"/><Relationship Id="rId5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5.xml" TargetMode="External"/><Relationship Id="rId6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6.xml" TargetMode="External"/><Relationship Id="rId7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7.xml" TargetMode="External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56000" y="2205000"/>
            <a:ext cx="478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ЗАКАЛИВАНИЕ</a:t>
            </a:r>
            <a:br>
              <a:rPr sz="4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для начальных клас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40719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333360"/>
            <a:ext cx="821844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евай на голову легкую шапочку из светлой тка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стро смени верхнюю одежду, чулки, носки и обувь, если они намокли в холодную пого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аливающую процедуру необходимо немедленно прекратить, если появился озноб, дрожь (во время куп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411280" y="3068640"/>
            <a:ext cx="57150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Условия проведения закаливающих процеду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таблица 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2060640"/>
          <a:ext cx="8783640" cy="3898800"/>
        </p:xfrm>
        <a:graphic>
          <a:graphicData uri="http://schemas.openxmlformats.org/drawingml/2006/table">
            <a:tbl>
              <a:tblPr/>
              <a:tblGrid>
                <a:gridCol w="1871640"/>
                <a:gridCol w="3456000"/>
                <a:gridCol w="345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е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нечные ван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жная ван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ир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ивание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ш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п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+20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+ 25°С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епенно через каждые 3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ть и довести до + 15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+20…+25°С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епенно снижать каждые 3 дн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+ 16…+18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не ниже +20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ые дни – 10 мин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каждые последующие 3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ивать на 5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мину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мину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5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696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Список литерату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413000"/>
            <a:ext cx="82296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8200" bIns="45000" anchor="t">
            <a:noAutofit/>
          </a:bodyPr>
          <a:p>
            <a:pPr marL="608040" indent="-608040" algn="ctr">
              <a:lnSpc>
                <a:spcPct val="8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ях В.И. Мой друг – физкультура. 1-4 классы. – М.: Просвещение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ова В.В. Физкультура в начальной школе: учебное пособие для учащихся начальной школы. – Ростов н/Д: Феникс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8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1 – Расказчиков Д.Н. Основы здорового образа жизни. Школа № 5. г. Лесосибир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2 – Ветлугин А.И. Современные олимпийский игры, их символика. Черниговская шко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3 - www.uppps.ru http://www.uppps.ru/forum/14-4195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4, 6, 7, 8, 9, 10 -  Лях В.И. Мой друг – физкультура. 1-4 классы. – М.: Просвещение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5 – Журавлева С.В. Фестиваль авторской песни. г. Магнито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7 - www.posternazakaz.ru/shop/7698b957-13c9bfed463b0d5d55dc75b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12 – Соловьева Е.Е. Здоровый образ жизни. г. Магнито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907560"/>
            <a:ext cx="2159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63700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Для чего необходимо закаливание.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Слайд №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Как действует закаливание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Слайд №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Средства закаливания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Слайд №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Правила закаливания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7"/>
              </a:rPr>
              <a:t>Слайд № 6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Условия проведения закаливающих процедур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084720" y="620640"/>
            <a:ext cx="2267280" cy="194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51280" y="2492280"/>
            <a:ext cx="50068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504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сли хочешь, чтобы твой организм был крепким и мог сопротивляться любым болезням – закаливай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25200" y="189000"/>
            <a:ext cx="82184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1440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сли хочешь, чтобы твой организм был крепким и мог сопротивляться любым болезням – закаливайся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2394000"/>
            <a:ext cx="2987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0"/>
            <a:ext cx="8137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algn="ctr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Как действует закалив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сь организм человека пронизывают кровеносные сосуды. Они работают в теле, как батареи системы отопления в доме. На холоде сосуды расширяются и прокачивают больше теплой крови через поверхность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новиться теплее. На жаре они сужаются, чтобы кровь не перегрелась от этой поверхности и не перегрела внутренн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этому так важно научить кровеносные сосуды быстро сжиматься к смене тепла и хо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гда организм смо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отпор микроб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зывающим просту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другие инфекцио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боле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61040" y="4184640"/>
            <a:ext cx="478296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260280"/>
            <a:ext cx="45464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r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ловек с давних пор пользуется солнцем, свежим воздухом и водой для укрепления своего здоровья. Под их действием улучшается деятельность нервной системы, сердца, сосудов, легких, вырабатывается иммунитет к простудным заболев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744720" cy="6024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429240" y="4929120"/>
            <a:ext cx="93528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равила закалив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41300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иная закаливание в теплую погоду, когда можно одновременно принимать воздушные и солнечные ванны. Это время отдыха, игры, прогулок (пеших и на велосипеде). Водные процедуры начинай во время купания в реке, озе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854520" cy="317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85840" y="3429000"/>
            <a:ext cx="46432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140360" y="333360"/>
            <a:ext cx="45352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360" bIns="45000" anchor="t">
            <a:noAutofit/>
          </a:bodyPr>
          <a:p>
            <a:pPr marL="343080" indent="-341640" algn="just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ди босиком по лесной тропинке, песку, мягкой траве, галь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ельность закаливающих процедур вначале должна быть небольшой, а температура воздуха и воды соответствовать рекомендуем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таблица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пературу воды для обливания, обтирания, душа и ножных ванн надо снижать постепенно каждые три дня на 1-2º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3143160" cy="316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714680" y="571680"/>
            <a:ext cx="2387520" cy="29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33360"/>
            <a:ext cx="41148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одных процедур разотри тело сухим полотенцем до легкого покрас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начал закаляться, то делай это каждый день! Если пропустил 1-2 недели, то надо начинать все снач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яй закаливающие процедуры только будучи здоров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382920" cy="58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260280"/>
            <a:ext cx="8064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предохранить себя во время закаливающих процедур от перегревания или переохлаждения, следует также соблюдать несколько несложных, но важных прав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дленно прекращай закаливающие процедуры при ухудшении самочувствия (вялость, сердцеби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оставайся под прямыми солнечными лучами в первые жаркие дни более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071800" y="3857760"/>
            <a:ext cx="5643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1-18T19:38:56Z</dcterms:modified>
  <cp:revision>1</cp:revision>
  <dc:subject/>
  <dc:title>Слайд 1</dc:title>
</cp:coreProperties>
</file>