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10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A3E0F-51C3-48F9-9D2D-E9B4705DD3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C5BFDA-111B-4415-9206-D988A00A3C2E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6A566FAD-AE7D-4657-B8C5-B3F05497262E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130EB9-0635-4425-B7B7-EB4F06EEF8BD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2D0A2FF8-101E-47BE-847B-DE91EF2143E6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A5B0F6-0160-466A-A0E8-B1D9CBAB1542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1F1DDC30-E80B-4E54-8FD6-1DEEB5603D8B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B716E6-E705-484C-A7A6-8A519E52E599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3FA4E34C-83FF-4AD3-8D6B-C6DA6A609E25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7130FF-38ED-4998-B63F-4082F554323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4D657E71-3246-4BC4-8790-8BE37C9F13C8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D295EB-8124-4C78-8B15-DA3208657BC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BF96F082-DD34-4413-9135-8BC811C2A65F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Журавлева С.В. Фестиваль авторской песни. г. Магнитогор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051A79-7345-4368-B657-FD41E058E76F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C8A92F1C-7259-4650-90DB-12242D121D2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DB1E86-0377-4A63-9BCF-65EFB1EBEB08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35DAF4AC-1D2F-4360-A887-CE2D6BFEF13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www.posternazakaz.ru/shop/7698b957-13c9bfed463b0d5d55dc75b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77677-6CA6-46C1-94A4-8E90EC289911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4C9AB83B-351E-43D9-A8DD-1D72F89CF7E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90000" rIns="90000" tIns="-43560" bIns="-4356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+mn-ea"/>
              </a:rPr>
              <a:t>Лях В.И. Мой друг – физкультура. 1-4 классы. – М.: Просвещение,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BC30BB-4845-4C88-BDB5-D59684D73A73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3C549198-9157-45D5-A404-379C75FAFD4D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0" y="-4680"/>
            <a:ext cx="1440" cy="329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18FBCB-FE8A-4F43-9C54-57F3485AA2FA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fld id="{31D101B3-AB3C-4C79-8702-4CDF4A4FBD4D}" type="slidenum">
              <a:rPr b="0" lang="ru-RU" sz="1800" spc="-1" strike="noStrike">
                <a:solidFill>
                  <a:srgbClr val="ffffff"/>
                </a:solidFill>
                <a:latin typeface="Tahoma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746-1C0B-49B4-B079-EB4FD502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AC1-BFC1-42AA-A199-308A131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143-FE85-4521-B89B-B9B5FDAB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03D-FACD-4400-BF64-8F38CC0B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8A4BE-B7A6-4FA5-B5AE-FD8706AD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8A891-4828-4D3E-B8D2-0ADDCFEC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0B984-05AB-4D9F-8718-6887E09B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43D75-A624-43D8-BB36-D9EC568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B4E11-C5BD-47A8-9546-0099D18C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2217D-173E-4483-8BD7-3121BE88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C5E84-62DF-4F86-BF98-1915C69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C2C-05CA-4C19-BBD2-13E2FA8A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28C59-833F-4253-B161-72AEB31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23A8F-4ED3-4054-BD1F-40AB272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E812-7795-4FC1-B2D6-1E451E13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76D6-02A6-4647-8852-FF45D236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FDD8D-AC66-4136-8214-8F944679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5351-BE98-4AAA-8C73-736165C9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2038E-7485-42F4-BE61-A7A612A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934E-2D87-4013-8FEC-F5AA6FA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F35A-B9B5-484D-96DA-90EBB0A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C0AB7-817A-47F8-827E-5BB84C7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7CA-8270-4DD1-B1B5-B7D819C1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F93B-57BA-432D-9BE2-97409288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692E-6C51-4492-BE5C-832A8C55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53E18-F805-42B8-AC06-A4A9CF7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419A-A102-41FA-A633-65ADE53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BA76-53E9-4FBF-A5B2-0700533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5A42-9600-445A-A4B3-45A21013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5ACA-315D-4F5C-BBB6-DB3ED5CE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E49-F4E0-43FC-9CF3-96F8EE9D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AC3-A8AC-49E5-9581-B4F91F7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FD3-C706-4151-BF60-8C25AC7F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D28-8051-4F0D-A3E1-C0562E2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BDC-9543-4576-81DF-D1CFCB94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A9F-FFE8-4295-8E01-1D665D4B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3016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01680" indent="-3016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C42E5DF-A10C-487C-9F0C-68B7AEA0F29E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8831C335-1E5F-4620-AFC3-5784D3AA1092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337E71-05BF-4DB5-AFE3-16BBC3B4D57C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A5F78C4B-BB86-41F9-BE15-3378943709A7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2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9FDB6A-3E8A-436E-AA76-B087C37352B0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fld id="{0A4E431B-B6D0-4291-B03D-49D0DB7388A9}" type="slidenum">
              <a:rPr b="0" lang="ru-RU" sz="2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3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4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4.xml" TargetMode="External"/><Relationship Id="rId5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5.xml" TargetMode="External"/><Relationship Id="rId6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6.xml" TargetMode="External"/><Relationship Id="rId7" Type="http://schemas.openxmlformats.org/officeDocument/2006/relationships/hyperlink" Target="file:///K:/&#1059;&#1088;&#1086;&#1082;%20&#1087;&#1086;%20&#1092;&#1080;&#1079;&#1082;&#1091;&#1083;&#1100;&#1090;&#1091;&#1088;&#1077;%20&#1085;&#1072;%20&#1090;&#1077;&#1084;&#1091;-%20&#1047;&#1072;&#1082;&#1072;&#1083;&#1080;&#1074;&#1072;&#1085;&#1080;&#1077;/slide7.xml" TargetMode="Externa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56000" y="2205000"/>
            <a:ext cx="47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КАЛИВАНИЕ</a:t>
            </a:r>
            <a:br>
              <a:rPr sz="4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для начальных клас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33360"/>
            <a:ext cx="821844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евай на голову легкую шапочку из светлой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 смени верхнюю одежду, чулки, носки и обувь, если они намокли в холодную пого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аливающую процедуру необходимо немедленно прекратить, если появился озноб, дрожь (во время куп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57150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Условия проведения закаливающих процеду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таблица 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060640"/>
          <a:ext cx="8783640" cy="3898800"/>
        </p:xfrm>
        <a:graphic>
          <a:graphicData uri="http://schemas.openxmlformats.org/drawingml/2006/table">
            <a:tbl>
              <a:tblPr/>
              <a:tblGrid>
                <a:gridCol w="1871640"/>
                <a:gridCol w="3456000"/>
                <a:gridCol w="345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е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ечные ван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жная ван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ир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ивание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ш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п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 25°С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через кажды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ть и довести до + 15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+20…+25°С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епенно снижать каждые 3 дн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+ 16…+18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не ниже +20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дни – 10 мин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каждые последующие 3 д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ивать на 5 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 мину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buClr>
                          <a:srgbClr val="ffcc00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ать с 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96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413000"/>
            <a:ext cx="82296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200" bIns="45000" anchor="t">
            <a:noAutofit/>
          </a:bodyPr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а В.В. Физкультура в начальной школе: учебное пособие для учащихся начальной школы. – Ростов н/Д: Феникс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 – Расказчиков Д.Н. Основы здорового образа жизни. Школа № 5. г. Лесосибир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2 – Ветлугин А.И. Современные олимпийский игры, их символика. Черниговская шко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3 - www.uppps.ru http://www.uppps.ru/forum/14-4195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4, 6, 7, 8, 9, 10 -  Лях В.И. Мой друг – физкультура. 1-4 классы. –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5 – Журавлева С.В. Фестиваль авторской пес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7 - www.posternazakaz.ru/shop/7698b957-13c9bfed463b0d5d55dc75b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buClr>
                <a:srgbClr val="ffcc00"/>
              </a:buClr>
              <a:buFont typeface="Tahoma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2 – Соловьева Е.Е. Здоровый образ жизни. г. Магнито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just">
              <a:lnSpc>
                <a:spcPct val="8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2159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63700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ля чего необходимо закаливание.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Слайд №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 действует закаливание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Слайд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Средств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Слайд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Правила закаливания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Слайд №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Условия проведения закаливающих процедур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айд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084720" y="620640"/>
            <a:ext cx="226728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51280" y="2492280"/>
            <a:ext cx="50068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504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5200" y="189000"/>
            <a:ext cx="8218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1440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сли хочешь, чтобы твой организм был крепким и мог сопротивляться любым болезням – закаливай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8360" y="2394000"/>
            <a:ext cx="2987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0"/>
            <a:ext cx="813780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algn="ctr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ак действует закали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сь организм человека пронизывают кровеносные сосуды. Они работают в теле, как батареи системы отопления в доме. На холоде сосуды расширяются и прокачивают больше теплой крови через поверхность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новиться теплее. На жаре они сужаются, чтобы кровь не перегрелась от этой поверхности и не перегрела внутренн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тому так важно научить кровеносные сосуды быстро сжиматься к смене тепла и хо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организм смо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отпор микроб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зывающим прост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другие инфек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61040" y="4184640"/>
            <a:ext cx="478296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260280"/>
            <a:ext cx="454644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r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 с давних пор пользуется солнцем, свежим воздухом и водой для укрепления своего здоровья. Под их действием улучшается деятельность нервной системы, сердца, сосудов, легких, вырабатывается иммунитет к простудным заболев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744720" cy="6024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29240" y="4929120"/>
            <a:ext cx="93528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авила закали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я закаливание в теплую погоду, когда можно одновременно принимать воздушные и солнечные ванны. Это время отдыха, игры, прогулок (пеших и на велосипеде). Водные процедуры начинай во время купания в реке, озе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54520" cy="317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85840" y="3429000"/>
            <a:ext cx="46432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40360" y="333360"/>
            <a:ext cx="45352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t">
            <a:noAutofit/>
          </a:bodyPr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ди босиком по лесной тропинке, песку, мягкой траве, галь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ельность закаливающих процедур вначале должна быть небольшой, а температура воздуха и воды соответствовать рекоменд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таблица 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пературу воды для обливания, обтирания, душа и ножных ванн надо снижать постепенно каждые три дня на 1-2º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3143160" cy="3167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714680" y="571680"/>
            <a:ext cx="2387520" cy="29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33360"/>
            <a:ext cx="411480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одных процедур разотри тело сухим полотенцем до легкого покрас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начал закаляться, то делай это каждый день! Если пропустил 1-2 недели, то надо начинать все снач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й закаливающие процедуры только будучи здоровы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32360" y="476280"/>
            <a:ext cx="3382920" cy="581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260280"/>
            <a:ext cx="8064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редохранить себя во время закаливающих процедур от перегревания или переохлаждения, следует также соблюдать несколько несложных, но важных пра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дленно прекращай закаливающие процедуры при ухудшении самочувствия (вялость, сердцебие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1000"/>
              </a:lnSpc>
              <a:spcBef>
                <a:spcPts val="638"/>
              </a:spcBef>
              <a:buClr>
                <a:srgbClr val="ffcc00"/>
              </a:buClr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оставайся под прямыми солнечными лучами в первые жаркие дни более 10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071800" y="3857760"/>
            <a:ext cx="5643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1-18T19:38:56Z</dcterms:modified>
  <cp:revision>1</cp:revision>
  <dc:subject/>
  <dc:title>Слайд 1</dc:title>
</cp:coreProperties>
</file>