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2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10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6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7D2D0-BBC4-441B-965D-0AC1C7E0E4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A8536C-C200-4D15-802E-83C949D3A1D3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C60AF236-4984-4136-88FC-5C9673F6AB12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71D268-20C6-405C-9556-803F68FB44C5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2F52E913-3E76-4184-B195-64F9FDE794D4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0CA7B2-DE37-427A-AC09-20B586B9345A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F747834F-3CD4-4221-A226-73D101C91324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833AC4-E174-4A4B-A2B8-7C51F177448B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4E35F837-1836-400A-AAA0-38B09A70D9F0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7A16AF-C15E-49F9-A0C5-6B7967961535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C2D527DF-F3CA-442E-A76B-A9CD4094FBBF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D45BBF-ADED-4F4C-AF25-262000EEA5A6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924E10F8-BC79-4DB5-B654-84CAF9309189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-43560" bIns="-4356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+mn-ea"/>
              </a:rPr>
              <a:t>Журавлева С.В. Фестиваль авторской песни. г. Магнитогорс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115E66-A47E-4141-B795-908BF1876F26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B48B9233-A1E2-4F8C-97B3-33C760C177DA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-43560" bIns="-4356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+mn-ea"/>
              </a:rPr>
              <a:t>Лях В.И. Мой друг – физкультура. 1-4 классы. – М.: Просвещение,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254435-6C4E-4364-B129-5A9DA9C4846A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EBED4339-5BC9-4788-A27A-C591AE5CA1B7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-43560" bIns="-4356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+mn-ea"/>
              </a:rPr>
              <a:t>www.posternazakaz.ru/shop/7698b957-13c9bfed463b0d5d55dc75bd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+mn-ea"/>
              </a:rPr>
              <a:t>Лях В.И. Мой друг – физкультура. 1-4 классы. – М.: Просвещение,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456234-AB03-4E38-9EDE-186FD2F52914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33157431-2B87-4D12-B533-B0436EB49950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-43560" bIns="-4356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+mn-ea"/>
              </a:rPr>
              <a:t>Лях В.И. Мой друг – физкультура. 1-4 классы. – М.: Просвещение,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7D547A-4A98-4201-89D9-421B548E6EC0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6439A751-546B-457B-BFBA-2B19666538D4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32E9A0-0770-4931-AA47-48EA9F9B0940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7FB2A616-624D-40EE-84F3-370858C7F1FF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8A8A-ABDF-4224-822F-950F78FA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AA2B-3235-4F2C-9BA8-3D83AADA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AD3D-D5A6-409D-9976-26C8D911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1C2B-C29C-4E7D-94EE-C06D44BD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317C3-0603-46A1-A663-4BF1563E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C08D9-D290-4B76-A660-65B2C623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270D0-22A2-4746-82D5-7E6960FE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65C13-581D-4CD9-A026-015D0697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2B91B-AD81-4AC9-8434-B21A339B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9D9EF-8FC1-4496-8312-9EDAD1B1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9EC40-9C38-4A27-917B-6F5362A2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614-6D61-45CB-A8A5-F8639335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BE956-7BE3-49EB-93BC-79BB0F67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06696-7C83-4541-AF26-8F74E028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5759A-1714-4ECD-9E11-8A08D670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8876B-6E40-4B98-8D19-F9AAC292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8ADAA-C279-4C22-AF37-32EEF76D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5C48D-A6D8-401A-B3E1-263F0944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688EF-D9E8-44FA-93FF-6859D462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3DEC0-22C4-472B-B6E8-E2F77231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9960D-BF57-4B2F-A2D1-5CD5350F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EB762-4B07-469D-AB7E-BB13172A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D72-74AF-4349-B63D-D6863394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91815-C1F0-4C55-A283-EE134E55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B8A1B-EA0E-45ED-AAD9-F82F2964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45491-8DA0-42CD-B0A7-18596F8F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C1F1D-A9A3-47B7-9D23-09068572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F9ACC-2217-422C-9D0E-B51D7B6C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076DB-C55B-4E97-BBB6-A25E6458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A311F-B76D-4FE7-96EF-3692C008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8F9B-D895-4B30-98B0-64ADB6FA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F7A-92F6-4FF1-8C55-8DA272D3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D3D-82EC-4B82-A9C4-E427EA9B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F2EB-F7FF-46E4-8247-5B25CA76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EC3-2030-4AD7-958A-87E0CF5D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AE5C-32A9-4A87-A387-B55EB3D2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3016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01680" indent="-301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01680" indent="-301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01680" indent="-301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01680" indent="-301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01680" indent="-301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01680" indent="-301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673891-8AD6-4398-BE61-1D9D8AD7AEA4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fld id="{D9FEA516-9B9D-4848-93E9-34BC10380AB5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разец под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A1A7CF3-907A-4060-97B1-7C1E39777B2D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fld id="{781D87DE-046D-4C57-9929-E14E7CA70CCC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21CC3C-21A5-4914-8326-323E5BC9B7E6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fld id="{EF575136-36D3-4960-AA87-09DE0E832770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K:/&#1059;&#1088;&#1086;&#1082;%20&#1087;&#1086;%20&#1092;&#1080;&#1079;&#1082;&#1091;&#1083;&#1100;&#1090;&#1091;&#1088;&#1077;%20&#1085;&#1072;%20&#1090;&#1077;&#1084;&#1091;-%20&#1047;&#1072;&#1082;&#1072;&#1083;&#1080;&#1074;&#1072;&#1085;&#1080;&#1077;/slide4.xml" TargetMode="External"/><Relationship Id="rId3" Type="http://schemas.openxmlformats.org/officeDocument/2006/relationships/hyperlink" Target="file:///K:/&#1059;&#1088;&#1086;&#1082;%20&#1087;&#1086;%20&#1092;&#1080;&#1079;&#1082;&#1091;&#1083;&#1100;&#1090;&#1091;&#1088;&#1077;%20&#1085;&#1072;%20&#1090;&#1077;&#1084;&#1091;-%20&#1047;&#1072;&#1082;&#1072;&#1083;&#1080;&#1074;&#1072;&#1085;&#1080;&#1077;/slide4.xml" TargetMode="External"/><Relationship Id="rId4" Type="http://schemas.openxmlformats.org/officeDocument/2006/relationships/hyperlink" Target="file:///K:/&#1059;&#1088;&#1086;&#1082;%20&#1087;&#1086;%20&#1092;&#1080;&#1079;&#1082;&#1091;&#1083;&#1100;&#1090;&#1091;&#1088;&#1077;%20&#1085;&#1072;%20&#1090;&#1077;&#1084;&#1091;-%20&#1047;&#1072;&#1082;&#1072;&#1083;&#1080;&#1074;&#1072;&#1085;&#1080;&#1077;/slide4.xml" TargetMode="External"/><Relationship Id="rId5" Type="http://schemas.openxmlformats.org/officeDocument/2006/relationships/hyperlink" Target="file:///K:/&#1059;&#1088;&#1086;&#1082;%20&#1087;&#1086;%20&#1092;&#1080;&#1079;&#1082;&#1091;&#1083;&#1100;&#1090;&#1091;&#1088;&#1077;%20&#1085;&#1072;%20&#1090;&#1077;&#1084;&#1091;-%20&#1047;&#1072;&#1082;&#1072;&#1083;&#1080;&#1074;&#1072;&#1085;&#1080;&#1077;/slide5.xml" TargetMode="External"/><Relationship Id="rId6" Type="http://schemas.openxmlformats.org/officeDocument/2006/relationships/hyperlink" Target="file:///K:/&#1059;&#1088;&#1086;&#1082;%20&#1087;&#1086;%20&#1092;&#1080;&#1079;&#1082;&#1091;&#1083;&#1100;&#1090;&#1091;&#1088;&#1077;%20&#1085;&#1072;%20&#1090;&#1077;&#1084;&#1091;-%20&#1047;&#1072;&#1082;&#1072;&#1083;&#1080;&#1074;&#1072;&#1085;&#1080;&#1077;/slide6.xml" TargetMode="External"/><Relationship Id="rId7" Type="http://schemas.openxmlformats.org/officeDocument/2006/relationships/hyperlink" Target="file:///K:/&#1059;&#1088;&#1086;&#1082;%20&#1087;&#1086;%20&#1092;&#1080;&#1079;&#1082;&#1091;&#1083;&#1100;&#1090;&#1091;&#1088;&#1077;%20&#1085;&#1072;%20&#1090;&#1077;&#1084;&#1091;-%20&#1047;&#1072;&#1082;&#1072;&#1083;&#1080;&#1074;&#1072;&#1085;&#1080;&#1077;/slide7.xml" TargetMode="External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56000" y="2205000"/>
            <a:ext cx="478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ЗАКАЛИВАНИЕ</a:t>
            </a:r>
            <a:br>
              <a:rPr sz="4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для начальных класс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40719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333360"/>
            <a:ext cx="821844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евай на голову легкую шапочку из светлой тка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стро смени верхнюю одежду, чулки, носки и обувь, если они намокли в холодную погод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аливающую процедуру необходимо немедленно прекратить, если появился озноб, дрожь (во время куп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411280" y="3068640"/>
            <a:ext cx="571500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Условия проведения закаливающих процедур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таблица 1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9280" y="2060640"/>
          <a:ext cx="8783640" cy="3898800"/>
        </p:xfrm>
        <a:graphic>
          <a:graphicData uri="http://schemas.openxmlformats.org/drawingml/2006/table">
            <a:tbl>
              <a:tblPr/>
              <a:tblGrid>
                <a:gridCol w="1871640"/>
                <a:gridCol w="3456000"/>
                <a:gridCol w="3456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душные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нечные ван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жная ван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тир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ивание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ш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п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ать с +20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ать с + 25°С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епенно через каждые 3 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ать и довести до + 15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ать с +20…+25°С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епенно снижать каждые 3 дн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+ 16…+18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ать не ниже +20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ые дни – 10 мин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з каждые последующие 3 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ивать на 5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мину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 мину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ать с 5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6696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Список литератур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413000"/>
            <a:ext cx="82296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8200" bIns="45000" anchor="t">
            <a:noAutofit/>
          </a:bodyPr>
          <a:p>
            <a:pPr marL="608040" indent="-608040" algn="ctr">
              <a:lnSpc>
                <a:spcPct val="8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ях В.И. Мой друг – физкультура. 1-4 классы. – М.: Просвещение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пова В.В. Физкультура в начальной школе: учебное пособие для учащихся начальной школы. – Ростов н/Д: Феникс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8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1 – Расказчиков Д.Н. Основы здорового образа жизни. Школа № 5. г. Лесосибир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2 – Ветлугин А.И. Современные олимпийский игры, их символика. Черниговская шко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3 - www.uppps.ru http://www.uppps.ru/forum/14-4195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4, 6, 7, 8, 9, 10 -  Лях В.И. Мой друг – физкультура. 1-4 классы. – М.: Просвещение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5 – Журавлева С.В. Фестиваль авторской песни. г. Магнитого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7 - www.posternazakaz.ru/shop/7698b957-13c9bfed463b0d5d55dc75b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12 – Соловьева Е.Е. Здоровый образ жизни. г. Магнитого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68360" y="907560"/>
            <a:ext cx="2159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Пл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63700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Для чего необходимо закаливание.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Слайд №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Как действует закаливание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Слайд №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Средства закаливания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6"/>
              </a:rPr>
              <a:t>Слайд №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Правила закаливания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7"/>
              </a:rPr>
              <a:t>Слайд № 6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Условия проведения закаливающих процедур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6084720" y="620640"/>
            <a:ext cx="2267280" cy="1944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51280" y="2492280"/>
            <a:ext cx="50068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504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сли хочешь, чтобы твой организм был крепким и мог сопротивляться любым болезням – закаливай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25200" y="189000"/>
            <a:ext cx="82184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1440">
              <a:lnSpc>
                <a:spcPct val="91000"/>
              </a:lnSpc>
              <a:spcBef>
                <a:spcPts val="638"/>
              </a:spcBef>
              <a:buClr>
                <a:srgbClr val="ffcc00"/>
              </a:buClr>
              <a:buSzPct val="120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сли хочешь, чтобы твой организм был крепким и мог сопротивляться любым болезням – закаливайся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2394000"/>
            <a:ext cx="29876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0"/>
            <a:ext cx="8137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 algn="ctr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Как действует закалива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сь организм человека пронизывают кровеносные сосуды. Они работают в теле, как батареи системы отопления в доме. На холоде сосуды расширяются и прокачивают больше теплой крови через поверхность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новиться теплее. На жаре они сужаются, чтобы кровь не перегрелась от этой поверхности и не перегрела внутренн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этому так важно научить кровеносные сосуды быстро сжиматься к смене тепла и хо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гда организм смо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ть отпор микроб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зывающим просту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другие инфекцио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боле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361040" y="4184640"/>
            <a:ext cx="4782960" cy="26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260280"/>
            <a:ext cx="454644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r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ловек с давних пор пользуется солнцем, свежим воздухом и водой для укрепления своего здоровья. Под их действием улучшается деятельность нервной системы, сердца, сосудов, легких, вырабатывается иммунитет к простудным заболев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48360" y="404640"/>
            <a:ext cx="3744720" cy="6024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429240" y="4929120"/>
            <a:ext cx="93528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Правила закалив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41300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иная закаливание в теплую погоду, когда можно одновременно принимать воздушные и солнечные ванны. Это время отдыха, игры, прогулок (пеших и на велосипеде). Водные процедуры начинай во время купания в реке, озе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854520" cy="317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85840" y="3429000"/>
            <a:ext cx="464328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140360" y="333360"/>
            <a:ext cx="453528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360" bIns="45000" anchor="t">
            <a:noAutofit/>
          </a:bodyPr>
          <a:p>
            <a:pPr marL="343080" indent="-341640" algn="just">
              <a:lnSpc>
                <a:spcPct val="9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ди босиком по лесной тропинке, песку, мягкой траве, гальк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ельность закаливающих процедур вначале должна быть небольшой, а температура воздуха и воды соответствовать рекомендуем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таблица 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мпературу воды для обливания, обтирания, душа и ножных ванн надо снижать постепенно каждые три дня на 1-2º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3500280"/>
            <a:ext cx="3143160" cy="316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714680" y="571680"/>
            <a:ext cx="2387520" cy="29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333360"/>
            <a:ext cx="411480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водных процедур разотри тело сухим полотенцем до легкого покрас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начал закаляться, то делай это каждый день! Если пропустил 1-2 недели, то надо начинать все снача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яй закаливающие процедуры только будучи здоровы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382920" cy="581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260280"/>
            <a:ext cx="806436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предохранить себя во время закаливающих процедур от перегревания или переохлаждения, следует также соблюдать несколько несложных, но важных прав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едленно прекращай закаливающие процедуры при ухудшении самочувствия (вялость, сердцебие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оставайся под прямыми солнечными лучами в первые жаркие дни более 10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071800" y="3857760"/>
            <a:ext cx="56433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11-18T19:38:56Z</dcterms:modified>
  <cp:revision>1</cp:revision>
  <dc:subject/>
  <dc:title>Слайд 1</dc:title>
</cp:coreProperties>
</file>