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466C-215F-443E-BEEB-7B58D475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224E-F9A2-465D-BF5C-8C6D2B5B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9893-0846-4CD0-A5FB-BEF5CE7C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D984-9044-46B8-A5A5-121B1426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AD35-FB62-4B3F-B5A4-E1A9AB49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FEE7-BED1-48C5-8B9A-B8533D47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E361-2FAA-41DC-AAEB-F2C50D8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E13-AC39-4E71-AEBD-996215DB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0C0-8573-445A-B52B-5062EE8A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D6BC-21D0-4F7E-B9EB-8961F13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0577-D375-4C2C-97D8-5D1E86B6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C8B0-E92F-4589-BEF3-34B1605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57B0-BB0F-4A22-8E0B-E809492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DBD-AF44-4D99-9581-0406457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4CC6-BE6F-4D06-8FBF-15293E7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22F-66B9-429B-BB88-BD64C9E6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F34-D6CE-4CA0-81BD-4DDD283A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0974-9DA3-4A9C-A987-457379D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90EB-AE0D-4CA7-AF85-9BCC4B60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23AE-2B1E-4788-B683-126A3C2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881B-E612-49D0-BC91-AA338F72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B361-3920-43F1-9706-BAEF798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3A64-BCEA-4226-818F-D2A351E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D80B-4131-4BAC-9D64-B9D12CF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24DD-CD74-487E-BB6E-79688D18E1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17D-86C4-457B-A0D4-EF8E2D2ABD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7_&#1103;&#1085;&#1074;&#1072;&#1088;&#1103;" TargetMode="External"/><Relationship Id="rId2" Type="http://schemas.openxmlformats.org/officeDocument/2006/relationships/hyperlink" Target="http://ru.wikipedia.org/wiki/1756" TargetMode="External"/><Relationship Id="rId3" Type="http://schemas.openxmlformats.org/officeDocument/2006/relationships/hyperlink" Target="http://ru.wikipedia.org/wiki/&#1047;&#1072;&#1083;&#1100;&#1094;&#1073;&#1091;&#1088;&#1075;" TargetMode="External"/><Relationship Id="rId4" Type="http://schemas.openxmlformats.org/officeDocument/2006/relationships/hyperlink" Target="http://ru.wikipedia.org/wiki/5_&#1076;&#1077;&#1082;&#1072;&#1073;&#1088;&#1103;" TargetMode="External"/><Relationship Id="rId5" Type="http://schemas.openxmlformats.org/officeDocument/2006/relationships/hyperlink" Target="http://ru.wikipedia.org/wiki/1791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50;&#1086;&#1084;&#1087;&#1086;&#1079;&#1080;&#1090;&#1086;&#1088;" TargetMode="External"/><Relationship Id="rId8" Type="http://schemas.openxmlformats.org/officeDocument/2006/relationships/hyperlink" Target="http://ru.wikipedia.org/wiki/&#1050;&#1072;&#1087;&#1077;&#1083;&#1100;&#1084;&#1077;&#1081;&#1089;&#1090;&#1077;&#1088;" TargetMode="External"/><Relationship Id="rId9" Type="http://schemas.openxmlformats.org/officeDocument/2006/relationships/hyperlink" Target="http://ru.wikipedia.org/wiki/&#1057;&#1082;&#1088;&#1080;&#1087;&#1072;&#1095;" TargetMode="External"/><Relationship Id="rId10" Type="http://schemas.openxmlformats.org/officeDocument/2006/relationships/hyperlink" Target="http://ru.wikipedia.org/wiki/&#1054;&#1088;&#1075;&#1072;&#1085;&#1080;&#1089;&#1090;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77;&#1088;&#1077;&#1095;&#1085;&#1072;&#1103;_&#1092;&#1083;&#1077;&#1081;&#1090;&#1072;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50;&#1083;&#1072;&#1088;&#1085;&#1077;&#1090;" TargetMode="External"/><Relationship Id="rId4" Type="http://schemas.openxmlformats.org/officeDocument/2006/relationships/hyperlink" Target="http://ru.wikipedia.org/wiki/&#1060;&#1072;&#1075;&#1086;&#1090;" TargetMode="External"/><Relationship Id="rId5" Type="http://schemas.openxmlformats.org/officeDocument/2006/relationships/hyperlink" Target="http://ru.wikipedia.org/wiki/&#1042;&#1072;&#1083;&#1090;&#1086;&#1088;&#1085;&#1072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9;&#1090;&#1088;&#1091;&#1085;&#1085;&#1099;&#1081;_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_&#1076;&#1077;&#1082;&#1072;&#1073;&#1088;&#1103;" TargetMode="External"/><Relationship Id="rId2" Type="http://schemas.openxmlformats.org/officeDocument/2006/relationships/hyperlink" Target="http://ru.wikipedia.org/wiki/1770_&#1075;&#1086;&#1076;" TargetMode="External"/><Relationship Id="rId3" Type="http://schemas.openxmlformats.org/officeDocument/2006/relationships/hyperlink" Target="http://ru.wikipedia.org/wiki/&#1041;&#1086;&#1085;&#1085;" TargetMode="External"/><Relationship Id="rId4" Type="http://schemas.openxmlformats.org/officeDocument/2006/relationships/hyperlink" Target="http://ru.wikipedia.org/wiki/26_&#1084;&#1072;&#1088;&#1090;&#1072;" TargetMode="External"/><Relationship Id="rId5" Type="http://schemas.openxmlformats.org/officeDocument/2006/relationships/hyperlink" Target="http://ru.wikipedia.org/wiki/1827_&#1075;&#1086;&#1076;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8" Type="http://schemas.openxmlformats.org/officeDocument/2006/relationships/hyperlink" Target="http://ru.wikipedia.org/wiki/&#1050;&#1086;&#1084;&#1087;&#1086;&#1079;&#1080;&#1090;&#1086;&#1088;" TargetMode="External"/><Relationship Id="rId9" Type="http://schemas.openxmlformats.org/officeDocument/2006/relationships/hyperlink" Target="http://ru.wikipedia.org/wiki/&#1044;&#1080;&#1088;&#1080;&#1078;&#1105;&#1088;" TargetMode="External"/><Relationship Id="rId10" Type="http://schemas.openxmlformats.org/officeDocument/2006/relationships/hyperlink" Target="http://ru.wikipedia.org/wiki/&#1055;&#1080;&#1072;&#1085;&#1080;&#1089;&#1090;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_&#1084;&#1080;&#1085;&#1086;&#1088;" TargetMode="External"/><Relationship Id="rId2" Type="http://schemas.openxmlformats.org/officeDocument/2006/relationships/hyperlink" Target="http://ru.wikipedia.org/wiki/1808_&#1075;&#1086;&#1076;_&#1074;_&#1084;&#1091;&#1079;&#1099;&#1082;&#1077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hyperlink" Target="http://ru.wikipedia.org/wiki/&#1042;&#1086;&#1082;&#1072;&#1083;" TargetMode="External"/><Relationship Id="rId29" Type="http://schemas.openxmlformats.org/officeDocument/2006/relationships/hyperlink" Target="http://ru.wikipedia.org/wiki/&#1057;&#1086;&#1087;&#1088;&#1072;&#1085;&#1086;" TargetMode="External"/><Relationship Id="rId30" Type="http://schemas.openxmlformats.org/officeDocument/2006/relationships/hyperlink" Target="http://ru.wikipedia.org/wiki/&#1050;&#1086;&#1085;&#1090;&#1088;&#1072;&#1083;&#1100;&#1090;&#1086;" TargetMode="External"/><Relationship Id="rId31" Type="http://schemas.openxmlformats.org/officeDocument/2006/relationships/hyperlink" Target="http://ru.wikipedia.org/wiki/&#1058;&#1077;&#1085;&#1086;&#1088;" TargetMode="External"/><Relationship Id="rId32" Type="http://schemas.openxmlformats.org/officeDocument/2006/relationships/hyperlink" Target="http://ru.wikipedia.org/wiki/&#1041;&#1072;&#1088;&#1080;&#1090;&#1086;&#1085;" TargetMode="External"/><Relationship Id="rId33" Type="http://schemas.openxmlformats.org/officeDocument/2006/relationships/hyperlink" Target="http://ru.wikipedia.org/wiki/&#1061;&#1086;&#1088;_(&#1082;&#1086;&#1083;&#1083;&#1077;&#1082;&#1090;&#1080;&#1074;)" TargetMode="External"/><Relationship Id="rId3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0" TargetMode="External"/><Relationship Id="rId2" Type="http://schemas.openxmlformats.org/officeDocument/2006/relationships/hyperlink" Target="http://ru.wikipedia.org/wiki/1827" TargetMode="External"/><Relationship Id="rId3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4" Type="http://schemas.openxmlformats.org/officeDocument/2006/relationships/hyperlink" Target="http://ru.wikipedia.org/wiki/XVIII_&#1074;&#1077;&#1082;" TargetMode="External"/><Relationship Id="rId5" Type="http://schemas.openxmlformats.org/officeDocument/2006/relationships/hyperlink" Target="http://ru.wikipedia.org/wiki/&#1042;&#1077;&#1085;&#1072;" TargetMode="External"/><Relationship Id="rId6" Type="http://schemas.openxmlformats.org/officeDocument/2006/relationships/hyperlink" Target="http://ru.wikipedia.org/wiki/&#1049;&#1086;&#1079;&#1077;&#1092;_&#1043;&#1072;&#1081;&#1076;&#1085;" TargetMode="External"/><Relationship Id="rId7" Type="http://schemas.openxmlformats.org/officeDocument/2006/relationships/hyperlink" Target="http://ru.wikipedia.org/wiki/&#1042;&#1086;&#1083;&#1100;&#1092;&#1075;&#1072;&#1085;&#1075;_&#1040;&#1084;&#1072;&#1076;&#1077;&#1081;_&#1052;&#1086;&#1094;&#1072;&#1088;&#1090;" TargetMode="External"/><Relationship Id="rId8" Type="http://schemas.openxmlformats.org/officeDocument/2006/relationships/hyperlink" Target="http://ru.wikipedia.org/wiki/&#1041;&#1077;&#1090;&#1093;&#1086;&#1074;&#1077;&#1085;,_&#1051;&#1102;&#1076;&#1074;&#1080;&#1075;_&#1074;&#1072;&#1085;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0;&#1092;&#1086;&#1085;&#1080;&#1103;" TargetMode="External"/><Relationship Id="rId2" Type="http://schemas.openxmlformats.org/officeDocument/2006/relationships/hyperlink" Target="http://ru.wikipedia.org/wiki/&#1052;&#1091;&#1079;&#1099;&#1082;&#1072;_&#1101;&#1087;&#1086;&#1093;&#1080;_&#1073;&#1072;&#1088;&#1086;&#1082;&#1082;&#1086;" TargetMode="External"/><Relationship Id="rId3" Type="http://schemas.openxmlformats.org/officeDocument/2006/relationships/hyperlink" Target="http://ru.wikipedia.org/wiki/&#1040;&#1082;&#1082;&#1086;&#1084;&#1087;&#1072;&#1085;&#1077;&#1084;&#1077;&#1085;&#1090;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7;&#1086;&#1085;&#1072;&#1090;&#1072;" TargetMode="External"/><Relationship Id="rId3" Type="http://schemas.openxmlformats.org/officeDocument/2006/relationships/hyperlink" Target="http://ru.wikipedia.org/wiki/&#1050;&#1086;&#1085;&#1094;&#1077;&#1088;&#1090;_(&#1087;&#1088;&#1086;&#1080;&#1079;&#1074;&#1077;&#1076;&#1077;&#1085;&#1080;&#1077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4;&#1088;&#1082;&#1077;&#1089;&#1090;&#1088;" TargetMode="External"/><Relationship Id="rId3" Type="http://schemas.openxmlformats.org/officeDocument/2006/relationships/hyperlink" Target="http://ru.wikipedia.org/wiki/&#1043;&#1072;&#1081;&#1076;&#1085;,_&#1049;&#1086;&#1079;&#1077;&#1092;" TargetMode="External"/><Relationship Id="rId4" Type="http://schemas.openxmlformats.org/officeDocument/2006/relationships/hyperlink" Target="http://ru.wikipedia.org/wiki/&#1052;&#1086;&#1094;&#1072;&#1088;&#1090;,_&#1042;&#1086;&#1083;&#1100;&#1092;&#1075;&#1072;&#1085;&#1075;_&#1040;&#1084;&#1072;&#1076;&#1077;&#1081;" TargetMode="External"/><Relationship Id="rId5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072;&#1087;&#1088;&#1077;&#1083;&#1103;" TargetMode="External"/><Relationship Id="rId2" Type="http://schemas.openxmlformats.org/officeDocument/2006/relationships/hyperlink" Target="http://ru.wikipedia.org/wiki/1732_&#1075;&#1086;&#1076;" TargetMode="External"/><Relationship Id="rId3" Type="http://schemas.openxmlformats.org/officeDocument/2006/relationships/hyperlink" Target="http://ru.wikipedia.org/wiki/31_&#1084;&#1072;&#1103;" TargetMode="External"/><Relationship Id="rId4" Type="http://schemas.openxmlformats.org/officeDocument/2006/relationships/hyperlink" Target="http://ru.wikipedia.org/wiki/1809_&#1075;&#1086;&#1076;" TargetMode="External"/><Relationship Id="rId5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72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60;&#1072;&#1075;&#1086;&#1090;" TargetMode="External"/><Relationship Id="rId4" Type="http://schemas.openxmlformats.org/officeDocument/2006/relationships/hyperlink" Target="http://ru.wikipedia.org/wiki/&#1042;&#1072;&#1083;&#1090;&#1086;&#1088;&#1085;&#1072;" TargetMode="External"/><Relationship Id="rId5" Type="http://schemas.openxmlformats.org/officeDocument/2006/relationships/hyperlink" Target="http://ru.wikipedia.org/wiki/&#1057;&#1090;&#1088;&#1091;&#1085;&#1085;&#1099;&#1077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музы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7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Жигайлова С.А. – учитель музыки ГБОУ ЦО №1637 г.Моск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27 янва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5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Зальцбур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5дека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79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стрийский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компози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апельмейст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крипа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иртуоз, клавесинист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органи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исал окол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5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9" descr="42286140_26773655"/>
          <p:cNvPicPr/>
          <p:nvPr/>
        </p:nvPicPr>
        <p:blipFill>
          <a:blip r:embed="rId11"/>
          <a:stretch/>
        </p:blipFill>
        <p:spPr>
          <a:xfrm>
            <a:off x="4859280" y="1484280"/>
            <a:ext cx="317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имфония №40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оль минор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адлежит к наиболее популярным произведениям Моцарта. Среди всех моцартовских симфоний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ее непосредственно-эмоциональна, лирически-задушевна. Ее можно назвать лирико-драматической симфони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оркестра симфонии входя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лей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рне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фаг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алтор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ервые и вторы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8" descr="Файл:Mozart 40.png"/>
          <p:cNvPicPr/>
          <p:nvPr/>
        </p:nvPicPr>
        <p:blipFill>
          <a:blip r:embed="rId10"/>
          <a:stretch/>
        </p:blipFill>
        <p:spPr>
          <a:xfrm>
            <a:off x="4211640" y="260280"/>
            <a:ext cx="4464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ИМФОНИЯ NO 41 ДО МАЖОР «ЮПИТЕР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личается таким же высоким художественным мастерством, как и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о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до-мажор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я более объективна, эпична, монументальна. Потому она и получила название &lt;&lt;Юпитер&gt;&gt;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азвание «Юпитер» ей дал Дж. П. Саломон, известный английский скрипач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оркестра: флейта, 2 гоб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фагота, 2 валторн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трубы, литавры, струн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Чайков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чень любивший все творчеств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Моц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зывал эту симфонию «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дним из чудес симфонической музык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1" descr="pica_2802"/>
          <p:cNvPicPr/>
          <p:nvPr/>
        </p:nvPicPr>
        <p:blipFill>
          <a:blip r:embed="rId1"/>
          <a:stretch/>
        </p:blipFill>
        <p:spPr>
          <a:xfrm>
            <a:off x="6804000" y="2133720"/>
            <a:ext cx="1297080" cy="165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14031_07"/>
          <p:cNvPicPr/>
          <p:nvPr/>
        </p:nvPicPr>
        <p:blipFill>
          <a:blip r:embed="rId2"/>
          <a:stretch/>
        </p:blipFill>
        <p:spPr>
          <a:xfrm>
            <a:off x="4932360" y="2133720"/>
            <a:ext cx="1368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юдвиг ван Бетховен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 декабр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70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Бонн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26март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827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 Австр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емецкий  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омпозито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дирижё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пианист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л 9 симф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bethoven-small"/>
          <p:cNvPicPr/>
          <p:nvPr/>
        </p:nvPicPr>
        <p:blipFill>
          <a:blip r:embed="rId11"/>
          <a:stretch/>
        </p:blipFill>
        <p:spPr>
          <a:xfrm>
            <a:off x="4859280" y="1341360"/>
            <a:ext cx="3241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Симфония № 5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о минор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н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1804-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08 год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ым и легко узнаваемым элементом первой части симфонии является двойно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отив судьбы» из четырёх такто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Beethoven-Deckblatt"/>
          <p:cNvPicPr/>
          <p:nvPr/>
        </p:nvPicPr>
        <p:blipFill>
          <a:blip r:embed="rId3"/>
          <a:stretch/>
        </p:blipFill>
        <p:spPr>
          <a:xfrm>
            <a:off x="4859280" y="1844640"/>
            <a:ext cx="3457800" cy="430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Beethoven symphony 5 opening.png"/>
          <p:cNvPicPr/>
          <p:nvPr/>
        </p:nvPicPr>
        <p:blipFill>
          <a:blip r:embed="rId4"/>
          <a:stretch/>
        </p:blipFill>
        <p:spPr>
          <a:xfrm>
            <a:off x="4716360" y="620640"/>
            <a:ext cx="395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последней части. 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Вокальные парт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Сопран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Контральт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Тено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Баритон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640" y="2163960"/>
            <a:ext cx="316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90000" tIns="46800" bIns="1584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в последней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Вокальные пар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опран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нтральт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енор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Баритон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2010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нская класс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венская классическая шко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около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27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 — направление европейской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ссической музы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торой половины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XVIII ве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ен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нему принадлежат композиторы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Йозеф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Вольфганг Амадей 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Людвиг ван 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Йозеф Гайд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ёх великих композиторов венской школы объединяет виртуозное владение разнообразнейшими стилями музыки и приёмами композиции: от народных песен д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полифон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эпохи барокк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особенностью данного направления является применение трёх приёмов: обязательног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ккомпанемен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личия сквозных тем и работы над темой и форм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фото"/>
          <p:cNvPicPr/>
          <p:nvPr/>
        </p:nvPicPr>
        <p:blipFill>
          <a:blip r:embed="rId4"/>
          <a:stretch/>
        </p:blipFill>
        <p:spPr>
          <a:xfrm>
            <a:off x="2195640" y="333360"/>
            <a:ext cx="1709640" cy="2160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684360" y="25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ьфганг Амадей Моцар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4" descr="фото"/>
          <p:cNvPicPr/>
          <p:nvPr/>
        </p:nvPicPr>
        <p:blipFill>
          <a:blip r:embed="rId5"/>
          <a:stretch/>
        </p:blipFill>
        <p:spPr>
          <a:xfrm>
            <a:off x="900000" y="4005360"/>
            <a:ext cx="1729080" cy="2158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2627280" y="551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виг ван Бетхов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2" descr="42286140_26773655"/>
          <p:cNvPicPr/>
          <p:nvPr/>
        </p:nvPicPr>
        <p:blipFill>
          <a:blip r:embed="rId6"/>
          <a:stretch/>
        </p:blipFill>
        <p:spPr>
          <a:xfrm>
            <a:off x="2700360" y="2565360"/>
            <a:ext cx="15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венской классической школы совпал с общим процессом становления симфонического оркестра — его стабильного состав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(до 110 музыкантов)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Mariinsky_Orchestra_1"/>
          <p:cNvPicPr/>
          <p:nvPr/>
        </p:nvPicPr>
        <p:blipFill>
          <a:blip r:embed="rId1"/>
          <a:stretch/>
        </p:blipFill>
        <p:spPr>
          <a:xfrm>
            <a:off x="611280" y="249228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 симфонизмом, в широком смысле, связаны расцвет ведущих инструментальных жанров эпохи —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онаты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онцерт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 и камерного ансамбля, окончательное формирован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-частного сонатно-симфонического цикл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2" descr="5-2"/>
          <p:cNvPicPr/>
          <p:nvPr/>
        </p:nvPicPr>
        <p:blipFill>
          <a:blip r:embed="rId4"/>
          <a:stretch/>
        </p:blipFill>
        <p:spPr>
          <a:xfrm>
            <a:off x="4356000" y="692280"/>
            <a:ext cx="43466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 — музыкальное сочинение дл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оркест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обычно в трех или четырех частях, иногда с включением голосов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лассической симфонии только первая и последняя части имеют одинаковые тональности, а средние пишутся в тональностях, родственных с главной, которой и определяется тональность всей симфонии.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оздателем классической формы симфонии и оркестрового колорита считаетс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значительный вклад в её развитие внесли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В смысле развития как симфонической формы, так и оркестровки Бетховен может быть назван крупнейшим композитором-симфонистом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ассическ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ранц Йозеф        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 апре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3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31 м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180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основоположников симфонии, всего    10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84" descr="фото"/>
          <p:cNvPicPr/>
          <p:nvPr/>
        </p:nvPicPr>
        <p:blipFill>
          <a:blip r:embed="rId6"/>
          <a:stretch/>
        </p:blipFill>
        <p:spPr>
          <a:xfrm>
            <a:off x="4643280" y="260280"/>
            <a:ext cx="4032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мфония № 4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«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щальная симфония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7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ь этой симфонии в том, что она исполняется при свечах, закреплённых на нотных пультах музыкантов; за традиционным по форме финалом следует дополнительная медленная часть, во время исполнения которой музыканты один за другим прекращают играть, гасят свечи и покидают сцену. Симфонию доигрывают лишь два скрипача, которые после завершения музыки уходят вслед за осталь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 оркестра: два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фаг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валтор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струн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1-е и 2-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ИМФОНИЯ № 103 МИ-БЕМОЛЬ МАЖ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(С ТРЕМОЛО ЛИТАВ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 название «с тремоло литавр» симфония получила благодаря первому такту, в котором литавра играет тремоло на тоническом звуке ми-бем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8" descr="tmp2344e"/>
          <p:cNvPicPr/>
          <p:nvPr/>
        </p:nvPicPr>
        <p:blipFill>
          <a:blip r:embed="rId1"/>
          <a:stretch/>
        </p:blipFill>
        <p:spPr>
          <a:xfrm>
            <a:off x="4643280" y="3068640"/>
            <a:ext cx="381960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Standard_timpani_setup"/>
          <p:cNvPicPr/>
          <p:nvPr/>
        </p:nvPicPr>
        <p:blipFill>
          <a:blip r:embed="rId2"/>
          <a:stretch/>
        </p:blipFill>
        <p:spPr>
          <a:xfrm>
            <a:off x="4716360" y="333360"/>
            <a:ext cx="3600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5:23Z</dcterms:created>
  <dc:creator>Артём</dc:creator>
  <dc:description/>
  <dc:language>en-US</dc:language>
  <cp:lastModifiedBy>artem</cp:lastModifiedBy>
  <dcterms:modified xsi:type="dcterms:W3CDTF">2012-09-27T16:46:08Z</dcterms:modified>
  <cp:revision>6</cp:revision>
  <dc:subject/>
  <dc:title>Венская классическая школа </dc:title>
</cp:coreProperties>
</file>