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6.jpeg" ContentType="image/jpeg"/>
  <Override PartName="/ppt/media/image5.gif" ContentType="image/gif"/>
  <Override PartName="/ppt/media/image28.png" ContentType="image/png"/>
  <Override PartName="/ppt/media/image7.gif" ContentType="image/gif"/>
  <Override PartName="/ppt/media/image29.jpeg" ContentType="image/jpeg"/>
  <Override PartName="/ppt/media/image25.gif" ContentType="image/gif"/>
  <Override PartName="/ppt/media/image10.jpeg" ContentType="image/jpeg"/>
  <Override PartName="/ppt/media/image8.jpeg" ContentType="image/jpeg"/>
  <Override PartName="/ppt/media/image11.jpeg" ContentType="image/jpeg"/>
  <Override PartName="/ppt/media/image13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9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5.jpeg" ContentType="image/jpeg"/>
  <Override PartName="/ppt/media/image16.jpeg" ContentType="image/jpeg"/>
  <Override PartName="/ppt/media/image6.gif" ContentType="image/gif"/>
  <Override PartName="/ppt/media/image21.jpeg" ContentType="image/jpeg"/>
  <Override PartName="/ppt/media/image27.jpeg" ContentType="image/jpeg"/>
  <Override PartName="/ppt/media/image17.gif" ContentType="image/gif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4A6-EE52-407B-BA7E-F666F200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D0C-967E-4B1C-88B5-13C7735E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28E-DD2A-4C56-9F1B-DB674798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63F-0BDA-4D75-B718-63228E2A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8BF-0D76-4B7C-A6E9-4F61AF01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08E-626E-4CBC-B91B-6D236539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B91-1D19-49BD-B74F-A268A083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9A9-199D-4D61-81A7-58E6892E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045-3EC2-4A24-A5FD-FDB1370A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C69-C00A-43EA-A6E1-5C7813FB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7FA-870D-4A11-9D7B-16D8FD9A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E14-5AA3-4023-8C68-978AF339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C7DB-3289-42D4-BD9D-E119865DA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4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6.gif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7.gif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7960" y="11430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Wonderland"/>
              </a:rPr>
              <a:t>С ДНЁМ РОЖД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812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66680" y="28954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&amp;Bcy;&amp;iecy;&amp;zcy; &amp;ncy;&amp;acy;&amp;zcy;&amp;vcy;&amp;acy;&amp;ncy;&amp;icy;&amp;yacy; - &amp;Lcy;&amp;yucy;&amp;bcy;&amp;ocy;&amp;vcy;&amp;softcy; &amp;Fcy;&amp;iocy;&amp;dcy;&amp;ocy;&amp;rcy;&amp;ocy;&amp;vcy;&amp;ncy;&amp;acy; &amp;Gcy;&amp;rcy;&amp;icy;&amp;gcy;&amp;ocy;&amp;rcy;&amp;softcy;&amp;iecy;&amp;vcy;&amp;acy;"/>
          <p:cNvPicPr/>
          <p:nvPr/>
        </p:nvPicPr>
        <p:blipFill>
          <a:blip r:embed="rId4"/>
          <a:stretch/>
        </p:blipFill>
        <p:spPr>
          <a:xfrm>
            <a:off x="2971800" y="3124080"/>
            <a:ext cx="2543040" cy="133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8600" y="4581360"/>
            <a:ext cx="439740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1   ЛЕТ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200400" y="1523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477120" y="3581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Бабушка с дедушкой, папа и я,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Мама любимая вместе – семь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92504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153280" y="56386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44792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8580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62012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934320" y="6019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09480" y="129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858000" y="1219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343400" y="9144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037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95000"/>
                  </a:srgbClr>
                </a:solidFill>
                <a:latin typeface="Impact"/>
              </a:rPr>
              <a:t>Все поздравляют тебя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95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2666880"/>
            <a:ext cx="4952880" cy="403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467480" y="32004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114800" y="2590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553080" y="43434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620120" y="44956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62120" y="10666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2209680" y="228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228600" y="2590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457200" y="5715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41148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45720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4724280" y="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"/>
          <a:stretch/>
        </p:blipFill>
        <p:spPr>
          <a:xfrm>
            <a:off x="5867280" y="48006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12193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7"/>
          <a:stretch/>
        </p:blipFill>
        <p:spPr>
          <a:xfrm>
            <a:off x="2971800" y="3048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8"/>
          <a:stretch/>
        </p:blipFill>
        <p:spPr>
          <a:xfrm>
            <a:off x="32767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9"/>
          <a:stretch/>
        </p:blipFill>
        <p:spPr>
          <a:xfrm>
            <a:off x="152280" y="1523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0"/>
          <a:stretch/>
        </p:blipFill>
        <p:spPr>
          <a:xfrm>
            <a:off x="0" y="3962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1"/>
          <a:stretch/>
        </p:blipFill>
        <p:spPr>
          <a:xfrm>
            <a:off x="7010280" y="11430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657600"/>
            <a:ext cx="3657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асти внучок на радость всей нашей семье. Будь честным, сильным, добрым, справедливым. Здоровья, радости, тепла тебе! А главное – всегда ты будь счастливы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4724280" cy="350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91320" y="990720"/>
            <a:ext cx="2390760" cy="2319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95680" y="380880"/>
            <a:ext cx="3687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 днём рожде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523880" y="15238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400800" y="3124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Проказник наш сегодня повзрослел,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Мы внука отмечаем день рожденья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Как вырос он! И слезы умиленья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Способен вызвать милый наш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пострел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Расти большим и добрым, счастлив будь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Родителей не обижай напрасно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Пусть в жизни твоей будет все прекрасно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И бабушку с дедулей не забуд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86800" y="5592600"/>
            <a:ext cx="76320" cy="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080" bIns="28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228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388620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209680" y="17524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438280" y="51814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55308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495680" y="10666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3886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Со мною бабушка моя, и значит, главный в доме — я,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Шкафы мне можно открывать, цветы кефиром поливать,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Играть подушкою в футбол и полотенцем чистить пол.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Могу я есть руками торт, нарочно хлопать дверью!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А с мамой это не пройдет, я уже провер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3657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920" y="2971800"/>
            <a:ext cx="396216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971800" y="464832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400800" y="3276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едушка очень у нас деловой: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Ходит по дому, забыл про покой.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Бабушке он помогает весь день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елать ему это вовсе не лень.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То постоянно очки он теряет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То разобьет что-то он, то сломает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ечно спешит, а устанет от дел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Ляжет с газетой — уже захрапел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48006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880" y="304812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76720" y="480060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308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181480" y="228600"/>
            <a:ext cx="160992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0" y="152280"/>
            <a:ext cx="79088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мур тебя тоже поздравляет!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819520" y="1752480"/>
            <a:ext cx="310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ждёт на охот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124080" y="51814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01992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Как хорошо, что в мире этом есть мама крестная моя!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К тебе приду я за советом. Секрет открою, не 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8001000" cy="579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91320" y="914400"/>
            <a:ext cx="1609560" cy="1238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858000" y="22860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514600" y="1600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Я так люблю, когда луна глядит в окошко. И сказки тихо бродят по углам. 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А рядом мама держит за ладошку.    И гладит мои волосы слег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114800" cy="579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629400" y="1752480"/>
            <a:ext cx="2514600" cy="4876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191120" y="990720"/>
            <a:ext cx="226836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233960" y="295272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419720" y="5410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8191440" y="20574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57200" y="33526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733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Папа разным мой бывает: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то молчит, а то кричит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, бывает, напевает,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 у телека торчит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, бывает, обнимает теплотою сильных рук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, бывает, забывает, что он сыну лучший друг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Папа разным мой бывает,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но я так его люблю,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Никому не дам в обиду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4952880"/>
            <a:ext cx="454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же сильный, я смогу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733920" cy="6172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1522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886200" y="358128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410080" y="590544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44956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13T08:59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