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6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29.jpeg" ContentType="image/jpeg"/>
  <Override PartName="/ppt/media/image25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420-ADBC-4716-9AD9-78871FE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20F-BC6D-4646-B048-B7D39FB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5E5-C9D2-46FB-9548-C587563C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550-5D94-4E59-ACA5-92B3929D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D83-5A61-4123-8B6C-CF25D98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A2F-58D1-4458-877B-FBA1E35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264-6FC4-42C7-8C9A-61C4396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F50-74E9-4A69-BE7C-3AA31E62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323-5798-485B-B0EC-C8372FD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627-CF35-49F0-B9BA-E19FBDD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78B-7E50-4773-8229-A29C291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BD3-554A-4CBF-9956-7353ED7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C9F-4ADE-4C13-B7DB-D6731B7C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4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6.gi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7.gif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11430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Wonderland"/>
              </a:rPr>
              <a:t>С ДНЁМ РОЖД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Bcy;&amp;iecy;&amp;zcy; &amp;ncy;&amp;acy;&amp;zcy;&amp;vcy;&amp;acy;&amp;ncy;&amp;icy;&amp;yacy; - &amp;Lcy;&amp;yucy;&amp;bcy;&amp;ocy;&amp;vcy;&amp;softcy; &amp;Fcy;&amp;iocy;&amp;dcy;&amp;ocy;&amp;rcy;&amp;ocy;&amp;vcy;&amp;ncy;&amp;acy; &amp;Gcy;&amp;rcy;&amp;icy;&amp;gcy;&amp;ocy;&amp;rcy;&amp;softcy;&amp;iecy;&amp;vcy;&amp;acy;"/>
          <p:cNvPicPr/>
          <p:nvPr/>
        </p:nvPicPr>
        <p:blipFill>
          <a:blip r:embed="rId4"/>
          <a:stretch/>
        </p:blipFill>
        <p:spPr>
          <a:xfrm>
            <a:off x="2971800" y="3124080"/>
            <a:ext cx="2543040" cy="13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4581360"/>
            <a:ext cx="43974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1   ЛЕ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77120" y="3581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Бабушка с дедушкой, папа и я,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ама любимая вместе – семь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92504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53280" y="5638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4792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58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2012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934320" y="6019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09480" y="129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858000" y="1219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43400" y="9144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37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latin typeface="Impact"/>
              </a:rPr>
              <a:t>Все поздравляют тебя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5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952880" cy="403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467480" y="3200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1148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53080" y="4343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620120" y="4495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209680" y="228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2286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57200" y="5715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1148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5720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4724280" y="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5867280" y="48006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12193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297180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32767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152280" y="1523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0" y="3962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7010280" y="1143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3657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сти внучок на радость всей нашей семье. Будь честным, сильным, добрым, справедливым. Здоровья, радости, тепла тебе! А главное – всегда ты будь счастливы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4724280" cy="35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390760" cy="23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95680" y="380880"/>
            <a:ext cx="3687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днём рожд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523880" y="15238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роказник наш сегодня повзрослел,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Мы внука отмечаем день рожденья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Как вырос он! И слезы умиленья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Способен вызвать милый наш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острел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асти большим и добрым, счастлив будь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одителей не обижай напрасно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усть в жизни твоей будет все прекрасно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И бабушку с дедулей не забу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86800" y="5592600"/>
            <a:ext cx="7632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09680" y="17524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495680" y="1066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Со мною бабушка моя, и значит, главный в доме — я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Шкафы мне можно открывать, цветы кефиром поливать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грать подушкою в футбол и полотенцем чистить пол.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Могу я есть руками торт, нарочно хлопать дверью!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А с мамой это не пройдет, я уже провер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3657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7180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душка очень у нас деловой: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Ходит по дому, забыл про покой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Бабушке он помогает весь день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лать ему это вовсе не лень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постоянно очки он теря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разобьет что-то он, то слома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ечно спешит, а устанет от дел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Ляжет с газетой — уже захрапе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48006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181480" y="228600"/>
            <a:ext cx="16099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152280"/>
            <a:ext cx="7908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мур тебя тоже поздравляет!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19520" y="1752480"/>
            <a:ext cx="310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ждёт на охо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1240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01992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ак хорошо, что в мире этом есть мама крестная моя!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 тебе приду я за советом. Секрет открою, не 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1320" y="914400"/>
            <a:ext cx="16095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514600" y="1600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Я так люблю, когда луна глядит в окошко. И сказки тихо бродят по углам. 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А рядом мама держит за ладошку.    И гладит мои волосы слег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11480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2514600" cy="4876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226836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233960" y="29527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41972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8191440" y="2057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57200" y="3352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733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: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то молчит, а то кри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напевает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 у телека тор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обнимает теплотою сильных рук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забывает, что он сыну лучший друг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,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о я так его люблю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икому не дам в обид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952880"/>
            <a:ext cx="454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же сильный, я смог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733920" cy="6172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410080" y="59054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4495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13T08:59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