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6.jpeg" ContentType="image/jpeg"/>
  <Override PartName="/ppt/media/image5.gif" ContentType="image/gif"/>
  <Override PartName="/ppt/media/image28.png" ContentType="image/png"/>
  <Override PartName="/ppt/media/image7.gif" ContentType="image/gif"/>
  <Override PartName="/ppt/media/image29.jpeg" ContentType="image/jpeg"/>
  <Override PartName="/ppt/media/image25.gif" ContentType="image/gif"/>
  <Override PartName="/ppt/media/image10.jpeg" ContentType="image/jpeg"/>
  <Override PartName="/ppt/media/image8.jpeg" ContentType="image/jpeg"/>
  <Override PartName="/ppt/media/image11.jpeg" ContentType="image/jpeg"/>
  <Override PartName="/ppt/media/image13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9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5.jpeg" ContentType="image/jpeg"/>
  <Override PartName="/ppt/media/image16.jpeg" ContentType="image/jpeg"/>
  <Override PartName="/ppt/media/image6.gif" ContentType="image/gif"/>
  <Override PartName="/ppt/media/image21.jpeg" ContentType="image/jpeg"/>
  <Override PartName="/ppt/media/image27.jpeg" ContentType="image/jpeg"/>
  <Override PartName="/ppt/media/image17.gif" ContentType="image/gif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194-A46D-4531-A8BC-635B8677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FBB-C0E3-4678-B226-E0213F0E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9EB-B9DE-4E52-8670-C02DEBDB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20C-A21A-4E04-A2B5-B0B7E3F0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460-F165-44F5-A8ED-A909681D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424-04A1-4F9F-9A40-5FE5455C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0FB-6C1C-40E2-8F77-10A82570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1FC-3252-4079-8185-28DE6AD5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2AA-A1C1-46CE-84BA-36B8BD0E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BFC-5180-441F-93DC-D9880BB9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59F-C648-478A-BB2D-30A8483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A74-A8E8-4CEA-946B-CFD8BE08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42F8-CF57-4BB4-BE4A-2643BC4CB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4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6.gif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7.gif"/><Relationship Id="rId4" Type="http://schemas.openxmlformats.org/officeDocument/2006/relationships/image" Target="../media/image4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4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7960" y="11430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Wonderland"/>
              </a:rPr>
              <a:t>С ДНЁМ РОЖД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812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66680" y="2895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&amp;Bcy;&amp;iecy;&amp;zcy; &amp;ncy;&amp;acy;&amp;zcy;&amp;vcy;&amp;acy;&amp;ncy;&amp;icy;&amp;yacy; - &amp;Lcy;&amp;yucy;&amp;bcy;&amp;ocy;&amp;vcy;&amp;softcy; &amp;Fcy;&amp;iocy;&amp;dcy;&amp;ocy;&amp;rcy;&amp;ocy;&amp;vcy;&amp;ncy;&amp;acy; &amp;Gcy;&amp;rcy;&amp;icy;&amp;gcy;&amp;ocy;&amp;rcy;&amp;softcy;&amp;iecy;&amp;vcy;&amp;acy;"/>
          <p:cNvPicPr/>
          <p:nvPr/>
        </p:nvPicPr>
        <p:blipFill>
          <a:blip r:embed="rId4"/>
          <a:stretch/>
        </p:blipFill>
        <p:spPr>
          <a:xfrm>
            <a:off x="2971800" y="3124080"/>
            <a:ext cx="2543040" cy="133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8600" y="4581360"/>
            <a:ext cx="439740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1   ЛЕТ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00400" y="1523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477120" y="3581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Бабушка с дедушкой, папа и я,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Мама любимая вместе – семь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925040" cy="5486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153280" y="56386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44792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8580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62012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934320" y="6019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09480" y="129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858000" y="12193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343400" y="9144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037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95000"/>
                  </a:srgbClr>
                </a:solidFill>
                <a:latin typeface="Impact"/>
              </a:rPr>
              <a:t>Все поздравляют тебя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95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2666880"/>
            <a:ext cx="4952880" cy="403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467480" y="3200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114800" y="2590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553080" y="4343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620120" y="44956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62120" y="10666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2209680" y="2286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228600" y="2590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457200" y="5715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41148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4572000" y="6286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4"/>
          <a:stretch/>
        </p:blipFill>
        <p:spPr>
          <a:xfrm>
            <a:off x="4724280" y="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5"/>
          <a:stretch/>
        </p:blipFill>
        <p:spPr>
          <a:xfrm>
            <a:off x="5867280" y="48006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6"/>
          <a:stretch/>
        </p:blipFill>
        <p:spPr>
          <a:xfrm>
            <a:off x="12193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2971800" y="3048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8"/>
          <a:stretch/>
        </p:blipFill>
        <p:spPr>
          <a:xfrm>
            <a:off x="327672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9"/>
          <a:stretch/>
        </p:blipFill>
        <p:spPr>
          <a:xfrm>
            <a:off x="152280" y="1523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0"/>
          <a:stretch/>
        </p:blipFill>
        <p:spPr>
          <a:xfrm>
            <a:off x="0" y="3962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1"/>
          <a:stretch/>
        </p:blipFill>
        <p:spPr>
          <a:xfrm>
            <a:off x="7010280" y="11430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657600"/>
            <a:ext cx="3657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асти внучок на радость всей нашей семье. Будь честным, сильным, добрым, справедливым. Здоровья, радости, тепла тебе! А главное – всегда ты будь счастливы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4724280" cy="350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2390760" cy="2319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95680" y="380880"/>
            <a:ext cx="3687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 днём рожде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523880" y="15238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400800" y="31240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роказник наш сегодня повзрослел,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Мы внука отмечаем день рожденья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Как вырос он! И слезы умиленья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Способен вызвать милый наш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острел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Расти большим и добрым, счастлив будь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Родителей не обижай напрасно!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Пусть в жизни твоей будет все прекрасно</a:t>
            </a:r>
            <a:br>
              <a:rPr sz="1200"/>
            </a:br>
            <a:r>
              <a:rPr b="1" i="1" lang="en-US" sz="1200" spc="-1" strike="noStrike">
                <a:solidFill>
                  <a:srgbClr val="0000ff"/>
                </a:solidFill>
                <a:latin typeface="Arial"/>
              </a:rPr>
              <a:t>И бабушку с дедулей не забуд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86800" y="5592600"/>
            <a:ext cx="7632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28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38862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209680" y="17524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438280" y="5181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55308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495680" y="1066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3886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Со мною бабушка моя, и значит, главный в доме — я,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Шкафы мне можно открывать, цветы кефиром поливать,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Играть подушкою в футбол и полотенцем чистить пол.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Могу я есть руками торт, нарочно хлопать дверью! </a:t>
            </a:r>
            <a:br>
              <a:rPr sz="1400"/>
            </a:b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А с мамой это не пройдет, я уже провер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3657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2971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920" y="2971800"/>
            <a:ext cx="396216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971800" y="464832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400800" y="327672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едушка очень у нас деловой: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Ходит по дому, забыл про покой.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Бабушке он помогает весь день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Делать ему это вовсе не лень.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То постоянно очки он теряет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То разобьет что-то он, то сломает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Вечно спешит, а устанет от дел, </a:t>
            </a:r>
            <a:br>
              <a:rPr sz="18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Ляжет с газетой — уже захрапел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48006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3962520" cy="3124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04812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76720" y="480060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308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5181480" y="228600"/>
            <a:ext cx="160992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0" y="152280"/>
            <a:ext cx="79088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мур тебя тоже поздравляет!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819520" y="1752480"/>
            <a:ext cx="310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ждёт на охот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124080" y="518148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019920" y="312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143000" y="380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Как хорошо, что в мире этом есть мама крестная моя!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К тебе приду я за советом. Секрет открою, не 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8001000" cy="579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91320" y="914400"/>
            <a:ext cx="160956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858000" y="22860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514600" y="1600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Я так люблю, когда луна глядит в окошко. И сказки тихо бродят по углам. </a:t>
            </a:r>
            <a:br>
              <a:rPr sz="1600"/>
            </a:b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А рядом мама держит за ладошку.    И гладит мои волосы слег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114800" cy="579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629400" y="1752480"/>
            <a:ext cx="2514600" cy="4876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191120" y="990720"/>
            <a:ext cx="226836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233960" y="2952720"/>
            <a:ext cx="67608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419720" y="5410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8191440" y="20574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457200" y="3352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733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Папа разным мой бывает: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то молчит, а то кричит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напевает,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 у телека торчит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обнимает теплотою сильных рук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То, бывает, забывает, что он сыну лучший друг.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Папа разным мой бывает, 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но я так его люблю,</a:t>
            </a:r>
            <a:br>
              <a:rPr sz="1800"/>
            </a:b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Никому не дам в обиду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4952880"/>
            <a:ext cx="454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же сильный, я смогу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3733920" cy="6172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1522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886200" y="358128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410080" y="59054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4495680"/>
            <a:ext cx="952560" cy="95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13T08:59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