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EE685-F220-4078-81EE-EB48F16A6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79CA0-64AF-4E8E-9337-D5FF42337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F3F5D-715B-44EF-ABCF-F97F2FBD6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3204B-5E55-4DB9-AC91-EACB1FF6F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1853CE0-B066-4E5A-88C8-9155396ED5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570BBBA-1B2F-4A86-8CAA-89AF2B31A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777D358-1A1A-43CB-B389-EEE768A84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F7C7573-11A5-476A-A96C-ACDA8E04F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299B278-FAB7-4B7E-856C-0EAB6F31E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F2E2694-09E4-4399-A9F7-768203209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BC50EE0-C944-4B87-9B10-885430E62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CF0D4-E500-4205-BC0B-7A9304293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921B0F4-9A9E-4AA1-B73D-A97BA49CA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27F0686-BCCC-47F6-85D8-FFA3B0912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F8B1AF0-42E5-4F5E-8535-DF91061C5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0FEA1F0-C504-4CFB-9A6C-56F2A16B82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5E90699-B3DA-4F8D-95CD-F0E8BF3750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A704B-38A7-483A-AD45-7A0355202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EDC3E-415B-4276-AEC7-8985B3C13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2A2C9-601F-48AC-91D8-3737EDCF9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96EA9-009E-4472-8596-0CABCF53E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47D9C-331A-4634-9CD8-9FC620B37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7EBC7-EB3A-4A8D-B619-67B56C16E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CB3F5-AFD1-4FDA-826A-64310442B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D20D4-AA68-4759-84D7-1CC254FE9A3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F8D8B-67D1-49D0-84CB-9DDD388E83F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9640" y="836280"/>
            <a:ext cx="7918560" cy="194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cc"/>
                </a:solidFill>
                <a:latin typeface="Arial"/>
              </a:rPr>
              <a:t>Хребет Шайтантау – уникальная часть природного наследия Кувандыкского района</a:t>
            </a:r>
            <a:endParaRPr b="0" lang="en-US" sz="4000" spc="-1" strike="noStrike">
              <a:solidFill>
                <a:srgbClr val="e3e3ff"/>
              </a:solidFill>
              <a:latin typeface="Arial"/>
            </a:endParaRPr>
          </a:p>
        </p:txBody>
      </p:sp>
      <p:pic>
        <p:nvPicPr>
          <p:cNvPr id="123" name="34AABE2F" descr=""/>
          <p:cNvPicPr/>
          <p:nvPr/>
        </p:nvPicPr>
        <p:blipFill>
          <a:blip r:embed="rId1">
            <a:lum contrast="-24000"/>
          </a:blip>
          <a:srcRect l="0" t="5966" r="-68320" b="4644"/>
          <a:stretch/>
        </p:blipFill>
        <p:spPr>
          <a:xfrm>
            <a:off x="1116000" y="4653000"/>
            <a:ext cx="4235400" cy="1824120"/>
          </a:xfrm>
          <a:prstGeom prst="rect">
            <a:avLst/>
          </a:prstGeom>
          <a:ln w="0">
            <a:noFill/>
          </a:ln>
        </p:spPr>
      </p:pic>
      <p:pic>
        <p:nvPicPr>
          <p:cNvPr id="124" name="3823EEEB" descr=""/>
          <p:cNvPicPr/>
          <p:nvPr/>
        </p:nvPicPr>
        <p:blipFill>
          <a:blip r:embed="rId2"/>
          <a:srcRect l="14560" t="6525" r="11025" b="2139"/>
          <a:stretch/>
        </p:blipFill>
        <p:spPr>
          <a:xfrm>
            <a:off x="5724360" y="4653000"/>
            <a:ext cx="2159280" cy="1798560"/>
          </a:xfrm>
          <a:prstGeom prst="rect">
            <a:avLst/>
          </a:prstGeom>
          <a:ln w="0">
            <a:noFill/>
          </a:ln>
        </p:spPr>
      </p:pic>
      <p:pic>
        <p:nvPicPr>
          <p:cNvPr id="125" name="F471D715" descr=""/>
          <p:cNvPicPr/>
          <p:nvPr/>
        </p:nvPicPr>
        <p:blipFill>
          <a:blip r:embed="rId3"/>
          <a:srcRect l="0" t="0" r="0" b="10598"/>
          <a:stretch/>
        </p:blipFill>
        <p:spPr>
          <a:xfrm>
            <a:off x="2987640" y="4653000"/>
            <a:ext cx="2743200" cy="1800360"/>
          </a:xfrm>
          <a:prstGeom prst="rect">
            <a:avLst/>
          </a:prstGeom>
          <a:ln w="0">
            <a:noFill/>
          </a:ln>
        </p:spPr>
      </p:pic>
      <p:sp>
        <p:nvSpPr>
          <p:cNvPr id="126" name=""/>
          <p:cNvSpPr/>
          <p:nvPr/>
        </p:nvSpPr>
        <p:spPr>
          <a:xfrm>
            <a:off x="826920" y="3213000"/>
            <a:ext cx="7490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5280" y="3357720"/>
            <a:ext cx="8137440" cy="1289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Выполнил: выпускник СОШ №1:                            Насыров Данил</a:t>
            </a:r>
            <a:endParaRPr b="0" lang="en-US" sz="24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Руководитель: Корвяков С.А.</a:t>
            </a:r>
            <a:endParaRPr b="0" lang="en-US" sz="2000" spc="-1" strike="noStrike">
              <a:solidFill>
                <a:srgbClr val="ffffff"/>
              </a:solidFill>
              <a:latin typeface="Arial"/>
            </a:endParaRPr>
          </a:p>
        </p:txBody>
      </p:sp>
      <p:sp>
        <p:nvSpPr>
          <p:cNvPr id="128" name=""/>
          <p:cNvSpPr/>
          <p:nvPr/>
        </p:nvSpPr>
        <p:spPr>
          <a:xfrm>
            <a:off x="3492360" y="5950080"/>
            <a:ext cx="208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Куванды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Экспедиционные исследования (продолжение)</a:t>
            </a:r>
            <a:endParaRPr b="0" lang="en-US" sz="4000" spc="-1" strike="noStrike">
              <a:solidFill>
                <a:srgbClr val="e3e3ff"/>
              </a:solidFill>
              <a:latin typeface="Arial"/>
            </a:endParaRPr>
          </a:p>
        </p:txBody>
      </p:sp>
      <p:sp>
        <p:nvSpPr>
          <p:cNvPr id="155" name="PlaceHolder 2"/>
          <p:cNvSpPr>
            <a:spLocks noGrp="1"/>
          </p:cNvSpPr>
          <p:nvPr>
            <p:ph/>
          </p:nvPr>
        </p:nvSpPr>
        <p:spPr>
          <a:xfrm>
            <a:off x="457200" y="1600200"/>
            <a:ext cx="8686800" cy="4495680"/>
          </a:xfrm>
          <a:prstGeom prst="rect">
            <a:avLst/>
          </a:prstGeom>
          <a:noFill/>
          <a:ln w="0">
            <a:noFill/>
          </a:ln>
        </p:spPr>
        <p:txBody>
          <a:bodyPr lIns="90000" rIns="90000" tIns="46800" bIns="46800"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ся узкая полоса водораздельного пространства была занята горной ковыльно-разнотравной степью. В травостое выделялись два вида ковылей – узколистный и Залесского, овсец Шелля, горец горный, порезник сибирский. На южных склонах были обнаружены типичные представители каменистых степей: очиток гибридный, горноколосник колючий, тимьян мугоджарский и губерлинский. Из реликтовых и эндемичных растений были встречены: пырей инееватый, гвоздика уральская, клауссия солнцелюбивая.</a:t>
            </a:r>
            <a:endParaRPr b="0" lang="en-US" sz="1800" spc="-1" strike="noStrike">
              <a:solidFill>
                <a:srgbClr val="ffffff"/>
              </a:solidFill>
              <a:latin typeface="Arial"/>
            </a:endParaRPr>
          </a:p>
        </p:txBody>
      </p:sp>
      <p:pic>
        <p:nvPicPr>
          <p:cNvPr id="156" name="" descr=""/>
          <p:cNvPicPr/>
          <p:nvPr/>
        </p:nvPicPr>
        <p:blipFill>
          <a:blip r:embed="rId1"/>
          <a:stretch/>
        </p:blipFill>
        <p:spPr>
          <a:xfrm>
            <a:off x="5219640" y="3716280"/>
            <a:ext cx="2735280" cy="2325600"/>
          </a:xfrm>
          <a:prstGeom prst="rect">
            <a:avLst/>
          </a:prstGeom>
          <a:ln w="0">
            <a:noFill/>
          </a:ln>
        </p:spPr>
      </p:pic>
      <p:pic>
        <p:nvPicPr>
          <p:cNvPr id="157" name="" descr=""/>
          <p:cNvPicPr/>
          <p:nvPr/>
        </p:nvPicPr>
        <p:blipFill>
          <a:blip r:embed="rId2"/>
          <a:stretch/>
        </p:blipFill>
        <p:spPr>
          <a:xfrm>
            <a:off x="1547640" y="4005360"/>
            <a:ext cx="2735280" cy="2317680"/>
          </a:xfrm>
          <a:prstGeom prst="rect">
            <a:avLst/>
          </a:prstGeom>
          <a:ln w="0">
            <a:noFill/>
          </a:ln>
        </p:spPr>
      </p:pic>
      <p:sp>
        <p:nvSpPr>
          <p:cNvPr id="158" name=""/>
          <p:cNvSpPr/>
          <p:nvPr/>
        </p:nvSpPr>
        <p:spPr>
          <a:xfrm>
            <a:off x="1979640" y="5661000"/>
            <a:ext cx="21589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Горноколосник                                     колючий </a:t>
            </a:r>
            <a:endParaRPr b="0" lang="en-US" sz="1800" spc="-1" strike="noStrike">
              <a:solidFill>
                <a:srgbClr val="ffffff"/>
              </a:solidFill>
              <a:latin typeface="Arial"/>
            </a:endParaRPr>
          </a:p>
        </p:txBody>
      </p:sp>
      <p:sp>
        <p:nvSpPr>
          <p:cNvPr id="159" name=""/>
          <p:cNvSpPr/>
          <p:nvPr/>
        </p:nvSpPr>
        <p:spPr>
          <a:xfrm>
            <a:off x="5724360" y="5300640"/>
            <a:ext cx="201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Клаусия  солнцелюбива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Экспедиционные исследования (продолжение)</a:t>
            </a:r>
            <a:endParaRPr b="0" lang="en-US" sz="40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оследние годы на территории района бушуют степные и лесные пожары. Не стал исключением и хребет Шайтантау. Во время обследования природного объекта, мы не встретили ни одного участка не пострадавшего от огненной стихии. В дубняках повсюду попадались засохшие кроны деревьев, на которых кое-где можно было увидеть зеленые листочки: как последние фрагменты сохранившейся жизни. Вокруг деревьев кольца из пепла и обуглившихся желудей, повсюду бурелом из наполовину сгоревших веток и стволов. Особый интерес вызывала молодая поросль липы и вяза, появившаяся после пожара. Удивляла не столько высота молодых побегов (до 1,5 м.), сколько гигантские размеры их листовых пластинок. Они были в 2-3 раза больше, чем у взрослых растений. Выдвинули версию, что связано это с какими-то резервными возможностями растительных организмов, которые проявляются в экстремальных условиях. Возможно это ускоренное развитие ростовых клеток, питание которых усиливается по причине повышения минерализации почвы (пепел после пожара), а также, по причине самого большого годового количества осадков (более 500 мм) и высокого снежного покрова ( до 1 м).  (Тема для отдельного исследовани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Результаты исследований:</a:t>
            </a:r>
            <a:endParaRPr b="0" lang="en-US" sz="4400" spc="-1" strike="noStrike">
              <a:solidFill>
                <a:srgbClr val="e3e3ff"/>
              </a:solidFill>
              <a:latin typeface="Arial"/>
            </a:endParaRPr>
          </a:p>
        </p:txBody>
      </p:sp>
      <p:sp>
        <p:nvSpPr>
          <p:cNvPr id="163" name="PlaceHolder 2"/>
          <p:cNvSpPr>
            <a:spLocks noGrp="1"/>
          </p:cNvSpPr>
          <p:nvPr>
            <p:ph/>
          </p:nvPr>
        </p:nvSpPr>
        <p:spPr>
          <a:xfrm>
            <a:off x="468360" y="1267920"/>
            <a:ext cx="8229600" cy="449604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Arial"/>
              </a:rPr>
              <a:t>Выяснили:</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идовой состав различных растительных сообществ;</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к происходит восстановление растительного покрова после лесного пожара;</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стояние поверхностных и подземных вод.</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Arial"/>
              </a:rPr>
              <a:t>Обнаружили:</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 вершине водораздельного плато кварцево-кварцитовые галечники (мезозойские отложения);</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станцы, состоящие из вулканических пород, образовавшихся в результате излияния лавы на дне силурийского моря;</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едкие, реликтовые и эндемичные растения;</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о половины обгоревшие стволы деревьев и почти полностью сгоревший подлесок;</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ухие русла родников и речек (и только два действующих источника;</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арсучьи норы и лежки лосей, видели волка; </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еды пребывания людей и домашних животных;</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фундамент от бывшего охотничьего домика и благоустроенный родни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Результаты исследований: (продолжение)</a:t>
            </a:r>
            <a:endParaRPr b="0" lang="en-US" sz="40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Arial"/>
              </a:rPr>
              <a:t>Выдвинули версии:</a:t>
            </a:r>
            <a:r>
              <a:rPr b="1" lang="ru-RU" sz="1600" spc="-1" strike="noStrike">
                <a:solidFill>
                  <a:srgbClr val="ffffff"/>
                </a:solidFill>
                <a:latin typeface="Arial"/>
              </a:rPr>
              <a:t> </a:t>
            </a:r>
            <a:r>
              <a:rPr b="0" lang="ru-RU" sz="1600" spc="-1" strike="noStrike">
                <a:solidFill>
                  <a:srgbClr val="ffffff"/>
                </a:solidFill>
                <a:latin typeface="Arial"/>
              </a:rPr>
              <a:t>(требующие дополнительных исследований).</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что родник у бывшего охотничьего домика, вероятно, впадает в речку Хузен (правый приток Сакмары);</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ысокую плотность травостоя на открытых участках междуречного плато мы объясняем невысокой температурой во время пожара (при сильном ветре он мог быть поверхностным);</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игантизм молодой поросли липы и вяза, скорее всего, связан с какими-то резервными возможностями растительных организмов проявляющихся в экстремальных условиях;</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чень редкие встречи с представителями животного мира мы также объясняем последствиями пожара.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Arial"/>
              </a:rPr>
              <a:t>Выполнили:</a:t>
            </a:r>
            <a:r>
              <a:rPr b="1" lang="ru-RU"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фотографирование самых интересных фрагментов природного объекта;</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чистку двух действующих источников;</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обследование следов пребывания человека, диких и домашних животных.</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Arial"/>
              </a:rPr>
              <a:t>Собрали:</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обрали образцы горных пород и природных материалов.</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Arial"/>
              </a:rPr>
              <a:t>Провели: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работку и систематизацию собранных материалов.</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Рекомендации по сохранению и использованию объекта:</a:t>
            </a:r>
            <a:endParaRPr b="0" lang="en-US" sz="40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1.  Пока Шайтантау официально не стал заповедником необходимо считать его территорию заповедной.</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До полного запрета всех видов хозяйственной деятельности (одно из главных условий при создании заповедника) необходимо:</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роизвести на местности обозначение границ природного объекта с установкой запрещающих и разъяснительных аншлагов (Комитет по охране природы);</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ресекать все случаи браконьерства, сенокошения  и выпаса скота на территории заповедной зоны (Лесничества, штатные егеря);</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разрешить только лицензионный сбор даров природы;</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установить нормы рекреационной нагрузки.</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  Разработать учебно-экскурсионные, экологические и культурно-просветительские маршруты, с целью ознакомления с природным объектом. (СЮН).</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 Составить единые правила поведения для участников экскурсий по объекту (Районный Совет по туризму и спорту).</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Составить план проведения совместных экспедиционных исследований на Шайтантау:  ученых Института степи, студентов ОГУ, учащихся школ города и района, увлекающихся исследовательской деятельностью (ЦДЮТ, СЮН, НОУ «Логос»).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Литература:</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Атлас Оренбургской области. /Под ред. Н.Д. Стояловой. Омск: ОкфР, 2000.</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Географический атлас Оренбургской области. /Под ред. А.А. Чибилева. Оренб. кн. Изд-во. ДИК. М., 1999.</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Чибилев А.А. Зеленая книга степного края. Челябинск: ЮУКИ, 1987.</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4.  Чибилев А.А. Памятники природы Кувандыкского района. Рукопись. – 1993.</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5.  Чибилев А.А. Природное наследие Оренбургской области. – Учебное пособие. – Оренбург: Оренб. кн. изд-во, 199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6.  Энциклопедия «Оренбуржье». Том 1. /Под ред. И.А. Бехтерев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Актуальность</a:t>
            </a:r>
            <a:endParaRPr b="0" lang="en-US" sz="4400" spc="-1" strike="noStrike">
              <a:solidFill>
                <a:srgbClr val="e3e3ff"/>
              </a:solidFill>
              <a:latin typeface="Arial"/>
            </a:endParaRPr>
          </a:p>
        </p:txBody>
      </p:sp>
      <p:sp>
        <p:nvSpPr>
          <p:cNvPr id="130"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лавным условием сохранения природного наследия является этическое отношение к природе, которое не может существовать без уважения и любви к тому, что создано в течении длительной истории развития Земли.</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коло 30 лет занимается проблемой сохранения природного наследия Оренбургской области А.А. Чибилев. Под его руководством только на территории Кувандыкского района было выявлено более 50 памятников природы.</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Хребет Шайтантау – один из малоизмененных уголков горной дубравной лесостепи области. Недаром многие его исследователи: А.А.Григорьев, И.М. Крашенинников, Е.В.Кучеров – пришли к единодушному мнению: «Шайтантау должен стать лесостепным заповедником».</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964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Цель исследования:</a:t>
            </a:r>
            <a:br>
              <a:rPr sz="4400"/>
            </a:br>
            <a:endParaRPr b="0" lang="en-US" sz="4400" spc="-1" strike="noStrike">
              <a:solidFill>
                <a:srgbClr val="e3e3ff"/>
              </a:solidFill>
              <a:latin typeface="Arial"/>
            </a:endParaRPr>
          </a:p>
        </p:txBody>
      </p:sp>
      <p:sp>
        <p:nvSpPr>
          <p:cNvPr id="132" name="PlaceHolder 2"/>
          <p:cNvSpPr>
            <a:spLocks noGrp="1"/>
          </p:cNvSpPr>
          <p:nvPr>
            <p:ph/>
          </p:nvPr>
        </p:nvSpPr>
        <p:spPr>
          <a:xfrm>
            <a:off x="539640" y="2332080"/>
            <a:ext cx="8229600" cy="45259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Представить Шайтантау как уникальный природный объект, который нуждается в дальнейшем исследовании и разумном использовани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Задачи:</a:t>
            </a: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Изучить литературу по теме исследования.</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Дополнить и обобщить материал по природному объекту.</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пределить изменения в объекте со времени его последнего обследования.</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Разработать рекомендации по его сохранению и разумному использованию.</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Гипотеза:</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Мы предполагаем, что хребет Шайтантау является эталоном горно-лесостепного ландшафта Южного Урала с его уникальным рельефом и геологическим строением, речной сетью и своеобразной растительностью, удивительным и неповторимым животным миром.</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Теоретический блок исследований:</a:t>
            </a:r>
            <a:endParaRPr b="0" lang="en-US" sz="40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Теоретический анализ различных источников информации (книг, учебных пособий, газетных статей) позволил нам оценить Шайтантау, как один из мало измененных уголков горной дубравной лесостепи почти не затронутой деятельностью человека. Это было огромное поле для исследовательской деятельности.</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оявлялось желание побывать на вершине хребта, увидеть панораму мелкосопочника, покрытую изумрудной зеленью лесов, узкие и глубокие распадки с крутыми обрывами и скальными останцами; представить геологические события, которые происходили здесь миллионы лет назад.</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Используя картографические материалы, мы уточнили местонахождение объекта, границы его территории, пути подъезда, составили схему участк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Экспедиционные исследования:</a:t>
            </a:r>
            <a:endParaRPr b="0" lang="en-US" sz="4000" spc="-1" strike="noStrike">
              <a:solidFill>
                <a:srgbClr val="e3e3ff"/>
              </a:solidFill>
              <a:latin typeface="Arial"/>
            </a:endParaRPr>
          </a:p>
        </p:txBody>
      </p:sp>
      <p:sp>
        <p:nvSpPr>
          <p:cNvPr id="140" name="PlaceHolder 2"/>
          <p:cNvSpPr>
            <a:spLocks noGrp="1"/>
          </p:cNvSpPr>
          <p:nvPr>
            <p:ph/>
          </p:nvPr>
        </p:nvSpPr>
        <p:spPr>
          <a:xfrm>
            <a:off x="456840" y="1600200"/>
            <a:ext cx="454644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вые впечатления были связаны с плосковершинным междуречным плато.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Это была удивительная по своей красоте горно-луговая степь, которая местами прерывалась березово-осиновыми колками. Здесь преобладали узколистные кустовые злаки: ковыль узколистный, тонконог степной, вейник наземный. В густом разнотравье выделялись: кровохлебка лекарственная, марьянник полевой, горечавка легочная, подмаренник северный и др.</a:t>
            </a:r>
            <a:endParaRPr b="0" lang="en-US" sz="2000" spc="-1" strike="noStrike">
              <a:solidFill>
                <a:srgbClr val="ffffff"/>
              </a:solidFill>
              <a:latin typeface="Arial"/>
            </a:endParaRPr>
          </a:p>
        </p:txBody>
      </p:sp>
      <p:pic>
        <p:nvPicPr>
          <p:cNvPr id="141" name="" descr=""/>
          <p:cNvPicPr/>
          <p:nvPr/>
        </p:nvPicPr>
        <p:blipFill>
          <a:blip r:embed="rId1"/>
          <a:stretch/>
        </p:blipFill>
        <p:spPr>
          <a:xfrm>
            <a:off x="5148360" y="1413000"/>
            <a:ext cx="3313080" cy="2482560"/>
          </a:xfrm>
          <a:prstGeom prst="rect">
            <a:avLst/>
          </a:prstGeom>
          <a:ln w="0">
            <a:noFill/>
          </a:ln>
        </p:spPr>
      </p:pic>
      <p:pic>
        <p:nvPicPr>
          <p:cNvPr id="142" name="" descr=""/>
          <p:cNvPicPr/>
          <p:nvPr/>
        </p:nvPicPr>
        <p:blipFill>
          <a:blip r:embed="rId2"/>
          <a:stretch/>
        </p:blipFill>
        <p:spPr>
          <a:xfrm>
            <a:off x="5867280" y="3645000"/>
            <a:ext cx="3048120" cy="2290680"/>
          </a:xfrm>
          <a:prstGeom prst="rect">
            <a:avLst/>
          </a:prstGeom>
          <a:ln w="0">
            <a:noFill/>
          </a:ln>
        </p:spPr>
      </p:pic>
      <p:sp>
        <p:nvSpPr>
          <p:cNvPr id="143" name=""/>
          <p:cNvSpPr/>
          <p:nvPr/>
        </p:nvSpPr>
        <p:spPr>
          <a:xfrm>
            <a:off x="5796000" y="5445000"/>
            <a:ext cx="252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6335640" y="5157720"/>
            <a:ext cx="28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Кровохлебка лекарственная</a:t>
            </a:r>
            <a:endParaRPr b="0" lang="en-US" sz="1800" spc="-1" strike="noStrike">
              <a:solidFill>
                <a:srgbClr val="ffffff"/>
              </a:solidFill>
              <a:latin typeface="Arial"/>
            </a:endParaRPr>
          </a:p>
        </p:txBody>
      </p:sp>
      <p:sp>
        <p:nvSpPr>
          <p:cNvPr id="145" name=""/>
          <p:cNvSpPr/>
          <p:nvPr/>
        </p:nvSpPr>
        <p:spPr>
          <a:xfrm>
            <a:off x="5435640" y="3213000"/>
            <a:ext cx="29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пушка березового лес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Экспедиционные исследования (продолжение)</a:t>
            </a:r>
            <a:endParaRPr b="0" lang="en-US" sz="4000" spc="-1" strike="noStrike">
              <a:solidFill>
                <a:srgbClr val="e3e3ff"/>
              </a:solidFill>
              <a:latin typeface="Arial"/>
            </a:endParaRPr>
          </a:p>
        </p:txBody>
      </p:sp>
      <p:sp>
        <p:nvSpPr>
          <p:cNvPr id="147" name="PlaceHolder 2"/>
          <p:cNvSpPr>
            <a:spLocks noGrp="1"/>
          </p:cNvSpPr>
          <p:nvPr>
            <p:ph/>
          </p:nvPr>
        </p:nvSpPr>
        <p:spPr>
          <a:xfrm>
            <a:off x="395280" y="1483920"/>
            <a:ext cx="8229600" cy="247644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Массу впечатлений и богатый природный материал получили мы во время пешеходной экскурсии к узкой и плоской вершине хребта Шайтантау.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еред нами открылась завораживающая картина царственного уголка природы. Волнистое море изумрудной зелени, скальные останцы вулканических пород, мощные выходы осадочных пород с крутым падением слоистости. Все это – наглядная демонстрация геологической истории и тех процессов, которые происходили здесь миллионы лет назад.</a:t>
            </a:r>
            <a:endParaRPr b="0" lang="en-US" sz="2000" spc="-1" strike="noStrike">
              <a:solidFill>
                <a:srgbClr val="ffffff"/>
              </a:solidFill>
              <a:latin typeface="Arial"/>
            </a:endParaRPr>
          </a:p>
        </p:txBody>
      </p:sp>
      <p:pic>
        <p:nvPicPr>
          <p:cNvPr id="148" name="" descr=""/>
          <p:cNvPicPr/>
          <p:nvPr/>
        </p:nvPicPr>
        <p:blipFill>
          <a:blip r:embed="rId1"/>
          <a:stretch/>
        </p:blipFill>
        <p:spPr>
          <a:xfrm>
            <a:off x="5219640" y="4076640"/>
            <a:ext cx="2664000" cy="2016360"/>
          </a:xfrm>
          <a:prstGeom prst="rect">
            <a:avLst/>
          </a:prstGeom>
          <a:ln w="0">
            <a:noFill/>
          </a:ln>
        </p:spPr>
      </p:pic>
      <p:pic>
        <p:nvPicPr>
          <p:cNvPr id="149" name="" descr=""/>
          <p:cNvPicPr/>
          <p:nvPr/>
        </p:nvPicPr>
        <p:blipFill>
          <a:blip r:embed="rId2"/>
          <a:stretch/>
        </p:blipFill>
        <p:spPr>
          <a:xfrm>
            <a:off x="1547640" y="4076640"/>
            <a:ext cx="2737080" cy="205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Экспедиционные исследования (продолжение)</a:t>
            </a:r>
            <a:endParaRPr b="0" lang="en-US" sz="4000" spc="-1" strike="noStrike">
              <a:solidFill>
                <a:srgbClr val="e3e3ff"/>
              </a:solidFill>
              <a:latin typeface="Arial"/>
            </a:endParaRPr>
          </a:p>
        </p:txBody>
      </p:sp>
      <p:sp>
        <p:nvSpPr>
          <p:cNvPr id="151" name="PlaceHolder 2"/>
          <p:cNvSpPr>
            <a:spLocks noGrp="1"/>
          </p:cNvSpPr>
          <p:nvPr>
            <p:ph/>
          </p:nvPr>
        </p:nvSpPr>
        <p:spPr>
          <a:xfrm>
            <a:off x="468360" y="148428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реодолев крутой подъем по восточному склону водораздельного хребта, мы наконец-то вышли на его вершину. Это был реликт древнего мезозойского плато расчлененного речной сетью. Трудно поверить, что кварцево-кварцитовые галечники, лежащие  у нас под ногами омывались когда-то теплыми водами мезозойского моря.</a:t>
            </a:r>
            <a:endParaRPr b="0" lang="en-US" sz="2000" spc="-1" strike="noStrike">
              <a:solidFill>
                <a:srgbClr val="ffffff"/>
              </a:solidFill>
              <a:latin typeface="Arial"/>
            </a:endParaRPr>
          </a:p>
        </p:txBody>
      </p:sp>
      <p:pic>
        <p:nvPicPr>
          <p:cNvPr id="152" name="" descr=""/>
          <p:cNvPicPr/>
          <p:nvPr/>
        </p:nvPicPr>
        <p:blipFill>
          <a:blip r:embed="rId1"/>
          <a:stretch/>
        </p:blipFill>
        <p:spPr>
          <a:xfrm>
            <a:off x="2268360" y="3429000"/>
            <a:ext cx="4104000" cy="2583000"/>
          </a:xfrm>
          <a:prstGeom prst="rect">
            <a:avLst/>
          </a:prstGeom>
          <a:ln w="0">
            <a:noFill/>
          </a:ln>
        </p:spPr>
      </p:pic>
      <p:sp>
        <p:nvSpPr>
          <p:cNvPr id="153" name=""/>
          <p:cNvSpPr/>
          <p:nvPr/>
        </p:nvSpPr>
        <p:spPr>
          <a:xfrm>
            <a:off x="2916360" y="5445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одораздельный хребе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7T03:51:44Z</dcterms:created>
  <dc:creator>user</dc:creator>
  <dc:description/>
  <dc:language>en-US</dc:language>
  <cp:lastModifiedBy>Корвяков Сергей</cp:lastModifiedBy>
  <dcterms:modified xsi:type="dcterms:W3CDTF">2012-03-15T10:00:36Z</dcterms:modified>
  <cp:revision>57</cp:revision>
  <dc:subject/>
  <dc:title>Хребет Шайтантау – уникальная часть природного наследия Кувандыкского района</dc:title>
</cp:coreProperties>
</file>