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269B-B766-4085-9236-0B5FC278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8622-E470-4F63-A1A2-FE4AF6D1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3114-F28C-46A5-A5E8-FAFF28785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60AC-3D7D-4DE8-9F63-9AB2311F4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C923-0D9D-45EC-BB2C-1D77C70A5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9995-F6D8-49DE-BC25-451EEC0A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2400-819B-49C6-ABD6-9A2B79A4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966B-5CE4-4DEB-BCB2-A91CAB64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A4DE-0765-49D2-BF1E-39E7E5B0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5DBF-8456-4E5A-A937-9915D315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5356-B16D-4B71-BA73-B615DFFB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42B4-3938-42CF-99E8-B539BA7C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992D-A1EC-4CCC-8031-ACAF0F31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2243-E2A3-4165-BCC3-4B7A4A6F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A9EA-C275-4449-A1D5-AD8CF8B2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69F7-6E75-454C-A2A3-2EAA7DE3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2705-842B-4ACD-8FD5-973BEF206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E081-F1AD-46C2-AC72-24293BD3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F234-8E91-44EC-9E3F-5780A381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F1AD-10A2-41F0-B795-07D975FA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8E95-7FCA-4C5A-80A1-9F1AD546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4885-BFD0-45F4-A3C7-05CA38CC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DFB6-CFE1-4B68-8A10-9751AE8A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11EC-09EE-48AB-BA19-CA5D554A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A344-3E02-4CD9-9D0F-9D269D8F91F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2D30-A6DA-4C5F-9B03-4BD22843373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Рабочая программа: </a:t>
            </a: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требования, структура, общие положения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ещание для зам.директоров по УВ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евраль 2009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Ответственность образовательного учреждения: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ответствии с Законом РФ «Об образовании» (ст. 32) образовательное учреж­дение несет ответственность за реализацию не в полном объеме образовательных программ согласно учебному плану и графику учебного проце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Ответственность образовательного учреждения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-составитель при разработке учебной программы должен учесть требования федерального компонента государственного образовательного стандар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ми положениями реализации стандарта содерж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ния по предмету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тражение требований к уровню подготовленности обучающегося по данному предмету; - включение в содержание учебной программы всех поименованных дидактических единиц федерального компонента стандар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конкретизация степени участия данного предмета в реализации компетентностного подх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труктура учебных программ: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тульный лис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яснительная запис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бования к уровню усвоения предме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о-тематический план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ание тем учебного курс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уровня обученнос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чень литературы и средств обуч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итульный лис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менование образовательного учрежд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менование учебного предмета (курс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зание класса, в котором изучается предме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д разрабо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ротная сторона титульного листа содержит: сведения об авторе и рецензентах (внутренняя и внешняя рецензии), гриф утверждения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ояснительная записк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место данного учебного предмета в решении общих целей и задач на данной ступени обще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цели и задачи данного учебного предмета в области формирования системы знаний, умений (задачи формулируются в соответствии со стандартом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овизна данной учебной программы, ее отличие от примерной или ранее действовавш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межпредметные связи: на какие учебные предметы опирается данный предмет для каких предметов является базой; если эти связи сильны, то целесообразно отметить, как они могут быть реализова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собенности организации учебного процесса по предмету; предпочтительные формы организации учебного процесса и их сочетания; предпочтительные формы контроля знаний, умений, навыков (текущего, рубежного, итоговог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ояснительная запис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пояснительной записке могут быть даны пояснения к каждому из разделов программы и краткие методические указания по изложению теоретического материала, выполнению лабораторных работ и практических занятий, а также пояснения, обусловленные требованиями реализации регионального компонента, специфики образовательного учре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яснительная записка должна быть лаконичной: на каждый из поставленных вопросов следует дать кратки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Требования к уровню усвоения предмета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ажают основные идеи и систему ценностей, формируемые учебным предметом; конечную систему знаний; перечень умений и навыков (способов деятельности); перечень проблем, которые учащиеся должны научиться решать, творчески изучая данный предм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бования к уровню усвоения должны быть не ниже требований, сформулированных в федеральном компоненте государственного образовательного стандар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Учебно-тематический план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крывает последовательность изучения разделов и тем программы, показывает распределение учебных часов по разделам и темам из расчета максимальной учебной нагруз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ляется на весь срок обу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предметам, не вынесенным на экзамены, проводятся зачеты, контрольные работы и т.д. за счет времени, отведенного на изучение предм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имеет право включать дополнительные темы по сравнению с примерными программами учебных предм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чень лабораторных работ и практических занятий, а также количество часов могут отличаться от рекомендованных примерной программой. Но при этом уровень подготовки учащихся должен соответствовать требованиям к уровню подготовки, определенным государственным образовательным стандар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Учебно-тематический план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14400" y="1600200"/>
          <a:ext cx="7772400" cy="4530600"/>
        </p:xfrm>
        <a:graphic>
          <a:graphicData uri="http://schemas.openxmlformats.org/drawingml/2006/table">
            <a:tbl>
              <a:tblPr/>
              <a:tblGrid>
                <a:gridCol w="468360"/>
                <a:gridCol w="950760"/>
                <a:gridCol w="844560"/>
                <a:gridCol w="1015920"/>
                <a:gridCol w="1901880"/>
                <a:gridCol w="2590920"/>
              </a:tblGrid>
              <a:tr h="1524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95959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95959"/>
                          </a:solidFill>
                          <a:latin typeface="Times New Roman"/>
                          <a:ea typeface="Times New Roman"/>
                        </a:rPr>
                        <a:t>Количество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на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95959"/>
                          </a:solidFill>
                          <a:latin typeface="Times New Roman"/>
                          <a:ea typeface="Times New Roman"/>
                        </a:rPr>
                        <a:t>лабораторные зан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95959"/>
                          </a:solidFill>
                          <a:latin typeface="Times New Roman"/>
                          <a:ea typeface="Times New Roman"/>
                        </a:rPr>
                        <a:t>контрольные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ижней части таблицы часы суммируются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одержание учебного предме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сновная часть программы, описание строится по разделам и темам в соответствии с тематическим планом. При разработке следует опираться на обязательный минимум содержания образовательных программ государственного образовательного стандарта. Все дидактические единицы должны быть отражены и конкретизированы в содержании учебного матери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описании содержания тем учебной программы может быть рекомендована следующая последовательность излож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звание те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еобходимое количество часов для ее изу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бобщенные требования к знаниям и умениям обучающихся по тем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держание учебного материала (дидактические единиц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темы практических и лабораторных рабо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иды самостоятельной работы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Закон РФ «Об образовании»    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(ст. 9)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образования как совокупность преемственных образовательных программ и государственных образовательных стандартов. Набор образовательных программ является основой для выбора индивидуальных маршрутов обучающимися в условиях образовательного учре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онтроль уровня обученност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ает систему контролирующих материалов качества ЗУН, позволяющих оценить уровень и качество ЗУН обучающихся на входном, текущем и итоговом этапах изучения предм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ства контроля должны находиться в логической связи с содержанием учебного материала и соответствовать требованиям к уровню освоения предм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Литература и средства обуч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азывается основная и дополнительная учебная литература, учебные и справочные пособия, учебно - методическая литература, перечень рекомендуемых средств обу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иблиографическом списке выделяются издания, предназначенные для учащихся, и литература для учи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о-методическое обеспечение программы включает следующие материал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о-программные (учебный и учебно-тематический планы, учебные программы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о-теоретические (учебники, учебные пособ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учебно-практические (сборники упражнений и задач, контрольных заданий, тестов, практических работ и лабораторных практикумов, хрестомат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учебно-справочные (словари, справочник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учебно-наглядные (альбомы, атласы, карты, таблиц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Введение учебной программы в образовательный процесс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нутреннее рецензирование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ление педагогом разработанной программы; оценка программы коллегами и ее обсуждение на заседании методического объединения; коррекция программы; дается рецензия и рекомендации по реализации програм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нешнее рецензирование программ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тексте рецензии должна быть формулировка «Программа рекомендована к реализации...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ская программа должна иметь не менее двух внешних реценз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ему рецензированию не подлежат рабочие учебные программы, в кото­рых инвариантная часть Базисного Учебного плана, отводимого на их изучение, подвергается изменени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нее чем на 20 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ждение программ происходит на педагогическом совете перед началом учебного года, а в конце учебного года анализируются результаты работы по программ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ецензирование рабочей программы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учет основных положений образовательной концепции школ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заимосвязь учебных программ в рамках образовательной области, отражение за­конченного, целостного содержания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личие признаков нормативного докумен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следовательность расположения и взаимосвязь всех элементов содержания курс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пределение методов, организационных форм и средств обучения, что отражает единство содержания образования и процесса обучения в построении програм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лнота раскрытия целей обучения с включением в программу всех элементов со­держания (знания о природе, обществе, технике, человеке; опыт известных способов дея­тельности; опыт творческой деятельности; опыт эмоционально-ценностного отношения к действительнос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нкретность представления элементов содержания образо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Заместитель директора по учебной работ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ет контроль 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рецензированием и утверждением рабочих и авторских учебных программ на заседаниях методических объединений, педагогических сове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сосредоточением копий программ, их рецензий, выписок из протоколов заседаний методических объединений, педсоветов в учебной ч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дминистрация ОУ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яет контроль за уровнем учебных достижений обу­чающихся по рабочим и авторским учебным программам, анализируя статистические данные о результатах реализации программ учителем в аналитических справках по реализации про­грам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яет систематический контроль за выполнением учебных программ, их практической части, регионального компонента, соответствия записей в классном журнале пройденного на уроке материала учебной программе, с подведением итогов на педагогических советах, заседаниях методических объединений, отражением их в протокол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яет систематическую проверку (один раз в полугодие) календарно-тематического планирования учителей с регистрацией результатов проверки в протокол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Учебная программа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-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нормативный документ, в котором представлены основные знания, умения и навыки, подлежащие усвоению по учебному предмету. Она включает перечень тем и их реферативное описание (изложение основных вопросов в заданной последовательности), рекомендации по количеству времени на каждую тему, распределение их по годам обуч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Примерная учебная программа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-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умент, который детально раскрывает обязательные (федеральные) компоненты содержания обучения и параметры качества усвоения учебного материала по конкретному предмету базисного учебного плана Примерные учебные программы рекомендуются Министерством образования и науки Российской Федерации и носят рекомендательный характ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Рабочая учебная программа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-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ая программа, разработанная на основе примерной, но вносящая изменения и дополнения в содержание учебного предмета, последовательность изучения тем, количество часов, использование организационных форм обучения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Авторская программа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-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, не имеющая аналогов, основана на авторской концепции построения содержания учебного курса по данному предме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Основные функции учебной программы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тивна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еполагающа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ательна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цессуальна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очна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Права образовательного учреждения-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Закон РФ «Об образовании» (ст. 32)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вательное учреждение разрабатывает и утверждает образовательные программы, учебные планы и рабочие программы учебных к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оставитель рабочей учебной программы вправе самостоятельно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  раскрывать содержание разделов, тем, обозначенных в государственном образовательном стандарте, опираясь на научные школы и учебные пособия (из федерального перечня), которые он считает целесообразны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устанавливать последовательность изучения учебного материа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ять время, отведенное на изучение курса, между разделами и темами по их значимости; разрабатывать перечень практических занят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  конкретизировать требования к знаниям и умениям обучаю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ключать материал регионального компонента в объеме выделенных на данный предмет учебных ча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ыбирать исходя из стоящих перед учебным предметом задач, технологии обучения и контроля подготовленности обучающихся по предме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4-10T12:05:1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