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BB2-848A-4F9B-B255-9897026F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5FD-5DD7-48D4-B994-530CA365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A48-1195-4E84-BD07-03930D05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985-93EF-4FF6-A09E-9D5AB6AF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C00B-DBDE-4639-8CC6-0AAD532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F213-44FD-484D-A93E-3B3F1B3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62F-DF0D-4A8C-8494-ADD6E0F4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1847-1167-4B92-BE87-628FDBA6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99D3-879C-4012-8A11-9C05567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33AD-B830-44EC-B024-2BFBF66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F45-0540-4FB0-B12A-ACB6487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F82-54CC-491D-81D2-9E9BA2F7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9E53-4708-4566-8AFE-EB52F82C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7DB-FD53-4D7D-B77C-72E677D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3446-2B26-4671-9A6F-B7EDC776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B50D-4783-449A-9738-FE42C162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E519-9E0D-40CE-A06D-5F9DDA17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55A-B52A-48D6-97E8-1B3D32D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AE1-1F11-4937-BB2A-6517CE4D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5FE-62F6-4B6E-8319-B39FF46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DA7-C358-4BD2-BA8F-BDF93B0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ECB-638C-4646-A3D7-9364E21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A94-F486-4E2C-92E6-4D7AA839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C18-237B-4598-900D-1D61AF6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395E-49E4-4EC3-9C31-0B81F3A850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88C6-262C-48BC-AFDE-5826E9279F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абочая программа: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требования, структура, общие полож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щание для зам.директоров по УВ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враль 200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ветственность образовательного учреждени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Законом РФ «Об образовании» (ст. 32) образовательное учреж­дение несет ответственность за реализацию не в полном объеме образовательных программ согласно учебному плану и графику учеб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ветственность образовательного учреж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-составитель при разработке учебной программы должен учесть требования федерального компонента государственного образовательного станда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положениями реализации стандарта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по предмету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ражение требований к уровню подготовленности обучающегося по данному предмету; - включение в содержание учебной программы всех поименованных дидактических единиц федерального компонента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ретизация степени участия данного предмета в реализации компетентностного подх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руктура учебных программ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ульный ли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уровню усвоения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тематический пла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тем учебного кур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уровня обучен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ень литературы и средств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тульный ли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менование образовательного учреж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менование учебного предмета (кур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ние класса, в котором изучается предм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отная сторона титульного листа содержит: сведения об авторе и рецензентах (внутренняя и внешняя рецензии), гриф утверждения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сто данного учебного предмета в решении общих целей и задач на данной ступени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цели и задачи данного учебного предмета в области формирования системы знаний, умений (задачи формулируются в соответствии со стандарт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овизна данной учебной программы, ее отличие от примерной или ранее действовавш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жпредметные связи: на какие учебные предметы опирается данный предмет для каких предметов является базой; если эти связи сильны, то целесообразно отметить, как они могут быть реализов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собенности организации учебного процесса по предмету; предпочтительные формы организации учебного процесса и их сочетания; предпочтительные формы контроля знаний, умений, навыков (текущего, рубежного, итогов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ояснительной записке могут быть даны пояснения к каждому из разделов программы и краткие методические указания по изложению теоретического материала, выполнению лабораторных работ и практических занятий, а также пояснения, обусловленные требованиями реализации регионального компонента, специфик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яснительная записка должна быть лаконичной: на каждый из поставленных вопросов следует дать кратки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уровню усвоения предмет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 основные идеи и систему ценностей, формируемые учебным предметом; конечную систему знаний; перечень умений и навыков (способов деятельности); перечень проблем, которые учащиеся должны научиться решать, творчески изучая данный предм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 усвоения должны быть не ниже требований, сформулированных в федеральном компоненте государственного образовательного станд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о-тематический план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вает последовательность изучения разделов и тем программы, показывает распределение учебных часов по разделам и темам из расчета максимальной учебной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ется на весь срок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едметам, не вынесенным на экзамены, проводятся зачеты, контрольные работы и т.д. за счет времени, отведенного на изучение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меет право включать дополнительные темы по сравнению с примерными программами учебных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лабораторных работ и практических занятий, а также количество часов могут отличаться от рекомендованных примерной программой. Но при этом уровень подготовки учащихся должен соответствовать требованиям к уровню подготовки, определенным государственным образовательным станда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о-тематический план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468360"/>
                <a:gridCol w="950760"/>
                <a:gridCol w="844560"/>
                <a:gridCol w="1015920"/>
                <a:gridCol w="1901880"/>
                <a:gridCol w="2590920"/>
              </a:tblGrid>
              <a:tr h="152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н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лабораторные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учебного предм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новная часть программы, описание строится по разделам и темам в соответствии с тематическим планом. При разработке следует опираться на обязательный минимум содержания образовательных программ государственного образовательного стандарта. Все дидактические единицы должны быть отражены и конкретизированы в содержании учеб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содержания тем учебной программы может быть рекомендована следующая последовательность из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обходимое количество часов для ее из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общенные требования к знаниям и умениям обучающихся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держание учебного материала (дидактические единиц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мы практических и лаборатор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ды самостоятельной работы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кон РФ «Об образовании»    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ст. 9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образования как совокупность преемственных образовательных программ и государственных образовательных стандартов. Набор образовательных программ является основой для выбора индивидуальных маршрутов обучающимися в условиях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 уровня обучен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систему контролирующих материалов качества ЗУН, позволяющих оценить уровень и качество ЗУН обучающихся на входном, текущем и итоговом этапах изучения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нтроля должны находиться в логической связи с содержанием учебного материала и соответствовать требованиям к уровню освоения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тература и средства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ывается основная и дополнительная учебная литература, учебные и справочные пособия, учебно - методическая литература, перечень рекомендуемых средств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блиографическом списке выделяются издания, предназначенные для учащихся, и литература дл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методическое обеспечение программы включает следующие 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рограммные (учебный и учебно-тематический планы, учебные программ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теоретические (учебники, учебные пособ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практические (сборники упражнений и задач, контрольных заданий, тестов, практических работ и лабораторных практикумов, хрестомат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справочные (словари, справочни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наглядные (альбомы, атласы, карты, таблиц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ведение учебной программы в образовательный процесс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ее рецензирова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педагогом разработанной программы; оценка программы коллегами и ее обсуждение на заседании методического объединения; коррекция программы; дается рецензия и рекомендации по реализации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ешнее рецензирован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ексте рецензии должна быть формулировка «Программа рекомендована к реализации...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ская программа должна иметь не менее двух внешних реценз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му рецензированию не подлежат рабочие учебные программы, в кото­рых инвариантная часть Базисного Учебного плана, отводимого на их изучение, подвергается измене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чем на 2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программ происходит на педагогическом совете перед началом учебного года, а в конце учебного года анализируются результаты работы по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цензирование рабочей программ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ет основных положений образовательной концепции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заимосвязь учебных программ в рамках образовательной области, отражение за­конченного, целостного содержания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личие признаков нормативного доку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овательность расположения и взаимосвязь всех элементов содержания кур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ределение методов, организационных форм и средств обучения, что отражает единство содержания образования и процесса обучения в построении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нота раскрытия целей обучения с включением в программу всех элементов со­держания (знания о природе, обществе, технике, человеке; опыт известных способов дея­тельности; опыт творческой деятельности; опыт эмоционально-ценностного отношения к действи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кретность представления элементов содержания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меститель директора по учебн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контроль 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ецензированием и утверждением рабочих и авторских учебных программ на заседаниях методических объединений, педагогических со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осредоточением копий программ, их рецензий, выписок из протоколов заседаний методических объединений, педсоветов в учебн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дминистрация О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контроль за уровнем учебных достижений обу­чающихся по рабочим и авторским учебным программам, анализируя статистические данные о результатах реализации программ учителем в аналитических справках по реализации про­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систематический контроль за выполнением учебных программ, их практической части, регионального компонента, соответствия записей в классном журнале пройденного на уроке материала учебной программе, с подведением итогов на педагогических советах, заседаниях методических объединений, отражением их в протоко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систематическую проверку (один раз в полугодие) календарно-тематического планирования учителей с регистрацией результатов проверки в протокол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Учебн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нормативный документ, в котором представлены основные знания, умения и навыки, подлежащие усвоению по учебному предмету. Она включает перечень тем и их реферативное описание (изложение основных вопросов в заданной последовательности), рекомендации по количеству времени на каждую тему, распределение их по годам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римерная учебная программ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который детально раскрывает обязательные (федеральные) компоненты содержания обучения и параметры качества усвоения учебного материала по конкретному предмету базисного учебного плана Примерные учебные программы рекомендуются Министерством образования и науки Российской Федерации и носят рекомендательны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абочая учебн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ая программа, разработанная на основе примерной, но вносящая изменения и дополнения в содержание учебного предмета, последовательность изучения тем, количество часов, использование организационных форм обучения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Авторск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не имеющая аналогов, основана на авторской концепции построения содержания учебного курса по данному предм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сновные функции учебной программ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ющ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уа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оч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рава образовательного учреждения-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Закон РФ «Об образовании» (ст. 32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 учреждение разрабатывает и утверждает образовательные программы, учебные планы и рабочие программы учебных к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ставитель рабочей учебной программы вправе самостоятельн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раскрывать содержание разделов, тем, обозначенных в государственном образовательном стандарте, опираясь на научные школы и учебные пособия (из федерального перечня), которые он считает целесообраз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авливать последовательность изучения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ять время, отведенное на изучение курса, между разделами и темами по их значимости; разрабатывать перечень практических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конкретизировать требования к знаниям и умениям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ключать материал регионального компонента в объеме выделенных на данный предмет учебны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бирать исходя из стоящих перед учебным предметом задач, технологии обучения и контроля подготовленности обучающихся по предме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0T12:0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