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86FD-1082-4C34-ACD0-750AF351F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27A1-0E02-4761-917B-FCAF5169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683B-75A3-46E1-BC6E-EE5191E60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9DB5-8731-46B9-91F9-12E88C610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CB90-214E-4723-A6EC-BC23523D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5012-27CA-4D1B-B46C-9D5D0507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5584-6E5D-4C83-999B-B04E8A03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BA98-CB74-417F-AD5A-AF857D56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89C9-807D-4050-AC46-71D1EAA4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30A6-8C2E-4940-9E4B-3B418830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EA11-4EB4-417B-AFD5-FE8DC340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99DE-2F48-48CF-9DD6-2DC4973C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6317-EE8F-43E7-B3B0-FBE7DBA1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DC08-F099-48CB-9E71-09644D82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3AB5-2873-4DBA-A525-3581F49C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DE5E-F946-48FC-B875-8AEED85B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75A3-1E6D-4DA5-8FE6-08130FAC0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AB25-9DB6-4780-8E3E-88CC2D70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D832-1F08-41AD-917E-5B48DDC9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7877-B186-4FB7-9D9F-2F795A90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07D4-D237-43E1-8A4D-C1C3B1A1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9571-397D-4438-85C8-5ABD8740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9BFE-51C5-4902-8639-ADCC2DFE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3153-1801-4D3C-B24D-126CF19F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8e4"/>
                </a:gs>
                <a:gs pos="100000">
                  <a:srgbClr val="0068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599800" y="5896440"/>
              <a:ext cx="1254960" cy="824400"/>
              <a:chOff x="5599800" y="5896440"/>
              <a:chExt cx="1254960" cy="824400"/>
            </a:xfrm>
          </p:grpSpPr>
          <p:sp>
            <p:nvSpPr>
              <p:cNvPr id="4" name=""/>
              <p:cNvSpPr/>
              <p:nvPr/>
            </p:nvSpPr>
            <p:spPr>
              <a:xfrm>
                <a:off x="5851440" y="6046560"/>
                <a:ext cx="843120" cy="51732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4800" y="6094080"/>
                <a:ext cx="71640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3720" y="6144480"/>
                <a:ext cx="545040" cy="3276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7080" y="6182640"/>
                <a:ext cx="415440" cy="2512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0720" y="6224040"/>
                <a:ext cx="304200" cy="1692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5400" y="5896440"/>
                <a:ext cx="606960" cy="25452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5480" y="6616440"/>
                <a:ext cx="703800" cy="1044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599800" y="6198480"/>
                <a:ext cx="140760" cy="34200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6040" y="5943600"/>
                <a:ext cx="1188720" cy="72936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07640" y="5905800"/>
                <a:ext cx="152280" cy="4716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6400" y="6265080"/>
                <a:ext cx="133200" cy="83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8800" y="5763240"/>
              <a:ext cx="2578320" cy="1081440"/>
              <a:chOff x="2818800" y="5763240"/>
              <a:chExt cx="2578320" cy="1081440"/>
            </a:xfrm>
          </p:grpSpPr>
          <p:sp>
            <p:nvSpPr>
              <p:cNvPr id="16" name=""/>
              <p:cNvSpPr/>
              <p:nvPr/>
            </p:nvSpPr>
            <p:spPr>
              <a:xfrm>
                <a:off x="3598560" y="6242760"/>
                <a:ext cx="1011960" cy="596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1640" y="6280920"/>
                <a:ext cx="861120" cy="52560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4480" y="6314040"/>
                <a:ext cx="794160" cy="4734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7320" y="6342840"/>
                <a:ext cx="704160" cy="408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4320" y="6355440"/>
                <a:ext cx="654840" cy="379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6760" y="6388560"/>
                <a:ext cx="485280" cy="3038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28320" y="6436080"/>
                <a:ext cx="360000" cy="2134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3440" y="6501240"/>
                <a:ext cx="142200" cy="94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1480" y="6065640"/>
                <a:ext cx="712080" cy="29448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399120" y="611280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3720" y="6074640"/>
                <a:ext cx="64548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39040" y="6417000"/>
                <a:ext cx="171000" cy="39888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ba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1400" y="5848560"/>
                <a:ext cx="1324080" cy="23724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2800" y="6114600"/>
                <a:ext cx="27108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1800" y="5952960"/>
                <a:ext cx="570960" cy="89172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8120" y="5763240"/>
                <a:ext cx="170928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1960" y="6474240"/>
                <a:ext cx="155160" cy="37044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8800" y="5829480"/>
                <a:ext cx="762480" cy="101520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2000" y="5333400"/>
              <a:ext cx="2142360" cy="1300320"/>
              <a:chOff x="6552000" y="5333400"/>
              <a:chExt cx="2142360" cy="1300320"/>
            </a:xfrm>
          </p:grpSpPr>
          <p:sp>
            <p:nvSpPr>
              <p:cNvPr id="35" name=""/>
              <p:cNvSpPr/>
              <p:nvPr/>
            </p:nvSpPr>
            <p:spPr>
              <a:xfrm>
                <a:off x="6666120" y="5399640"/>
                <a:ext cx="1904400" cy="115776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2000" y="5342400"/>
                <a:ext cx="862560" cy="116748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5000" y="5333400"/>
                <a:ext cx="965880" cy="39888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5000" y="6358320"/>
                <a:ext cx="114120" cy="85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49960" y="6462720"/>
                <a:ext cx="1117800" cy="17100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67560" y="5798880"/>
                <a:ext cx="226800" cy="54036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1600" y="5751360"/>
                <a:ext cx="131400" cy="14256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4560" y="563724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2640" y="5570640"/>
                <a:ext cx="144108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3560" y="5542200"/>
                <a:ext cx="578880" cy="1044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3360" y="5646960"/>
                <a:ext cx="104400" cy="7560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5120" y="5725800"/>
                <a:ext cx="821160" cy="505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5880" y="5760720"/>
                <a:ext cx="707040" cy="42912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6280" y="5792400"/>
                <a:ext cx="612000" cy="3693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6120" y="5837040"/>
                <a:ext cx="472320" cy="28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3360" y="5868720"/>
                <a:ext cx="352080" cy="2199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19320" y="591588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0440" y="4800240"/>
              <a:ext cx="672480" cy="407160"/>
              <a:chOff x="8380440" y="4800240"/>
              <a:chExt cx="672480" cy="407160"/>
            </a:xfrm>
          </p:grpSpPr>
          <p:sp>
            <p:nvSpPr>
              <p:cNvPr id="53" name=""/>
              <p:cNvSpPr/>
              <p:nvPr/>
            </p:nvSpPr>
            <p:spPr>
              <a:xfrm>
                <a:off x="8380440" y="5055840"/>
                <a:ext cx="606240" cy="15156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5880" y="4800240"/>
                <a:ext cx="407880" cy="8496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58240" y="4866480"/>
                <a:ext cx="9468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0560" y="5150520"/>
                <a:ext cx="30384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18240" y="4828320"/>
                <a:ext cx="25488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1280" y="4828320"/>
                <a:ext cx="294120" cy="3315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3400" y="4853880"/>
                <a:ext cx="473040" cy="2934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0280" y="4896360"/>
                <a:ext cx="357480" cy="206640"/>
                <a:chOff x="8540280" y="4896360"/>
                <a:chExt cx="357480" cy="2066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0280" y="4896360"/>
                  <a:ext cx="357480" cy="20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4840" y="4918320"/>
                  <a:ext cx="286200" cy="15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18760" y="4933800"/>
                  <a:ext cx="19656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1240" y="4958640"/>
                  <a:ext cx="114840" cy="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7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E5F29-AD30-48FF-89AD-8FC58AB56E1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8e4"/>
                </a:gs>
                <a:gs pos="100000">
                  <a:srgbClr val="0068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599800" y="5896440"/>
              <a:ext cx="1254960" cy="824400"/>
              <a:chOff x="5599800" y="5896440"/>
              <a:chExt cx="1254960" cy="82440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1440" y="6046560"/>
                <a:ext cx="843120" cy="51732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4800" y="6094080"/>
                <a:ext cx="71640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3720" y="6144480"/>
                <a:ext cx="545040" cy="3276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7080" y="6182640"/>
                <a:ext cx="415440" cy="2512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0720" y="6224040"/>
                <a:ext cx="304200" cy="1692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5400" y="5896440"/>
                <a:ext cx="606960" cy="25452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5480" y="6616440"/>
                <a:ext cx="703800" cy="1044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599800" y="6198480"/>
                <a:ext cx="140760" cy="34200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6040" y="5943600"/>
                <a:ext cx="1188720" cy="72936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07640" y="5905800"/>
                <a:ext cx="152280" cy="4716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6400" y="6265080"/>
                <a:ext cx="133200" cy="83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8800" y="5763240"/>
              <a:ext cx="2578320" cy="1081440"/>
              <a:chOff x="2818800" y="5763240"/>
              <a:chExt cx="2578320" cy="1081440"/>
            </a:xfrm>
          </p:grpSpPr>
          <p:sp>
            <p:nvSpPr>
              <p:cNvPr id="121" name=""/>
              <p:cNvSpPr/>
              <p:nvPr/>
            </p:nvSpPr>
            <p:spPr>
              <a:xfrm>
                <a:off x="3598560" y="6242760"/>
                <a:ext cx="1011960" cy="596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1640" y="6280920"/>
                <a:ext cx="861120" cy="52560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4480" y="6314040"/>
                <a:ext cx="794160" cy="4734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7320" y="6342840"/>
                <a:ext cx="704160" cy="408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4320" y="6355440"/>
                <a:ext cx="654840" cy="379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6760" y="6388560"/>
                <a:ext cx="485280" cy="3038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28320" y="6436080"/>
                <a:ext cx="360000" cy="2134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3440" y="6501240"/>
                <a:ext cx="142200" cy="94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1480" y="6065640"/>
                <a:ext cx="712080" cy="29448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99120" y="611280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3720" y="6074640"/>
                <a:ext cx="64548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39040" y="6417000"/>
                <a:ext cx="171000" cy="39888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ba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1400" y="5848560"/>
                <a:ext cx="1324080" cy="23724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2800" y="6114600"/>
                <a:ext cx="27108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1800" y="5952960"/>
                <a:ext cx="570960" cy="89172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8120" y="5763240"/>
                <a:ext cx="170928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1960" y="6474240"/>
                <a:ext cx="155160" cy="37044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8800" y="5829480"/>
                <a:ext cx="762480" cy="101520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2000" y="5333400"/>
              <a:ext cx="2142360" cy="1300320"/>
              <a:chOff x="6552000" y="5333400"/>
              <a:chExt cx="2142360" cy="130032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6120" y="5399640"/>
                <a:ext cx="1904400" cy="115776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2000" y="5342400"/>
                <a:ext cx="862560" cy="116748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5000" y="5333400"/>
                <a:ext cx="965880" cy="39888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5000" y="6358320"/>
                <a:ext cx="114120" cy="85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49960" y="6462720"/>
                <a:ext cx="1117800" cy="17100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67560" y="5798880"/>
                <a:ext cx="226800" cy="54036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1600" y="5751360"/>
                <a:ext cx="131400" cy="14256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4560" y="563724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2640" y="5570640"/>
                <a:ext cx="144108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3560" y="5542200"/>
                <a:ext cx="578880" cy="1044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3360" y="5646960"/>
                <a:ext cx="104400" cy="7560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5120" y="5725800"/>
                <a:ext cx="821160" cy="505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5880" y="5760720"/>
                <a:ext cx="707040" cy="42912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6280" y="5792400"/>
                <a:ext cx="612000" cy="3693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6120" y="5837040"/>
                <a:ext cx="472320" cy="28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3360" y="5868720"/>
                <a:ext cx="352080" cy="2199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19320" y="591588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0440" y="4800240"/>
              <a:ext cx="672480" cy="407160"/>
              <a:chOff x="8380440" y="4800240"/>
              <a:chExt cx="672480" cy="40716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0440" y="5055840"/>
                <a:ext cx="606240" cy="15156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5880" y="4800240"/>
                <a:ext cx="407880" cy="8496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58240" y="4866480"/>
                <a:ext cx="9468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0560" y="5150520"/>
                <a:ext cx="30384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18240" y="4828320"/>
                <a:ext cx="25488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1280" y="4828320"/>
                <a:ext cx="294120" cy="3315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3400" y="4853880"/>
                <a:ext cx="473040" cy="2934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0280" y="4896360"/>
                <a:ext cx="357480" cy="206640"/>
                <a:chOff x="8540280" y="4896360"/>
                <a:chExt cx="357480" cy="2066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0280" y="4896360"/>
                  <a:ext cx="357480" cy="20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4840" y="4918320"/>
                  <a:ext cx="286200" cy="15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18760" y="4933800"/>
                  <a:ext cx="19656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1240" y="4958640"/>
                  <a:ext cx="114840" cy="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44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C19803B-F9DB-4E68-ADFC-2D0C5FB518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5;&#1088;&#1086;&#1075;&#1088;&#1072;&#1084;&#1084;&#1072;%20&#1055;&#1089;&#1080;&#1093;&#1086;&#1083;&#1086;&#1075;&#1080;&#1103;%20&#1089;&#1077;&#1084;&#1100;&#1080;.doc" TargetMode="External"/><Relationship Id="rId2" Type="http://schemas.openxmlformats.org/officeDocument/2006/relationships/hyperlink" Target="file:///&#1043;&#1088;&#1072;&#1092;&#1080;&#1082;%20&#1091;&#1095;&#1077;&#1073;&#1085;&#1086;&#1075;&#1086;%20&#1087;&#1088;&#1086;&#1094;&#1077;&#1089;&#1089;&#1072;%202%20&#1089;&#1077;&#1084;&#1077;&#1089;&#1090;&#1088;%2009-10.doc" TargetMode="External"/><Relationship Id="rId3" Type="http://schemas.openxmlformats.org/officeDocument/2006/relationships/hyperlink" Target="file:///&#1058;&#1050;%20&#1055;&#1089;&#1080;&#1093;&#1086;&#1083;&#1086;&#1075;&#1080;&#1103;%20&#1089;&#1077;&#1084;&#1100;&#1080;%205%20&#1085;.&#1096;.%20&#1051;&#1086;&#1073;&#1072;&#1096;&#1077;&#1074;&#1072;%20&#1045;.%20&#1042;..doc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42;&#1086;&#1087;&#1088;&#1086;&#1089;&#1099;%20&#1076;&#1083;&#1103;%20&#1072;&#1082;&#1090;&#1091;&#1072;&#1083;&#1080;&#1079;&#1072;&#1094;&#1080;&#1080;%20&#1083;&#1080;&#1095;&#1085;&#1086;&#1075;&#1086;%20&#1086;&#1087;&#1099;&#1090;&#1072;/&#1042;&#1086;&#1087;&#1088;&#1086;&#1089;&#1099;%20&#1076;&#1083;&#1103;%20&#1072;&#1082;&#1090;&#1091;&#1072;&#1083;&#1080;&#1079;&#1072;&#1094;&#1080;&#1080;%20&#1083;&#1080;&#1095;&#1085;&#1086;&#1075;&#1086;%20&#1086;&#1087;&#1099;&#1090;&#1072;%20&#1074;%20&#1086;&#1073;&#1083;&#1072;&#1089;&#1090;&#1080;%20&#1076;&#1086;&#1073;&#1088;&#1072;&#1095;&#1085;&#1099;&#1093;%20&#1086;&#1090;&#1085;&#1086;&#1096;&#1077;&#1085;&#1080;&#1081;.doc" TargetMode="External"/><Relationship Id="rId2" Type="http://schemas.openxmlformats.org/officeDocument/2006/relationships/hyperlink" Target="file:///&#1059;&#1095;&#1077;&#1073;&#1085;&#1099;&#1077;%20&#1087;&#1072;&#1082;&#1077;&#1090;&#1099;/&#1059;&#1055;%201%20&#1055;&#1089;&#1080;&#1093;&#1086;&#1083;&#1086;&#1075;&#1080;&#1103;%20&#1076;&#1086;&#1073;&#1088;&#1072;&#1095;&#1085;&#1086;&#1075;&#1086;%20&#1087;&#1077;&#1088;&#1080;&#1086;&#1076;&#1072;.doc" TargetMode="External"/><Relationship Id="rId3" Type="http://schemas.openxmlformats.org/officeDocument/2006/relationships/hyperlink" Target="file:///&#1057;&#1086;&#1087;&#1088;&#1086;&#1074;&#1086;&#1076;&#1080;&#1090;&#1077;&#1083;&#1100;&#1085;&#1099;&#1077;%20&#1084;&#1072;&#1090;&#1077;&#1088;&#1080;&#1072;&#1083;&#1099;/&#1057;&#1052;%20&#1054;1..doc" TargetMode="External"/><Relationship Id="rId4" Type="http://schemas.openxmlformats.org/officeDocument/2006/relationships/hyperlink" Target="file:///&#1057;&#1086;&#1087;&#1088;&#1086;&#1074;&#1086;&#1076;&#1080;&#1090;&#1077;&#1083;&#1100;&#1085;&#1099;&#1077;%20&#1084;&#1072;&#1090;&#1077;&#1088;&#1080;&#1072;&#1083;&#1099;/&#1057;&#1052;%20&#1054;1..odt" TargetMode="External"/><Relationship Id="rId5" Type="http://schemas.openxmlformats.org/officeDocument/2006/relationships/hyperlink" Target="file:///&#1057;&#1086;&#1087;&#1088;&#1086;&#1074;&#1086;&#1076;&#1080;&#1090;&#1077;&#1083;&#1100;&#1085;&#1099;&#1077;%20&#1084;&#1072;&#1090;&#1077;&#1088;&#1080;&#1072;&#1083;&#1099;/&#1057;&#1052;%20&#1042;1..doc" TargetMode="External"/><Relationship Id="rId6" Type="http://schemas.openxmlformats.org/officeDocument/2006/relationships/hyperlink" Target="file:///&#1057;&#1086;&#1087;&#1088;&#1086;&#1074;&#1086;&#1076;&#1080;&#1090;&#1077;&#1083;&#1100;&#1085;&#1099;&#1077;%20&#1084;&#1072;&#1090;&#1077;&#1088;&#1080;&#1072;&#1083;&#1099;/&#1057;&#1052;%20&#1042;1..odt" TargetMode="Externa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54;&#1087;&#1080;&#1089;&#1072;&#1085;&#1080;&#1077;%20&#1084;&#1077;&#1090;&#1086;&#1076;&#1080;&#1082;/&#1056;&#1054;&#1055;%20&#1054;&#1087;&#1088;&#1077;&#1076;&#1077;&#1083;&#1077;&#1085;&#1080;&#1077;%20&#1089;&#1086;&#1075;&#1083;&#1072;&#1089;&#1086;&#1074;&#1072;&#1085;&#1085;&#1086;&#1089;&#1090;&#1080;%20&#1089;&#1077;&#1084;&#1077;&#1081;&#1085;&#1099;&#1093;%20&#1094;&#1077;&#1085;&#1085;&#1086;&#1089;&#1090;&#1077;&#1081;%20&#1080;%20&#1088;&#1086;&#1083;&#1077;&#1074;&#1099;&#1093;%20&#1091;&#1089;&#1090;&#1072;&#1085;&#1086;&#1074;&#1086;&#1082;%20&#1074;%20&#1089;&#1091;&#1087;&#1088;&#1091;&#1078;&#1077;&#1089;&#1082;&#1086;&#1081;%20&#1087;&#1072;&#1088;&#1077;.doc" TargetMode="External"/><Relationship Id="rId2" Type="http://schemas.openxmlformats.org/officeDocument/2006/relationships/hyperlink" Target="file:///&#1057;&#1086;&#1087;&#1088;&#1086;&#1074;&#1086;&#1076;&#1080;&#1090;&#1077;&#1083;&#1100;&#1085;&#1099;&#1077;%20&#1084;&#1072;&#1090;&#1077;&#1088;&#1080;&#1072;&#1083;&#1099;/&#1057;&#1052;%20&#1054;2..odt" TargetMode="External"/><Relationship Id="rId3" Type="http://schemas.openxmlformats.org/officeDocument/2006/relationships/hyperlink" Target="file:///&#1057;&#1086;&#1087;&#1088;&#1086;&#1074;&#1086;&#1076;&#1080;&#1090;&#1077;&#1083;&#1100;&#1085;&#1099;&#1077;%20&#1084;&#1072;&#1090;&#1077;&#1088;&#1080;&#1072;&#1083;&#1099;/&#1057;&#1052;%20&#1054;3..odt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Психология семь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студентов 5 курса отделения «Преподавание в начальных классах» с дополнительной подготовкой в области психолог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Блок 4. Половое воспитание. Подготовка молодежи к семейной жизни. Социально-психологическая помощь семье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Задачи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оторые мы сможем реализовать  при изучении 4 бло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на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основные понятия: половое воспитание, закономерности полового воспитания, система социально-психологической помощи семь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нимать актуальные цель и задачи полового воспитания для каждого возрастного периода. Понимать значение целенаправленной подготовки молодежи к семейной жиз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менять известные закономерности для организации работы с семьей. Осуществление диагностики и коррекции семейной сист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лагаемые воспитательные мероприятия с точки зрения целесообразности и эффективности полового воспит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рабатывать проекты воспитательных мероприятий по половому и семейному воспитанию. Разрабатывать индивидуальные маршруты оказания социально-психологической помощ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ценивать эффективность воспитательных мероприятий по половому и семейному воспита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лгоритм действий студентов по изучению блока 4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знакомьтесь с учебным пакетом «Половое воспитание», «Подготовка молодежи к семейной жизни» и выполни все задания в предложенных учебных пакет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полнить задание О 5. Разработать планирование воспитательной работы с 1 по 11 класс по теме «Психология семьи». Смотрите сопроводительные материалы к заданию О 5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знакомьтесь с учебным пакетом «Социально – психологическая помощь семье» и выполни все задания в предложенном учебном пакет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 можете подготовиться к выполнению задания В 5 – подготовить и провести на уроке презентацию элемента внеклассного мероприятия из Вашего планирования. Смотрите сопроводительные материалы к заданию В 5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 можете выполнить задание В 6. Составить перечень диагностических методик по теме блока по предложенному плану. Смотрите сопроводительные материалы к заданию В 6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 можете выполнить задание В 7 – составить маршрут работы по проблеме семьи и пола в Санкт – Петербурге. Смотрите сопроводительные материалы к заданию В 7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Хочу сказать…(вступительное слово преподавателя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Программа дисциплины._x000b_</a:t>
            </a:r>
            <a:br>
              <a:rPr sz="2800"/>
            </a:b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График учебного процесса._x000b_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Технологическая карта РНС оценки образовательных результатов студентов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816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лок 1. Психология добрачного период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Задачи,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которые мы сможем реализовать  при изучении 1 блок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нать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: особенности протекания добрачного периода, основные факторы стабилизации и дестабилизации брака в добрачном периоде, функции добрачного периода, основные факторы готовности к семейной жизн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нимать значение добрачного периода для будущей семейной жизни, влияние добрачного периода на брачно-семейные отнош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менять полученную информацию для разработки анкеты по прогнозу стабильности брачно-семейных отноше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нализировать личный опыт для дальнейшего развития семейных отноше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рабатывать анкету по прогнозу стабильности брачно-семейных отноше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ценивать влияние факторов стабилизации и дестабилизации в добрачном периоде на будущую семейную жизн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лгоритм действий студентов по изучению блока 1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14520" indent="-6098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веть на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вопросы анкеты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активизации личного опыта в добрачных отнош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4520" indent="-6098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знакомься с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учебным пакетом «Психология добрачных отношений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выполни все задания в предложенном учебном паке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452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Разработать анкету по прогнозу стабильности брака на основе анализа факторов стабильности и дестабилизации в добрачном периоде. Задание О (обязательное) 1. Смотрите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сопроводительные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материалы к заданию О 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452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Вы можете выполнить задание из накопительной части –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задание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В (по выбору студента) 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Провести анкету из задания О 1, проанализировать полученные результаты и написать заключение. Смотрите сопроводительные материалы к заданию В 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452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Вы можете выполнить задание В 6. Составить перечень диагностических методик по теме блока по предложенному плану. Смотрите сопроводительные материалы к заданию В 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452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лок 2. Семья как систем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чи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оторые мы сможем реализовать  при изучении 2 блок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на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основных понятий и закономерностей семьи как системы: семья, закон развития и гомеостаза, жизненный цикл семь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нимать закономерности развития и функционирования семейной систе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менять известные закономерности для организации работы с семьей. Осуществление диагностики и коррекции семейной систе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ализировать семейную систему через изучение семейной истор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ить генограмму для изучения семейной истор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ценивать влияние семейной истории на жизнедеятельность семейной системы. Оценивать собственный потенциал и ресурсы в семейной систе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лгоритм действий студентов по изучению блока 2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. Ознакомься с учебным пакетом «Семья как система» и выполни все задания в предложенном учебном пакет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Ознакомься с 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методикой «Ролевые Ожидания Притязания в браке»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полни самодиагностику по методике «РОП». Вы можете выполнить задание В 2 – провести методику на семейной паре, проанализировать полученные данные и написать заключение. Смотрите сопроводительные материалы к заданию В 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. Прими участие в семинаре по теме «Работа с генограммой». Если Вы находитесь на индивидуальном образовательном маршруте, то изучить теорию метода генограмм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. Выполни задание О 2 – нарисуй генограмму своей семьи и письменно прокомментируй ее. Смотрите сопроводительные 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материалы к заданию О 2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Участники семинара выполняют это задание во время семинар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5. Подготовься к написанию контрольной работы по теме: «Семья как система» - О 3.Смотри 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сопроводительные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териалы к заданию О 3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6. Вы можете выполнить задание В 6. Составить перечень диагностических методик по теме блока по предложенному плану. Смотрите сопроводительные материалы к заданию В 6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лок 3. 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сихология родительства. Семейное воспитание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чи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оторые мы сможем реализовать  при изучении 3 блок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на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основные понятия: родительство, отцовство, материнство, нарушения семейного воспит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нимать взаимосвязь семейной истории и семейного воспит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уществлять диагностику и коррекцию детско-родительских отнош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ализировать нарушения семейного воспитания для дальнейшей коррек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вать рекомендации по коррекции детско-родительских отнош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ценивать личный потенциал как родителя. Оценивать эффективность коррекции детско-родительских отнош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лгоритм действий студентов по изучению блока 3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0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знакомься с учебным пакетом «Психология родительства» и выполни все задания в предложенном учебном паке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знакомься с методикой «Анализ  Семейных  Взаимоотношений». Выполни практическую  работу по методике «АСВ» - задание О 4. Смотрите сопроводительные материалы к заданию О 4. Участники урока выполняют это задание во время занят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 можете выполнить задание В 3. Ознакомьтесь с методикой «Тест Отношений Беременной». (беременные, родившие). Проведите диагностику по методике «ТОБ» на «третьем лице», проанализируйте полученные данные и напишите заключение. Смотрите сопроводительные материалы к заданию В 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 можете выполнить задание В 4 – составить таблицу «Семейные нарушения и их коррекция». Смотрите сопроводительные материалы к заданию В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 можете выполнить задание В 6. Составить перечень диагностических методик по теме блока по предложенному плану. Смотрите сопроводительные материалы к заданию В 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08:38:05Z</dcterms:created>
  <dc:creator>LSN</dc:creator>
  <dc:description/>
  <dc:language>en-US</dc:language>
  <cp:lastModifiedBy>LSN</cp:lastModifiedBy>
  <dcterms:modified xsi:type="dcterms:W3CDTF">2010-04-19T06:20:53Z</dcterms:modified>
  <cp:revision>23</cp:revision>
  <dc:subject/>
  <dc:title>Психология семьи</dc:title>
</cp:coreProperties>
</file>