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38F-E7A3-4B41-A1E8-DD7EEE2A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0E8-690A-4FB8-AFED-15AA397E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4FB-F793-4AB1-B7A1-E03BBE64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C55-C43B-4A2F-9821-D4EF5557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1A63-95C2-4A90-BD75-FF7A4AC9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3F7-D4BD-470B-881E-C594E54A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42B-20A0-4F7E-9172-BB3945B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C70-E22B-45AF-BCB7-A838BBA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F2A4-0171-4106-B22B-C1314237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18F6-1070-453A-9994-7787F54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455E-71D7-4EBC-B106-1A20A34E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072-C158-4ECE-9AA0-F2CF4EB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C1D-B789-4E97-87F6-EB86D5E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E511-6D6C-4E6A-ADCD-C0B2995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B659-DABE-4F16-941B-23E9B9D7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AB46-D42C-4163-AABA-3BF03AC6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79C-C021-4D77-ACA6-B5A2577F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C5C-130C-4A8C-B717-AE504DE6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33A-F575-4E47-BD49-9FE8BDB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049-C61A-44DA-AE25-E97D7F86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B1E-65BB-441D-B52F-E9446205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B67-F667-4773-95A7-517FACA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1C4-A25A-4AF5-AC51-D157C10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30E-A2AA-4B9B-9F50-C09CB7D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1E20-CDE7-413C-93B4-0B2951ABD6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D78C16-49AF-4601-AF68-6375A076C5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6;&#1075;&#1088;&#1072;&#1084;&#1084;&#1072;%20&#1055;&#1089;&#1080;&#1093;&#1086;&#1083;&#1086;&#1075;&#1080;&#1103;%20&#1089;&#1077;&#1084;&#1100;&#1080;.doc" TargetMode="External"/><Relationship Id="rId2" Type="http://schemas.openxmlformats.org/officeDocument/2006/relationships/hyperlink" Target="file:///&#1043;&#1088;&#1072;&#1092;&#1080;&#1082;%20&#1091;&#1095;&#1077;&#1073;&#1085;&#1086;&#1075;&#1086;%20&#1087;&#1088;&#1086;&#1094;&#1077;&#1089;&#1089;&#1072;%202%20&#1089;&#1077;&#1084;&#1077;&#1089;&#1090;&#1088;%2009-10.doc" TargetMode="External"/><Relationship Id="rId3" Type="http://schemas.openxmlformats.org/officeDocument/2006/relationships/hyperlink" Target="file:///&#1058;&#1050;%20&#1055;&#1089;&#1080;&#1093;&#1086;&#1083;&#1086;&#1075;&#1080;&#1103;%20&#1089;&#1077;&#1084;&#1100;&#1080;%205%20&#1085;.&#1096;.%20&#1051;&#1086;&#1073;&#1072;&#1096;&#1077;&#1074;&#1072;%20&#1045;.%20&#1042;.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2;&#1086;&#1087;&#1088;&#1086;&#1089;&#1099;%20&#1076;&#1083;&#1103;%20&#1072;&#1082;&#1090;&#1091;&#1072;&#1083;&#1080;&#1079;&#1072;&#1094;&#1080;&#1080;%20&#1083;&#1080;&#1095;&#1085;&#1086;&#1075;&#1086;%20&#1086;&#1087;&#1099;&#1090;&#1072;/&#1042;&#1086;&#1087;&#1088;&#1086;&#1089;&#1099;%20&#1076;&#1083;&#1103;%20&#1072;&#1082;&#1090;&#1091;&#1072;&#1083;&#1080;&#1079;&#1072;&#1094;&#1080;&#1080;%20&#1083;&#1080;&#1095;&#1085;&#1086;&#1075;&#1086;%20&#1086;&#1087;&#1099;&#1090;&#1072;%20&#1074;%20&#1086;&#1073;&#1083;&#1072;&#1089;&#1090;&#1080;%20&#1076;&#1086;&#1073;&#1088;&#1072;&#1095;&#1085;&#1099;&#1093;%20&#1086;&#1090;&#1085;&#1086;&#1096;&#1077;&#1085;&#1080;&#1081;.doc" TargetMode="External"/><Relationship Id="rId2" Type="http://schemas.openxmlformats.org/officeDocument/2006/relationships/hyperlink" Target="file:///&#1059;&#1095;&#1077;&#1073;&#1085;&#1099;&#1077;%20&#1087;&#1072;&#1082;&#1077;&#1090;&#1099;/&#1059;&#1055;%201%20&#1055;&#1089;&#1080;&#1093;&#1086;&#1083;&#1086;&#1075;&#1080;&#1103;%20&#1076;&#1086;&#1073;&#1088;&#1072;&#1095;&#1085;&#1086;&#1075;&#1086;%20&#1087;&#1077;&#1088;&#1080;&#1086;&#1076;&#1072;.doc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doc" TargetMode="External"/><Relationship Id="rId4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odt" TargetMode="External"/><Relationship Id="rId5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doc" TargetMode="External"/><Relationship Id="rId6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odt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4;&#1087;&#1080;&#1089;&#1072;&#1085;&#1080;&#1077;%20&#1084;&#1077;&#1090;&#1086;&#1076;&#1080;&#1082;/&#1056;&#1054;&#1055;%20&#1054;&#1087;&#1088;&#1077;&#1076;&#1077;&#1083;&#1077;&#1085;&#1080;&#1077;%20&#1089;&#1086;&#1075;&#1083;&#1072;&#1089;&#1086;&#1074;&#1072;&#1085;&#1085;&#1086;&#1089;&#1090;&#1080;%20&#1089;&#1077;&#1084;&#1077;&#1081;&#1085;&#1099;&#1093;%20&#1094;&#1077;&#1085;&#1085;&#1086;&#1089;&#1090;&#1077;&#1081;%20&#1080;%20&#1088;&#1086;&#1083;&#1077;&#1074;&#1099;&#1093;%20&#1091;&#1089;&#1090;&#1072;&#1085;&#1086;&#1074;&#1086;&#1082;%20&#1074;%20&#1089;&#1091;&#1087;&#1088;&#1091;&#1078;&#1077;&#1089;&#1082;&#1086;&#1081;%20&#1087;&#1072;&#1088;&#1077;.doc" TargetMode="External"/><Relationship Id="rId2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2..odt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3..od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сихология семь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5 курса отделения «Преподавание в начальных классах» с дополнительной подготовкой в области псих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Блок 4. Половое воспитание. Подготовка молодежи к семейной жизни. Социально-психологическая помощь семь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4 бло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сновные понятия: половое воспитание, закономерности полового воспитания, система социально-психологической помощи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имать актуальные цель и задачи полового воспитания для каждого возрастного периода. Понимать значение целенаправленной подготовки молодежи к семей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мые воспитательные мероприятия с точки зрения целесообразности и эффективности полов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атывать проекты воспитательных мероприятий по половому и семейному воспитанию. Разрабатывать индивидуальные маршруты оказания социально-психологическ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ценивать эффективность воспитательных мероприятий по половому и семейному воспит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4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Половое воспитание», «Подготовка молодежи к семейной жизни» и выполни все задания в предложенных учебных паке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ть задание О 5. Разработать планирование воспитательной работы с 1 по 11 класс по теме «Психология семьи». Смотрите сопроводительные материалы к заданию О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Социально – психологическая помощь семье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подготовиться к выполнению задания В 5 – подготовить и провести на уроке презентацию элемента внеклассного мероприятия из Вашего планирования. Смотрите сопроводительные материалы к заданию В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7 – составить маршрут работы по проблеме семьи и пола в Санкт – Петербурге. Смотрите сопроводительные материалы к заданию В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очу сказать…(вступительное слово преподавател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рограмма дисциплины._x000b_</a:t>
            </a:r>
            <a:br>
              <a:rPr sz="28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рафик учебного процесса._x000b_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Технологическая карта РНС оценки образовательных результатов студентов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81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1. Психология добрачного период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1 бл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особенности протекания добрачного периода, основные факторы стабилизации и дестабилизации брака в добрачном периоде, функции добрачного периода, основные факторы готовности к семейной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нимать значение добрачного периода для будущей семейной жизни, влияние добрачного периода на брачно-семейные отно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нять полученную информацию для разработки анкеты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ализировать личный опыт для дальнейшего развития 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атывать анкету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ценивать влияние факторов стабилизации и дестабилизации в добрачном периоде на будущую семейную жиз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ь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вопросы анке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активизации личного опыта в добрачных отно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учебным пакетом «Психология добрачных отношени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зработать анкету по прогнозу стабильности брака на основе анализа факторов стабильности и дестабилизации в добрачном периоде. Задание О (обязательное) 1. Смотрит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материалы к заданию О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Вы можете выполнить задание из накопительной части –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задани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 (по выбору студента) 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овести анкету из задания О 1, проанализировать полученные результаты и написать заключение. Смотрите сопроводительные материалы к заданию В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ок 2. Семья как систе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2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х понятий и закономерностей семьи как системы: семья, закон развития и гомеостаза, жизненный цикл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закономерности развития и функционирования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семейную систему через изучение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генограмму для изучения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влияние семейной истории на жизнедеятельность семейной системы. Оценивать собственный потенциал и ресурсы в семейной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Ознакомься с учебным пакетом «Семья как система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Ознакомься с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методикой «Ролевые Ожидания Притязания в браке»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 самодиагностику по методике «РОП». Вы можете выполнить задание В 2 – провести методику на семейной паре, проанализировать полученные данные и написать заключение. Смотрите сопроводительные материалы к заданию В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Прими участие в семинаре по теме «Работа с генограммой». Если Вы находитесь на индивидуальном образовательном маршруте, то изучить теорию метода ген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ыполни задание О 2 – нарисуй генограмму своей семьи и письменно прокомментируй ее. Смотрите сопроводительные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материалы к заданию 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частники семинара выполняют это задание во время семина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одготовься к написанию контрольной работы по теме: «Семья как система» - О 3.Смотри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риалы к заданию О 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3.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сихология родительства. Семейное воспитание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3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е понятия: родительство, отцовство, материнство, нарушения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взаимосвязь семейной истории и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ять диагностику и коррекцию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нарушения семейного воспитания для дальнейшей корре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рекомендации по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личный потенциал как родителя. Оценивать эффективность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3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учебным пакетом «Психология родительства»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методикой «Анализ  Семейных  Взаимоотношений». Выполни практическую  работу по методике «АСВ» - задание О 4. Смотрите сопроводительные материалы к заданию О 4. Участники урока выполняют это задание во время за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3. Ознакомьтесь с методикой «Тест Отношений Беременной». (беременные, родившие). Проведите диагностику по методике «ТОБ» на «третьем лице», проанализируйте полученные данные и напишите заключение. Смотрите сопроводительные материалы к заданию В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4 – составить таблицу «Семейные нарушения и их коррекция». Смотрите сопроводительные материалы к заданию В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8:38:05Z</dcterms:created>
  <dc:creator>LSN</dc:creator>
  <dc:description/>
  <dc:language>en-US</dc:language>
  <cp:lastModifiedBy>LSN</cp:lastModifiedBy>
  <dcterms:modified xsi:type="dcterms:W3CDTF">2010-04-19T06:20:53Z</dcterms:modified>
  <cp:revision>23</cp:revision>
  <dc:subject/>
  <dc:title>Психология семьи</dc:title>
</cp:coreProperties>
</file>