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2B7-F96D-4B98-A2C9-C3E09571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38F-3EEA-4840-BB4A-14839100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6AB-7105-4F90-93A2-389C078A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CDC-C86B-4B71-9101-7C0AD75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8E6E-4316-456C-AD5B-0D25F2A2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D494-F9F7-4C14-8A6A-CF33D644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C9D-C96D-40F6-B0B2-84A78BDB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05E4-16E3-4A55-A6FB-AF43BC0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2216-3785-4023-834D-7CC1CD6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6C44-C214-409A-9C9D-16829285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F189-270B-4432-86DA-D6CD1A4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21C-7F5E-410B-863B-D485B87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7AAB-6AD1-417B-AECB-C7B9C17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73B-0674-4F2C-8FA7-4B52A20D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B216-A2B8-4CCD-A80D-23CEE560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F5A-CC9F-4791-BD21-5249814C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6D5A-7592-4F83-9A75-574C4A9A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0189-E2D4-48BC-B64B-A784FDCE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2BF-CFD0-457D-BFF3-0EED684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930-CF6A-40F1-A07E-9A255BD5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0AD-98A6-46DC-AC60-E1948AE4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9D8-66EF-46CE-82D0-9A98E3AB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910-AB13-45FD-AC0C-CFB35DA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3D6-D761-40DA-900A-C7A47B1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72E97-3BDB-49EF-97FB-E50C36062E2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AC2F04-68EB-4BF3-8720-705C5B0A7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6;&#1075;&#1088;&#1072;&#1084;&#1084;&#1072;%20&#1055;&#1089;&#1080;&#1093;&#1086;&#1083;&#1086;&#1075;&#1080;&#1103;%20&#1089;&#1077;&#1084;&#1100;&#1080;.doc" TargetMode="External"/><Relationship Id="rId2" Type="http://schemas.openxmlformats.org/officeDocument/2006/relationships/hyperlink" Target="file:///&#1043;&#1088;&#1072;&#1092;&#1080;&#1082;%20&#1091;&#1095;&#1077;&#1073;&#1085;&#1086;&#1075;&#1086;%20&#1087;&#1088;&#1086;&#1094;&#1077;&#1089;&#1089;&#1072;%202%20&#1089;&#1077;&#1084;&#1077;&#1089;&#1090;&#1088;%2009-10.doc" TargetMode="External"/><Relationship Id="rId3" Type="http://schemas.openxmlformats.org/officeDocument/2006/relationships/hyperlink" Target="file:///&#1058;&#1050;%20&#1055;&#1089;&#1080;&#1093;&#1086;&#1083;&#1086;&#1075;&#1080;&#1103;%20&#1089;&#1077;&#1084;&#1100;&#1080;%205%20&#1085;.&#1096;.%20&#1051;&#1086;&#1073;&#1072;&#1096;&#1077;&#1074;&#1072;%20&#1045;.%20&#1042;..doc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2;&#1086;&#1087;&#1088;&#1086;&#1089;&#1099;%20&#1076;&#1083;&#1103;%20&#1072;&#1082;&#1090;&#1091;&#1072;&#1083;&#1080;&#1079;&#1072;&#1094;&#1080;&#1080;%20&#1083;&#1080;&#1095;&#1085;&#1086;&#1075;&#1086;%20&#1086;&#1087;&#1099;&#1090;&#1072;/&#1042;&#1086;&#1087;&#1088;&#1086;&#1089;&#1099;%20&#1076;&#1083;&#1103;%20&#1072;&#1082;&#1090;&#1091;&#1072;&#1083;&#1080;&#1079;&#1072;&#1094;&#1080;&#1080;%20&#1083;&#1080;&#1095;&#1085;&#1086;&#1075;&#1086;%20&#1086;&#1087;&#1099;&#1090;&#1072;%20&#1074;%20&#1086;&#1073;&#1083;&#1072;&#1089;&#1090;&#1080;%20&#1076;&#1086;&#1073;&#1088;&#1072;&#1095;&#1085;&#1099;&#1093;%20&#1086;&#1090;&#1085;&#1086;&#1096;&#1077;&#1085;&#1080;&#1081;.doc" TargetMode="External"/><Relationship Id="rId2" Type="http://schemas.openxmlformats.org/officeDocument/2006/relationships/hyperlink" Target="file:///&#1059;&#1095;&#1077;&#1073;&#1085;&#1099;&#1077;%20&#1087;&#1072;&#1082;&#1077;&#1090;&#1099;/&#1059;&#1055;%201%20&#1055;&#1089;&#1080;&#1093;&#1086;&#1083;&#1086;&#1075;&#1080;&#1103;%20&#1076;&#1086;&#1073;&#1088;&#1072;&#1095;&#1085;&#1086;&#1075;&#1086;%20&#1087;&#1077;&#1088;&#1080;&#1086;&#1076;&#1072;.doc" TargetMode="External"/><Relationship Id="rId3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1..doc" TargetMode="External"/><Relationship Id="rId4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1..odt" TargetMode="External"/><Relationship Id="rId5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42;1..doc" TargetMode="External"/><Relationship Id="rId6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42;1..odt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4;&#1087;&#1080;&#1089;&#1072;&#1085;&#1080;&#1077;%20&#1084;&#1077;&#1090;&#1086;&#1076;&#1080;&#1082;/&#1056;&#1054;&#1055;%20&#1054;&#1087;&#1088;&#1077;&#1076;&#1077;&#1083;&#1077;&#1085;&#1080;&#1077;%20&#1089;&#1086;&#1075;&#1083;&#1072;&#1089;&#1086;&#1074;&#1072;&#1085;&#1085;&#1086;&#1089;&#1090;&#1080;%20&#1089;&#1077;&#1084;&#1077;&#1081;&#1085;&#1099;&#1093;%20&#1094;&#1077;&#1085;&#1085;&#1086;&#1089;&#1090;&#1077;&#1081;%20&#1080;%20&#1088;&#1086;&#1083;&#1077;&#1074;&#1099;&#1093;%20&#1091;&#1089;&#1090;&#1072;&#1085;&#1086;&#1074;&#1086;&#1082;%20&#1074;%20&#1089;&#1091;&#1087;&#1088;&#1091;&#1078;&#1077;&#1089;&#1082;&#1086;&#1081;%20&#1087;&#1072;&#1088;&#1077;.doc" TargetMode="External"/><Relationship Id="rId2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2..odt" TargetMode="External"/><Relationship Id="rId3" Type="http://schemas.openxmlformats.org/officeDocument/2006/relationships/hyperlink" Target="file:///&#1057;&#1086;&#1087;&#1088;&#1086;&#1074;&#1086;&#1076;&#1080;&#1090;&#1077;&#1083;&#1100;&#1085;&#1099;&#1077;%20&#1084;&#1072;&#1090;&#1077;&#1088;&#1080;&#1072;&#1083;&#1099;/&#1057;&#1052;%20&#1054;3..od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сихология семь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5 курса отделения «Преподавание в начальных классах» с дополнительной подготовкой в области псих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Блок 4. Половое воспитание. Подготовка молодежи к семейной жизни. Социально-психологическая помощь семье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4 бло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сновные понятия: половое воспитание, закономерности полового воспитания, система социально-психологической помощи сем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имать актуальные цель и задачи полового воспитания для каждого возрастного периода. Понимать значение целенаправленной подготовки молодежи к семейно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ять известные закономерности для организации работы с семьей. Осуществление диагностики и коррекции семей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агаемые воспитательные мероприятия с точки зрения целесообразности и эффективности полов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атывать проекты воспитательных мероприятий по половому и семейному воспитанию. Разрабатывать индивидуальные маршруты оказания социально-психологической помощ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ценивать эффективность воспитательных мероприятий по половому и семейному воспит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4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знакомьтесь с учебным пакетом «Половое воспитание», «Подготовка молодежи к семейной жизни» и выполни все задания в предложенных учебных паке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ть задание О 5. Разработать планирование воспитательной работы с 1 по 11 класс по теме «Психология семьи». Смотрите сопроводительные материалы к заданию О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знакомьтесь с учебным пакетом «Социально – психологическая помощь семье» и выполни все задания в предложенном учебном пак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подготовиться к выполнению задания В 5 – подготовить и провести на уроке презентацию элемента внеклассного мероприятия из Вашего планирования. Смотрите сопроводительные материалы к заданию В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ыполнить задание В 7 – составить маршрут работы по проблеме семьи и пола в Санкт – Петербурге. Смотрите сопроводительные материалы к заданию В 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очу сказать…(вступительное слово преподавател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Программа дисциплины._x000b_</a:t>
            </a:r>
            <a:br>
              <a:rPr sz="2800"/>
            </a:b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График учебного процесса._x000b_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Технологическая карта РНС оценки образовательных результатов студентов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816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лок 1. Психология добрачного период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1 бло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особенности протекания добрачного периода, основные факторы стабилизации и дестабилизации брака в добрачном периоде, функции добрачного периода, основные факторы готовности к семейной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нимать значение добрачного периода для будущей семейной жизни, влияние добрачного периода на брачно-семейные отно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нять полученную информацию для разработки анкеты по прогнозу стабильности брачно-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ализировать личный опыт для дальнейшего развития 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атывать анкету по прогнозу стабильности брачно-семейны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ценивать влияние факторов стабилизации и дестабилизации в добрачном периоде на будущую семейную жиз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4520" indent="-6098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ь н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вопросы анкеты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активизации личного опыта в добрачных отно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-6098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учебным пакетом «Психология добрачных отношений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выполни все задания в предложенном учебном пак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зработать анкету по прогнозу стабильности брака на основе анализа факторов стабильности и дестабилизации в добрачном периоде. Задание О (обязательное) 1. Смотрит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опроводительны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материалы к заданию О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Вы можете выполнить задание из накопительной части –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задание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В (по выбору студента) 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ровести анкету из задания О 1, проанализировать полученные результаты и написать заключение. Смотрите сопроводительные материалы к заданию В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1452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ок 2. Семья как систе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2 бл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основных понятий и закономерностей семьи как системы: семья, закон развития и гомеостаза, жизненный цикл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имать закономерности развития и функционирования семей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известные закономерности для организации работы с семьей. Осуществление диагностики и коррекции семейн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ировать семейную систему через изучение семейной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ить генограмму для изучения семейной ис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влияние семейной истории на жизнедеятельность семейной системы. Оценивать собственный потенциал и ресурсы в семейной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Ознакомься с учебным пакетом «Семья как система» и выполни все задания в предложенном учебном пак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Ознакомься с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методикой «Ролевые Ожидания Притязания в браке»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 самодиагностику по методике «РОП». Вы можете выполнить задание В 2 – провести методику на семейной паре, проанализировать полученные данные и написать заключение. Смотрите сопроводительные материалы к заданию В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Прими участие в семинаре по теме «Работа с генограммой». Если Вы находитесь на индивидуальном образовательном маршруте, то изучить теорию метода генограм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Выполни задание О 2 – нарисуй генограмму своей семьи и письменно прокомментируй ее. Смотрите сопроводительные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материалы к заданию 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частники семинара выполняют это задание во время семина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одготовься к написанию контрольной работы по теме: «Семья как система» - О 3.Смотри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опроводительны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териалы к заданию О 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лок 3.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сихология родительства. Семейное воспитание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ч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торые мы сможем реализовать  при изучении 3 бл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основные понятия: родительство, отцовство, материнство, нарушения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имать взаимосвязь семейной истории и семейного воспи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ять диагностику и коррекцию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ировать нарушения семейного воспитания для дальнейшей корре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рекомендации по коррекции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личный потенциал как родителя. Оценивать эффективность коррекции детско-родительских отно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лгоритм действий студентов по изучению блока 3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учебным пакетом «Психология родительства» и выполни все задания в предложенном учебном паке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знакомься с методикой «Анализ  Семейных  Взаимоотношений». Выполни практическую  работу по методике «АСВ» - задание О 4. Смотрите сопроводительные материалы к заданию О 4. Участники урока выполняют это задание во время за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3. Ознакомьтесь с методикой «Тест Отношений Беременной». (беременные, родившие). Проведите диагностику по методике «ТОБ» на «третьем лице», проанализируйте полученные данные и напишите заключение. Смотрите сопроводительные материалы к заданию В 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4 – составить таблицу «Семейные нарушения и их коррекция». Смотрите сопроводительные материалы к заданию В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 можете выполнить задание В 6. Составить перечень диагностических методик по теме блока по предложенному плану. Смотрите сопроводительные материалы к заданию В 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0156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08:38:05Z</dcterms:created>
  <dc:creator>LSN</dc:creator>
  <dc:description/>
  <dc:language>en-US</dc:language>
  <cp:lastModifiedBy>LSN</cp:lastModifiedBy>
  <dcterms:modified xsi:type="dcterms:W3CDTF">2010-04-19T06:20:53Z</dcterms:modified>
  <cp:revision>23</cp:revision>
  <dc:subject/>
  <dc:title>Психология семьи</dc:title>
</cp:coreProperties>
</file>