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A39-C1A0-4A07-8E2B-99A8F648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9EE-EE61-40B0-B9FE-840AC317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655-5A91-480F-91FE-BC676FFC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D97-841F-41E8-BCAE-DC814DB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646-AEBB-4636-B680-C003A5F3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CC4-7AF4-4EB1-B6DD-C51FC1AE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945-AD31-4A0B-9B56-1E342A56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C73-275E-4755-94F7-D9E7DAD2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F42-972D-4DB7-A082-8A8F7DB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A83-DC8A-4257-AE93-143513C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CD5-2E7B-45BE-9832-19F8EEC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5AB-2E66-4EBB-AC7D-BDE13C8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04B-9D83-4A44-8129-C16B2D153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785000" cy="245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28880" y="3857400"/>
            <a:ext cx="555768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Изобразительное искус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ется картина, которую можно составить из лишних фраг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2"/>
          <a:srcRect l="0" t="0" r="2493" b="0"/>
          <a:stretch/>
        </p:blipFill>
        <p:spPr>
          <a:xfrm>
            <a:off x="857160" y="1214280"/>
            <a:ext cx="55720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TextBox 10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Асламазян «Праздничный 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Прямоугольник 11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2"/>
          <p:cNvSpPr/>
          <p:nvPr/>
        </p:nvSpPr>
        <p:spPr>
          <a:xfrm>
            <a:off x="6715080" y="18572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е ответы: 9,3,8,7,5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"/>
          <p:cNvPicPr/>
          <p:nvPr/>
        </p:nvPicPr>
        <p:blipFill>
          <a:blip r:embed="rId2">
            <a:lum contrast="24000"/>
          </a:blip>
          <a:srcRect l="0" t="1623" r="1360" b="2493"/>
          <a:stretch/>
        </p:blipFill>
        <p:spPr>
          <a:xfrm>
            <a:off x="1357200" y="1176480"/>
            <a:ext cx="644364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6" name="Прямоугольник 2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Рерих «Заморские г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tretch/>
        </p:blipFill>
        <p:spPr>
          <a:xfrm>
            <a:off x="1714680" y="1285920"/>
            <a:ext cx="622296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Прямоугольник 7"/>
          <p:cNvSpPr/>
          <p:nvPr/>
        </p:nvSpPr>
        <p:spPr>
          <a:xfrm>
            <a:off x="657360" y="614376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9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tretch/>
        </p:blipFill>
        <p:spPr>
          <a:xfrm>
            <a:off x="857160" y="1357200"/>
            <a:ext cx="6858000" cy="467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Прямоугольник 2"/>
          <p:cNvSpPr/>
          <p:nvPr/>
        </p:nvSpPr>
        <p:spPr>
          <a:xfrm>
            <a:off x="4071960" y="62866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лья Иванович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3"/>
          <a:stretch/>
        </p:blipFill>
        <p:spPr>
          <a:xfrm>
            <a:off x="857160" y="1365120"/>
            <a:ext cx="5214960" cy="499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3"/>
          <p:cNvSpPr/>
          <p:nvPr/>
        </p:nvSpPr>
        <p:spPr>
          <a:xfrm>
            <a:off x="6357960" y="5214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ександра Александровна Эксте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tretch/>
        </p:blipFill>
        <p:spPr>
          <a:xfrm>
            <a:off x="1928880" y="1357200"/>
            <a:ext cx="6500880" cy="464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Прямоугольник 3"/>
          <p:cNvSpPr/>
          <p:nvPr/>
        </p:nvSpPr>
        <p:spPr>
          <a:xfrm>
            <a:off x="662040" y="60721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tretch/>
        </p:blipFill>
        <p:spPr>
          <a:xfrm>
            <a:off x="1857240" y="1500120"/>
            <a:ext cx="6072480" cy="457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3"/>
          <p:cNvSpPr/>
          <p:nvPr/>
        </p:nvSpPr>
        <p:spPr>
          <a:xfrm>
            <a:off x="50004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асилий Васильевич Кандинск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инем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м представлен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разных картин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ределите по фрагментам название картины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берите лишний фраг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63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В. Кандински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ине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. Рери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«Заморские гост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. Асламазян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здничный 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 Экстер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>
            <a:lum contrast="30000"/>
          </a:blip>
          <a:srcRect l="0" t="67946" r="67610" b="4935"/>
          <a:stretch/>
        </p:blipFill>
        <p:spPr>
          <a:xfrm>
            <a:off x="6357960" y="3019320"/>
            <a:ext cx="2328840" cy="148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"/>
          <p:cNvPicPr/>
          <p:nvPr/>
        </p:nvPicPr>
        <p:blipFill>
          <a:blip r:embed="rId3">
            <a:lum contrast="30000"/>
          </a:blip>
          <a:srcRect l="68782" t="60386" r="1271" b="12335"/>
          <a:stretch/>
        </p:blipFill>
        <p:spPr>
          <a:xfrm>
            <a:off x="3606840" y="5000760"/>
            <a:ext cx="2322360" cy="1558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7" descr=""/>
          <p:cNvPicPr/>
          <p:nvPr/>
        </p:nvPicPr>
        <p:blipFill>
          <a:blip r:embed="rId4">
            <a:lum contrast="30000"/>
          </a:blip>
          <a:srcRect l="32145" t="10894" r="35093" b="63216"/>
          <a:stretch/>
        </p:blipFill>
        <p:spPr>
          <a:xfrm>
            <a:off x="714240" y="1228680"/>
            <a:ext cx="2357640" cy="1414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7" descr=""/>
          <p:cNvPicPr/>
          <p:nvPr/>
        </p:nvPicPr>
        <p:blipFill>
          <a:blip r:embed="rId5">
            <a:lum contrast="30000"/>
          </a:blip>
          <a:srcRect l="-1671" t="870" r="69853" b="73986"/>
          <a:stretch/>
        </p:blipFill>
        <p:spPr>
          <a:xfrm>
            <a:off x="6334200" y="1214280"/>
            <a:ext cx="23810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7" descr=""/>
          <p:cNvPicPr/>
          <p:nvPr/>
        </p:nvPicPr>
        <p:blipFill>
          <a:blip r:embed="rId6">
            <a:lum contrast="30000"/>
          </a:blip>
          <a:srcRect l="67033" t="33421" r="2082" b="40689"/>
          <a:stretch/>
        </p:blipFill>
        <p:spPr>
          <a:xfrm>
            <a:off x="3613320" y="1214280"/>
            <a:ext cx="22446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7">
            <a:lum contrast="30000"/>
          </a:blip>
          <a:srcRect l="34144" t="33253" r="34971" b="39621"/>
          <a:stretch/>
        </p:blipFill>
        <p:spPr>
          <a:xfrm>
            <a:off x="3606840" y="3000240"/>
            <a:ext cx="22510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7" descr=""/>
          <p:cNvPicPr/>
          <p:nvPr/>
        </p:nvPicPr>
        <p:blipFill>
          <a:blip r:embed="rId8">
            <a:lum contrast="30000"/>
          </a:blip>
          <a:srcRect l="35892" t="61454" r="32284" b="12517"/>
          <a:stretch/>
        </p:blipFill>
        <p:spPr>
          <a:xfrm>
            <a:off x="685800" y="3071880"/>
            <a:ext cx="2386080" cy="1481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"/>
          <p:cNvPicPr/>
          <p:nvPr/>
        </p:nvPicPr>
        <p:blipFill>
          <a:blip r:embed="rId9"/>
          <a:srcRect l="57162" t="0" r="1063" b="68815"/>
          <a:stretch/>
        </p:blipFill>
        <p:spPr>
          <a:xfrm>
            <a:off x="6397560" y="5000760"/>
            <a:ext cx="23176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9" descr=""/>
          <p:cNvPicPr/>
          <p:nvPr/>
        </p:nvPicPr>
        <p:blipFill>
          <a:blip r:embed="rId10">
            <a:lum contrast="24000"/>
          </a:blip>
          <a:srcRect l="51268" t="28303" r="28609" b="55443"/>
          <a:stretch/>
        </p:blipFill>
        <p:spPr>
          <a:xfrm>
            <a:off x="714240" y="5060880"/>
            <a:ext cx="235116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15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607212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607212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61437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571680" y="35712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2"/>
          <a:srcRect l="1055" t="73711" r="63109" b="0"/>
          <a:stretch/>
        </p:blipFill>
        <p:spPr>
          <a:xfrm>
            <a:off x="6286680" y="1170000"/>
            <a:ext cx="2428560" cy="1544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rcRect l="38675" t="0" r="32324" b="72925"/>
          <a:stretch/>
        </p:blipFill>
        <p:spPr>
          <a:xfrm>
            <a:off x="642960" y="49053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4"/>
          <a:srcRect l="67681" t="4925" r="0" b="68000"/>
          <a:stretch/>
        </p:blipFill>
        <p:spPr>
          <a:xfrm>
            <a:off x="6357960" y="5000760"/>
            <a:ext cx="24130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5"/>
          <a:srcRect l="0" t="2965" r="65046" b="63875"/>
          <a:stretch/>
        </p:blipFill>
        <p:spPr>
          <a:xfrm>
            <a:off x="3571920" y="1168560"/>
            <a:ext cx="22143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6"/>
          <a:srcRect l="9221" t="70438" r="61781" b="0"/>
          <a:stretch/>
        </p:blipFill>
        <p:spPr>
          <a:xfrm>
            <a:off x="3571920" y="3105000"/>
            <a:ext cx="2214360" cy="1611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7"/>
          <a:srcRect l="30198" t="72733" r="39924" b="0"/>
          <a:stretch/>
        </p:blipFill>
        <p:spPr>
          <a:xfrm>
            <a:off x="3571920" y="5000760"/>
            <a:ext cx="221436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8"/>
          <a:srcRect l="59965" t="36875" r="8398" b="34822"/>
          <a:stretch/>
        </p:blipFill>
        <p:spPr>
          <a:xfrm>
            <a:off x="6357960" y="3137040"/>
            <a:ext cx="2357280" cy="1506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9"/>
          <a:srcRect l="30091" t="40764" r="38400" b="28830"/>
          <a:stretch/>
        </p:blipFill>
        <p:spPr>
          <a:xfrm>
            <a:off x="642960" y="3068640"/>
            <a:ext cx="2286000" cy="1574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10"/>
          <a:srcRect l="0" t="41626" r="67216" b="27763"/>
          <a:stretch/>
        </p:blipFill>
        <p:spPr>
          <a:xfrm>
            <a:off x="642960" y="11667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11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000840" y="1214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6000840" y="30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6000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rcRect l="0" t="0" r="66411" b="72757"/>
          <a:stretch/>
        </p:blipFill>
        <p:spPr>
          <a:xfrm>
            <a:off x="3643200" y="5214960"/>
            <a:ext cx="206244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rcRect l="63127" t="65267" r="0" b="0"/>
          <a:stretch/>
        </p:blipFill>
        <p:spPr>
          <a:xfrm>
            <a:off x="782640" y="1785960"/>
            <a:ext cx="2013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4"/>
          <a:srcRect l="62959" t="34821" r="0" b="31607"/>
          <a:stretch/>
        </p:blipFill>
        <p:spPr>
          <a:xfrm>
            <a:off x="6572160" y="1785960"/>
            <a:ext cx="20192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5"/>
          <a:srcRect l="64057" t="0" r="0" b="67096"/>
          <a:stretch/>
        </p:blipFill>
        <p:spPr>
          <a:xfrm>
            <a:off x="6572160" y="5214960"/>
            <a:ext cx="2028960" cy="1400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6"/>
          <a:srcRect l="20253" t="0" r="40506" b="64742"/>
          <a:stretch/>
        </p:blipFill>
        <p:spPr>
          <a:xfrm>
            <a:off x="3643200" y="1785960"/>
            <a:ext cx="21430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7"/>
          <a:srcRect l="34181" t="37501" r="29114" b="28919"/>
          <a:stretch/>
        </p:blipFill>
        <p:spPr>
          <a:xfrm>
            <a:off x="6572160" y="3500280"/>
            <a:ext cx="20718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8"/>
          <a:srcRect l="0" t="64153" r="61778" b="0"/>
          <a:stretch/>
        </p:blipFill>
        <p:spPr>
          <a:xfrm>
            <a:off x="3673440" y="3500280"/>
            <a:ext cx="2055960" cy="1454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9"/>
          <a:srcRect l="0" t="32021" r="63211" b="34399"/>
          <a:stretch/>
        </p:blipFill>
        <p:spPr>
          <a:xfrm>
            <a:off x="785880" y="5192640"/>
            <a:ext cx="200484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10"/>
          <a:srcRect l="0" t="0" r="63379" b="68210"/>
          <a:stretch/>
        </p:blipFill>
        <p:spPr>
          <a:xfrm>
            <a:off x="785880" y="3500280"/>
            <a:ext cx="1995480" cy="1424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11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14240" y="357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2"/>
          <a:srcRect l="67069" t="-376" r="0" b="70225"/>
          <a:stretch/>
        </p:blipFill>
        <p:spPr>
          <a:xfrm>
            <a:off x="6572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"/>
          <p:cNvPicPr/>
          <p:nvPr/>
        </p:nvPicPr>
        <p:blipFill>
          <a:blip r:embed="rId3"/>
          <a:srcRect l="63741" t="32843" r="2861" b="38258"/>
          <a:stretch/>
        </p:blipFill>
        <p:spPr>
          <a:xfrm>
            <a:off x="857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4"/>
          <a:srcRect l="0" t="0" r="67225" b="65904"/>
          <a:stretch/>
        </p:blipFill>
        <p:spPr>
          <a:xfrm>
            <a:off x="85716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5"/>
          <a:srcRect l="66748" t="32398" r="0" b="35936"/>
          <a:stretch/>
        </p:blipFill>
        <p:spPr>
          <a:xfrm>
            <a:off x="857160" y="3214800"/>
            <a:ext cx="1928880" cy="1433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6"/>
          <a:srcRect l="33652" t="35214" r="32239" b="34624"/>
          <a:stretch/>
        </p:blipFill>
        <p:spPr>
          <a:xfrm>
            <a:off x="6572160" y="1428840"/>
            <a:ext cx="200052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7"/>
          <a:srcRect l="0" t="36525" r="64166" b="31808"/>
          <a:stretch/>
        </p:blipFill>
        <p:spPr>
          <a:xfrm>
            <a:off x="3603600" y="5000760"/>
            <a:ext cx="207324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8"/>
          <a:srcRect l="68638" t="71018" r="0" b="0"/>
          <a:stretch/>
        </p:blipFill>
        <p:spPr>
          <a:xfrm>
            <a:off x="6572160" y="3214800"/>
            <a:ext cx="198288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9"/>
          <a:srcRect l="27299" t="69310" r="37412" b="0"/>
          <a:stretch/>
        </p:blipFill>
        <p:spPr>
          <a:xfrm>
            <a:off x="371484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10"/>
          <a:srcRect l="0" t="70611" r="68161" b="0"/>
          <a:stretch/>
        </p:blipFill>
        <p:spPr>
          <a:xfrm>
            <a:off x="3643200" y="3193920"/>
            <a:ext cx="2011320" cy="1449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10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rcRect l="36147" t="0" r="31226" b="67207"/>
          <a:stretch/>
        </p:blipFill>
        <p:spPr>
          <a:xfrm>
            <a:off x="3786120" y="5072040"/>
            <a:ext cx="20001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6" descr=""/>
          <p:cNvPicPr/>
          <p:nvPr/>
        </p:nvPicPr>
        <p:blipFill>
          <a:blip r:embed="rId3"/>
          <a:srcRect l="30149" t="34917" r="31905" b="32944"/>
          <a:stretch/>
        </p:blipFill>
        <p:spPr>
          <a:xfrm>
            <a:off x="3786120" y="3214800"/>
            <a:ext cx="200016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4"/>
          <a:srcRect l="62831" t="0" r="4542" b="67410"/>
          <a:stretch/>
        </p:blipFill>
        <p:spPr>
          <a:xfrm>
            <a:off x="6572160" y="3214800"/>
            <a:ext cx="2000520" cy="149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5"/>
          <a:srcRect l="67335" t="33958" r="0" b="34820"/>
          <a:stretch/>
        </p:blipFill>
        <p:spPr>
          <a:xfrm>
            <a:off x="6543720" y="5072040"/>
            <a:ext cx="20289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6"/>
          <a:srcRect l="31037" t="36898" r="35201" b="30309"/>
          <a:stretch/>
        </p:blipFill>
        <p:spPr>
          <a:xfrm>
            <a:off x="928800" y="3214800"/>
            <a:ext cx="207144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7"/>
          <a:srcRect l="0" t="30411" r="68017" b="35226"/>
          <a:stretch/>
        </p:blipFill>
        <p:spPr>
          <a:xfrm>
            <a:off x="928800" y="5000760"/>
            <a:ext cx="210492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8"/>
          <a:srcRect l="68055" t="67765" r="0" b="0"/>
          <a:stretch/>
        </p:blipFill>
        <p:spPr>
          <a:xfrm>
            <a:off x="6572160" y="1357200"/>
            <a:ext cx="2000520" cy="1476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9"/>
          <a:srcRect l="31718" t="65991" r="35655" b="1267"/>
          <a:stretch/>
        </p:blipFill>
        <p:spPr>
          <a:xfrm>
            <a:off x="3786120" y="1357200"/>
            <a:ext cx="200016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10"/>
          <a:srcRect l="1173" t="62646" r="64951" b="4562"/>
          <a:stretch/>
        </p:blipFill>
        <p:spPr>
          <a:xfrm>
            <a:off x="928800" y="1357200"/>
            <a:ext cx="20764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12"/>
          <p:cNvSpPr/>
          <p:nvPr/>
        </p:nvSpPr>
        <p:spPr>
          <a:xfrm>
            <a:off x="3571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3577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621504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571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621504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35712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28608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621504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rcRect l="65055" t="0" r="0" b="63802"/>
          <a:stretch/>
        </p:blipFill>
        <p:spPr>
          <a:xfrm>
            <a:off x="785880" y="4786200"/>
            <a:ext cx="21240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rcRect l="34507" t="8514" r="34926" b="68054"/>
          <a:stretch/>
        </p:blipFill>
        <p:spPr>
          <a:xfrm>
            <a:off x="3571920" y="1357200"/>
            <a:ext cx="2071800" cy="1376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4"/>
          <a:srcRect l="63723" t="25637" r="0" b="34717"/>
          <a:stretch/>
        </p:blipFill>
        <p:spPr>
          <a:xfrm>
            <a:off x="6429240" y="4786200"/>
            <a:ext cx="20718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5"/>
          <a:srcRect l="67092" t="58169" r="0" b="9080"/>
          <a:stretch/>
        </p:blipFill>
        <p:spPr>
          <a:xfrm>
            <a:off x="6429240" y="1357200"/>
            <a:ext cx="2000520" cy="1357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6"/>
          <a:srcRect l="31510" t="30117" r="35582" b="35409"/>
          <a:stretch/>
        </p:blipFill>
        <p:spPr>
          <a:xfrm>
            <a:off x="857160" y="3000240"/>
            <a:ext cx="20005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7"/>
          <a:srcRect l="31352" t="1724" r="34564" b="64955"/>
          <a:stretch/>
        </p:blipFill>
        <p:spPr>
          <a:xfrm>
            <a:off x="6429240" y="3071880"/>
            <a:ext cx="207180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8"/>
          <a:srcRect l="0" t="64142" r="65287" b="0"/>
          <a:stretch/>
        </p:blipFill>
        <p:spPr>
          <a:xfrm>
            <a:off x="3571920" y="4786200"/>
            <a:ext cx="210960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9"/>
          <a:srcRect l="0" t="29425" r="66620" b="37825"/>
          <a:stretch/>
        </p:blipFill>
        <p:spPr>
          <a:xfrm>
            <a:off x="3643200" y="3071880"/>
            <a:ext cx="202896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10"/>
          <a:srcRect l="0" t="0" r="66777" b="69082"/>
          <a:stretch/>
        </p:blipFill>
        <p:spPr>
          <a:xfrm>
            <a:off x="857160" y="1357200"/>
            <a:ext cx="2019240" cy="1281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TextBox 11"/>
          <p:cNvSpPr/>
          <p:nvPr/>
        </p:nvSpPr>
        <p:spPr>
          <a:xfrm>
            <a:off x="214200" y="1428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321480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07212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28584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21480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607212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21420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1431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607212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4:47:05Z</dcterms:created>
  <dc:creator>Светлана</dc:creator>
  <dc:description/>
  <dc:language>en-US</dc:language>
  <cp:lastModifiedBy>Sam</cp:lastModifiedBy>
  <dcterms:modified xsi:type="dcterms:W3CDTF">2011-08-28T10:14:17Z</dcterms:modified>
  <cp:revision>38</cp:revision>
  <dc:subject/>
  <dc:title>Слайд 1</dc:title>
</cp:coreProperties>
</file>