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8F24-C444-4DF2-82B7-79384B63B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401F-6C2E-4E7C-8B69-D9C17336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3830-D711-4116-A6CE-316311A01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3033-52B7-4826-9CD9-02374845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E206-A070-49E4-8359-E0D0BFBE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AC74-B304-4539-9B43-A3C80C7B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6240-87F8-4764-A72F-BA1AF808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F112-2189-4242-8CA6-BACB3142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80CE-BDA9-4EAA-AAA6-43260EA1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596C-3409-4D2D-B155-56FBAB7F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E8CF-2387-4632-A449-49A98510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EC62-E1F5-493E-A569-0484C419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7C3E-8EC4-4559-AB87-D92A113FE3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5.pn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5.pn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5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2"/>
          <a:stretch/>
        </p:blipFill>
        <p:spPr>
          <a:xfrm>
            <a:off x="682560" y="1163520"/>
            <a:ext cx="7785000" cy="2457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928880" y="3857400"/>
            <a:ext cx="5557680" cy="111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Изобразительное искусств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6 клас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1680" y="200016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 называется картина, которую можно составить из лишних фрагментов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6" descr=""/>
          <p:cNvPicPr/>
          <p:nvPr/>
        </p:nvPicPr>
        <p:blipFill>
          <a:blip r:embed="rId2"/>
          <a:srcRect l="0" t="0" r="2493" b="0"/>
          <a:stretch/>
        </p:blipFill>
        <p:spPr>
          <a:xfrm>
            <a:off x="857160" y="1214280"/>
            <a:ext cx="5572080" cy="4953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2" name="TextBox 10"/>
          <p:cNvSpPr/>
          <p:nvPr/>
        </p:nvSpPr>
        <p:spPr>
          <a:xfrm>
            <a:off x="2428920" y="628668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. Асламазян «Праздничный натюрмор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Прямоугольник 11" descr=""/>
          <p:cNvPicPr/>
          <p:nvPr/>
        </p:nvPicPr>
        <p:blipFill>
          <a:blip r:embed="rId3"/>
          <a:stretch/>
        </p:blipFill>
        <p:spPr>
          <a:xfrm>
            <a:off x="2487600" y="109440"/>
            <a:ext cx="4059360" cy="10130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12"/>
          <p:cNvSpPr/>
          <p:nvPr/>
        </p:nvSpPr>
        <p:spPr>
          <a:xfrm>
            <a:off x="6715080" y="1857240"/>
            <a:ext cx="200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авильные ответы: 9,3,8,7,5,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9" descr=""/>
          <p:cNvPicPr/>
          <p:nvPr/>
        </p:nvPicPr>
        <p:blipFill>
          <a:blip r:embed="rId2">
            <a:lum contrast="24000"/>
          </a:blip>
          <a:srcRect l="0" t="1623" r="1360" b="2493"/>
          <a:stretch/>
        </p:blipFill>
        <p:spPr>
          <a:xfrm>
            <a:off x="1357200" y="1176480"/>
            <a:ext cx="6443640" cy="47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6" name="Прямоугольник 2" descr=""/>
          <p:cNvPicPr/>
          <p:nvPr/>
        </p:nvPicPr>
        <p:blipFill>
          <a:blip r:embed="rId3"/>
          <a:stretch/>
        </p:blipFill>
        <p:spPr>
          <a:xfrm>
            <a:off x="2487600" y="109440"/>
            <a:ext cx="4059360" cy="1013040"/>
          </a:xfrm>
          <a:prstGeom prst="rect">
            <a:avLst/>
          </a:prstGeom>
          <a:ln w="0">
            <a:noFill/>
          </a:ln>
        </p:spPr>
      </p:pic>
      <p:sp>
        <p:nvSpPr>
          <p:cNvPr id="167" name="TextBox 3"/>
          <p:cNvSpPr/>
          <p:nvPr/>
        </p:nvSpPr>
        <p:spPr>
          <a:xfrm>
            <a:off x="2428920" y="628668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.Рерих «Заморские г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C:\Users\Светлана\Documents\ШКОЛА\Уроки\История искусства 9 класс\12. 20 век\Советское искусство\И. Машков. Натюрморт. 1930.jpg"/>
          <p:cNvPicPr/>
          <p:nvPr/>
        </p:nvPicPr>
        <p:blipFill>
          <a:blip r:embed="rId2"/>
          <a:stretch/>
        </p:blipFill>
        <p:spPr>
          <a:xfrm>
            <a:off x="1714680" y="1285920"/>
            <a:ext cx="6222960" cy="4643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9" name="Прямоугольник 7"/>
          <p:cNvSpPr/>
          <p:nvPr/>
        </p:nvSpPr>
        <p:spPr>
          <a:xfrm>
            <a:off x="657360" y="6143760"/>
            <a:ext cx="28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. Машков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«Натюрмор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Прямоугольник 9" descr=""/>
          <p:cNvPicPr/>
          <p:nvPr/>
        </p:nvPicPr>
        <p:blipFill>
          <a:blip r:embed="rId3"/>
          <a:stretch/>
        </p:blipFill>
        <p:spPr>
          <a:xfrm>
            <a:off x="2487600" y="109440"/>
            <a:ext cx="405936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:\Users\Светлана\Documents\ШКОЛА\Уроки\История искусства 9 класс\12. 20 век\Русское изобразительное искусство 20 век\Илья Иванович Машков Фрукты на блюде 1910.jpg"/>
          <p:cNvPicPr/>
          <p:nvPr/>
        </p:nvPicPr>
        <p:blipFill>
          <a:blip r:embed="rId2"/>
          <a:stretch/>
        </p:blipFill>
        <p:spPr>
          <a:xfrm>
            <a:off x="857160" y="1357200"/>
            <a:ext cx="6858000" cy="4675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2" name="Прямоугольник 2"/>
          <p:cNvSpPr/>
          <p:nvPr/>
        </p:nvSpPr>
        <p:spPr>
          <a:xfrm>
            <a:off x="4071960" y="628668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лья Иванович Машков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рукты на блюде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Прямоугольник 3" descr=""/>
          <p:cNvPicPr/>
          <p:nvPr/>
        </p:nvPicPr>
        <p:blipFill>
          <a:blip r:embed="rId3"/>
          <a:stretch/>
        </p:blipFill>
        <p:spPr>
          <a:xfrm>
            <a:off x="2487600" y="109440"/>
            <a:ext cx="405936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Прямоугольник 1" descr=""/>
          <p:cNvPicPr/>
          <p:nvPr/>
        </p:nvPicPr>
        <p:blipFill>
          <a:blip r:embed="rId2"/>
          <a:stretch/>
        </p:blipFill>
        <p:spPr>
          <a:xfrm>
            <a:off x="2487600" y="109440"/>
            <a:ext cx="4059360" cy="10130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C:\Users\Светлана\Documents\ШКОЛА\Уроки\История искусства 9 класс\12. 20 век\Русское изобразительное искусство 20 век\Александра Александровна Экстер Венеция Панно Фрагмент 1924.jpg"/>
          <p:cNvPicPr/>
          <p:nvPr/>
        </p:nvPicPr>
        <p:blipFill>
          <a:blip r:embed="rId3"/>
          <a:stretch/>
        </p:blipFill>
        <p:spPr>
          <a:xfrm>
            <a:off x="857160" y="1365120"/>
            <a:ext cx="5214960" cy="4994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6" name="Прямоугольник 3"/>
          <p:cNvSpPr/>
          <p:nvPr/>
        </p:nvSpPr>
        <p:spPr>
          <a:xfrm>
            <a:off x="6357960" y="5214960"/>
            <a:ext cx="242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лександра Александровна Экстер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Венеция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Прямоугольник 1" descr=""/>
          <p:cNvPicPr/>
          <p:nvPr/>
        </p:nvPicPr>
        <p:blipFill>
          <a:blip r:embed="rId2"/>
          <a:stretch/>
        </p:blipFill>
        <p:spPr>
          <a:xfrm>
            <a:off x="2487600" y="109440"/>
            <a:ext cx="4059360" cy="10130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Users\Светлана\Documents\ШКОЛА\Уроки\История искусства 9 класс\11. Художественная культура 19 века\ЗАРУБЕЖНОЕ ИСКУССТВО 19-20 В\П. Сезанн. Персики и груши. 1890 г..jpg"/>
          <p:cNvPicPr/>
          <p:nvPr/>
        </p:nvPicPr>
        <p:blipFill>
          <a:blip r:embed="rId3"/>
          <a:stretch/>
        </p:blipFill>
        <p:spPr>
          <a:xfrm>
            <a:off x="1928880" y="1357200"/>
            <a:ext cx="6500880" cy="4641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9" name="Прямоугольник 3"/>
          <p:cNvSpPr/>
          <p:nvPr/>
        </p:nvSpPr>
        <p:spPr>
          <a:xfrm>
            <a:off x="662040" y="6072120"/>
            <a:ext cx="31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. Сезанн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Персики и груш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Прямоугольник 1" descr=""/>
          <p:cNvPicPr/>
          <p:nvPr/>
        </p:nvPicPr>
        <p:blipFill>
          <a:blip r:embed="rId2"/>
          <a:stretch/>
        </p:blipFill>
        <p:spPr>
          <a:xfrm>
            <a:off x="2487600" y="109440"/>
            <a:ext cx="4059360" cy="1013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C:\Users\Светлана\Documents\ШКОЛА\Уроки\История искусства 9 класс\12. 20 век\Русское изобразительное искусство 20 век\Василий Васильевич Кандинский В синем 1925.jpg"/>
          <p:cNvPicPr/>
          <p:nvPr/>
        </p:nvPicPr>
        <p:blipFill>
          <a:blip r:embed="rId3"/>
          <a:stretch/>
        </p:blipFill>
        <p:spPr>
          <a:xfrm>
            <a:off x="1857240" y="1500120"/>
            <a:ext cx="6072480" cy="4576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2" name="Прямоугольник 3"/>
          <p:cNvSpPr/>
          <p:nvPr/>
        </p:nvSpPr>
        <p:spPr>
          <a:xfrm>
            <a:off x="500040" y="62866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асилий Васильевич Кандинский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синем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071360"/>
            <a:ext cx="7772400" cy="42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ам представлены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 разных картин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Определите по фрагментам название картины.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ыберите лишний фрагмен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5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600200"/>
            <a:ext cx="8229600" cy="632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. В. Кандинский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сине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Н. Рерих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«Заморские гости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М. Асламазян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Праздничный натюрмор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. Машков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Натюрмор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. Машков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рукты на блюде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А. Экстер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Венец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. Сезанн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Персики и груш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"/>
          <p:cNvPicPr/>
          <p:nvPr/>
        </p:nvPicPr>
        <p:blipFill>
          <a:blip r:embed="rId2">
            <a:lum contrast="30000"/>
          </a:blip>
          <a:srcRect l="0" t="67946" r="67610" b="4935"/>
          <a:stretch/>
        </p:blipFill>
        <p:spPr>
          <a:xfrm>
            <a:off x="6357960" y="3019320"/>
            <a:ext cx="2328840" cy="14814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7" name="Picture 7" descr=""/>
          <p:cNvPicPr/>
          <p:nvPr/>
        </p:nvPicPr>
        <p:blipFill>
          <a:blip r:embed="rId3">
            <a:lum contrast="30000"/>
          </a:blip>
          <a:srcRect l="68782" t="60386" r="1271" b="12335"/>
          <a:stretch/>
        </p:blipFill>
        <p:spPr>
          <a:xfrm>
            <a:off x="3606840" y="5000760"/>
            <a:ext cx="2322360" cy="15588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8" name="Picture 7" descr=""/>
          <p:cNvPicPr/>
          <p:nvPr/>
        </p:nvPicPr>
        <p:blipFill>
          <a:blip r:embed="rId4">
            <a:lum contrast="30000"/>
          </a:blip>
          <a:srcRect l="32145" t="10894" r="35093" b="63216"/>
          <a:stretch/>
        </p:blipFill>
        <p:spPr>
          <a:xfrm>
            <a:off x="714240" y="1228680"/>
            <a:ext cx="2357640" cy="14144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" name="Picture 7" descr=""/>
          <p:cNvPicPr/>
          <p:nvPr/>
        </p:nvPicPr>
        <p:blipFill>
          <a:blip r:embed="rId5">
            <a:lum contrast="30000"/>
          </a:blip>
          <a:srcRect l="-1671" t="870" r="69853" b="73986"/>
          <a:stretch/>
        </p:blipFill>
        <p:spPr>
          <a:xfrm>
            <a:off x="6334200" y="1214280"/>
            <a:ext cx="2381040" cy="14288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" name="Picture 7" descr=""/>
          <p:cNvPicPr/>
          <p:nvPr/>
        </p:nvPicPr>
        <p:blipFill>
          <a:blip r:embed="rId6">
            <a:lum contrast="30000"/>
          </a:blip>
          <a:srcRect l="67033" t="33421" r="2082" b="40689"/>
          <a:stretch/>
        </p:blipFill>
        <p:spPr>
          <a:xfrm>
            <a:off x="3613320" y="1214280"/>
            <a:ext cx="2244600" cy="14288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" name="Picture 7" descr=""/>
          <p:cNvPicPr/>
          <p:nvPr/>
        </p:nvPicPr>
        <p:blipFill>
          <a:blip r:embed="rId7">
            <a:lum contrast="30000"/>
          </a:blip>
          <a:srcRect l="34144" t="33253" r="34971" b="39621"/>
          <a:stretch/>
        </p:blipFill>
        <p:spPr>
          <a:xfrm>
            <a:off x="3606840" y="3000240"/>
            <a:ext cx="2251080" cy="15004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" name="Picture 7" descr=""/>
          <p:cNvPicPr/>
          <p:nvPr/>
        </p:nvPicPr>
        <p:blipFill>
          <a:blip r:embed="rId8">
            <a:lum contrast="30000"/>
          </a:blip>
          <a:srcRect l="35892" t="61454" r="32284" b="12517"/>
          <a:stretch/>
        </p:blipFill>
        <p:spPr>
          <a:xfrm>
            <a:off x="685800" y="3071880"/>
            <a:ext cx="2386080" cy="14810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" name="Picture 6" descr=""/>
          <p:cNvPicPr/>
          <p:nvPr/>
        </p:nvPicPr>
        <p:blipFill>
          <a:blip r:embed="rId9"/>
          <a:srcRect l="57162" t="0" r="1063" b="68815"/>
          <a:stretch/>
        </p:blipFill>
        <p:spPr>
          <a:xfrm>
            <a:off x="6397560" y="5000760"/>
            <a:ext cx="2317680" cy="15001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4" name="Picture 9" descr=""/>
          <p:cNvPicPr/>
          <p:nvPr/>
        </p:nvPicPr>
        <p:blipFill>
          <a:blip r:embed="rId10">
            <a:lum contrast="24000"/>
          </a:blip>
          <a:srcRect l="51268" t="28303" r="28609" b="55443"/>
          <a:stretch/>
        </p:blipFill>
        <p:spPr>
          <a:xfrm>
            <a:off x="714240" y="5060880"/>
            <a:ext cx="2351160" cy="14400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5" name="TextBox 15"/>
          <p:cNvSpPr/>
          <p:nvPr/>
        </p:nvSpPr>
        <p:spPr>
          <a:xfrm>
            <a:off x="214200" y="11430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6"/>
          <p:cNvSpPr/>
          <p:nvPr/>
        </p:nvSpPr>
        <p:spPr>
          <a:xfrm>
            <a:off x="3214800" y="11430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7"/>
          <p:cNvSpPr/>
          <p:nvPr/>
        </p:nvSpPr>
        <p:spPr>
          <a:xfrm>
            <a:off x="6072120" y="11430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8"/>
          <p:cNvSpPr/>
          <p:nvPr/>
        </p:nvSpPr>
        <p:spPr>
          <a:xfrm>
            <a:off x="214200" y="30002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9"/>
          <p:cNvSpPr/>
          <p:nvPr/>
        </p:nvSpPr>
        <p:spPr>
          <a:xfrm>
            <a:off x="3286080" y="3000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0"/>
          <p:cNvSpPr/>
          <p:nvPr/>
        </p:nvSpPr>
        <p:spPr>
          <a:xfrm>
            <a:off x="6072120" y="3000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1"/>
          <p:cNvSpPr/>
          <p:nvPr/>
        </p:nvSpPr>
        <p:spPr>
          <a:xfrm>
            <a:off x="285840" y="50007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2"/>
          <p:cNvSpPr/>
          <p:nvPr/>
        </p:nvSpPr>
        <p:spPr>
          <a:xfrm>
            <a:off x="3214800" y="50007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3"/>
          <p:cNvSpPr/>
          <p:nvPr/>
        </p:nvSpPr>
        <p:spPr>
          <a:xfrm>
            <a:off x="6143760" y="49291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4"/>
          <p:cNvSpPr/>
          <p:nvPr/>
        </p:nvSpPr>
        <p:spPr>
          <a:xfrm>
            <a:off x="571680" y="357120"/>
            <a:ext cx="814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Определите название картин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Найдите лишний фрагмент картин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"/>
          <p:cNvPicPr/>
          <p:nvPr/>
        </p:nvPicPr>
        <p:blipFill>
          <a:blip r:embed="rId2"/>
          <a:srcRect l="1055" t="73711" r="63109" b="0"/>
          <a:stretch/>
        </p:blipFill>
        <p:spPr>
          <a:xfrm>
            <a:off x="6286680" y="1170000"/>
            <a:ext cx="2428560" cy="15447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Picture 5" descr="C:\Users\Светлана\Documents\ШКОЛА\Уроки\История искусства 9 класс\11. Художественная культура 19 века\ЗАРУБЕЖНОЕ ИСКУССТВО 19-20 В\П. Сезанн. Персики и груши. 1890 г..jpg"/>
          <p:cNvPicPr/>
          <p:nvPr/>
        </p:nvPicPr>
        <p:blipFill>
          <a:blip r:embed="rId3"/>
          <a:srcRect l="38675" t="0" r="32324" b="72925"/>
          <a:stretch/>
        </p:blipFill>
        <p:spPr>
          <a:xfrm>
            <a:off x="642960" y="4905360"/>
            <a:ext cx="2286000" cy="15238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7" name="Picture 5" descr="C:\Users\Светлана\Documents\ШКОЛА\Уроки\История искусства 9 класс\11. Художественная культура 19 века\ЗАРУБЕЖНОЕ ИСКУССТВО 19-20 В\П. Сезанн. Персики и груши. 1890 г..jpg"/>
          <p:cNvPicPr/>
          <p:nvPr/>
        </p:nvPicPr>
        <p:blipFill>
          <a:blip r:embed="rId4"/>
          <a:srcRect l="67681" t="4925" r="0" b="68000"/>
          <a:stretch/>
        </p:blipFill>
        <p:spPr>
          <a:xfrm>
            <a:off x="6357960" y="5000760"/>
            <a:ext cx="2413080" cy="15001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8" name="Picture 5" descr="C:\Users\Светлана\Documents\ШКОЛА\Уроки\История искусства 9 класс\11. Художественная культура 19 века\ЗАРУБЕЖНОЕ ИСКУССТВО 19-20 В\П. Сезанн. Персики и груши. 1890 г..jpg"/>
          <p:cNvPicPr/>
          <p:nvPr/>
        </p:nvPicPr>
        <p:blipFill>
          <a:blip r:embed="rId5"/>
          <a:srcRect l="0" t="2965" r="65046" b="63875"/>
          <a:stretch/>
        </p:blipFill>
        <p:spPr>
          <a:xfrm>
            <a:off x="3571920" y="1168560"/>
            <a:ext cx="2214360" cy="15001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Picture 5" descr="C:\Users\Светлана\Documents\ШКОЛА\Уроки\История искусства 9 класс\11. Художественная культура 19 века\ЗАРУБЕЖНОЕ ИСКУССТВО 19-20 В\П. Сезанн. Персики и груши. 1890 г..jpg"/>
          <p:cNvPicPr/>
          <p:nvPr/>
        </p:nvPicPr>
        <p:blipFill>
          <a:blip r:embed="rId6"/>
          <a:srcRect l="9221" t="70438" r="61781" b="0"/>
          <a:stretch/>
        </p:blipFill>
        <p:spPr>
          <a:xfrm>
            <a:off x="3571920" y="3105000"/>
            <a:ext cx="2214360" cy="16113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0" name="Picture 5" descr="C:\Users\Светлана\Documents\ШКОЛА\Уроки\История искусства 9 класс\11. Художественная культура 19 века\ЗАРУБЕЖНОЕ ИСКУССТВО 19-20 В\П. Сезанн. Персики и груши. 1890 г..jpg"/>
          <p:cNvPicPr/>
          <p:nvPr/>
        </p:nvPicPr>
        <p:blipFill>
          <a:blip r:embed="rId7"/>
          <a:srcRect l="30198" t="72733" r="39924" b="0"/>
          <a:stretch/>
        </p:blipFill>
        <p:spPr>
          <a:xfrm>
            <a:off x="3571920" y="5000760"/>
            <a:ext cx="2214360" cy="15112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1" name="Picture 5" descr="C:\Users\Светлана\Documents\ШКОЛА\Уроки\История искусства 9 класс\11. Художественная культура 19 века\ЗАРУБЕЖНОЕ ИСКУССТВО 19-20 В\П. Сезанн. Персики и груши. 1890 г..jpg"/>
          <p:cNvPicPr/>
          <p:nvPr/>
        </p:nvPicPr>
        <p:blipFill>
          <a:blip r:embed="rId8"/>
          <a:srcRect l="59965" t="36875" r="8398" b="34822"/>
          <a:stretch/>
        </p:blipFill>
        <p:spPr>
          <a:xfrm>
            <a:off x="6357960" y="3137040"/>
            <a:ext cx="2357280" cy="15062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2" name="Picture 5" descr="C:\Users\Светлана\Documents\ШКОЛА\Уроки\История искусства 9 класс\11. Художественная культура 19 века\ЗАРУБЕЖНОЕ ИСКУССТВО 19-20 В\П. Сезанн. Персики и груши. 1890 г..jpg"/>
          <p:cNvPicPr/>
          <p:nvPr/>
        </p:nvPicPr>
        <p:blipFill>
          <a:blip r:embed="rId9"/>
          <a:srcRect l="30091" t="40764" r="38400" b="28830"/>
          <a:stretch/>
        </p:blipFill>
        <p:spPr>
          <a:xfrm>
            <a:off x="642960" y="3068640"/>
            <a:ext cx="2286000" cy="15746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3" name="Picture 5" descr="C:\Users\Светлана\Documents\ШКОЛА\Уроки\История искусства 9 класс\11. Художественная культура 19 века\ЗАРУБЕЖНОЕ ИСКУССТВО 19-20 В\П. Сезанн. Персики и груши. 1890 г..jpg"/>
          <p:cNvPicPr/>
          <p:nvPr/>
        </p:nvPicPr>
        <p:blipFill>
          <a:blip r:embed="rId10"/>
          <a:srcRect l="0" t="41626" r="67216" b="27763"/>
          <a:stretch/>
        </p:blipFill>
        <p:spPr>
          <a:xfrm>
            <a:off x="642960" y="1166760"/>
            <a:ext cx="2286000" cy="15238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4" name="TextBox 11"/>
          <p:cNvSpPr/>
          <p:nvPr/>
        </p:nvSpPr>
        <p:spPr>
          <a:xfrm>
            <a:off x="214200" y="11430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2"/>
          <p:cNvSpPr/>
          <p:nvPr/>
        </p:nvSpPr>
        <p:spPr>
          <a:xfrm>
            <a:off x="3214800" y="11430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3"/>
          <p:cNvSpPr/>
          <p:nvPr/>
        </p:nvSpPr>
        <p:spPr>
          <a:xfrm>
            <a:off x="6000840" y="1214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4"/>
          <p:cNvSpPr/>
          <p:nvPr/>
        </p:nvSpPr>
        <p:spPr>
          <a:xfrm>
            <a:off x="214200" y="30002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5"/>
          <p:cNvSpPr/>
          <p:nvPr/>
        </p:nvSpPr>
        <p:spPr>
          <a:xfrm>
            <a:off x="3286080" y="3000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6"/>
          <p:cNvSpPr/>
          <p:nvPr/>
        </p:nvSpPr>
        <p:spPr>
          <a:xfrm>
            <a:off x="6000840" y="30718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17"/>
          <p:cNvSpPr/>
          <p:nvPr/>
        </p:nvSpPr>
        <p:spPr>
          <a:xfrm>
            <a:off x="285840" y="50007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8"/>
          <p:cNvSpPr/>
          <p:nvPr/>
        </p:nvSpPr>
        <p:spPr>
          <a:xfrm>
            <a:off x="3214800" y="50007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9"/>
          <p:cNvSpPr/>
          <p:nvPr/>
        </p:nvSpPr>
        <p:spPr>
          <a:xfrm>
            <a:off x="6000840" y="50007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0"/>
          <p:cNvSpPr/>
          <p:nvPr/>
        </p:nvSpPr>
        <p:spPr>
          <a:xfrm>
            <a:off x="714240" y="21420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Определите название карти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Найдите лишний фрагмент карти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rcRect l="0" t="0" r="66411" b="72757"/>
          <a:stretch/>
        </p:blipFill>
        <p:spPr>
          <a:xfrm>
            <a:off x="3643200" y="5214960"/>
            <a:ext cx="2062440" cy="13572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5" name="Picture 4" descr="C:\Users\Светлана\Documents\ШКОЛА\Уроки\История искусства 9 класс\12. 20 век\Русское изобразительное искусство 20 век\Василий Васильевич Кандинский В синем 1925.jpg"/>
          <p:cNvPicPr/>
          <p:nvPr/>
        </p:nvPicPr>
        <p:blipFill>
          <a:blip r:embed="rId3"/>
          <a:srcRect l="63127" t="65267" r="0" b="0"/>
          <a:stretch/>
        </p:blipFill>
        <p:spPr>
          <a:xfrm>
            <a:off x="782640" y="1785960"/>
            <a:ext cx="2013120" cy="14288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6" name="Picture 4" descr="C:\Users\Светлана\Documents\ШКОЛА\Уроки\История искусства 9 класс\12. 20 век\Русское изобразительное искусство 20 век\Василий Васильевич Кандинский В синем 1925.jpg"/>
          <p:cNvPicPr/>
          <p:nvPr/>
        </p:nvPicPr>
        <p:blipFill>
          <a:blip r:embed="rId4"/>
          <a:srcRect l="62959" t="34821" r="0" b="31607"/>
          <a:stretch/>
        </p:blipFill>
        <p:spPr>
          <a:xfrm>
            <a:off x="6572160" y="1785960"/>
            <a:ext cx="2019240" cy="14288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7" name="Picture 4" descr="C:\Users\Светлана\Documents\ШКОЛА\Уроки\История искусства 9 класс\12. 20 век\Русское изобразительное искусство 20 век\Василий Васильевич Кандинский В синем 1925.jpg"/>
          <p:cNvPicPr/>
          <p:nvPr/>
        </p:nvPicPr>
        <p:blipFill>
          <a:blip r:embed="rId5"/>
          <a:srcRect l="64057" t="0" r="0" b="67096"/>
          <a:stretch/>
        </p:blipFill>
        <p:spPr>
          <a:xfrm>
            <a:off x="6572160" y="5214960"/>
            <a:ext cx="2028960" cy="14000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8" name="Picture 4" descr="C:\Users\Светлана\Documents\ШКОЛА\Уроки\История искусства 9 класс\12. 20 век\Русское изобразительное искусство 20 век\Василий Васильевич Кандинский В синем 1925.jpg"/>
          <p:cNvPicPr/>
          <p:nvPr/>
        </p:nvPicPr>
        <p:blipFill>
          <a:blip r:embed="rId6"/>
          <a:srcRect l="20253" t="0" r="40506" b="64742"/>
          <a:stretch/>
        </p:blipFill>
        <p:spPr>
          <a:xfrm>
            <a:off x="3643200" y="1785960"/>
            <a:ext cx="2143080" cy="14288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9" name="Picture 4" descr="C:\Users\Светлана\Documents\ШКОЛА\Уроки\История искусства 9 класс\12. 20 век\Русское изобразительное искусство 20 век\Василий Васильевич Кандинский В синем 1925.jpg"/>
          <p:cNvPicPr/>
          <p:nvPr/>
        </p:nvPicPr>
        <p:blipFill>
          <a:blip r:embed="rId7"/>
          <a:srcRect l="34181" t="37501" r="29114" b="28919"/>
          <a:stretch/>
        </p:blipFill>
        <p:spPr>
          <a:xfrm>
            <a:off x="6572160" y="3500280"/>
            <a:ext cx="2071800" cy="14288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0" name="Picture 4" descr="C:\Users\Светлана\Documents\ШКОЛА\Уроки\История искусства 9 класс\12. 20 век\Русское изобразительное искусство 20 век\Василий Васильевич Кандинский В синем 1925.jpg"/>
          <p:cNvPicPr/>
          <p:nvPr/>
        </p:nvPicPr>
        <p:blipFill>
          <a:blip r:embed="rId8"/>
          <a:srcRect l="0" t="64153" r="61778" b="0"/>
          <a:stretch/>
        </p:blipFill>
        <p:spPr>
          <a:xfrm>
            <a:off x="3673440" y="3500280"/>
            <a:ext cx="2055960" cy="14544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1" name="Picture 4" descr="C:\Users\Светлана\Documents\ШКОЛА\Уроки\История искусства 9 класс\12. 20 век\Русское изобразительное искусство 20 век\Василий Васильевич Кандинский В синем 1925.jpg"/>
          <p:cNvPicPr/>
          <p:nvPr/>
        </p:nvPicPr>
        <p:blipFill>
          <a:blip r:embed="rId9"/>
          <a:srcRect l="0" t="32021" r="63211" b="34399"/>
          <a:stretch/>
        </p:blipFill>
        <p:spPr>
          <a:xfrm>
            <a:off x="785880" y="5192640"/>
            <a:ext cx="2004840" cy="13795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2" name="Picture 4" descr="C:\Users\Светлана\Documents\ШКОЛА\Уроки\История искусства 9 класс\12. 20 век\Русское изобразительное искусство 20 век\Василий Васильевич Кандинский В синем 1925.jpg"/>
          <p:cNvPicPr/>
          <p:nvPr/>
        </p:nvPicPr>
        <p:blipFill>
          <a:blip r:embed="rId10"/>
          <a:srcRect l="0" t="0" r="63379" b="68210"/>
          <a:stretch/>
        </p:blipFill>
        <p:spPr>
          <a:xfrm>
            <a:off x="785880" y="3500280"/>
            <a:ext cx="1995480" cy="14241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3" name="TextBox 11"/>
          <p:cNvSpPr/>
          <p:nvPr/>
        </p:nvSpPr>
        <p:spPr>
          <a:xfrm>
            <a:off x="285840" y="1785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2"/>
          <p:cNvSpPr/>
          <p:nvPr/>
        </p:nvSpPr>
        <p:spPr>
          <a:xfrm>
            <a:off x="3286080" y="1785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6143760" y="1785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4"/>
          <p:cNvSpPr/>
          <p:nvPr/>
        </p:nvSpPr>
        <p:spPr>
          <a:xfrm>
            <a:off x="285840" y="3500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5"/>
          <p:cNvSpPr/>
          <p:nvPr/>
        </p:nvSpPr>
        <p:spPr>
          <a:xfrm>
            <a:off x="3286080" y="3500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6"/>
          <p:cNvSpPr/>
          <p:nvPr/>
        </p:nvSpPr>
        <p:spPr>
          <a:xfrm>
            <a:off x="6143760" y="3500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7"/>
          <p:cNvSpPr/>
          <p:nvPr/>
        </p:nvSpPr>
        <p:spPr>
          <a:xfrm>
            <a:off x="285840" y="5214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8"/>
          <p:cNvSpPr/>
          <p:nvPr/>
        </p:nvSpPr>
        <p:spPr>
          <a:xfrm>
            <a:off x="3214800" y="5286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9"/>
          <p:cNvSpPr/>
          <p:nvPr/>
        </p:nvSpPr>
        <p:spPr>
          <a:xfrm>
            <a:off x="6143760" y="5214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21"/>
          <p:cNvSpPr/>
          <p:nvPr/>
        </p:nvSpPr>
        <p:spPr>
          <a:xfrm>
            <a:off x="714240" y="35712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Определите название карти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Найдите лишний фрагмент карти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C:\Users\Светлана\Documents\ШКОЛА\Уроки\История искусства 9 класс\12. 20 век\Русское изобразительное искусство 20 век\Александра Александровна Экстер Венеция Панно Фрагмент 1924.jpg"/>
          <p:cNvPicPr/>
          <p:nvPr/>
        </p:nvPicPr>
        <p:blipFill>
          <a:blip r:embed="rId2"/>
          <a:srcRect l="67069" t="-376" r="0" b="70225"/>
          <a:stretch/>
        </p:blipFill>
        <p:spPr>
          <a:xfrm>
            <a:off x="6572160" y="5000760"/>
            <a:ext cx="2000520" cy="14284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4" name="Picture 6" descr=""/>
          <p:cNvPicPr/>
          <p:nvPr/>
        </p:nvPicPr>
        <p:blipFill>
          <a:blip r:embed="rId3"/>
          <a:srcRect l="63741" t="32843" r="2861" b="38258"/>
          <a:stretch/>
        </p:blipFill>
        <p:spPr>
          <a:xfrm>
            <a:off x="857160" y="5000760"/>
            <a:ext cx="2000520" cy="14284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5" name="Picture 3" descr="C:\Users\Светлана\Documents\ШКОЛА\Уроки\История искусства 9 класс\12. 20 век\Русское изобразительное искусство 20 век\Александра Александровна Экстер Венеция Панно Фрагмент 1924.jpg"/>
          <p:cNvPicPr/>
          <p:nvPr/>
        </p:nvPicPr>
        <p:blipFill>
          <a:blip r:embed="rId4"/>
          <a:srcRect l="0" t="0" r="67225" b="65904"/>
          <a:stretch/>
        </p:blipFill>
        <p:spPr>
          <a:xfrm>
            <a:off x="857160" y="1428840"/>
            <a:ext cx="1928880" cy="14288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6" name="Picture 3" descr="C:\Users\Светлана\Documents\ШКОЛА\Уроки\История искусства 9 класс\12. 20 век\Русское изобразительное искусство 20 век\Александра Александровна Экстер Венеция Панно Фрагмент 1924.jpg"/>
          <p:cNvPicPr/>
          <p:nvPr/>
        </p:nvPicPr>
        <p:blipFill>
          <a:blip r:embed="rId5"/>
          <a:srcRect l="66748" t="32398" r="0" b="35936"/>
          <a:stretch/>
        </p:blipFill>
        <p:spPr>
          <a:xfrm>
            <a:off x="857160" y="3214800"/>
            <a:ext cx="1928880" cy="14335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7" name="Picture 3" descr="C:\Users\Светлана\Documents\ШКОЛА\Уроки\История искусства 9 класс\12. 20 век\Русское изобразительное искусство 20 век\Александра Александровна Экстер Венеция Панно Фрагмент 1924.jpg"/>
          <p:cNvPicPr/>
          <p:nvPr/>
        </p:nvPicPr>
        <p:blipFill>
          <a:blip r:embed="rId6"/>
          <a:srcRect l="33652" t="35214" r="32239" b="34624"/>
          <a:stretch/>
        </p:blipFill>
        <p:spPr>
          <a:xfrm>
            <a:off x="6572160" y="1428840"/>
            <a:ext cx="2000520" cy="13795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8" name="Picture 3" descr="C:\Users\Светлана\Documents\ШКОЛА\Уроки\История искусства 9 класс\12. 20 век\Русское изобразительное искусство 20 век\Александра Александровна Экстер Венеция Панно Фрагмент 1924.jpg"/>
          <p:cNvPicPr/>
          <p:nvPr/>
        </p:nvPicPr>
        <p:blipFill>
          <a:blip r:embed="rId7"/>
          <a:srcRect l="0" t="36525" r="64166" b="31808"/>
          <a:stretch/>
        </p:blipFill>
        <p:spPr>
          <a:xfrm>
            <a:off x="3603600" y="5000760"/>
            <a:ext cx="2073240" cy="14284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9" name="Picture 3" descr="C:\Users\Светлана\Documents\ШКОЛА\Уроки\История искусства 9 класс\12. 20 век\Русское изобразительное искусство 20 век\Александра Александровна Экстер Венеция Панно Фрагмент 1924.jpg"/>
          <p:cNvPicPr/>
          <p:nvPr/>
        </p:nvPicPr>
        <p:blipFill>
          <a:blip r:embed="rId8"/>
          <a:srcRect l="68638" t="71018" r="0" b="0"/>
          <a:stretch/>
        </p:blipFill>
        <p:spPr>
          <a:xfrm>
            <a:off x="6572160" y="3214800"/>
            <a:ext cx="1982880" cy="14284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0" name="Picture 3" descr="C:\Users\Светлана\Documents\ШКОЛА\Уроки\История искусства 9 класс\12. 20 век\Русское изобразительное искусство 20 век\Александра Александровна Экстер Венеция Панно Фрагмент 1924.jpg"/>
          <p:cNvPicPr/>
          <p:nvPr/>
        </p:nvPicPr>
        <p:blipFill>
          <a:blip r:embed="rId9"/>
          <a:srcRect l="27299" t="69310" r="37412" b="0"/>
          <a:stretch/>
        </p:blipFill>
        <p:spPr>
          <a:xfrm>
            <a:off x="3714840" y="1428840"/>
            <a:ext cx="1928880" cy="14288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1" name="Picture 3" descr="C:\Users\Светлана\Documents\ШКОЛА\Уроки\История искусства 9 класс\12. 20 век\Русское изобразительное искусство 20 век\Александра Александровна Экстер Венеция Панно Фрагмент 1924.jpg"/>
          <p:cNvPicPr/>
          <p:nvPr/>
        </p:nvPicPr>
        <p:blipFill>
          <a:blip r:embed="rId10"/>
          <a:srcRect l="0" t="70611" r="68161" b="0"/>
          <a:stretch/>
        </p:blipFill>
        <p:spPr>
          <a:xfrm>
            <a:off x="3643200" y="3193920"/>
            <a:ext cx="2011320" cy="14493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2" name="TextBox 10"/>
          <p:cNvSpPr/>
          <p:nvPr/>
        </p:nvSpPr>
        <p:spPr>
          <a:xfrm>
            <a:off x="285840" y="1785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3286080" y="1785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6143760" y="1785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285840" y="3500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14"/>
          <p:cNvSpPr/>
          <p:nvPr/>
        </p:nvSpPr>
        <p:spPr>
          <a:xfrm>
            <a:off x="3286080" y="3500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15"/>
          <p:cNvSpPr/>
          <p:nvPr/>
        </p:nvSpPr>
        <p:spPr>
          <a:xfrm>
            <a:off x="6143760" y="3500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285840" y="5214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17"/>
          <p:cNvSpPr/>
          <p:nvPr/>
        </p:nvSpPr>
        <p:spPr>
          <a:xfrm>
            <a:off x="3214800" y="5286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8"/>
          <p:cNvSpPr/>
          <p:nvPr/>
        </p:nvSpPr>
        <p:spPr>
          <a:xfrm>
            <a:off x="6143760" y="5214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9"/>
          <p:cNvSpPr/>
          <p:nvPr/>
        </p:nvSpPr>
        <p:spPr>
          <a:xfrm>
            <a:off x="714240" y="21420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Определите название карти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Найдите лишний фрагмент карти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Users\Светлана\Documents\ШКОЛА\Уроки\История искусства 9 класс\12. 20 век\Советское искусство\И. Машков. Натюрморт. 1930.jpg"/>
          <p:cNvPicPr/>
          <p:nvPr/>
        </p:nvPicPr>
        <p:blipFill>
          <a:blip r:embed="rId2"/>
          <a:srcRect l="36147" t="0" r="31226" b="67207"/>
          <a:stretch/>
        </p:blipFill>
        <p:spPr>
          <a:xfrm>
            <a:off x="3786120" y="5072040"/>
            <a:ext cx="2000160" cy="15001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3" name="Picture 6" descr=""/>
          <p:cNvPicPr/>
          <p:nvPr/>
        </p:nvPicPr>
        <p:blipFill>
          <a:blip r:embed="rId3"/>
          <a:srcRect l="30149" t="34917" r="31905" b="32944"/>
          <a:stretch/>
        </p:blipFill>
        <p:spPr>
          <a:xfrm>
            <a:off x="3786120" y="3214800"/>
            <a:ext cx="2000160" cy="14684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4" name="Picture 2" descr="C:\Users\Светлана\Documents\ШКОЛА\Уроки\История искусства 9 класс\12. 20 век\Советское искусство\И. Машков. Натюрморт. 1930.jpg"/>
          <p:cNvPicPr/>
          <p:nvPr/>
        </p:nvPicPr>
        <p:blipFill>
          <a:blip r:embed="rId4"/>
          <a:srcRect l="62831" t="0" r="4542" b="67410"/>
          <a:stretch/>
        </p:blipFill>
        <p:spPr>
          <a:xfrm>
            <a:off x="6572160" y="3214800"/>
            <a:ext cx="2000520" cy="14904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5" name="Picture 2" descr="C:\Users\Светлана\Documents\ШКОЛА\Уроки\История искусства 9 класс\12. 20 век\Советское искусство\И. Машков. Натюрморт. 1930.jpg"/>
          <p:cNvPicPr/>
          <p:nvPr/>
        </p:nvPicPr>
        <p:blipFill>
          <a:blip r:embed="rId5"/>
          <a:srcRect l="67335" t="33958" r="0" b="34820"/>
          <a:stretch/>
        </p:blipFill>
        <p:spPr>
          <a:xfrm>
            <a:off x="6543720" y="5072040"/>
            <a:ext cx="2028960" cy="15001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6" name="Picture 2" descr="C:\Users\Светлана\Documents\ШКОЛА\Уроки\История искусства 9 класс\12. 20 век\Советское искусство\И. Машков. Натюрморт. 1930.jpg"/>
          <p:cNvPicPr/>
          <p:nvPr/>
        </p:nvPicPr>
        <p:blipFill>
          <a:blip r:embed="rId6"/>
          <a:srcRect l="31037" t="36898" r="35201" b="30309"/>
          <a:stretch/>
        </p:blipFill>
        <p:spPr>
          <a:xfrm>
            <a:off x="928800" y="3214800"/>
            <a:ext cx="2071440" cy="15001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7" name="Picture 2" descr="C:\Users\Светлана\Documents\ШКОЛА\Уроки\История искусства 9 класс\12. 20 век\Советское искусство\И. Машков. Натюрморт. 1930.jpg"/>
          <p:cNvPicPr/>
          <p:nvPr/>
        </p:nvPicPr>
        <p:blipFill>
          <a:blip r:embed="rId7"/>
          <a:srcRect l="0" t="30411" r="68017" b="35226"/>
          <a:stretch/>
        </p:blipFill>
        <p:spPr>
          <a:xfrm>
            <a:off x="928800" y="5000760"/>
            <a:ext cx="2104920" cy="15714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8" name="Picture 2" descr="C:\Users\Светлана\Documents\ШКОЛА\Уроки\История искусства 9 класс\12. 20 век\Советское искусство\И. Машков. Натюрморт. 1930.jpg"/>
          <p:cNvPicPr/>
          <p:nvPr/>
        </p:nvPicPr>
        <p:blipFill>
          <a:blip r:embed="rId8"/>
          <a:srcRect l="68055" t="67765" r="0" b="0"/>
          <a:stretch/>
        </p:blipFill>
        <p:spPr>
          <a:xfrm>
            <a:off x="6572160" y="1357200"/>
            <a:ext cx="2000520" cy="14763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9" name="Picture 2" descr="C:\Users\Светлана\Documents\ШКОЛА\Уроки\История искусства 9 класс\12. 20 век\Советское искусство\И. Машков. Натюрморт. 1930.jpg"/>
          <p:cNvPicPr/>
          <p:nvPr/>
        </p:nvPicPr>
        <p:blipFill>
          <a:blip r:embed="rId9"/>
          <a:srcRect l="31718" t="65991" r="35655" b="1267"/>
          <a:stretch/>
        </p:blipFill>
        <p:spPr>
          <a:xfrm>
            <a:off x="3786120" y="1357200"/>
            <a:ext cx="2000160" cy="15004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0" name="Picture 2" descr="C:\Users\Светлана\Documents\ШКОЛА\Уроки\История искусства 9 класс\12. 20 век\Советское искусство\И. Машков. Натюрморт. 1930.jpg"/>
          <p:cNvPicPr/>
          <p:nvPr/>
        </p:nvPicPr>
        <p:blipFill>
          <a:blip r:embed="rId10"/>
          <a:srcRect l="1173" t="62646" r="64951" b="4562"/>
          <a:stretch/>
        </p:blipFill>
        <p:spPr>
          <a:xfrm>
            <a:off x="928800" y="1357200"/>
            <a:ext cx="2076480" cy="15004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1" name="TextBox 12"/>
          <p:cNvSpPr/>
          <p:nvPr/>
        </p:nvSpPr>
        <p:spPr>
          <a:xfrm>
            <a:off x="357120" y="16430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13"/>
          <p:cNvSpPr/>
          <p:nvPr/>
        </p:nvSpPr>
        <p:spPr>
          <a:xfrm>
            <a:off x="3357720" y="16430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4"/>
          <p:cNvSpPr/>
          <p:nvPr/>
        </p:nvSpPr>
        <p:spPr>
          <a:xfrm>
            <a:off x="6215040" y="16430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5"/>
          <p:cNvSpPr/>
          <p:nvPr/>
        </p:nvSpPr>
        <p:spPr>
          <a:xfrm>
            <a:off x="357120" y="33577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6"/>
          <p:cNvSpPr/>
          <p:nvPr/>
        </p:nvSpPr>
        <p:spPr>
          <a:xfrm>
            <a:off x="3357720" y="33577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7"/>
          <p:cNvSpPr/>
          <p:nvPr/>
        </p:nvSpPr>
        <p:spPr>
          <a:xfrm>
            <a:off x="6215040" y="33577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8"/>
          <p:cNvSpPr/>
          <p:nvPr/>
        </p:nvSpPr>
        <p:spPr>
          <a:xfrm>
            <a:off x="357120" y="50720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9"/>
          <p:cNvSpPr/>
          <p:nvPr/>
        </p:nvSpPr>
        <p:spPr>
          <a:xfrm>
            <a:off x="3286080" y="51436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0"/>
          <p:cNvSpPr/>
          <p:nvPr/>
        </p:nvSpPr>
        <p:spPr>
          <a:xfrm>
            <a:off x="6215040" y="50720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1"/>
          <p:cNvSpPr/>
          <p:nvPr/>
        </p:nvSpPr>
        <p:spPr>
          <a:xfrm>
            <a:off x="714240" y="21420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пределите название карти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Найдите лишний фрагмент карти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C:\Users\Светлана\Documents\ШКОЛА\Уроки\История искусства 9 класс\12. 20 век\Русское изобразительное искусство 20 век\Илья Иванович Машков Фрукты на блюде 1910.jpg"/>
          <p:cNvPicPr/>
          <p:nvPr/>
        </p:nvPicPr>
        <p:blipFill>
          <a:blip r:embed="rId2"/>
          <a:srcRect l="65055" t="0" r="0" b="63802"/>
          <a:stretch/>
        </p:blipFill>
        <p:spPr>
          <a:xfrm>
            <a:off x="785880" y="4786200"/>
            <a:ext cx="2124000" cy="15004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2" name="Picture 6" descr=""/>
          <p:cNvPicPr/>
          <p:nvPr/>
        </p:nvPicPr>
        <p:blipFill>
          <a:blip r:embed="rId3"/>
          <a:srcRect l="34507" t="8514" r="34926" b="68054"/>
          <a:stretch/>
        </p:blipFill>
        <p:spPr>
          <a:xfrm>
            <a:off x="3571920" y="1357200"/>
            <a:ext cx="2071800" cy="13766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3" name="Picture 2" descr="C:\Users\Светлана\Documents\ШКОЛА\Уроки\История искусства 9 класс\12. 20 век\Русское изобразительное искусство 20 век\Илья Иванович Машков Фрукты на блюде 1910.jpg"/>
          <p:cNvPicPr/>
          <p:nvPr/>
        </p:nvPicPr>
        <p:blipFill>
          <a:blip r:embed="rId4"/>
          <a:srcRect l="63723" t="25637" r="0" b="34717"/>
          <a:stretch/>
        </p:blipFill>
        <p:spPr>
          <a:xfrm>
            <a:off x="6429240" y="4786200"/>
            <a:ext cx="2071800" cy="15004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4" name="Picture 2" descr="C:\Users\Светлана\Documents\ШКОЛА\Уроки\История искусства 9 класс\12. 20 век\Русское изобразительное искусство 20 век\Илья Иванович Машков Фрукты на блюде 1910.jpg"/>
          <p:cNvPicPr/>
          <p:nvPr/>
        </p:nvPicPr>
        <p:blipFill>
          <a:blip r:embed="rId5"/>
          <a:srcRect l="67092" t="58169" r="0" b="9080"/>
          <a:stretch/>
        </p:blipFill>
        <p:spPr>
          <a:xfrm>
            <a:off x="6429240" y="1357200"/>
            <a:ext cx="2000520" cy="13575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5" name="Picture 2" descr="C:\Users\Светлана\Documents\ШКОЛА\Уроки\История искусства 9 класс\12. 20 век\Русское изобразительное искусство 20 век\Илья Иванович Машков Фрукты на блюде 1910.jpg"/>
          <p:cNvPicPr/>
          <p:nvPr/>
        </p:nvPicPr>
        <p:blipFill>
          <a:blip r:embed="rId6"/>
          <a:srcRect l="31510" t="30117" r="35582" b="35409"/>
          <a:stretch/>
        </p:blipFill>
        <p:spPr>
          <a:xfrm>
            <a:off x="857160" y="3000240"/>
            <a:ext cx="2000520" cy="14288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6" name="Picture 2" descr="C:\Users\Светлана\Documents\ШКОЛА\Уроки\История искусства 9 класс\12. 20 век\Русское изобразительное искусство 20 век\Илья Иванович Машков Фрукты на блюде 1910.jpg"/>
          <p:cNvPicPr/>
          <p:nvPr/>
        </p:nvPicPr>
        <p:blipFill>
          <a:blip r:embed="rId7"/>
          <a:srcRect l="31352" t="1724" r="34564" b="64955"/>
          <a:stretch/>
        </p:blipFill>
        <p:spPr>
          <a:xfrm>
            <a:off x="6429240" y="3071880"/>
            <a:ext cx="2071800" cy="13809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7" name="Picture 2" descr="C:\Users\Светлана\Documents\ШКОЛА\Уроки\История искусства 9 класс\12. 20 век\Русское изобразительное искусство 20 век\Илья Иванович Машков Фрукты на блюде 1910.jpg"/>
          <p:cNvPicPr/>
          <p:nvPr/>
        </p:nvPicPr>
        <p:blipFill>
          <a:blip r:embed="rId8"/>
          <a:srcRect l="0" t="64142" r="65287" b="0"/>
          <a:stretch/>
        </p:blipFill>
        <p:spPr>
          <a:xfrm>
            <a:off x="3571920" y="4786200"/>
            <a:ext cx="2109600" cy="14860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8" name="Picture 2" descr="C:\Users\Светлана\Documents\ШКОЛА\Уроки\История искусства 9 класс\12. 20 век\Русское изобразительное искусство 20 век\Илья Иванович Машков Фрукты на блюде 1910.jpg"/>
          <p:cNvPicPr/>
          <p:nvPr/>
        </p:nvPicPr>
        <p:blipFill>
          <a:blip r:embed="rId9"/>
          <a:srcRect l="0" t="29425" r="66620" b="37825"/>
          <a:stretch/>
        </p:blipFill>
        <p:spPr>
          <a:xfrm>
            <a:off x="3643200" y="3071880"/>
            <a:ext cx="2028960" cy="13572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9" name="Picture 2" descr="C:\Users\Светлана\Documents\ШКОЛА\Уроки\История искусства 9 класс\12. 20 век\Русское изобразительное искусство 20 век\Илья Иванович Машков Фрукты на блюде 1910.jpg"/>
          <p:cNvPicPr/>
          <p:nvPr/>
        </p:nvPicPr>
        <p:blipFill>
          <a:blip r:embed="rId10"/>
          <a:srcRect l="0" t="0" r="66777" b="69082"/>
          <a:stretch/>
        </p:blipFill>
        <p:spPr>
          <a:xfrm>
            <a:off x="857160" y="1357200"/>
            <a:ext cx="2019240" cy="12812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0" name="TextBox 11"/>
          <p:cNvSpPr/>
          <p:nvPr/>
        </p:nvSpPr>
        <p:spPr>
          <a:xfrm>
            <a:off x="214200" y="14288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3214800" y="14288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13"/>
          <p:cNvSpPr/>
          <p:nvPr/>
        </p:nvSpPr>
        <p:spPr>
          <a:xfrm>
            <a:off x="6072120" y="14288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4"/>
          <p:cNvSpPr/>
          <p:nvPr/>
        </p:nvSpPr>
        <p:spPr>
          <a:xfrm>
            <a:off x="285840" y="31431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15"/>
          <p:cNvSpPr/>
          <p:nvPr/>
        </p:nvSpPr>
        <p:spPr>
          <a:xfrm>
            <a:off x="3214800" y="31431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16"/>
          <p:cNvSpPr/>
          <p:nvPr/>
        </p:nvSpPr>
        <p:spPr>
          <a:xfrm>
            <a:off x="6072120" y="31431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17"/>
          <p:cNvSpPr/>
          <p:nvPr/>
        </p:nvSpPr>
        <p:spPr>
          <a:xfrm>
            <a:off x="214200" y="48578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8"/>
          <p:cNvSpPr/>
          <p:nvPr/>
        </p:nvSpPr>
        <p:spPr>
          <a:xfrm>
            <a:off x="3143160" y="49291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9"/>
          <p:cNvSpPr/>
          <p:nvPr/>
        </p:nvSpPr>
        <p:spPr>
          <a:xfrm>
            <a:off x="6072120" y="48578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20"/>
          <p:cNvSpPr/>
          <p:nvPr/>
        </p:nvSpPr>
        <p:spPr>
          <a:xfrm>
            <a:off x="714240" y="21420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пределите название карти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Найдите лишний фрагмент карти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2T04:47:05Z</dcterms:created>
  <dc:creator>Светлана</dc:creator>
  <dc:description/>
  <dc:language>en-US</dc:language>
  <cp:lastModifiedBy>Sam</cp:lastModifiedBy>
  <dcterms:modified xsi:type="dcterms:W3CDTF">2011-08-28T10:14:17Z</dcterms:modified>
  <cp:revision>38</cp:revision>
  <dc:subject/>
  <dc:title>Слайд 1</dc:title>
</cp:coreProperties>
</file>