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1722-3A1B-4AA3-8B96-458469B27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438A-66E6-422E-A7DB-161BD3E1D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87B-BCC5-42C6-91B0-FBDF869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E23-F100-4BA8-B41F-30E839E3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AD6-B929-4963-9AC6-697860D4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E482-12C6-462C-B59F-35D13D7B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A86-B13A-4D2C-91F9-A45F086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BA1-FE1F-4D8F-8E70-D0F7D55E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909-663F-4152-8B0D-FBC3504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29B-269A-4FA5-B79C-7BECEC9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5BE-AFEF-4D4C-92C1-A5991A15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B46-7628-422B-80CA-1796FA7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D5A-5FB9-4BF5-A1F7-A1C3D3C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9ED-6E7B-4917-AC5F-85A0276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3965-CDF2-4B12-82DE-6CF2830B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55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Arial"/>
              </a:rPr>
              <a:t>Правила безопасности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357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оманда «Эрудиты»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5897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МОУ «Лузинская СОШ № 1»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76720" y="980640"/>
            <a:ext cx="3610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– это плох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– опасность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наруш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И здоровье подвер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опасности всех гражда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F:\картинки из книги\Изображение 008.jpg"/>
          <p:cNvPicPr/>
          <p:nvPr/>
        </p:nvPicPr>
        <p:blipFill>
          <a:blip r:embed="rId1"/>
          <a:stretch/>
        </p:blipFill>
        <p:spPr>
          <a:xfrm>
            <a:off x="468360" y="4437000"/>
            <a:ext cx="210348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F:\картинки из книги\Изображение 007.jpg"/>
          <p:cNvPicPr/>
          <p:nvPr/>
        </p:nvPicPr>
        <p:blipFill>
          <a:blip r:embed="rId2"/>
          <a:stretch/>
        </p:blipFill>
        <p:spPr>
          <a:xfrm rot="19938600">
            <a:off x="324000" y="2060640"/>
            <a:ext cx="244944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картинки из книги\Изображение 011.jpg"/>
          <p:cNvPicPr/>
          <p:nvPr/>
        </p:nvPicPr>
        <p:blipFill>
          <a:blip r:embed="rId3"/>
          <a:stretch/>
        </p:blipFill>
        <p:spPr>
          <a:xfrm rot="20812800">
            <a:off x="2556000" y="443700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:\картинки из книги\Изображение 004.jpg"/>
          <p:cNvPicPr/>
          <p:nvPr/>
        </p:nvPicPr>
        <p:blipFill>
          <a:blip r:embed="rId4"/>
          <a:stretch/>
        </p:blipFill>
        <p:spPr>
          <a:xfrm>
            <a:off x="1332000" y="189000"/>
            <a:ext cx="230328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:\картинки из книги\Изображение 020.jpg"/>
          <p:cNvPicPr/>
          <p:nvPr/>
        </p:nvPicPr>
        <p:blipFill>
          <a:blip r:embed="rId5"/>
          <a:stretch/>
        </p:blipFill>
        <p:spPr>
          <a:xfrm rot="1209600">
            <a:off x="2556000" y="227628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F:\картинки из книги\Изображение 009.jpg"/>
          <p:cNvPicPr/>
          <p:nvPr/>
        </p:nvPicPr>
        <p:blipFill>
          <a:blip r:embed="rId1"/>
          <a:stretch/>
        </p:blipFill>
        <p:spPr>
          <a:xfrm>
            <a:off x="324000" y="404640"/>
            <a:ext cx="2463480" cy="21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:\картинки из книги\Изображение 010.jpg"/>
          <p:cNvPicPr/>
          <p:nvPr/>
        </p:nvPicPr>
        <p:blipFill>
          <a:blip r:embed="rId2"/>
          <a:stretch/>
        </p:blipFill>
        <p:spPr>
          <a:xfrm>
            <a:off x="539640" y="4076640"/>
            <a:ext cx="2305080" cy="21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картинки из книги\Изображение 027.jpg"/>
          <p:cNvPicPr/>
          <p:nvPr/>
        </p:nvPicPr>
        <p:blipFill>
          <a:blip r:embed="rId3"/>
          <a:stretch/>
        </p:blipFill>
        <p:spPr>
          <a:xfrm>
            <a:off x="4427640" y="476280"/>
            <a:ext cx="156024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74644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ход через дорогу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ы всегда найдем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сатая дорожк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рисована на не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24784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мни правила, малыш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красный свет — стоишь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желтый — просто жди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еленый — проходи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2" name="Picture 3" descr="F:\картинки из книги\Изображение 028.jpg"/>
          <p:cNvPicPr/>
          <p:nvPr/>
        </p:nvPicPr>
        <p:blipFill>
          <a:blip r:embed="rId4"/>
          <a:stretch/>
        </p:blipFill>
        <p:spPr>
          <a:xfrm>
            <a:off x="6659640" y="476280"/>
            <a:ext cx="1560600" cy="156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78400" y="3230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50856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стовой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тал на нашей мостовой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Быстро руку протянул,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Ловко палочкой взмахнул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ы видали? Вы видали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е машины сразу встали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дружно встали в три ряда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и не едут никуда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Не волнуется народ,                                                                                             через улицу идёт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43520" cy="12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Соблюдай правила пожарной безопасно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2060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усть знает каждый гражданин            Пожарный номер – «01»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306864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Нельзя, малыш, с огнем играть – Опасны игры эти.                  Ведь могут люди пострадать:    И взрослые и дети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997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Если спички в руки взял, Сразу ты опасным стал –   Ведь огонь, что в них живёт,   Много бед всем принесё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43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се приборы разом        Ты в одну розетку включишь,                           То пожар проводки сразу        В этой комнате получишь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чи ёлку украшают,      Красоту ей придают,                 Но пожаром угрожают                И беду Вам принесу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508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От огня и дыма Спрятаться нельзя. Убегать из дома  Нужно вам, друзья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Меры предосторожности и правила поведения на ль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26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 ходи весной  по льду. Можешь ты попасть в беду —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лунку или в полынью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загубишь жизнь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C:\Users\C2C5~1\AppData\Local\Temp\Rar$DI55.764\15.jpg"/>
          <p:cNvPicPr/>
          <p:nvPr/>
        </p:nvPicPr>
        <p:blipFill>
          <a:blip r:embed="rId1"/>
          <a:stretch/>
        </p:blipFill>
        <p:spPr>
          <a:xfrm>
            <a:off x="324000" y="2997360"/>
            <a:ext cx="324324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2"/>
          <a:srcRect l="1635" t="10151" r="53942" b="69980"/>
          <a:stretch/>
        </p:blipFill>
        <p:spPr>
          <a:xfrm>
            <a:off x="4572000" y="1628640"/>
            <a:ext cx="1944720" cy="12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39478" r="53942" b="41323"/>
          <a:stretch/>
        </p:blipFill>
        <p:spPr>
          <a:xfrm>
            <a:off x="3924360" y="3068640"/>
            <a:ext cx="20160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52633" t="10151" r="6206" b="69980"/>
          <a:stretch/>
        </p:blipFill>
        <p:spPr>
          <a:xfrm>
            <a:off x="6948360" y="1700280"/>
            <a:ext cx="18018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rcRect l="52633" t="67689" r="1310" b="12014"/>
          <a:stretch/>
        </p:blipFill>
        <p:spPr>
          <a:xfrm>
            <a:off x="6372360" y="465300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rcRect l="55937" t="39478" r="4571" b="41323"/>
          <a:stretch/>
        </p:blipFill>
        <p:spPr>
          <a:xfrm>
            <a:off x="6588000" y="3068640"/>
            <a:ext cx="1729080" cy="122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rcRect l="3261" t="67689" r="53942" b="12014"/>
          <a:stretch/>
        </p:blipFill>
        <p:spPr>
          <a:xfrm>
            <a:off x="4140360" y="4581360"/>
            <a:ext cx="18730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tangle 3" descr=""/>
          <p:cNvPicPr/>
          <p:nvPr/>
        </p:nvPicPr>
        <p:blipFill>
          <a:blip r:embed="rId1"/>
          <a:srcRect l="6189" t="9225" r="53701" b="65773"/>
          <a:stretch/>
        </p:blipFill>
        <p:spPr>
          <a:xfrm>
            <a:off x="3708360" y="1125360"/>
            <a:ext cx="2016000" cy="136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руг  надувной, матрац и мяч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 воде твои друзья.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о глубоко не заплывай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им доверять нельз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адень спасательный жилет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нужен даже взрослым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самый лучший друг в воде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ля худеньких и взросл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в вод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6289" t="55271" r="52180" b="19727"/>
          <a:stretch/>
        </p:blipFill>
        <p:spPr>
          <a:xfrm>
            <a:off x="3635280" y="4941720"/>
            <a:ext cx="2087640" cy="13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53450" t="9225" r="6447" b="64470"/>
          <a:stretch/>
        </p:blipFill>
        <p:spPr>
          <a:xfrm>
            <a:off x="3708360" y="2924280"/>
            <a:ext cx="2016000" cy="143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67280" y="112536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упайтесь только в присутствии взрослых.      Не погружайтесь в воду с головой.. Купайтесь только в разрешенных местах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068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вать на надувном матрасе можно только вдоль берега и под присмотром взрослых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2293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девайте головной убор. Если почувствовали головокружение, тошноту – немедленно уйдите в тень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rcRect l="5260" t="9121" r="52965" b="66201"/>
          <a:stretch/>
        </p:blipFill>
        <p:spPr>
          <a:xfrm>
            <a:off x="179280" y="1413000"/>
            <a:ext cx="172728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19840" y="34005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2760" y="3633840"/>
            <a:ext cx="28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404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сли ты заблудился  в лесу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5726" t="5416" r="4189" b="66171"/>
          <a:stretch/>
        </p:blipFill>
        <p:spPr>
          <a:xfrm>
            <a:off x="250920" y="306864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119700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ы перестали слышать голоса людей, то немедленно остановитесь. Кричите! Старайтесь громким криком привлечь к себе внимание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321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ам никто не ответил, оставайтесь на месте, отметьте место, где находитесь, чтобы вас было легче искать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54002" t="55555" r="4189" b="17285"/>
          <a:stretch/>
        </p:blipFill>
        <p:spPr>
          <a:xfrm>
            <a:off x="250920" y="494172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000" y="4869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лядитесь, если недалеко есть открытое место, выйди туда и оставайся там, кричи и прислушивайся, может помощь уже близко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1440000" cy="12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на улиц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25360"/>
            <a:ext cx="54720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сли ты заметил, что кто-то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преследует тебя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принимай предложений незнакомцев,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бещающих съёмки в кино, в конкурсе красоты, поездку куда-либо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ходи с незнакомыми людьми, даже если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ни обещают заплатить за помощь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Нельзя принимать подарк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пакеты от посторонних людей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276640"/>
            <a:ext cx="305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ближайшее место, где есть люди 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ратись за помощью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484280"/>
            <a:ext cx="1440000" cy="86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068640"/>
            <a:ext cx="1008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3789360"/>
            <a:ext cx="1008000" cy="7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4581360"/>
            <a:ext cx="934920" cy="6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521080" cy="250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Когда случается беда, каждый раз первыми на помощь к пострадавшим приходят спасатели - отчаянные, бесстрашные, отважные, преданные своей профессии люди. Спасатели – это удивительные люди, мужественные и сильные духом, которые, не задумываясь, готовы пожертвовать собой ради спасения одной человеческ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2951280" cy="217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50526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ретесь с пламенем слаженно, др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йцам приглашений особых не н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Может не кожа на вас, а броня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ы не боитесь огня?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5024160"/>
            <a:ext cx="33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Вам желаем легкой службы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тлых радостей земных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Нерушимой братской дружбы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И побольше выходных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8:20:18Z</dcterms:created>
  <dc:creator>student</dc:creator>
  <dc:description/>
  <dc:language>en-US</dc:language>
  <cp:lastModifiedBy>Home</cp:lastModifiedBy>
  <dcterms:modified xsi:type="dcterms:W3CDTF">2011-05-02T10:11:04Z</dcterms:modified>
  <cp:revision>72</cp:revision>
  <dc:subject/>
  <dc:title>Слайд 1</dc:title>
</cp:coreProperties>
</file>