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3FC0-C21B-4215-8A05-1647B1A9A6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C41C-E054-4F7A-91C5-988CA962FC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DDC2-8BE8-4AFA-B037-132F8B13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14B1-ADBC-4FBF-8084-B4891EB3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585B-4EAD-41A6-ABD1-C5600CBC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84E9-CBEC-4A32-B286-B994B1EB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A658-F89B-4883-AE28-EEE86464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C176-A76E-4463-A40A-FE6D24D6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872F-3779-48C1-A361-302E07AD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0517-03EB-489E-8D3C-AFF03B9D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FC2A-454C-45FA-9735-5C0E2C13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4EF8-4619-4152-BB1F-F88EA4A1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8FFE-9382-44D4-83A2-56854136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D7EB-94C7-4926-8A90-C3D53B6B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9728-72E8-4D7E-87D1-6937887A1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1557360"/>
            <a:ext cx="73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66"/>
                </a:solidFill>
                <a:latin typeface="Arial"/>
              </a:rPr>
              <a:t>Правила безопасности</a:t>
            </a:r>
            <a:endParaRPr b="0" lang="en-US" sz="4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0000" y="335772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Команда «Эрудиты»</a:t>
            </a:r>
            <a:endParaRPr b="0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558972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МОУ «Лузинская СОШ № 1»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076720" y="980640"/>
            <a:ext cx="3610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Нарушитель – это плох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Он – опасность на дорог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Нарушитель наруш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И здоровье подверг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Он опасности всех гражда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F:\картинки из книги\Изображение 008.jpg"/>
          <p:cNvPicPr/>
          <p:nvPr/>
        </p:nvPicPr>
        <p:blipFill>
          <a:blip r:embed="rId1"/>
          <a:stretch/>
        </p:blipFill>
        <p:spPr>
          <a:xfrm>
            <a:off x="468360" y="4437000"/>
            <a:ext cx="2103480" cy="218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F:\картинки из книги\Изображение 007.jpg"/>
          <p:cNvPicPr/>
          <p:nvPr/>
        </p:nvPicPr>
        <p:blipFill>
          <a:blip r:embed="rId2"/>
          <a:stretch/>
        </p:blipFill>
        <p:spPr>
          <a:xfrm rot="19938600">
            <a:off x="324000" y="2060640"/>
            <a:ext cx="244944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F:\картинки из книги\Изображение 011.jpg"/>
          <p:cNvPicPr/>
          <p:nvPr/>
        </p:nvPicPr>
        <p:blipFill>
          <a:blip r:embed="rId3"/>
          <a:stretch/>
        </p:blipFill>
        <p:spPr>
          <a:xfrm rot="20812800">
            <a:off x="2556000" y="4437000"/>
            <a:ext cx="2232000" cy="1687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F:\картинки из книги\Изображение 004.jpg"/>
          <p:cNvPicPr/>
          <p:nvPr/>
        </p:nvPicPr>
        <p:blipFill>
          <a:blip r:embed="rId4"/>
          <a:stretch/>
        </p:blipFill>
        <p:spPr>
          <a:xfrm>
            <a:off x="1332000" y="189000"/>
            <a:ext cx="2303280" cy="2019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F:\картинки из книги\Изображение 020.jpg"/>
          <p:cNvPicPr/>
          <p:nvPr/>
        </p:nvPicPr>
        <p:blipFill>
          <a:blip r:embed="rId5"/>
          <a:stretch/>
        </p:blipFill>
        <p:spPr>
          <a:xfrm rot="1209600">
            <a:off x="2556000" y="2276280"/>
            <a:ext cx="180000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" descr="F:\картинки из книги\Изображение 009.jpg"/>
          <p:cNvPicPr/>
          <p:nvPr/>
        </p:nvPicPr>
        <p:blipFill>
          <a:blip r:embed="rId1"/>
          <a:stretch/>
        </p:blipFill>
        <p:spPr>
          <a:xfrm>
            <a:off x="324000" y="404640"/>
            <a:ext cx="2463480" cy="218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F:\картинки из книги\Изображение 010.jpg"/>
          <p:cNvPicPr/>
          <p:nvPr/>
        </p:nvPicPr>
        <p:blipFill>
          <a:blip r:embed="rId2"/>
          <a:stretch/>
        </p:blipFill>
        <p:spPr>
          <a:xfrm>
            <a:off x="539640" y="4076640"/>
            <a:ext cx="2305080" cy="2124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F:\картинки из книги\Изображение 027.jpg"/>
          <p:cNvPicPr/>
          <p:nvPr/>
        </p:nvPicPr>
        <p:blipFill>
          <a:blip r:embed="rId3"/>
          <a:stretch/>
        </p:blipFill>
        <p:spPr>
          <a:xfrm>
            <a:off x="4427640" y="476280"/>
            <a:ext cx="1560240" cy="1560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2746440"/>
            <a:ext cx="3025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ереход через дорогу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Мы всегда найдем: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лосатая дорожка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рисована на нем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2247840"/>
            <a:ext cx="453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мни правила, малыш!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Если красный свет — стоишь!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Если желтый — просто жди,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 зеленый — проходи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62" name="Picture 3" descr="F:\картинки из книги\Изображение 028.jpg"/>
          <p:cNvPicPr/>
          <p:nvPr/>
        </p:nvPicPr>
        <p:blipFill>
          <a:blip r:embed="rId4"/>
          <a:stretch/>
        </p:blipFill>
        <p:spPr>
          <a:xfrm>
            <a:off x="6659640" y="476280"/>
            <a:ext cx="1560600" cy="1560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478400" y="32306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3508560"/>
            <a:ext cx="3888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Постовой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Встал на нашей мостовой.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Быстро руку протянул,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Ловко палочкой взмахнул.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Вы видали? Вы видали?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Все машины сразу встали,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дружно встали в три ряда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и не едут никуда.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Не волнуется народ,                                                                                             через улицу идёт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63640" y="404640"/>
            <a:ext cx="5843520" cy="12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Соблюдай правила пожарной безопаснос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32000" y="206064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усть знает каждый гражданин            Пожарный номер – «01»!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88000" y="3068640"/>
            <a:ext cx="34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Нельзя, малыш, с огнем играть – Опасны игры эти.                  Ведь могут люди пострадать:    И взрослые и дети.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299736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Если спички в руки взял, Сразу ты опасным стал –   Ведь огонь, что в них живёт,   Много бед всем принесёт!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443700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Если все приборы разом        Ты в одну розетку включишь,                           То пожар проводки сразу        В этой комнате получишь!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12000" y="4508640"/>
            <a:ext cx="28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Свечи ёлку украшают,      Красоту ей придают,                 Но пожаром угрожают                И беду Вам принесут!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64000" y="450864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От огня и дыма Спрятаться нельзя. Убегать из дома  Нужно вам, друзья!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Меры предосторожности и правила поведения на ль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48261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е ходи весной  по льду. Можешь ты попасть в беду —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лунку или в полынью,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 загубишь жизнь св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10" descr="C:\Users\C2C5~1\AppData\Local\Temp\Rar$DI55.764\15.jpg"/>
          <p:cNvPicPr/>
          <p:nvPr/>
        </p:nvPicPr>
        <p:blipFill>
          <a:blip r:embed="rId1"/>
          <a:stretch/>
        </p:blipFill>
        <p:spPr>
          <a:xfrm>
            <a:off x="324000" y="2997360"/>
            <a:ext cx="3243240" cy="218592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3" descr=""/>
          <p:cNvPicPr/>
          <p:nvPr/>
        </p:nvPicPr>
        <p:blipFill>
          <a:blip r:embed="rId2"/>
          <a:srcRect l="1635" t="10151" r="53942" b="69980"/>
          <a:stretch/>
        </p:blipFill>
        <p:spPr>
          <a:xfrm>
            <a:off x="4572000" y="1628640"/>
            <a:ext cx="1944720" cy="1268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rcRect l="0" t="39478" r="53942" b="41323"/>
          <a:stretch/>
        </p:blipFill>
        <p:spPr>
          <a:xfrm>
            <a:off x="3924360" y="3068640"/>
            <a:ext cx="2016000" cy="1225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rcRect l="52633" t="10151" r="6206" b="69980"/>
          <a:stretch/>
        </p:blipFill>
        <p:spPr>
          <a:xfrm>
            <a:off x="6948360" y="1700280"/>
            <a:ext cx="1801800" cy="1268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rcRect l="52633" t="67689" r="1310" b="12014"/>
          <a:stretch/>
        </p:blipFill>
        <p:spPr>
          <a:xfrm>
            <a:off x="6372360" y="4653000"/>
            <a:ext cx="2016000" cy="1295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rcRect l="55937" t="39478" r="4571" b="41323"/>
          <a:stretch/>
        </p:blipFill>
        <p:spPr>
          <a:xfrm>
            <a:off x="6588000" y="3068640"/>
            <a:ext cx="1729080" cy="1225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rcRect l="3261" t="67689" r="53942" b="12014"/>
          <a:stretch/>
        </p:blipFill>
        <p:spPr>
          <a:xfrm>
            <a:off x="4140360" y="4581360"/>
            <a:ext cx="187308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Rectangle 3" descr=""/>
          <p:cNvPicPr/>
          <p:nvPr/>
        </p:nvPicPr>
        <p:blipFill>
          <a:blip r:embed="rId1"/>
          <a:srcRect l="6189" t="9225" r="53701" b="65773"/>
          <a:stretch/>
        </p:blipFill>
        <p:spPr>
          <a:xfrm>
            <a:off x="3708360" y="1125360"/>
            <a:ext cx="2016000" cy="1368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2204640"/>
            <a:ext cx="38163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Круг  надувной, матрац и мяч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В воде твои друзья.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Но глубоко не заплывай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им доверять нельз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Надень спасательный жилет!</a:t>
            </a:r>
            <a:br>
              <a:rPr sz="1800"/>
            </a:b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Он нужен даже взрослым!</a:t>
            </a:r>
            <a:br>
              <a:rPr sz="1800"/>
            </a:b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Он самый лучший друг в воде</a:t>
            </a:r>
            <a:br>
              <a:rPr sz="1800"/>
            </a:b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для худеньких и взрослы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26028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Меры предосторожности в воде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6289" t="55271" r="52180" b="19727"/>
          <a:stretch/>
        </p:blipFill>
        <p:spPr>
          <a:xfrm>
            <a:off x="3635280" y="4941720"/>
            <a:ext cx="2087640" cy="1368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rcRect l="53450" t="9225" r="6447" b="64470"/>
          <a:stretch/>
        </p:blipFill>
        <p:spPr>
          <a:xfrm>
            <a:off x="3708360" y="2924280"/>
            <a:ext cx="2016000" cy="1439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867280" y="112536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упайтесь только в присутствии взрослых.      Не погружайтесь в воду с головой.. Купайтесь только в разрешенных местах.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306864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лавать на надувном матрасе можно только вдоль берега и под присмотром взрослых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522936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девайте головной убор. Если почувствовали головокружение, тошноту – немедленно уйдите в тень.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3" descr=""/>
          <p:cNvPicPr/>
          <p:nvPr/>
        </p:nvPicPr>
        <p:blipFill>
          <a:blip r:embed="rId1"/>
          <a:srcRect l="5260" t="9121" r="52965" b="66201"/>
          <a:stretch/>
        </p:blipFill>
        <p:spPr>
          <a:xfrm>
            <a:off x="179280" y="1413000"/>
            <a:ext cx="1727280" cy="1439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919840" y="340056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22760" y="3633840"/>
            <a:ext cx="2865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11280" y="40464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Если ты заблудился  в лесу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55726" t="5416" r="4189" b="66171"/>
          <a:stretch/>
        </p:blipFill>
        <p:spPr>
          <a:xfrm>
            <a:off x="250920" y="306864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124000" y="1197000"/>
            <a:ext cx="352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сли вы перестали слышать голоса людей, то немедленно остановитесь. Кричите! Старайтесь громким криком привлечь к себе внимание.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0920" y="321300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сли вам никто не ответил, оставайтесь на месте, отметьте место, где находитесь, чтобы вас было легче искать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rcRect l="54002" t="55555" r="4189" b="17285"/>
          <a:stretch/>
        </p:blipFill>
        <p:spPr>
          <a:xfrm>
            <a:off x="250920" y="4941720"/>
            <a:ext cx="1728720" cy="1584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124000" y="486900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глядитесь, если недалеко есть открытое место, выйди туда и оставайся там, кричи и прислушивайся, может помощь уже близко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95280" y="0"/>
            <a:ext cx="1440000" cy="127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724360" y="1197000"/>
            <a:ext cx="31687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95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Меры предосторожности на улице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125360"/>
            <a:ext cx="54720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Если ты заметил, что кто-то </a:t>
            </a: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преследует тебя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 принимай предложений незнакомцев, </a:t>
            </a: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обещающих съёмки в кино, в конкурсе красоты, поездку куда-либо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 ходи с незнакомыми людьми, даже если </a:t>
            </a: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они обещают заплатить за помощь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Нельзя принимать подарк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пакеты от посторонних людей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2276640"/>
            <a:ext cx="3058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ди ближайшее место, где есть люди и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обратись за помощью!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484280"/>
            <a:ext cx="1440000" cy="8650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76720" y="3068640"/>
            <a:ext cx="1008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48360" y="3789360"/>
            <a:ext cx="1008000" cy="790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292720" y="4581360"/>
            <a:ext cx="934920" cy="648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Rectangle 3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2521080" cy="25066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Когда случается беда, каждый раз первыми на помощь к пострадавшим приходят спасатели - отчаянные, бесстрашные, отважные, преданные своей профессии люди. Спасатели – это удивительные люди, мужественные и сильные духом, которые, не задумываясь, готовы пожертвовать собой ради спасения одной человеческ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Rectangle 3" descr=""/>
          <p:cNvPicPr/>
          <p:nvPr/>
        </p:nvPicPr>
        <p:blipFill>
          <a:blip r:embed="rId2"/>
          <a:stretch/>
        </p:blipFill>
        <p:spPr>
          <a:xfrm>
            <a:off x="755640" y="2492280"/>
            <a:ext cx="2951280" cy="217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50526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Боретесь с пламенем слаженно, дружно.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Бойцам приглашений особых не нужно.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Может не кожа на вас, а броня,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Если вы не боитесь огня?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2360" y="5024160"/>
            <a:ext cx="339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Вам желаем легкой службы,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Светлых радостей земных,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Нерушимой братской дружбы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И побольше выходных!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08:20:18Z</dcterms:created>
  <dc:creator>student</dc:creator>
  <dc:description/>
  <dc:language>en-US</dc:language>
  <cp:lastModifiedBy>Home</cp:lastModifiedBy>
  <dcterms:modified xsi:type="dcterms:W3CDTF">2011-05-02T10:11:04Z</dcterms:modified>
  <cp:revision>72</cp:revision>
  <dc:subject/>
  <dc:title>Слайд 1</dc:title>
</cp:coreProperties>
</file>