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C60B6-D5D9-49AB-8DBE-00075792E0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2B95C-869C-4741-B238-4E996BE125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E50E-22A8-4C55-8255-D17235B8D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D376-C13B-4F03-9FC1-56A6909A1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5F5E-F120-46CC-91A0-BE03E1091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96AA-D80B-49B9-9F5D-5451A2FC9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939E-F14B-49A3-BD1B-469B46254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9B92-3B29-41DC-9109-E269D2E80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F33C-325E-4E5B-87F0-04E36DC1C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5BE1-1037-4202-A088-7857B0A21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4893-FFC3-43CC-BCD4-77F4B2C5E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A192-F6EB-4B55-9BFF-6AD8EBF64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5802-C22C-4390-922C-C662D2DD3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3C14-5073-4152-9EF8-2F52FFDF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18120-29CA-4C80-8041-398B7D3C44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26920" y="1557360"/>
            <a:ext cx="73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66"/>
                </a:solidFill>
                <a:latin typeface="Arial"/>
              </a:rPr>
              <a:t>Правила безопасности</a:t>
            </a:r>
            <a:endParaRPr b="0" lang="en-US" sz="4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0000" y="3357720"/>
            <a:ext cx="55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Команда «Эрудиты»</a:t>
            </a:r>
            <a:endParaRPr b="0" lang="en-US" sz="4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00360" y="5589720"/>
            <a:ext cx="56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МОУ «Лузинская СОШ № 1»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076720" y="980640"/>
            <a:ext cx="3610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Arial"/>
              </a:rPr>
              <a:t>Нарушитель – это плох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Arial"/>
              </a:rPr>
              <a:t>Он – опасность на дорог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Arial"/>
              </a:rPr>
              <a:t>Нарушитель наруша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Arial"/>
              </a:rPr>
              <a:t>И здоровье подверга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Arial"/>
              </a:rPr>
              <a:t>Он опасности всех граждан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2" descr="F:\картинки из книги\Изображение 008.jpg"/>
          <p:cNvPicPr/>
          <p:nvPr/>
        </p:nvPicPr>
        <p:blipFill>
          <a:blip r:embed="rId1"/>
          <a:stretch/>
        </p:blipFill>
        <p:spPr>
          <a:xfrm>
            <a:off x="468360" y="4437000"/>
            <a:ext cx="2103480" cy="2187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F:\картинки из книги\Изображение 007.jpg"/>
          <p:cNvPicPr/>
          <p:nvPr/>
        </p:nvPicPr>
        <p:blipFill>
          <a:blip r:embed="rId2"/>
          <a:stretch/>
        </p:blipFill>
        <p:spPr>
          <a:xfrm rot="19938600">
            <a:off x="324000" y="2060640"/>
            <a:ext cx="2449440" cy="2185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F:\картинки из книги\Изображение 011.jpg"/>
          <p:cNvPicPr/>
          <p:nvPr/>
        </p:nvPicPr>
        <p:blipFill>
          <a:blip r:embed="rId3"/>
          <a:stretch/>
        </p:blipFill>
        <p:spPr>
          <a:xfrm rot="20812800">
            <a:off x="2556000" y="4437000"/>
            <a:ext cx="2232000" cy="1687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F:\картинки из книги\Изображение 004.jpg"/>
          <p:cNvPicPr/>
          <p:nvPr/>
        </p:nvPicPr>
        <p:blipFill>
          <a:blip r:embed="rId4"/>
          <a:stretch/>
        </p:blipFill>
        <p:spPr>
          <a:xfrm>
            <a:off x="1332000" y="189000"/>
            <a:ext cx="2303280" cy="2019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F:\картинки из книги\Изображение 020.jpg"/>
          <p:cNvPicPr/>
          <p:nvPr/>
        </p:nvPicPr>
        <p:blipFill>
          <a:blip r:embed="rId5"/>
          <a:stretch/>
        </p:blipFill>
        <p:spPr>
          <a:xfrm rot="1209600">
            <a:off x="2556000" y="2276280"/>
            <a:ext cx="1800000" cy="172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77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" dur="770" fill="hold"/>
                                        <p:tgtEl>
                                          <p:spTgt spid="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" dur="77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" dur="77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0" descr="F:\картинки из книги\Изображение 009.jpg"/>
          <p:cNvPicPr/>
          <p:nvPr/>
        </p:nvPicPr>
        <p:blipFill>
          <a:blip r:embed="rId1"/>
          <a:stretch/>
        </p:blipFill>
        <p:spPr>
          <a:xfrm>
            <a:off x="324000" y="404640"/>
            <a:ext cx="2463480" cy="2186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F:\картинки из книги\Изображение 010.jpg"/>
          <p:cNvPicPr/>
          <p:nvPr/>
        </p:nvPicPr>
        <p:blipFill>
          <a:blip r:embed="rId2"/>
          <a:stretch/>
        </p:blipFill>
        <p:spPr>
          <a:xfrm>
            <a:off x="539640" y="4076640"/>
            <a:ext cx="2305080" cy="2124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F:\картинки из книги\Изображение 027.jpg"/>
          <p:cNvPicPr/>
          <p:nvPr/>
        </p:nvPicPr>
        <p:blipFill>
          <a:blip r:embed="rId3"/>
          <a:stretch/>
        </p:blipFill>
        <p:spPr>
          <a:xfrm>
            <a:off x="4427640" y="476280"/>
            <a:ext cx="1560240" cy="15606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24000" y="2746440"/>
            <a:ext cx="3025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Переход через дорогу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Мы всегда найдем: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Полосатая дорожка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Нарисована на нем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2247840"/>
            <a:ext cx="4537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Помни правила, малыш!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Если красный свет — стоишь!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Если желтый — просто жди,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На зеленый — проходи!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62" name="Picture 3" descr="F:\картинки из книги\Изображение 028.jpg"/>
          <p:cNvPicPr/>
          <p:nvPr/>
        </p:nvPicPr>
        <p:blipFill>
          <a:blip r:embed="rId4"/>
          <a:stretch/>
        </p:blipFill>
        <p:spPr>
          <a:xfrm>
            <a:off x="6659640" y="476280"/>
            <a:ext cx="1560600" cy="15606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478400" y="323064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356000" y="3508560"/>
            <a:ext cx="3888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Постовой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Встал на нашей мостовой.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Быстро руку протянул,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Ловко палочкой взмахнул.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Вы видали? Вы видали?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Все машины сразу встали, 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дружно встали в три ряда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и не едут никуда.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Не волнуется народ,                                                                                             через улицу идёт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63640" y="404640"/>
            <a:ext cx="5843520" cy="128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Arial"/>
              </a:rPr>
              <a:t>Соблюдай правила пожарной безопасност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32000" y="2060640"/>
            <a:ext cx="46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усть знает каждый гражданин            Пожарный номер – «01»!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88000" y="3068640"/>
            <a:ext cx="341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Нельзя, малыш, с огнем играть – Опасны игры эти.                  Ведь могут люди пострадать:    И взрослые и дети.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920" y="2997360"/>
            <a:ext cx="32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Если спички в руки взял, Сразу ты опасным стал –   Ведь огонь, что в них живёт,   Много бед всем принесёт!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0920" y="4437000"/>
            <a:ext cx="324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Если все приборы разом        Ты в одну розетку включишь,                           То пожар проводки сразу        В этой комнате получишь!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12000" y="4508640"/>
            <a:ext cx="287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Свечи ёлку украшают,      Красоту ей придают,                 Но пожаром угрожают                И беду Вам принесут!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64000" y="4508640"/>
            <a:ext cx="251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От огня и дыма Спрятаться нельзя. Убегать из дома  Нужно вам, друзья!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Меры предосторожности и правила поведения на льд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482616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Не ходи весной  по льду. Можешь ты попасть в беду —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В лунку или в полынью,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И загубишь жизнь сво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10" descr="C:\Users\C2C5~1\AppData\Local\Temp\Rar$DI55.764\15.jpg"/>
          <p:cNvPicPr/>
          <p:nvPr/>
        </p:nvPicPr>
        <p:blipFill>
          <a:blip r:embed="rId1"/>
          <a:stretch/>
        </p:blipFill>
        <p:spPr>
          <a:xfrm>
            <a:off x="324000" y="2997360"/>
            <a:ext cx="3243240" cy="2185920"/>
          </a:xfrm>
          <a:prstGeom prst="rect">
            <a:avLst/>
          </a:prstGeom>
          <a:ln w="0">
            <a:noFill/>
          </a:ln>
        </p:spPr>
      </p:pic>
      <p:pic>
        <p:nvPicPr>
          <p:cNvPr id="75" name="Rectangle 3" descr=""/>
          <p:cNvPicPr/>
          <p:nvPr/>
        </p:nvPicPr>
        <p:blipFill>
          <a:blip r:embed="rId2"/>
          <a:srcRect l="1635" t="10151" r="53942" b="69980"/>
          <a:stretch/>
        </p:blipFill>
        <p:spPr>
          <a:xfrm>
            <a:off x="4572000" y="1628640"/>
            <a:ext cx="1944720" cy="12686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rcRect l="0" t="39478" r="53942" b="41323"/>
          <a:stretch/>
        </p:blipFill>
        <p:spPr>
          <a:xfrm>
            <a:off x="3924360" y="3068640"/>
            <a:ext cx="2016000" cy="12254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rcRect l="52633" t="10151" r="6206" b="69980"/>
          <a:stretch/>
        </p:blipFill>
        <p:spPr>
          <a:xfrm>
            <a:off x="6948360" y="1700280"/>
            <a:ext cx="1801800" cy="12682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rcRect l="52633" t="67689" r="1310" b="12014"/>
          <a:stretch/>
        </p:blipFill>
        <p:spPr>
          <a:xfrm>
            <a:off x="6372360" y="4653000"/>
            <a:ext cx="2016000" cy="12952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rcRect l="55937" t="39478" r="4571" b="41323"/>
          <a:stretch/>
        </p:blipFill>
        <p:spPr>
          <a:xfrm>
            <a:off x="6588000" y="3068640"/>
            <a:ext cx="1729080" cy="12254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7"/>
          <a:srcRect l="3261" t="67689" r="53942" b="12014"/>
          <a:stretch/>
        </p:blipFill>
        <p:spPr>
          <a:xfrm>
            <a:off x="4140360" y="4581360"/>
            <a:ext cx="187308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Rectangle 3" descr=""/>
          <p:cNvPicPr/>
          <p:nvPr/>
        </p:nvPicPr>
        <p:blipFill>
          <a:blip r:embed="rId1"/>
          <a:srcRect l="6189" t="9225" r="53701" b="65773"/>
          <a:stretch/>
        </p:blipFill>
        <p:spPr>
          <a:xfrm>
            <a:off x="3708360" y="1125360"/>
            <a:ext cx="2016000" cy="13687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8920" y="2204640"/>
            <a:ext cx="381636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Круг  надувной, матрац и мяч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В воде твои друзья.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Но глубоко не заплывай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им доверять нельзя.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Надень спасательный жилет!</a:t>
            </a:r>
            <a:br>
              <a:rPr sz="1800"/>
            </a:b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Он нужен даже взрослым!</a:t>
            </a:r>
            <a:br>
              <a:rPr sz="1800"/>
            </a:b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Он самый лучший друг в воде</a:t>
            </a:r>
            <a:br>
              <a:rPr sz="1800"/>
            </a:b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для худеньких и взрослых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0920" y="260280"/>
            <a:ext cx="80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Меры предосторожности в воде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rcRect l="6289" t="55271" r="52180" b="19727"/>
          <a:stretch/>
        </p:blipFill>
        <p:spPr>
          <a:xfrm>
            <a:off x="3635280" y="4941720"/>
            <a:ext cx="2087640" cy="1368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rcRect l="53450" t="9225" r="6447" b="64470"/>
          <a:stretch/>
        </p:blipFill>
        <p:spPr>
          <a:xfrm>
            <a:off x="3708360" y="2924280"/>
            <a:ext cx="2016000" cy="14396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867280" y="1125360"/>
            <a:ext cx="3025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упайтесь только в присутствии взрослых.      Не погружайтесь в воду с головой.. Купайтесь только в разрешенных местах.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40360" y="3068640"/>
            <a:ext cx="29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лавать на надувном матрасе можно только вдоль берега и под присмотром взрослых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867280" y="5229360"/>
            <a:ext cx="30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адевайте головной убор. Если почувствовали головокружение, тошноту – немедленно уйдите в тень.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Rectangle 3" descr=""/>
          <p:cNvPicPr/>
          <p:nvPr/>
        </p:nvPicPr>
        <p:blipFill>
          <a:blip r:embed="rId1"/>
          <a:srcRect l="5260" t="9121" r="52965" b="66201"/>
          <a:stretch/>
        </p:blipFill>
        <p:spPr>
          <a:xfrm>
            <a:off x="179280" y="1413000"/>
            <a:ext cx="1727280" cy="14396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919840" y="3400560"/>
            <a:ext cx="183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22760" y="3633840"/>
            <a:ext cx="2865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411280" y="40464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Если ты заблудился  в лесу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rcRect l="55726" t="5416" r="4189" b="66171"/>
          <a:stretch/>
        </p:blipFill>
        <p:spPr>
          <a:xfrm>
            <a:off x="250920" y="3068640"/>
            <a:ext cx="1657080" cy="16574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124000" y="1197000"/>
            <a:ext cx="3527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Если вы перестали слышать голоса людей, то немедленно остановитесь. Кричите! Старайтесь громким криком привлечь к себе внимание.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50920" y="3213000"/>
            <a:ext cx="34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Если вам никто не ответил, оставайтесь на месте, отметьте место, где находитесь, чтобы вас было легче искать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rcRect l="54002" t="55555" r="4189" b="17285"/>
          <a:stretch/>
        </p:blipFill>
        <p:spPr>
          <a:xfrm>
            <a:off x="250920" y="4941720"/>
            <a:ext cx="1728720" cy="15843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124000" y="4869000"/>
            <a:ext cx="302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глядитесь, если недалеко есть открытое место, выйди туда и оставайся там, кричи и прислушивайся, может помощь уже близко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395280" y="0"/>
            <a:ext cx="1440000" cy="1278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5724360" y="1197000"/>
            <a:ext cx="316872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95280" y="26028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Меры предосторожности на улице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1125360"/>
            <a:ext cx="547200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Если ты заметил, что кто-то </a:t>
            </a:r>
            <a:r>
              <a:rPr b="0" lang="en-US" sz="2600" spc="-1" strike="noStrike">
                <a:solidFill>
                  <a:srgbClr val="ff3300"/>
                </a:solidFill>
                <a:latin typeface="Times New Roman"/>
              </a:rPr>
              <a:t>преследует тебя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Не принимай предложений незнакомцев, </a:t>
            </a:r>
            <a:r>
              <a:rPr b="0" lang="en-US" sz="2600" spc="-1" strike="noStrike">
                <a:solidFill>
                  <a:srgbClr val="ff3300"/>
                </a:solidFill>
                <a:latin typeface="Times New Roman"/>
              </a:rPr>
              <a:t>обещающих съёмки в кино, в конкурсе красоты, поездку куда-либо.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Не ходи с незнакомыми людьми, даже если </a:t>
            </a:r>
            <a:r>
              <a:rPr b="0" lang="en-US" sz="2600" spc="-1" strike="noStrike">
                <a:solidFill>
                  <a:srgbClr val="ff3300"/>
                </a:solidFill>
                <a:latin typeface="Times New Roman"/>
              </a:rPr>
              <a:t>они обещают заплатить за помощь.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Times New Roman"/>
              </a:rPr>
              <a:t>Нельзя принимать подарки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пакеты от посторонних людей.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96000" y="2276640"/>
            <a:ext cx="3058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йди ближайшее место, где есть люди и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обратись за помощью!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1484280"/>
            <a:ext cx="1440000" cy="865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076720" y="3068640"/>
            <a:ext cx="1008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148360" y="3789360"/>
            <a:ext cx="1008000" cy="790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5292720" y="4581360"/>
            <a:ext cx="934920" cy="648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Rectangle 3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2521080" cy="25066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Когда случается беда, каждый раз первыми на помощь к пострадавшим приходят спасатели - отчаянные, бесстрашные, отважные, преданные своей профессии люди. Спасатели – это удивительные люди, мужественные и сильные духом, которые, не задумываясь, готовы пожертвовать собой ради спасения одной человеческой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Rectangle 3" descr=""/>
          <p:cNvPicPr/>
          <p:nvPr/>
        </p:nvPicPr>
        <p:blipFill>
          <a:blip r:embed="rId2"/>
          <a:stretch/>
        </p:blipFill>
        <p:spPr>
          <a:xfrm>
            <a:off x="755640" y="2492280"/>
            <a:ext cx="2951280" cy="217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50920" y="505260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Боретесь с пламенем слаженно, дружно. 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Бойцам приглашений особых не нужно. 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Может не кожа на вас, а броня, 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Если вы не боитесь огня?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932360" y="5024160"/>
            <a:ext cx="339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Вам желаем легкой службы, 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Светлых радостей земных, 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Нерушимой братской дружбы 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И побольше выходных!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3T08:20:18Z</dcterms:created>
  <dc:creator>student</dc:creator>
  <dc:description/>
  <dc:language>en-US</dc:language>
  <cp:lastModifiedBy>Home</cp:lastModifiedBy>
  <dcterms:modified xsi:type="dcterms:W3CDTF">2011-05-02T10:11:04Z</dcterms:modified>
  <cp:revision>72</cp:revision>
  <dc:subject/>
  <dc:title>Слайд 1</dc:title>
</cp:coreProperties>
</file>