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2DF65-CCA1-4A75-9F71-EB3475D9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04E74-9EE8-43E0-A17E-EFA3D377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6CE03-1B3B-4AC5-8A23-4DEF2391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0AEBC-B556-45FB-931F-B6FB757D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8541-C2FD-44C9-80A6-15ED9DD3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3270-3070-4D94-A9A6-6BE96685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1484-D5E7-4EA8-85AE-C4A401EA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4C4F-2CFC-4569-8E2C-5C733CFC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D394-456B-4871-9B62-67CEB9CA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F630-21AB-4531-A033-9800C9CD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D8D2-FBBA-4033-AA29-9C334D20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C75DC-C454-426A-B0ED-016C6729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EDE7-C8A0-4142-851B-D792E071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1D4C-6675-4D8D-BA95-21683DD9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2EF6-194C-47F6-AAF3-4D16128F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9A62-CBE5-47B4-B519-A4C5AEB9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5554-978F-4322-A4DD-7E7E5DAD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EE489-6ABA-434E-B0D8-148A0F68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23D0C-0086-4715-B00E-091B12D3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811E8-B16A-4BAD-B592-BDD882E5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98843-4045-4997-A96A-5B50B098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53A75-D62E-4E84-B6F0-4E14588B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08107-1523-4B47-90A4-8B09BFD9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CDBFF-DD62-44DF-AD4A-059DAA4C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F110-78A4-4CB5-A2BD-2F9723116B5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AED1-4752-4568-8745-3A3E3627BF1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343080" y="1125360"/>
            <a:ext cx="84582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сатели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эты 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 музыке и музыкантах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Музыка</a:t>
            </a:r>
            <a:br>
              <a:rPr sz="6000"/>
            </a:br>
            <a:br>
              <a:rPr sz="60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Дивное создание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Вечная загадка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Услад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1052640"/>
            <a:ext cx="7846920" cy="42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Природа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Плеск воды</a:t>
            </a: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Шум ветра</a:t>
            </a: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Пенье птиц</a:t>
            </a:r>
            <a:br>
              <a:rPr sz="4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Человек</a:t>
            </a:r>
            <a:br>
              <a:rPr sz="6000"/>
            </a:br>
            <a:br>
              <a:rPr sz="60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Выстоять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Выпрямиться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Сохранить прекрасно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Фридерик Шопен</a:t>
            </a:r>
            <a:br>
              <a:rPr sz="4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1810-1849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Содержимое 3" descr="Шопен.jpeg"/>
          <p:cNvPicPr/>
          <p:nvPr/>
        </p:nvPicPr>
        <p:blipFill>
          <a:blip r:embed="rId1"/>
          <a:stretch/>
        </p:blipFill>
        <p:spPr>
          <a:xfrm>
            <a:off x="2357280" y="1500120"/>
            <a:ext cx="4286520" cy="5072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встр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Содержимое 3" descr="Австрия.jpg"/>
          <p:cNvPicPr/>
          <p:nvPr/>
        </p:nvPicPr>
        <p:blipFill>
          <a:blip r:embed="rId1"/>
          <a:stretch/>
        </p:blipFill>
        <p:spPr>
          <a:xfrm>
            <a:off x="857160" y="1214280"/>
            <a:ext cx="7500960" cy="5500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Франц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Содержимое 3" descr="Франция.jpg"/>
          <p:cNvPicPr/>
          <p:nvPr/>
        </p:nvPicPr>
        <p:blipFill>
          <a:blip r:embed="rId1"/>
          <a:stretch/>
        </p:blipFill>
        <p:spPr>
          <a:xfrm>
            <a:off x="714240" y="1285920"/>
            <a:ext cx="764388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Содержимое 3" descr="Фортепиано шопен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3" descr="Сердце шопена.jpg"/>
          <p:cNvPicPr/>
          <p:nvPr/>
        </p:nvPicPr>
        <p:blipFill>
          <a:blip r:embed="rId1"/>
          <a:stretch/>
        </p:blipFill>
        <p:spPr>
          <a:xfrm>
            <a:off x="1500120" y="357120"/>
            <a:ext cx="5929560" cy="6215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Содержимое 3" descr="1 памятник шопену.jpg"/>
          <p:cNvPicPr/>
          <p:nvPr/>
        </p:nvPicPr>
        <p:blipFill>
          <a:blip r:embed="rId1"/>
          <a:stretch/>
        </p:blipFill>
        <p:spPr>
          <a:xfrm>
            <a:off x="1571760" y="428760"/>
            <a:ext cx="5857920" cy="6000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44956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оргий Васильевич Свирид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15 – 1998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Sviridov"/>
          <p:cNvPicPr/>
          <p:nvPr/>
        </p:nvPicPr>
        <p:blipFill>
          <a:blip r:embed="rId1"/>
          <a:stretch/>
        </p:blipFill>
        <p:spPr>
          <a:xfrm>
            <a:off x="4500720" y="549360"/>
            <a:ext cx="4643280" cy="5111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«Милая моя, далекая, единственная! Почему наша жизнь так устроена, что я должен находиться вдали от тебя, быть в разлуке с тобой…?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14240" y="2428920"/>
            <a:ext cx="81439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 …Я помню шелест каждого листка, каждой травинки, вижу дорогие мне лица, я чувствую тебя, милая моя Родина. Каждую ночь ты приходишь ко мне неясной мелодией не то песней, не то любимого танца – мазурки. И так хочется, чтобы этот сон никогда не кончался!..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132000" y="4508640"/>
            <a:ext cx="5554800" cy="16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Ногинск Моск.обл. МОУ СОШ №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. Трушина Оксана Викторов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Fatez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Курская об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2771640" cy="172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ервый музыкальный инструмент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59280" y="907560"/>
            <a:ext cx="608472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нинградск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ервато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7" descr="Stpeteconservatory"/>
          <p:cNvPicPr/>
          <p:nvPr/>
        </p:nvPicPr>
        <p:blipFill>
          <a:blip r:embed="rId1"/>
          <a:stretch/>
        </p:blipFill>
        <p:spPr>
          <a:xfrm>
            <a:off x="2987640" y="2205000"/>
            <a:ext cx="6156360" cy="431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балалайка"/>
          <p:cNvPicPr/>
          <p:nvPr/>
        </p:nvPicPr>
        <p:blipFill>
          <a:blip r:embed="rId2"/>
          <a:stretch/>
        </p:blipFill>
        <p:spPr>
          <a:xfrm>
            <a:off x="0" y="2133720"/>
            <a:ext cx="2881440" cy="4306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D:\My Documents\Мои рисунки\290b-u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D:\My Documents\Мои рисунки\180px-Alb_139597.jpg"/>
          <p:cNvPicPr/>
          <p:nvPr/>
        </p:nvPicPr>
        <p:blipFill>
          <a:blip r:embed="rId1"/>
          <a:stretch/>
        </p:blipFill>
        <p:spPr>
          <a:xfrm>
            <a:off x="714240" y="0"/>
            <a:ext cx="721548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«Воспеть Русь, где Господь дал  и велел мне жить, радоваться и мучиться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Picture 6" descr="P7050200"/>
          <p:cNvPicPr/>
          <p:nvPr/>
        </p:nvPicPr>
        <p:blipFill>
          <a:blip r:embed="rId1"/>
          <a:stretch/>
        </p:blipFill>
        <p:spPr>
          <a:xfrm>
            <a:off x="1187280" y="1700280"/>
            <a:ext cx="6624720" cy="5157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Астафьев"/>
          <p:cNvPicPr/>
          <p:nvPr/>
        </p:nvPicPr>
        <p:blipFill>
          <a:blip r:embed="rId1"/>
          <a:stretch/>
        </p:blipFill>
        <p:spPr>
          <a:xfrm>
            <a:off x="839880" y="1600200"/>
            <a:ext cx="3271680" cy="45306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«Слово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о мастере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иктор Петрович Астафье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7:01:23Z</dcterms:created>
  <dc:creator>Admin</dc:creator>
  <dc:description/>
  <dc:language>en-US</dc:language>
  <cp:lastModifiedBy>Татьяна</cp:lastModifiedBy>
  <dcterms:modified xsi:type="dcterms:W3CDTF">2010-11-10T13:58:19Z</dcterms:modified>
  <cp:revision>17</cp:revision>
  <dc:subject/>
  <dc:title>Слайд 1</dc:title>
</cp:coreProperties>
</file>