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9D08-1D45-4C74-AEB2-01EBE748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2A3A-67A9-4235-9F45-FECF18ED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E75F-928F-43D9-BA84-80DFBAD5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85760-A81F-4B33-8863-20C64EE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AFBC-7F2E-4FFD-BA84-495ED305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BC81-DF83-4828-A669-8457D2F4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64F9-0A41-4ED0-ABD6-F4609140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3E72-F498-4AB3-90E6-E330A87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499-1183-4BDF-890F-0D1F265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8780-A1F6-4F7E-9BA0-559795F2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DA54-72EE-4F6C-A276-4522D90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B475-83E2-4245-86B9-BD8552E1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904-F4E8-49A4-92F1-23BC608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2244-0930-44C7-84C8-8CA69CAE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8B4-F5F7-4687-AC3C-4B1DEA2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62D-3434-404B-9BB1-63CDC666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F864-D864-4F92-80EE-A0F62380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B58D-4422-4D14-B1BE-3B72A7FF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3C15-5D88-4BFB-BE9E-E5C8ED8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3D25-EB5E-4B90-B722-B85C781A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5C45-1978-4335-B78D-268C8759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E64F-D33D-4A73-ADC2-0467854D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3BCB-B018-49CA-9C03-289CB8B7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BDA2-C8E8-4906-8EDC-07D0E00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62D-B3D1-49BF-B170-16C636D67C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56DE-1197-4D8B-93C1-9C7498E6665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343080" y="1125360"/>
            <a:ext cx="84582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атели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ты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музыке и музыкантах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Музыка</a:t>
            </a:r>
            <a:br>
              <a:rPr sz="6000"/>
            </a:br>
            <a:br>
              <a:rPr sz="60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ивное создание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ечная загадка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ад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42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риро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леск воды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Шум ветра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енье птиц</a:t>
            </a:r>
            <a:br>
              <a:rPr sz="4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Человек</a:t>
            </a:r>
            <a:br>
              <a:rPr sz="6000"/>
            </a:br>
            <a:br>
              <a:rPr sz="60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ыстоять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ыпрямиться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охранить прекрасно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идерик Шопен</a:t>
            </a:r>
            <a:br>
              <a:rPr sz="4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1810-184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Содержимое 3" descr="Шопен.jpeg"/>
          <p:cNvPicPr/>
          <p:nvPr/>
        </p:nvPicPr>
        <p:blipFill>
          <a:blip r:embed="rId1"/>
          <a:stretch/>
        </p:blipFill>
        <p:spPr>
          <a:xfrm>
            <a:off x="2357280" y="1500120"/>
            <a:ext cx="4286520" cy="507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вст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Содержимое 3" descr="Австрия.jpg"/>
          <p:cNvPicPr/>
          <p:nvPr/>
        </p:nvPicPr>
        <p:blipFill>
          <a:blip r:embed="rId1"/>
          <a:stretch/>
        </p:blipFill>
        <p:spPr>
          <a:xfrm>
            <a:off x="857160" y="1214280"/>
            <a:ext cx="7500960" cy="5500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ан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Содержимое 3" descr="Франция.jpg"/>
          <p:cNvPicPr/>
          <p:nvPr/>
        </p:nvPicPr>
        <p:blipFill>
          <a:blip r:embed="rId1"/>
          <a:stretch/>
        </p:blipFill>
        <p:spPr>
          <a:xfrm>
            <a:off x="714240" y="1285920"/>
            <a:ext cx="764388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Содержимое 3" descr="Фортепиано шопе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Сердце шопена.jpg"/>
          <p:cNvPicPr/>
          <p:nvPr/>
        </p:nvPicPr>
        <p:blipFill>
          <a:blip r:embed="rId1"/>
          <a:stretch/>
        </p:blipFill>
        <p:spPr>
          <a:xfrm>
            <a:off x="1500120" y="357120"/>
            <a:ext cx="5929560" cy="621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1 памятник шопену.jpg"/>
          <p:cNvPicPr/>
          <p:nvPr/>
        </p:nvPicPr>
        <p:blipFill>
          <a:blip r:embed="rId1"/>
          <a:stretch/>
        </p:blipFill>
        <p:spPr>
          <a:xfrm>
            <a:off x="1571760" y="428760"/>
            <a:ext cx="5857920" cy="600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495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ргий Васильевич Свири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15 – 199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Sviridov"/>
          <p:cNvPicPr/>
          <p:nvPr/>
        </p:nvPicPr>
        <p:blipFill>
          <a:blip r:embed="rId1"/>
          <a:stretch/>
        </p:blipFill>
        <p:spPr>
          <a:xfrm>
            <a:off x="4500720" y="549360"/>
            <a:ext cx="4643280" cy="511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Милая моя, далекая, единственная! Почему наша жизнь так устроена, что я должен находиться вдали от тебя, быть в разлуке с тобой…?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14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…Я помню шелест каждого листка, каждой травинки, вижу дорогие мне лица, я чувствую тебя, милая моя Родина. Каждую ночь ты приходишь ко мне неясной мелодией не то песней, не то любимого танца – мазурки. И так хочется, чтобы этот сон никогда не кончался!.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32000" y="4508640"/>
            <a:ext cx="55548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Ногинск Моск.обл. МОУ СОШ №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. Трушина Оксана Викторо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atez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Курская об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2771640" cy="17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ый музыкальный инструмент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59280" y="907560"/>
            <a:ext cx="608472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инградск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ерва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Stpeteconservatory"/>
          <p:cNvPicPr/>
          <p:nvPr/>
        </p:nvPicPr>
        <p:blipFill>
          <a:blip r:embed="rId1"/>
          <a:stretch/>
        </p:blipFill>
        <p:spPr>
          <a:xfrm>
            <a:off x="2987640" y="2205000"/>
            <a:ext cx="6156360" cy="431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балалайка"/>
          <p:cNvPicPr/>
          <p:nvPr/>
        </p:nvPicPr>
        <p:blipFill>
          <a:blip r:embed="rId2"/>
          <a:stretch/>
        </p:blipFill>
        <p:spPr>
          <a:xfrm>
            <a:off x="0" y="2133720"/>
            <a:ext cx="2881440" cy="430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D:\My Documents\Мои рисунки\290b-u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My Documents\Мои рисунки\180px-Alb_139597.jpg"/>
          <p:cNvPicPr/>
          <p:nvPr/>
        </p:nvPicPr>
        <p:blipFill>
          <a:blip r:embed="rId1"/>
          <a:stretch/>
        </p:blipFill>
        <p:spPr>
          <a:xfrm>
            <a:off x="714240" y="0"/>
            <a:ext cx="72154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«Воспеть Русь, где Господь дал  и велел мне жить, радоваться и мучиться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6" descr="P7050200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515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Астафьев"/>
          <p:cNvPicPr/>
          <p:nvPr/>
        </p:nvPicPr>
        <p:blipFill>
          <a:blip r:embed="rId1"/>
          <a:stretch/>
        </p:blipFill>
        <p:spPr>
          <a:xfrm>
            <a:off x="839880" y="1600200"/>
            <a:ext cx="3271680" cy="4530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Слово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о мастере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ктор Петрович Астафь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1:23Z</dcterms:created>
  <dc:creator>Admin</dc:creator>
  <dc:description/>
  <dc:language>en-US</dc:language>
  <cp:lastModifiedBy>Татьяна</cp:lastModifiedBy>
  <dcterms:modified xsi:type="dcterms:W3CDTF">2010-11-10T13:58:19Z</dcterms:modified>
  <cp:revision>17</cp:revision>
  <dc:subject/>
  <dc:title>Слайд 1</dc:title>
</cp:coreProperties>
</file>