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3A8AE7-79E1-40E8-9AEA-A5D0C8C43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0E2023-7FDE-47B2-AAE5-9D9E4ABFF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A46F3D-FE06-473E-9C3B-87B5DC318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A1969C-CAEE-4DBC-82AF-61288E1AC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2D589-6765-41DB-B47D-409B6E4D8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12BF0-DBE1-4A1F-8ABB-A0B09FD1C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CDD96-C2CF-4BAA-A3B4-F28878C2E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E00C7-3AF7-4D63-B71C-1A7757BB7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E4E8C-07D4-40BE-B79A-06726EB28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77838-B13E-4711-BAB8-C505A0B2B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C3B6F-23D0-43FB-846C-CF9D86E20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4E4AE1-C00E-4EDE-BB57-420106598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F71ED-000D-451E-A1CE-B798C1D2F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B163B-5F44-49A5-961E-D838CD511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B2121-CAF9-4750-B50C-572FFEBD5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9DECB-3E3F-4882-922C-122C2B376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6E6AF-DB54-4E36-B17A-A19F3A203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EC8791-47D1-459D-8112-71D33FB20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CD9C61-4EED-41BD-9393-391406B56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E8EDD7-5EF7-4010-BCFD-9BE0F6E9D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1A2B95-92E8-4EDB-B463-5F834FC40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9789DF-DCED-449A-A3F0-D462B01C2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B3EAA1-9639-4EE3-9AED-EB8FC5086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5E2A8B-47E5-40EC-9A9E-3A0B694BE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706320"/>
                <a:gd name="textAreaBottom" fmla="*/ 706320 h 706320"/>
              </a:gdLst>
              <a:ahLst/>
              <a:rect l="textAreaLeft" t="textAreaTop" r="textAreaRight" b="textAreaBottom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>
                <a:gd name="textAreaLeft" fmla="*/ 0 w 9159840"/>
                <a:gd name="textAreaRight" fmla="*/ 9160200 w 9159840"/>
                <a:gd name="textAreaTop" fmla="*/ 0 h 276480"/>
                <a:gd name="textAreaBottom" fmla="*/ 276840 h 276480"/>
              </a:gdLst>
              <a:ahLst/>
              <a:rect l="textAreaLeft" t="textAreaTop" r="textAreaRight" b="textAreaBottom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0105E-1B41-44C4-B572-832FC5525EA7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5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6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7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8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9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0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1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2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3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4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5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6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7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8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9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2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3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706320"/>
                <a:gd name="textAreaBottom" fmla="*/ 706320 h 706320"/>
              </a:gdLst>
              <a:ahLst/>
              <a:rect l="textAreaLeft" t="textAreaTop" r="textAreaRight" b="textAreaBottom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4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>
                <a:gd name="textAreaLeft" fmla="*/ 0 w 9159840"/>
                <a:gd name="textAreaRight" fmla="*/ 9160200 w 9159840"/>
                <a:gd name="textAreaTop" fmla="*/ 0 h 276480"/>
                <a:gd name="textAreaBottom" fmla="*/ 276840 h 276480"/>
              </a:gdLst>
              <a:ahLst/>
              <a:rect l="textAreaLeft" t="textAreaTop" r="textAreaRight" b="textAreaBottom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CE5F4-DFB0-4FE8-B822-976AA2259D6E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WordArt 4"/>
          <p:cNvSpPr txBox="1"/>
          <p:nvPr/>
        </p:nvSpPr>
        <p:spPr>
          <a:xfrm>
            <a:off x="343080" y="1125360"/>
            <a:ext cx="8458200" cy="367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исатели 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 </a:t>
            </a: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 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оэты </a:t>
            </a:r>
            <a:endParaRPr b="0" lang="en-US" sz="18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 музыке и музыкантах</a:t>
            </a:r>
            <a:endParaRPr b="0" lang="en-US" sz="18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5383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cc"/>
                </a:solidFill>
                <a:latin typeface="Tahoma"/>
              </a:rPr>
              <a:t>Музыка</a:t>
            </a:r>
            <a:br>
              <a:rPr sz="6000"/>
            </a:br>
            <a:br>
              <a:rPr sz="6000"/>
            </a:br>
            <a:r>
              <a:rPr b="0" lang="ru-RU" sz="4800" spc="-1" strike="noStrike">
                <a:solidFill>
                  <a:srgbClr val="ffffcc"/>
                </a:solidFill>
                <a:latin typeface="Tahoma"/>
              </a:rPr>
              <a:t>Дивное создание</a:t>
            </a:r>
            <a:br>
              <a:rPr sz="4800"/>
            </a:br>
            <a:r>
              <a:rPr b="0" lang="ru-RU" sz="4800" spc="-1" strike="noStrike">
                <a:solidFill>
                  <a:srgbClr val="ffffcc"/>
                </a:solidFill>
                <a:latin typeface="Tahoma"/>
              </a:rPr>
              <a:t>Вечная загадка</a:t>
            </a:r>
            <a:br>
              <a:rPr sz="4800"/>
            </a:br>
            <a:r>
              <a:rPr b="0" lang="ru-RU" sz="4800" spc="-1" strike="noStrike">
                <a:solidFill>
                  <a:srgbClr val="ffffcc"/>
                </a:solidFill>
                <a:latin typeface="Tahoma"/>
              </a:rPr>
              <a:t>Услада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transition>
    <p:wheel spokes="8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10920" y="1052640"/>
            <a:ext cx="7846920" cy="4248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cc"/>
                </a:solidFill>
                <a:latin typeface="Tahoma"/>
              </a:rPr>
              <a:t>Природа</a:t>
            </a:r>
            <a:br>
              <a:rPr sz="5400"/>
            </a:br>
            <a:br>
              <a:rPr sz="5400"/>
            </a:br>
            <a:r>
              <a:rPr b="0" lang="ru-RU" sz="5400" spc="-1" strike="noStrike">
                <a:solidFill>
                  <a:srgbClr val="ffffcc"/>
                </a:solidFill>
                <a:latin typeface="Tahoma"/>
              </a:rPr>
              <a:t>Плеск воды</a:t>
            </a:r>
            <a:br>
              <a:rPr sz="5400"/>
            </a:br>
            <a:r>
              <a:rPr b="0" lang="ru-RU" sz="5400" spc="-1" strike="noStrike">
                <a:solidFill>
                  <a:srgbClr val="ffffcc"/>
                </a:solidFill>
                <a:latin typeface="Tahoma"/>
              </a:rPr>
              <a:t>Шум ветра</a:t>
            </a:r>
            <a:br>
              <a:rPr sz="5400"/>
            </a:br>
            <a:r>
              <a:rPr b="0" lang="ru-RU" sz="5400" spc="-1" strike="noStrike">
                <a:solidFill>
                  <a:srgbClr val="ffffcc"/>
                </a:solidFill>
                <a:latin typeface="Tahoma"/>
              </a:rPr>
              <a:t>Пенье птиц</a:t>
            </a:r>
            <a:br>
              <a:rPr sz="4400"/>
            </a:b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transition>
    <p:wheel spokes="8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362800" cy="5184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cc"/>
                </a:solidFill>
                <a:latin typeface="Tahoma"/>
              </a:rPr>
              <a:t>Человек</a:t>
            </a:r>
            <a:br>
              <a:rPr sz="6000"/>
            </a:br>
            <a:br>
              <a:rPr sz="6000"/>
            </a:br>
            <a:r>
              <a:rPr b="0" lang="ru-RU" sz="4800" spc="-1" strike="noStrike">
                <a:solidFill>
                  <a:srgbClr val="ffffcc"/>
                </a:solidFill>
                <a:latin typeface="Tahoma"/>
              </a:rPr>
              <a:t>Выстоять</a:t>
            </a:r>
            <a:br>
              <a:rPr sz="4800"/>
            </a:br>
            <a:r>
              <a:rPr b="0" lang="ru-RU" sz="4800" spc="-1" strike="noStrike">
                <a:solidFill>
                  <a:srgbClr val="ffffcc"/>
                </a:solidFill>
                <a:latin typeface="Tahoma"/>
              </a:rPr>
              <a:t>Выпрямиться</a:t>
            </a:r>
            <a:br>
              <a:rPr sz="4800"/>
            </a:br>
            <a:r>
              <a:rPr b="0" lang="ru-RU" sz="4800" spc="-1" strike="noStrike">
                <a:solidFill>
                  <a:srgbClr val="ffffcc"/>
                </a:solidFill>
                <a:latin typeface="Tahoma"/>
              </a:rPr>
              <a:t>Сохранить прекрасное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transition>
    <p:wheel spokes="8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Фридерик Шопен</a:t>
            </a:r>
            <a:br>
              <a:rPr sz="4200"/>
            </a:b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(1810-1849)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47" name="Содержимое 3" descr="Шопен.jpeg"/>
          <p:cNvPicPr/>
          <p:nvPr/>
        </p:nvPicPr>
        <p:blipFill>
          <a:blip r:embed="rId1"/>
          <a:stretch/>
        </p:blipFill>
        <p:spPr>
          <a:xfrm>
            <a:off x="2357280" y="1500120"/>
            <a:ext cx="4286520" cy="507204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Австрия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50" name="Содержимое 3" descr="Австрия.jpg"/>
          <p:cNvPicPr/>
          <p:nvPr/>
        </p:nvPicPr>
        <p:blipFill>
          <a:blip r:embed="rId1"/>
          <a:stretch/>
        </p:blipFill>
        <p:spPr>
          <a:xfrm>
            <a:off x="857160" y="1214280"/>
            <a:ext cx="7500960" cy="550080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Франция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52" name="Содержимое 3" descr="Франция.jpg"/>
          <p:cNvPicPr/>
          <p:nvPr/>
        </p:nvPicPr>
        <p:blipFill>
          <a:blip r:embed="rId1"/>
          <a:stretch/>
        </p:blipFill>
        <p:spPr>
          <a:xfrm>
            <a:off x="714240" y="1285920"/>
            <a:ext cx="7643880" cy="521496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54" name="Содержимое 3" descr="Фортепиано шопена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Содержимое 3" descr="Сердце шопена.jpg"/>
          <p:cNvPicPr/>
          <p:nvPr/>
        </p:nvPicPr>
        <p:blipFill>
          <a:blip r:embed="rId1"/>
          <a:stretch/>
        </p:blipFill>
        <p:spPr>
          <a:xfrm>
            <a:off x="1500120" y="357120"/>
            <a:ext cx="5929560" cy="621504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Содержимое 3" descr="1 памятник шопену.jpg"/>
          <p:cNvPicPr/>
          <p:nvPr/>
        </p:nvPicPr>
        <p:blipFill>
          <a:blip r:embed="rId1"/>
          <a:stretch/>
        </p:blipFill>
        <p:spPr>
          <a:xfrm>
            <a:off x="1571760" y="428760"/>
            <a:ext cx="5857920" cy="600048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0" y="549360"/>
            <a:ext cx="449568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Георгий Васильевич Свиридов.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915 – 1998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8" name="Picture 5" descr="Sviridov"/>
          <p:cNvPicPr/>
          <p:nvPr/>
        </p:nvPicPr>
        <p:blipFill>
          <a:blip r:embed="rId1"/>
          <a:stretch/>
        </p:blipFill>
        <p:spPr>
          <a:xfrm>
            <a:off x="4500720" y="549360"/>
            <a:ext cx="4643280" cy="511164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57120"/>
            <a:ext cx="7772400" cy="20001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«Милая моя, далекая, единственная! Почему наша жизнь так устроена, что я должен находиться вдали от тебя, быть в разлуке с тобой…?»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714240" y="2428920"/>
            <a:ext cx="814392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« …Я помню шелест каждого листка, каждой травинки, вижу дорогие мне лица, я чувствую тебя, милая моя Родина. Каждую ночь ты приходишь ко мне неясной мелодией не то песней, не то любимого танца – мазурки. И так хочется, чтобы этот сон никогда не кончался!...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132000" y="4508640"/>
            <a:ext cx="5554800" cy="162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г.Ногинск Моск.обл. МОУ СОШ №2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Уч. Трушина Оксана Викторовн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5" descr="Fatezz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9" descr="Курская обл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-360" y="404280"/>
            <a:ext cx="2771640" cy="1729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Первый музыкальный инструмент 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059280" y="907560"/>
            <a:ext cx="6084720" cy="124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Ленинградская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онсерватор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3" name="Picture 7" descr="Stpeteconservatory"/>
          <p:cNvPicPr/>
          <p:nvPr/>
        </p:nvPicPr>
        <p:blipFill>
          <a:blip r:embed="rId1"/>
          <a:stretch/>
        </p:blipFill>
        <p:spPr>
          <a:xfrm>
            <a:off x="2987640" y="2205000"/>
            <a:ext cx="6156360" cy="43196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8" descr="балалайка"/>
          <p:cNvPicPr/>
          <p:nvPr/>
        </p:nvPicPr>
        <p:blipFill>
          <a:blip r:embed="rId2"/>
          <a:stretch/>
        </p:blipFill>
        <p:spPr>
          <a:xfrm>
            <a:off x="0" y="2133720"/>
            <a:ext cx="2881440" cy="430668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6" name="Picture 2" descr="D:\My Documents\Мои рисунки\290b-u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D:\My Documents\Мои рисунки\180px-Alb_139597.jpg"/>
          <p:cNvPicPr/>
          <p:nvPr/>
        </p:nvPicPr>
        <p:blipFill>
          <a:blip r:embed="rId1"/>
          <a:stretch/>
        </p:blipFill>
        <p:spPr>
          <a:xfrm>
            <a:off x="714240" y="0"/>
            <a:ext cx="7215480" cy="685800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«Воспеть Русь, где Господь дал  и велел мне жить, радоваться и мучиться»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9" name="Picture 6" descr="P7050200"/>
          <p:cNvPicPr/>
          <p:nvPr/>
        </p:nvPicPr>
        <p:blipFill>
          <a:blip r:embed="rId1"/>
          <a:stretch/>
        </p:blipFill>
        <p:spPr>
          <a:xfrm>
            <a:off x="1187280" y="1700280"/>
            <a:ext cx="6624720" cy="515772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6" descr="Астафьев"/>
          <p:cNvPicPr/>
          <p:nvPr/>
        </p:nvPicPr>
        <p:blipFill>
          <a:blip r:embed="rId1"/>
          <a:stretch/>
        </p:blipFill>
        <p:spPr>
          <a:xfrm>
            <a:off x="839880" y="1600200"/>
            <a:ext cx="3271680" cy="453060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Tahoma"/>
              </a:rPr>
              <a:t>«Слово 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6000" spc="-1" strike="noStrike">
                <a:solidFill>
                  <a:srgbClr val="ffffff"/>
                </a:solidFill>
                <a:latin typeface="Tahoma"/>
              </a:rPr>
              <a:t>о мастере»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Виктор Петрович Астафьев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3T17:01:23Z</dcterms:created>
  <dc:creator>Admin</dc:creator>
  <dc:description/>
  <dc:language>en-US</dc:language>
  <cp:lastModifiedBy>Татьяна</cp:lastModifiedBy>
  <dcterms:modified xsi:type="dcterms:W3CDTF">2010-11-10T13:58:19Z</dcterms:modified>
  <cp:revision>17</cp:revision>
  <dc:subject/>
  <dc:title>Слайд 1</dc:title>
</cp:coreProperties>
</file>