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927-5975-46B4-ADDA-EE5A12DB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B9C-FDD3-4974-AD8E-C1EC48C7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E2D-1BAA-43E6-BFED-A8542131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F4A-C758-4760-845F-68AFF632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6DB8-84A5-4A49-8917-EE24CA89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ACE4-0276-407B-9B48-CD62C0EC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A5C2-7E61-4015-874D-F801DB0E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BE03-C803-4B3B-A68D-F83C2F90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5222-08A3-455B-9C60-52561C2E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696D-6CE0-44D1-9753-2122596E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D5E3-FB6C-434B-B152-C21D27AA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F1A-745D-4BCB-A332-2208D275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56B2-7920-4BAC-BF90-E4541005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0C03-8CF2-4CCA-A2CA-926245A6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59ED-6008-4DCF-9957-3E7124C5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B742-1D8D-41DE-A9D6-34B23B81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6259-D5F1-4B6C-99B2-8FEEBBCF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BEF-208D-4B11-AF70-2A9AAA4E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2DC-3483-4139-B5BE-0DE2D07E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34D-B5F1-4334-BFC2-8DEAF0C2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93A-5F95-424D-B9B5-77947160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C5B-6461-4162-A57B-BADD5C01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FF6-F84F-4F2A-B81A-BE7A0D83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5B8-1EC1-4AEF-AAB2-8C84E004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6F25-51E2-4F4B-9AB4-125C37E60A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91E7-7DAF-49B1-BD29-D3148C25F7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8920" y="1581120"/>
            <a:ext cx="4033800" cy="377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99"/>
                </a:solidFill>
                <a:latin typeface="Times New Roman"/>
              </a:rPr>
              <a:t>Олимпийские игры</a:t>
            </a:r>
            <a:br>
              <a:rPr sz="4000"/>
            </a:b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(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история античная и современная)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47600" y="182520"/>
            <a:ext cx="4494240" cy="628956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ыводы:</a:t>
            </a:r>
            <a:br>
              <a:rPr sz="4800"/>
            </a:br>
            <a:r>
              <a:rPr b="0" i="1" lang="ru-RU" sz="3600" spc="-1" strike="noStrike">
                <a:solidFill>
                  <a:srgbClr val="000099"/>
                </a:solidFill>
                <a:latin typeface="Tahoma"/>
              </a:rPr>
              <a:t>Олимпийское движение – подлинно всемирное движение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8976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временные Игры стали всемирными, объединяя миллио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ртсменов, служат укреплению сотрудничества между людьми всех континент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 спортсмены равны, у всех равные условия для соревно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ния, для победы. «Никакой дискриминации в спорте 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 политической, ни религиозной, ни расовой» - заявляет Олимпийское движ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лимпийское движение – самое массовое движение современности, объединяющее организации, спортсменов, и других лиц, которые готовы действовать в согласии с Олимпийской харти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лимпийское движение современности дополнено   Параолимпийскими  играми для инвалидов и Играми для умственно отсталых людей «Спешиал Олимпикс», особенно популярными в СШ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Цель олимпийского движения –</a:t>
            </a:r>
            <a:br>
              <a:rPr sz="32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емерно помогать построению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мирного мира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?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оспитывать молодёжь при помощи занятий спортом, без какой-либо дискриминации, в духе дружбы, солидарности и честной иг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ршина олимпийского движения –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лимпийские иг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78100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Arial Black"/>
              </a:rPr>
              <a:t>ПРОБЛЕМА: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        Является ли Олимпийское движение, зародившееся в одном древнем государстве, мировой объединяющей силой для всех землян?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4500720" y="4221000"/>
            <a:ext cx="1966680" cy="24210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2076480" cy="24480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4" name="Picture 5" descr="masterkova2"/>
          <p:cNvPicPr/>
          <p:nvPr/>
        </p:nvPicPr>
        <p:blipFill>
          <a:blip r:embed="rId3"/>
          <a:stretch/>
        </p:blipFill>
        <p:spPr>
          <a:xfrm>
            <a:off x="6804000" y="4221000"/>
            <a:ext cx="1919160" cy="24480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2124000" y="260280"/>
            <a:ext cx="1979640" cy="243216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6" name="Picture 7" descr=""/>
          <p:cNvPicPr/>
          <p:nvPr/>
        </p:nvPicPr>
        <p:blipFill>
          <a:blip r:embed="rId5"/>
          <a:stretch/>
        </p:blipFill>
        <p:spPr>
          <a:xfrm>
            <a:off x="1920960" y="4221000"/>
            <a:ext cx="2023920" cy="24480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7" name="Picture 8" descr=""/>
          <p:cNvPicPr/>
          <p:nvPr/>
        </p:nvPicPr>
        <p:blipFill>
          <a:blip r:embed="rId6"/>
          <a:stretch/>
        </p:blipFill>
        <p:spPr>
          <a:xfrm>
            <a:off x="6659640" y="260280"/>
            <a:ext cx="1874880" cy="244944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8" name="Picture 9" descr=""/>
          <p:cNvPicPr/>
          <p:nvPr/>
        </p:nvPicPr>
        <p:blipFill>
          <a:blip r:embed="rId7"/>
          <a:stretch/>
        </p:blipFill>
        <p:spPr>
          <a:xfrm>
            <a:off x="179280" y="260280"/>
            <a:ext cx="1765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0099"/>
                </a:solidFill>
                <a:latin typeface="Tahoma"/>
              </a:rPr>
              <a:t>Исследование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Различия в организации древних и современных Олимпийских игр</a:t>
            </a:r>
            <a:br>
              <a:rPr sz="4000"/>
            </a:b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2852640"/>
          <a:ext cx="8424720" cy="3816360"/>
        </p:xfrm>
        <a:graphic>
          <a:graphicData uri="http://schemas.openxmlformats.org/drawingml/2006/table">
            <a:tbl>
              <a:tblPr/>
              <a:tblGrid>
                <a:gridCol w="1717560"/>
                <a:gridCol w="3125880"/>
                <a:gridCol w="358128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Кто допуск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я  к участию в Олимп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их игр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йцами могли стать только греки по происхождению, причем только свободные люди и только мужчины. Чужестранцы, женщины и рабы к соревнованиям не допускал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кается участвовать  от одной страны в каждом номере программы Игр не более трем спортсменам.     Возраст участников не ограничен. Спортсмены могут представлять интересы только той страны, гражданами которой они являю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3"/>
          <p:cNvSpPr/>
          <p:nvPr/>
        </p:nvSpPr>
        <p:spPr>
          <a:xfrm>
            <a:off x="1476360" y="1916280"/>
            <a:ext cx="727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1908000" y="220500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ревняя Греция                   Игры современ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14200" y="0"/>
          <a:ext cx="8786880" cy="3286080"/>
        </p:xfrm>
        <a:graphic>
          <a:graphicData uri="http://schemas.openxmlformats.org/drawingml/2006/table">
            <a:tbl>
              <a:tblPr/>
              <a:tblGrid>
                <a:gridCol w="2562480"/>
                <a:gridCol w="3147840"/>
                <a:gridCol w="3076560"/>
              </a:tblGrid>
              <a:tr h="3286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Количество стран-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072120" y="214200"/>
          <a:ext cx="2786040" cy="3000600"/>
        </p:xfrm>
        <a:graphic>
          <a:graphicData uri="http://schemas.openxmlformats.org/drawingml/2006/table">
            <a:tbl>
              <a:tblPr/>
              <a:tblGrid>
                <a:gridCol w="1425600"/>
                <a:gridCol w="673200"/>
                <a:gridCol w="687240"/>
              </a:tblGrid>
              <a:tr h="30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6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/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/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14200" y="3286080"/>
          <a:ext cx="8786880" cy="3571920"/>
        </p:xfrm>
        <a:graphic>
          <a:graphicData uri="http://schemas.openxmlformats.org/drawingml/2006/table">
            <a:tbl>
              <a:tblPr/>
              <a:tblGrid>
                <a:gridCol w="2541600"/>
                <a:gridCol w="3122640"/>
                <a:gridCol w="3122640"/>
              </a:tblGrid>
              <a:tr h="35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Какие знаменитые спортсмены прославили Олимпийские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Леонидас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еликий атлет 12 раз  побеждал в соревнованиях по бегу. Леонидоса  видели только в начале и в конце дорожки, посередине его никто не успевал заметить -  так быстро он бежал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ааво Нур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Финляндия)- лучший бегун современности. Выступал на Играх  3 Олимпиад и выиграл  9 золотых меда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Лариса Латынин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СССР)- гимнастка, завоевала 18 олимпий- ских медалей(9 золотых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серебряных, 4 бронз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е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42920" y="0"/>
          <a:ext cx="8569440" cy="2732040"/>
        </p:xfrm>
        <a:graphic>
          <a:graphicData uri="http://schemas.openxmlformats.org/drawingml/2006/table">
            <a:tbl>
              <a:tblPr/>
              <a:tblGrid>
                <a:gridCol w="2016000"/>
                <a:gridCol w="2879640"/>
                <a:gridCol w="3673800"/>
              </a:tblGrid>
              <a:tr h="27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лимпийский  символ, олимпийский фла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йский флаг 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елое полотнище 2х3 метра с пятью переплетенными кольцами,   олицетворяющими  единство  спортсменов 5 континентов земного шар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лимпийский конгресс 1913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23"/>
          <p:cNvSpPr/>
          <p:nvPr/>
        </p:nvSpPr>
        <p:spPr>
          <a:xfrm>
            <a:off x="5286240" y="1785960"/>
            <a:ext cx="309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651640" y="3645000"/>
            <a:ext cx="30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88" descr=""/>
          <p:cNvPicPr/>
          <p:nvPr/>
        </p:nvPicPr>
        <p:blipFill>
          <a:blip r:embed="rId1"/>
          <a:stretch/>
        </p:blipFill>
        <p:spPr>
          <a:xfrm>
            <a:off x="2214720" y="0"/>
            <a:ext cx="2663640" cy="265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42920" y="2714760"/>
          <a:ext cx="8569440" cy="1643040"/>
        </p:xfrm>
        <a:graphic>
          <a:graphicData uri="http://schemas.openxmlformats.org/drawingml/2006/table">
            <a:tbl>
              <a:tblPr/>
              <a:tblGrid>
                <a:gridCol w="2016000"/>
                <a:gridCol w="2879640"/>
                <a:gridCol w="3673800"/>
              </a:tblGrid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лимпийский дев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US* ALTIUS * FORTIU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 Быстрее, выше, сильне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Picture 18" descr=""/>
          <p:cNvPicPr/>
          <p:nvPr/>
        </p:nvPicPr>
        <p:blipFill>
          <a:blip r:embed="rId2"/>
          <a:stretch/>
        </p:blipFill>
        <p:spPr>
          <a:xfrm>
            <a:off x="7286760" y="3429000"/>
            <a:ext cx="115380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142920" y="4327560"/>
          <a:ext cx="8572320" cy="2530440"/>
        </p:xfrm>
        <a:graphic>
          <a:graphicData uri="http://schemas.openxmlformats.org/drawingml/2006/table">
            <a:tbl>
              <a:tblPr/>
              <a:tblGrid>
                <a:gridCol w="2017800"/>
                <a:gridCol w="2879640"/>
                <a:gridCol w="3674880"/>
              </a:tblGrid>
              <a:tr h="253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я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Я честно и упорно готовился и буду честно соревноваться со своими  соперниками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т имени всех спортсменов я обещаю, что мы будем участвовать в этих Играх , уважая  и соблюдая правила, по которым они проводятся, в истинно спортивном духе, во славу спорта и во имя чести своих команд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539640" y="115920"/>
          <a:ext cx="8280360" cy="2592360"/>
        </p:xfrm>
        <a:graphic>
          <a:graphicData uri="http://schemas.openxmlformats.org/drawingml/2006/table">
            <a:tbl>
              <a:tblPr/>
              <a:tblGrid>
                <a:gridCol w="2232000"/>
                <a:gridCol w="2952720"/>
                <a:gridCol w="309564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Священный    ого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ые Олимпийские игры проводились довольно скромно, но уже тогда была чаша  для олимпийского огня и небольшой жертвенник для даров  богу  Зевс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ременный Олимпийский огонь по традиции зажигают в Олимпии и  эстафетой проносят через все границы государств, доставляя на олимпийский стадион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33" descr=""/>
          <p:cNvPicPr/>
          <p:nvPr/>
        </p:nvPicPr>
        <p:blipFill>
          <a:blip r:embed="rId1"/>
          <a:stretch/>
        </p:blipFill>
        <p:spPr>
          <a:xfrm>
            <a:off x="6227640" y="2852640"/>
            <a:ext cx="2568600" cy="381636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35" name="Picture 37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2201760" cy="288108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36" name="Picture 29" descr=""/>
          <p:cNvPicPr/>
          <p:nvPr/>
        </p:nvPicPr>
        <p:blipFill>
          <a:blip r:embed="rId3"/>
          <a:stretch/>
        </p:blipFill>
        <p:spPr>
          <a:xfrm>
            <a:off x="2124000" y="3924360"/>
            <a:ext cx="4249800" cy="293364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Параолимпийские игры-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              игры для инвалидов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24000" y="1268280"/>
          <a:ext cx="6840720" cy="5494320"/>
        </p:xfrm>
        <a:graphic>
          <a:graphicData uri="http://schemas.openxmlformats.org/drawingml/2006/table">
            <a:tbl>
              <a:tblPr/>
              <a:tblGrid>
                <a:gridCol w="2244960"/>
                <a:gridCol w="4595760"/>
              </a:tblGrid>
              <a:tr h="92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«ПАРАолимпиад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ы для инвалидов «присоединяются» к Олимпийским играм, проводятся  вместе с н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йский нейрохирург Людвиг Гуттман, основавший  центр лечения  спинных травм (1948 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Когда Игры для инвалидов присоединились к Олимпийским иг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1964 году впервые названы Параолимпийскими и проводятся после Олимпийских игр. Игры имеют свой порядковый счет, летнюю  и зимнюю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Состоятся ли Параолимпийские игры в Сочи в 2014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Сочи  зимние Параолимпийкие игры будут  уже 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 сче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Когда наши спортсмены впервые участвовали в Параолимпиа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ши спортсмены впервые выступили  на Олимпийских играх для инвалидов в Сеуле в 1988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27" descr=""/>
          <p:cNvPicPr/>
          <p:nvPr/>
        </p:nvPicPr>
        <p:blipFill>
          <a:blip r:embed="rId1"/>
          <a:stretch/>
        </p:blipFill>
        <p:spPr>
          <a:xfrm>
            <a:off x="0" y="765000"/>
            <a:ext cx="2004840" cy="59058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7280" y="836280"/>
            <a:ext cx="4716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Законы 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       греческих   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            Олимпиад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91280" cy="318456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sp>
        <p:nvSpPr>
          <p:cNvPr id="142" name="Text Box 7"/>
          <p:cNvSpPr/>
          <p:nvPr/>
        </p:nvSpPr>
        <p:spPr>
          <a:xfrm>
            <a:off x="900000" y="3284640"/>
            <a:ext cx="824400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еддверии Олимпиады прекращались все  распри  и вой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кто не имел права вступить на территорию Олимпии с оружие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итель платил штраф - 2 мины серебра = 27кг х  2= 54к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ого наказывался  человек, обидевший путника, идущего  на     олимпийский праздни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еки страшились проклятья, которое насылалось  богами на нарушителя олимпийского переми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ым суровым наказанием было отлучение от игр на срок в 1  или 2 Олимпиад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74872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0099"/>
                </a:solidFill>
                <a:latin typeface="Tahoma"/>
              </a:rPr>
              <a:t>Роль России в поддержании олимпийского движения в современном мире</a:t>
            </a:r>
            <a:br>
              <a:rPr sz="4000"/>
            </a:b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425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первые Россия участвовала в Олимпийских играх в Лондоне в 1908. Команда состояла из 8 спортсменов. Фигурист Николай Панин-Коломенкин стал олимпийским чемпионом, первым  в олимпийской  летописи Росс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шей стране пришлось «забыть» об Олимпийских играх почти на 40 лет. Возобновилось участие в Играх лишь в 1952 году и с тех пор наши спортсмены - признанные лидеры олимпийского движ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1980 году Москва принимала летние Игры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Х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лимпиады.  А сейчас Россия готовится принять в 2014 году в Соч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Х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лимпийские зимние игры и  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зимние Параолимпийские иг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ногие имена наших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астеров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писаны в историю Игр золотыми буквами: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ариса Латынина(9),Борис Шахлин(7) Лидия Скобликова(6), Любовь Егорова (6), Лариса Лазутина(5) , Полина Астахова(5),Николай Андрианов(5),Владимир Сальников (4), Николай Зимятов (4), Галина Кулакова (4) и другие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0:50:03Z</dcterms:created>
  <dc:creator>home</dc:creator>
  <dc:description/>
  <dc:language>en-US</dc:language>
  <cp:lastModifiedBy>ZooM</cp:lastModifiedBy>
  <dcterms:modified xsi:type="dcterms:W3CDTF">2013-12-03T20:38:33Z</dcterms:modified>
  <cp:revision>22</cp:revision>
  <dc:subject/>
  <dc:title>   Олимпийские игры (история античная и современная)</dc:title>
</cp:coreProperties>
</file>