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5B4-DBCA-4539-A3CD-43044551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E2C-1466-4291-A934-A1D1D45F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496-3F88-4ADE-A226-E087A000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4C6-AA3E-4D4C-B74B-3B32CAC1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176A-B736-4928-8E9E-D2E511A6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C7B6-B8B2-4280-AF74-656E726C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1176-8C49-4ADF-8B63-9465761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8FFB-2211-4710-8816-58307245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548-3CFF-4AC3-A75B-404FC9B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978-97FA-400F-83A2-CD4DD7F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8B5C-FB7E-4993-A313-83735140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F1F-D65A-4D53-8E4D-E068BA5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4A8E-CE5A-4328-8050-131F3C33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56F4-BF56-44DD-B39E-A30DAAE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A538-9E08-4B77-9FD2-689B83EC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0A98-B8C2-45D4-80F9-7C49F0AC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3B9C-63F3-4C76-9738-0800461D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5E6-8A9F-4C29-A8A3-F5279E2E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D00-C84D-4A36-B8E2-8837F53E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F04-8CD6-426B-BB72-3BC4F9B1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848-6A76-48AC-81EC-69C4896A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91E-19E6-4841-9639-8AC00FCB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AED-9EB4-4425-AC0D-712696F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3D2-D577-4558-A09E-16818832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186-A9A3-4495-A0FA-41850762F4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A0AA-2174-4F33-A599-BC852C582F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8920" y="1581120"/>
            <a:ext cx="4033800" cy="377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Олимпийские игры</a:t>
            </a:r>
            <a:br>
              <a:rPr sz="4000"/>
            </a:b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(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история античная и современная)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47600" y="182520"/>
            <a:ext cx="4494240" cy="62895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ыводы:</a:t>
            </a:r>
            <a:br>
              <a:rPr sz="4800"/>
            </a:br>
            <a:r>
              <a:rPr b="0" i="1" lang="ru-RU" sz="3600" spc="-1" strike="noStrike">
                <a:solidFill>
                  <a:srgbClr val="000099"/>
                </a:solidFill>
                <a:latin typeface="Tahoma"/>
              </a:rPr>
              <a:t>Олимпийское движение – подлинно всемирное движение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8976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временные Игры стали всемирными, объединяя миллио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ртсменов, служат укреплению сотрудничества между людьми всех континент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 спортсмены равны, у всех равные условия для соревно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ния, для победы. «Никакой дискриминации в спорте 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 политической, ни религиозной, ни расовой» - заявляет Олимпийское движ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ое движение – самое массовое движение современности, объединяющее организации, спортсменов, и других лиц, которые готовы действовать в согласии с Олимпийской харти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ое движение современности дополнено   Параолимпийскими  играми для инвалидов и Играми для умственно отсталых людей «Спешиал Олимпикс», особенно популярными в СШ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Цель олимпийского движения –</a:t>
            </a:r>
            <a:br>
              <a:rPr sz="32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мерно помогать построению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мирного мира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?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оспитывать молодёжь при помощи занятий спортом, без какой-либо дискриминации, в духе дружбы, солидарности и честной иг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ршина олимпийского движения –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лимпийские иг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78100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ПРОБЛЕМА: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        Является ли Олимпийское движение, зародившееся в одном древнем государстве, мировой объединяющей силой для всех землян?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500720" y="4221000"/>
            <a:ext cx="1966680" cy="2421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356000" y="260280"/>
            <a:ext cx="207648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4" name="Picture 5" descr="masterkova2"/>
          <p:cNvPicPr/>
          <p:nvPr/>
        </p:nvPicPr>
        <p:blipFill>
          <a:blip r:embed="rId3"/>
          <a:stretch/>
        </p:blipFill>
        <p:spPr>
          <a:xfrm>
            <a:off x="6804000" y="4221000"/>
            <a:ext cx="191916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2124000" y="260280"/>
            <a:ext cx="1979640" cy="24321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6" name="Picture 7" descr=""/>
          <p:cNvPicPr/>
          <p:nvPr/>
        </p:nvPicPr>
        <p:blipFill>
          <a:blip r:embed="rId5"/>
          <a:stretch/>
        </p:blipFill>
        <p:spPr>
          <a:xfrm>
            <a:off x="1920960" y="4221000"/>
            <a:ext cx="2023920" cy="24480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6659640" y="260280"/>
            <a:ext cx="1874880" cy="244944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7"/>
          <a:stretch/>
        </p:blipFill>
        <p:spPr>
          <a:xfrm>
            <a:off x="179280" y="260280"/>
            <a:ext cx="1765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Tahoma"/>
              </a:rPr>
              <a:t>Исследование: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Различия в организации древних и современных Олимпийских игр</a:t>
            </a:r>
            <a:br>
              <a:rPr sz="4000"/>
            </a:b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2852640"/>
          <a:ext cx="8424720" cy="3816360"/>
        </p:xfrm>
        <a:graphic>
          <a:graphicData uri="http://schemas.openxmlformats.org/drawingml/2006/table">
            <a:tbl>
              <a:tblPr/>
              <a:tblGrid>
                <a:gridCol w="1717560"/>
                <a:gridCol w="3125880"/>
                <a:gridCol w="3581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Кто допуск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я  к участию в Олимп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ких игр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цами могли стать только греки по происхождению, причем только свободные люди и только мужчины. Чужестранцы, женщины и рабы к соревнованиям не допускалис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кается участвовать  от одной страны в каждом номере программы Игр не более трем спортсменам.     Возраст участников не ограничен. Спортсмены могут представлять интересы только той страны, гражданами которой они являют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3"/>
          <p:cNvSpPr/>
          <p:nvPr/>
        </p:nvSpPr>
        <p:spPr>
          <a:xfrm>
            <a:off x="1476360" y="1916280"/>
            <a:ext cx="727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908000" y="220500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евняя Греция                   Игры современ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4200" y="0"/>
          <a:ext cx="8786880" cy="3286080"/>
        </p:xfrm>
        <a:graphic>
          <a:graphicData uri="http://schemas.openxmlformats.org/drawingml/2006/table">
            <a:tbl>
              <a:tblPr/>
              <a:tblGrid>
                <a:gridCol w="2562480"/>
                <a:gridCol w="3147840"/>
                <a:gridCol w="3076560"/>
              </a:tblGrid>
              <a:tr h="3286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Количество стран- учас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072120" y="214200"/>
          <a:ext cx="2786040" cy="3000600"/>
        </p:xfrm>
        <a:graphic>
          <a:graphicData uri="http://schemas.openxmlformats.org/drawingml/2006/table">
            <a:tbl>
              <a:tblPr/>
              <a:tblGrid>
                <a:gridCol w="1425600"/>
                <a:gridCol w="673200"/>
                <a:gridCol w="687240"/>
              </a:tblGrid>
              <a:tr h="30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6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6/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/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14200" y="3286080"/>
          <a:ext cx="8786880" cy="3571920"/>
        </p:xfrm>
        <a:graphic>
          <a:graphicData uri="http://schemas.openxmlformats.org/drawingml/2006/table">
            <a:tbl>
              <a:tblPr/>
              <a:tblGrid>
                <a:gridCol w="2541600"/>
                <a:gridCol w="3122640"/>
                <a:gridCol w="3122640"/>
              </a:tblGrid>
              <a:tr h="35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Какие знаменитые спортсмены прославили Олимпийские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Леонидас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еликий атлет 12 раз  побеждал в соревнованиях по бегу. Леонидоса  видели только в начале и в конце дорожки, посередине его никто не успевал заметить -  так быстро он бежал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ааво Нур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Финляндия)- лучший бегун современности. Выступал на Играх  3 Олимпиад и выиграл  9 золотых мед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Лариса Латыни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СССР)- гимнастка, завоевала 18 олимпий- ских медалей(9 золотых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серебряных, 4 бронз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42920" y="0"/>
          <a:ext cx="8569440" cy="2732040"/>
        </p:xfrm>
        <a:graphic>
          <a:graphicData uri="http://schemas.openxmlformats.org/drawingml/2006/table">
            <a:tbl>
              <a:tblPr/>
              <a:tblGrid>
                <a:gridCol w="2016000"/>
                <a:gridCol w="2879640"/>
                <a:gridCol w="3673800"/>
              </a:tblGrid>
              <a:tr h="27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лимпийский  символ, олимпийский фла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ский флаг 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елое полотнище 2х3 метра с пятью переплетенными кольцами,   олицетворяющими  единство  спортсменов 5 континентов земного шар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лимпийский конгресс 1913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23"/>
          <p:cNvSpPr/>
          <p:nvPr/>
        </p:nvSpPr>
        <p:spPr>
          <a:xfrm>
            <a:off x="5286240" y="1785960"/>
            <a:ext cx="309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651640" y="3645000"/>
            <a:ext cx="30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88" descr=""/>
          <p:cNvPicPr/>
          <p:nvPr/>
        </p:nvPicPr>
        <p:blipFill>
          <a:blip r:embed="rId1"/>
          <a:stretch/>
        </p:blipFill>
        <p:spPr>
          <a:xfrm>
            <a:off x="2214720" y="0"/>
            <a:ext cx="2663640" cy="265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42920" y="2714760"/>
          <a:ext cx="8569440" cy="1643040"/>
        </p:xfrm>
        <a:graphic>
          <a:graphicData uri="http://schemas.openxmlformats.org/drawingml/2006/table">
            <a:tbl>
              <a:tblPr/>
              <a:tblGrid>
                <a:gridCol w="2016000"/>
                <a:gridCol w="2879640"/>
                <a:gridCol w="3673800"/>
              </a:tblGrid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лимпийский деви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TUS* ALTIUS * FORTIU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 Быстрее, выше, сильнее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Picture 18" descr=""/>
          <p:cNvPicPr/>
          <p:nvPr/>
        </p:nvPicPr>
        <p:blipFill>
          <a:blip r:embed="rId2"/>
          <a:stretch/>
        </p:blipFill>
        <p:spPr>
          <a:xfrm>
            <a:off x="7286760" y="3429000"/>
            <a:ext cx="1153800" cy="86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142920" y="4327560"/>
          <a:ext cx="8572320" cy="2530440"/>
        </p:xfrm>
        <a:graphic>
          <a:graphicData uri="http://schemas.openxmlformats.org/drawingml/2006/table">
            <a:tbl>
              <a:tblPr/>
              <a:tblGrid>
                <a:gridCol w="2017800"/>
                <a:gridCol w="2879640"/>
                <a:gridCol w="3674880"/>
              </a:tblGrid>
              <a:tr h="253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я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Я честно и упорно готовился и буду честно соревноваться со своими  соперниками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т имени всех спортсменов я обещаю, что мы будем участвовать в этих Играх , уважая  и соблюдая правила, по которым они проводятся, в истинно спортивном духе, во славу спорта и во имя чести своих команд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39640" y="115920"/>
          <a:ext cx="8280360" cy="2592360"/>
        </p:xfrm>
        <a:graphic>
          <a:graphicData uri="http://schemas.openxmlformats.org/drawingml/2006/table">
            <a:tbl>
              <a:tblPr/>
              <a:tblGrid>
                <a:gridCol w="2232000"/>
                <a:gridCol w="2952720"/>
                <a:gridCol w="3095640"/>
              </a:tblGrid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Священный    ого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е Олимпийские игры проводились довольно скромно, но уже тогда была чаша  для олимпийского огня и небольшой жертвенник для даров  богу  Зевс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ременный Олимпийский огонь по традиции зажигают в Олимпии и  эстафетой проносят через все границы государств, доставляя на олимпийский стадион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33" descr=""/>
          <p:cNvPicPr/>
          <p:nvPr/>
        </p:nvPicPr>
        <p:blipFill>
          <a:blip r:embed="rId1"/>
          <a:stretch/>
        </p:blipFill>
        <p:spPr>
          <a:xfrm>
            <a:off x="6227640" y="2852640"/>
            <a:ext cx="2568600" cy="38163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35" name="Picture 37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2201760" cy="288108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pic>
        <p:nvPicPr>
          <p:cNvPr id="136" name="Picture 29" descr=""/>
          <p:cNvPicPr/>
          <p:nvPr/>
        </p:nvPicPr>
        <p:blipFill>
          <a:blip r:embed="rId3"/>
          <a:stretch/>
        </p:blipFill>
        <p:spPr>
          <a:xfrm>
            <a:off x="2124000" y="3924360"/>
            <a:ext cx="4249800" cy="293364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араолимпийские игры-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              игры для инвалидов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24000" y="1268280"/>
          <a:ext cx="6840720" cy="5494320"/>
        </p:xfrm>
        <a:graphic>
          <a:graphicData uri="http://schemas.openxmlformats.org/drawingml/2006/table">
            <a:tbl>
              <a:tblPr/>
              <a:tblGrid>
                <a:gridCol w="2244960"/>
                <a:gridCol w="4595760"/>
              </a:tblGrid>
              <a:tr h="92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«ПАРАолимпиад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ы для инвалидов «присоединяются» к Олимпийским играм, проводятся  вместе с н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йский нейрохирург Людвиг Гуттман, основавший  центр лечения  спинных травм (1948 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огда Игры для инвалидов присоединились к Олимпийским иг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964 году впервые названы Параолимпийскими и проводятся после Олимпийских игр. Игры имеют свой порядковый счет, летнюю  и зимнюю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Состоятся ли Параолимпийские игры в Сочи в 2014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Сочи  зимние Параолимпийкие игры будут  уже 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 сч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Когда наши спортсмены впервые участвовали в Параолимпиа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ши спортсмены впервые выступили  на Олимпийских играх для инвалидов в Сеуле в 1988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7" descr=""/>
          <p:cNvPicPr/>
          <p:nvPr/>
        </p:nvPicPr>
        <p:blipFill>
          <a:blip r:embed="rId1"/>
          <a:stretch/>
        </p:blipFill>
        <p:spPr>
          <a:xfrm>
            <a:off x="0" y="765000"/>
            <a:ext cx="2004840" cy="590580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7280" y="836280"/>
            <a:ext cx="47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Законы 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     греческих   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            Олимпиад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91280" cy="3184560"/>
          </a:xfrm>
          <a:prstGeom prst="rect">
            <a:avLst/>
          </a:prstGeom>
          <a:ln w="9360">
            <a:solidFill>
              <a:srgbClr val="5e93c9"/>
            </a:solidFill>
            <a:miter/>
          </a:ln>
        </p:spPr>
      </p:pic>
      <p:sp>
        <p:nvSpPr>
          <p:cNvPr id="142" name="Text Box 7"/>
          <p:cNvSpPr/>
          <p:nvPr/>
        </p:nvSpPr>
        <p:spPr>
          <a:xfrm>
            <a:off x="900000" y="3284640"/>
            <a:ext cx="82440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еддверии Олимпиады прекращались все  распри  и вой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кто не имел права вступить на территорию Олимпии с оружие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итель платил штраф - 2 мины серебра = 27кг х  2= 54к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го наказывался  человек, обидевший путника, идущего  на     олимпийский праздн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еки страшились проклятья, которое насылалось  богами на нарушителя олимпийского переми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ым суровым наказанием было отлучение от игр на срок в 1  или 2 Олимпиад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74872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99"/>
                </a:solidFill>
                <a:latin typeface="Tahoma"/>
              </a:rPr>
              <a:t>Роль России в поддержании олимпийского движения в современном мире</a:t>
            </a:r>
            <a:br>
              <a:rPr sz="4000"/>
            </a:b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425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ервые Россия участвовала в Олимпийских играх в Лондоне в 1908. Команда состояла из 8 спортсменов. Фигурист Николай Панин-Коломенкин стал олимпийским чемпионом, первым  в олимпийской  летописи Ро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шей стране пришлось «забыть» об Олимпийских играх почти на 40 лет. Возобновилось участие в Играх лишь в 1952 году и с тех пор наши спортсмены - признанные лидеры олимпийского движ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1980 году Москва принимала летние Игры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ады.  А сейчас Россия готовится принять в 2014 году в Соч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лимпийские зимние игры и  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зимние Параолимпийские иг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гие имена наших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мастеро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писаны в историю Игр золотыми буквами: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ариса Латынина(9),Борис Шахлин(7) Лидия Скобликова(6), Любовь Егорова (6), Лариса Лазутина(5) , Полина Астахова(5),Николай Андрианов(5),Владимир Сальников (4), Николай Зимятов (4), Галина Кулакова (4) и другие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0:50:03Z</dcterms:created>
  <dc:creator>home</dc:creator>
  <dc:description/>
  <dc:language>en-US</dc:language>
  <cp:lastModifiedBy>ZooM</cp:lastModifiedBy>
  <dcterms:modified xsi:type="dcterms:W3CDTF">2013-12-03T20:38:33Z</dcterms:modified>
  <cp:revision>22</cp:revision>
  <dc:subject/>
  <dc:title>   Олимпийские игры (история античная и современная)</dc:title>
</cp:coreProperties>
</file>