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D03-8228-400A-8273-224FD26F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044-0A17-484C-8FC4-52F1A43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831-77A4-48B9-A98E-740FE4F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2F3-96E3-4F1B-8A8F-F3FC6C63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62C27-1E92-4B33-964F-1CBD04BD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7D728-EE4D-405C-9871-DDD1E86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EFF31-CD22-4DB9-8191-7FE3D91C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F96D2-319B-4152-8620-0F7126A7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321F-3FAC-4AAE-A894-BDAD24B5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D8C7B-2866-413C-9B7E-DD5A74C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A1C4B-1D8C-47B5-9029-638FF091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5FB-8699-48C7-A3CF-605CFAD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42054-0DE7-41F7-A909-9AB9C44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30BE-8F45-4185-8FF4-4DF4A80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58D1E-0340-453F-A136-B46E6BA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C6803-3399-4C8E-BC35-17C3FC95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2AD00-F72A-4891-841A-32C9A6A7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BC6-B922-4E47-9BF4-8917D391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CF0-CA37-4512-9F0E-B61125F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D89-B80D-4147-8DB1-03F1B7C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647-108B-496D-9174-B034E62A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548-766C-4378-BDA2-8586D23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B84-E6C5-4630-B28B-1D5A059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57C-45BE-41DD-B7C9-7AA3D53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C7C1-4E81-4A68-99B3-849B24A43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2E33-08A0-4CEE-9732-FC0C6D1CE5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tory"/>
          <p:cNvPicPr/>
          <p:nvPr/>
        </p:nvPicPr>
        <p:blipFill>
          <a:blip r:embed="rId1"/>
          <a:stretch/>
        </p:blipFill>
        <p:spPr>
          <a:xfrm>
            <a:off x="3962520" y="2971800"/>
            <a:ext cx="5181480" cy="318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6"/>
          <p:cNvPicPr/>
          <p:nvPr/>
        </p:nvPicPr>
        <p:blipFill>
          <a:blip r:embed="rId2"/>
          <a:stretch/>
        </p:blipFill>
        <p:spPr>
          <a:xfrm>
            <a:off x="380880" y="152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319"/>
          <p:cNvPicPr/>
          <p:nvPr/>
        </p:nvPicPr>
        <p:blipFill>
          <a:blip r:embed="rId1"/>
          <a:stretch/>
        </p:blipFill>
        <p:spPr>
          <a:xfrm>
            <a:off x="1981080" y="847800"/>
            <a:ext cx="57913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игиена – медицинская нау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ealth"/>
          <p:cNvPicPr/>
          <p:nvPr/>
        </p:nvPicPr>
        <p:blipFill>
          <a:blip r:embed="rId1"/>
          <a:stretch/>
        </p:blipFill>
        <p:spPr>
          <a:xfrm>
            <a:off x="1752480" y="1371600"/>
            <a:ext cx="5562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гиена – сложная, разносторонняя нау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ажную роль в развитие гигиены сыграли основоположники отечественной медицины С.Г. Забелин и М.Я. Мудров, которые обобщили и разработали систему гигиенических мероприятий по предупреждению многих болезней, и основоположники отечественной гигиенической науки Ф.Ф. Эрисман, В.Г. Хлопин и др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ГИЕНА 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питания здорового человека производится с учетом возраста, профессии, физической и нервной – психической нагрузки в процессе труда, условий быта и коммунального обеспечения, а также национальных и климатографических особенностей. Гигиена питания разрабатывает нормы питания, меры профилактики авитаминозов и гиповитаминоз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704120620202"/>
          <p:cNvPicPr/>
          <p:nvPr/>
        </p:nvPicPr>
        <p:blipFill>
          <a:blip r:embed="rId1"/>
          <a:stretch/>
        </p:blipFill>
        <p:spPr>
          <a:xfrm>
            <a:off x="4191120" y="2090880"/>
            <a:ext cx="4381560" cy="419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et_main"/>
          <p:cNvPicPr/>
          <p:nvPr/>
        </p:nvPicPr>
        <p:blipFill>
          <a:blip r:embed="rId2"/>
          <a:stretch/>
        </p:blipFill>
        <p:spPr>
          <a:xfrm>
            <a:off x="685800" y="30492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793080" y="913320"/>
            <a:ext cx="7878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итания занимается изучени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логической ценности, химическ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а и калорийности ка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х, так и новых пищев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у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этих исследов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ются в виде официальных табл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лорийности и химическ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а продуктов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ИГИЕНА ДЕТЕЙ 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ки отечественной гигиены детства глубокими корнями уходят в далекое прошлое, в недра народной предупредительной медицины. Забота о питании и здоровье уже на первых стадиях развития общества является жизненно важной задачей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6"/>
          <p:cNvPicPr/>
          <p:nvPr/>
        </p:nvPicPr>
        <p:blipFill>
          <a:blip r:embed="rId1"/>
          <a:stretch/>
        </p:blipFill>
        <p:spPr>
          <a:xfrm>
            <a:off x="4495680" y="91440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%E3%E8%E3%E8%E5%ED%E0"/>
          <p:cNvPicPr/>
          <p:nvPr/>
        </p:nvPicPr>
        <p:blipFill>
          <a:blip r:embed="rId2"/>
          <a:stretch/>
        </p:blipFill>
        <p:spPr>
          <a:xfrm>
            <a:off x="762120" y="5335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, комплекс правил, которая позволяет сохранить и укрепить здоровье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включает в себя: соблюдение чистоты тела, белья, одежды, жилища, а также правильное приготовления и регулярный прием пищи, чередования труда и отдыха, занятие физкультурой и полноценный с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36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