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7A4-554D-4487-AC2F-31AF7110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A86-F89A-4711-8865-8CA84B49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727-9398-42EA-824C-46FD48A8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CAB-8755-48BD-AE58-F4CC32C3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8FEF9-F16F-4168-B881-0DD0F117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B4B2C-C64D-4072-9D3E-47D317DA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04C68-69EB-4DB1-B493-DF5D00BF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C53F9-E13A-41B7-AFB0-A8F357FE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90210-E41C-460A-AF2A-A321368C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809A0-6E93-415C-BD44-9FB6DFB2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27EF1-2F55-4467-BAC4-D006B476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0D2-DF2E-4F84-89B2-D22CB4E5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8618E-8390-4863-8749-997A5CAC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26CF1-BC7A-4180-A178-3539273A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68D97-D18B-4B21-935D-271C6750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9FF05-E104-4D98-9408-EC2CC978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A732D-F525-4D0A-9A86-10D6D983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F58-3E92-43B6-B437-BFA801DB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975-169B-4A3D-BF3D-00B2DF27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B70-B667-4397-A744-0934392B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7CB-F10A-45C8-A970-34A3CF4E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27E-885A-4498-88C8-1A3AF445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59D-1E22-4220-B10B-5FAC3AF2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656-4C73-4017-BC50-A6304245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CD5E-7235-45F4-AEA1-8AF215173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8BAC-4662-4385-BA4C-E5CF4C2845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story"/>
          <p:cNvPicPr/>
          <p:nvPr/>
        </p:nvPicPr>
        <p:blipFill>
          <a:blip r:embed="rId1"/>
          <a:stretch/>
        </p:blipFill>
        <p:spPr>
          <a:xfrm>
            <a:off x="3962520" y="2971800"/>
            <a:ext cx="5181480" cy="3182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006"/>
          <p:cNvPicPr/>
          <p:nvPr/>
        </p:nvPicPr>
        <p:blipFill>
          <a:blip r:embed="rId2"/>
          <a:stretch/>
        </p:blipFill>
        <p:spPr>
          <a:xfrm>
            <a:off x="380880" y="152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2319"/>
          <p:cNvPicPr/>
          <p:nvPr/>
        </p:nvPicPr>
        <p:blipFill>
          <a:blip r:embed="rId1"/>
          <a:stretch/>
        </p:blipFill>
        <p:spPr>
          <a:xfrm>
            <a:off x="1981080" y="847800"/>
            <a:ext cx="57913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Гигиена – медицинская наук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health"/>
          <p:cNvPicPr/>
          <p:nvPr/>
        </p:nvPicPr>
        <p:blipFill>
          <a:blip r:embed="rId1"/>
          <a:stretch/>
        </p:blipFill>
        <p:spPr>
          <a:xfrm>
            <a:off x="1752480" y="1371600"/>
            <a:ext cx="5562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гиена – сложная, разносторонняя наук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ажную роль в развитие гигиены сыграли основоположники отечественной медицины С.Г. Забелин и М.Я. Мудров, которые обобщили и разработали систему гигиенических мероприятий по предупреждению многих болезней, и основоположники отечественной гигиенической науки Ф.Ф. Эрисман, В.Г. Хлопин и др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ИГИЕНА ПИТ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ение питания здорового человека производится с учетом возраста, профессии, физической и нервной – психической нагрузки в процессе труда, условий быта и коммунального обеспечения, а также национальных и климатографических особенностей. Гигиена питания разрабатывает нормы питания, меры профилактики авитаминозов и гиповитаминоз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200704120620202"/>
          <p:cNvPicPr/>
          <p:nvPr/>
        </p:nvPicPr>
        <p:blipFill>
          <a:blip r:embed="rId1"/>
          <a:stretch/>
        </p:blipFill>
        <p:spPr>
          <a:xfrm>
            <a:off x="4191120" y="2090880"/>
            <a:ext cx="4381560" cy="4192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iet_main"/>
          <p:cNvPicPr/>
          <p:nvPr/>
        </p:nvPicPr>
        <p:blipFill>
          <a:blip r:embed="rId2"/>
          <a:stretch/>
        </p:blipFill>
        <p:spPr>
          <a:xfrm>
            <a:off x="685800" y="304920"/>
            <a:ext cx="3367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793080" y="913320"/>
            <a:ext cx="7878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иена питания занимается изучени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ологической ценности, химическог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а и калорийности ка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диционных, так и новых пищев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ду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ультаты этих исследован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даются в виде официальных табли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лорийности и химическ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а продуктов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ИГИЕНА ДЕТЕЙ И ПОДРОСТК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ки отечественной гигиены детства глубокими корнями уходят в далекое прошлое, в недра народной предупредительной медицины. Забота о питании и здоровье уже на первых стадиях развития общества является жизненно важной задачей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06"/>
          <p:cNvPicPr/>
          <p:nvPr/>
        </p:nvPicPr>
        <p:blipFill>
          <a:blip r:embed="rId1"/>
          <a:stretch/>
        </p:blipFill>
        <p:spPr>
          <a:xfrm>
            <a:off x="4495680" y="914400"/>
            <a:ext cx="3810240" cy="5715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%E3%E8%E3%E8%E5%ED%E0"/>
          <p:cNvPicPr/>
          <p:nvPr/>
        </p:nvPicPr>
        <p:blipFill>
          <a:blip r:embed="rId2"/>
          <a:stretch/>
        </p:blipFill>
        <p:spPr>
          <a:xfrm>
            <a:off x="762120" y="5335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ая гигиена, комплекс правил, которая позволяет сохранить и укрепить здоровье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а включает в себя: соблюдение чистоты тела, белья, одежды, жилища, а также правильное приготовления и регулярный прием пищи, чередования труда и отдыха, занятие физкультурой и полноценный с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2-03T20:36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