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2EE-07CA-4E25-8687-1B52FC42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3E60-CCC0-4803-9BCF-67269A7E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265-4E7D-45C7-B8A0-D7BA04D7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6D34-CCF6-46BA-A65D-41E88235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A2A15-692C-4755-A712-C3C54533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C0544-BA3D-4EC4-9DA0-9E7CCB36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43BB2-C2FB-44AE-83A8-B6ECA58C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4AC4F-5668-4C33-A887-826C062C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E352E-4D08-4853-908D-5F52D994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69FB5-3F12-40B2-9788-2D6468B3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7A200-2ECF-4030-B8A9-C9222E37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9FFD-A374-45AF-948A-E3CCB511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1E4FD-E2A4-4AB8-9987-F55169D4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8A2C8-B31F-42D1-BDED-72AA3465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0EC0C-9349-4B22-BD9E-ADF823CB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44D76-2896-440A-96E5-D60CA3B6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AE7DF-EDA5-4768-BCE6-155ABAB6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107A-6373-4F23-A712-11237B39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8486-A438-42FC-91B2-3CE22430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0C3-D256-4395-BBA1-F0B3B3DF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5FC-71EE-4216-BE04-A1153F54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56E1-A317-4EA8-877D-DAD2B511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E058-A230-4BDA-B5A9-98A50E31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4160-3CB5-42FA-986F-C457CEA3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A334-D5FD-423E-B4C3-11A8F3FAC9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4C7E-D465-4509-B463-EE701D1DF2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story"/>
          <p:cNvPicPr/>
          <p:nvPr/>
        </p:nvPicPr>
        <p:blipFill>
          <a:blip r:embed="rId1"/>
          <a:stretch/>
        </p:blipFill>
        <p:spPr>
          <a:xfrm>
            <a:off x="3962520" y="2971800"/>
            <a:ext cx="5181480" cy="3182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006"/>
          <p:cNvPicPr/>
          <p:nvPr/>
        </p:nvPicPr>
        <p:blipFill>
          <a:blip r:embed="rId2"/>
          <a:stretch/>
        </p:blipFill>
        <p:spPr>
          <a:xfrm>
            <a:off x="380880" y="152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2319"/>
          <p:cNvPicPr/>
          <p:nvPr/>
        </p:nvPicPr>
        <p:blipFill>
          <a:blip r:embed="rId1"/>
          <a:stretch/>
        </p:blipFill>
        <p:spPr>
          <a:xfrm>
            <a:off x="1981080" y="847800"/>
            <a:ext cx="57913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Гигиена – медицинская наук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health"/>
          <p:cNvPicPr/>
          <p:nvPr/>
        </p:nvPicPr>
        <p:blipFill>
          <a:blip r:embed="rId1"/>
          <a:stretch/>
        </p:blipFill>
        <p:spPr>
          <a:xfrm>
            <a:off x="1752480" y="1371600"/>
            <a:ext cx="55627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гиена – сложная, разносторонняя наук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ажную роль в развитие гигиены сыграли основоположники отечественной медицины С.Г. Забелин и М.Я. Мудров, которые обобщили и разработали систему гигиенических мероприятий по предупреждению многих болезней, и основоположники отечественной гигиенической науки Ф.Ф. Эрисман, В.Г. Хлопин и др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ИГИЕНА ПИТ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ение питания здорового человека производится с учетом возраста, профессии, физической и нервной – психической нагрузки в процессе труда, условий быта и коммунального обеспечения, а также национальных и климатографических особенностей. Гигиена питания разрабатывает нормы питания, меры профилактики авитаминозов и гиповитаминоз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200704120620202"/>
          <p:cNvPicPr/>
          <p:nvPr/>
        </p:nvPicPr>
        <p:blipFill>
          <a:blip r:embed="rId1"/>
          <a:stretch/>
        </p:blipFill>
        <p:spPr>
          <a:xfrm>
            <a:off x="4191120" y="2090880"/>
            <a:ext cx="4381560" cy="4192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iet_main"/>
          <p:cNvPicPr/>
          <p:nvPr/>
        </p:nvPicPr>
        <p:blipFill>
          <a:blip r:embed="rId2"/>
          <a:stretch/>
        </p:blipFill>
        <p:spPr>
          <a:xfrm>
            <a:off x="685800" y="304920"/>
            <a:ext cx="3367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793080" y="913320"/>
            <a:ext cx="7878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питания занимается изучение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ологической ценности, химическог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а и калорийности ка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адиционных, так и новых пищев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дук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зультаты этих исследован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даются в виде официальных табли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лорийности и химическо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а продуктов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ИГИЕНА ДЕТЕЙ И ПОДРОСТК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ки отечественной гигиены детства глубокими корнями уходят в далекое прошлое, в недра народной предупредительной медицины. Забота о питании и здоровье уже на первых стадиях развития общества является жизненно важной задачей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06"/>
          <p:cNvPicPr/>
          <p:nvPr/>
        </p:nvPicPr>
        <p:blipFill>
          <a:blip r:embed="rId1"/>
          <a:stretch/>
        </p:blipFill>
        <p:spPr>
          <a:xfrm>
            <a:off x="4495680" y="914400"/>
            <a:ext cx="3810240" cy="5715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%E3%E8%E3%E8%E5%ED%E0"/>
          <p:cNvPicPr/>
          <p:nvPr/>
        </p:nvPicPr>
        <p:blipFill>
          <a:blip r:embed="rId2"/>
          <a:stretch/>
        </p:blipFill>
        <p:spPr>
          <a:xfrm>
            <a:off x="762120" y="5335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ИЧНАЯ ГИГИЕ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чная гигиена, комплекс правил, которая позволяет сохранить и укрепить здоровье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а включает в себя: соблюдение чистоты тела, белья, одежды, жилища, а также правильное приготовления и регулярный прием пищи, чередования труда и отдыха, занятие физкультурой и полноценный с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2-03T20:36:4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