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8C9AC-D0AF-4617-9FAD-24F268D12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F769A-7171-4EE3-814E-6ABAEDD5D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6B214-B528-491F-9813-7AD2CD362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18E4F-F227-4C27-BDD0-9D2AC4D9E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0800C-9CD2-46A2-BC83-308FA056D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D9CF9-7951-40EA-AB79-E11CA734D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F2588-F140-4D9F-BDFA-3BE21AE06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A6D1D-DB31-489E-82E4-6B46C1244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4F6E1-EE6A-4E34-81C4-E3CDD2083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F5186-49C5-42DB-9A63-E4A8C9398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D2EBB-550E-4823-9E82-0929955F7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9CEF7-4ABC-43D4-8587-A91A8EE68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35590-4178-4275-9C84-0740DE8CC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E810D-FF53-4AC9-9117-0263C2988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789C5-68C4-4825-918B-C10187A64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4F213-3BCB-4910-BA4D-EB04EA397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DC7C6-EE62-44B6-AE6B-0A0C2A8C3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C9884-A94F-44AA-8842-B9D25591F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593EB-73C6-47C5-9768-04D8375A3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BA6A4-4934-41CB-849A-48906EE2A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986CA-36D1-4373-BBE2-93E98E72E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59101-D974-4FFA-9EEE-37AB59A66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F6F1A-C969-4A2A-9517-70CD844AB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77C85-9B98-408C-84EE-1497E715C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E9EF9-5A54-4EB7-9EEA-DAF9B6141DB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F75B0-2315-4C30-B7C1-64875A06F016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Музыкальная игротека</a:t>
            </a:r>
            <a:br>
              <a:rPr sz="4400"/>
            </a:b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«Веснушка»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99" name="Picture 5" descr="4"/>
          <p:cNvPicPr/>
          <p:nvPr/>
        </p:nvPicPr>
        <p:blipFill>
          <a:blip r:embed="rId1"/>
          <a:stretch/>
        </p:blipFill>
        <p:spPr>
          <a:xfrm>
            <a:off x="1187280" y="1700280"/>
            <a:ext cx="7201080" cy="4968720"/>
          </a:xfrm>
          <a:prstGeom prst="rect">
            <a:avLst/>
          </a:prstGeom>
          <a:ln w="0">
            <a:noFill/>
          </a:ln>
        </p:spPr>
      </p:pic>
      <p:sp>
        <p:nvSpPr>
          <p:cNvPr id="100" name="AutoShape 6"/>
          <p:cNvSpPr/>
          <p:nvPr/>
        </p:nvSpPr>
        <p:spPr>
          <a:xfrm>
            <a:off x="179280" y="314172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AutoShape 7"/>
          <p:cNvSpPr/>
          <p:nvPr/>
        </p:nvSpPr>
        <p:spPr>
          <a:xfrm>
            <a:off x="8028000" y="69228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AutoShape 8"/>
          <p:cNvSpPr/>
          <p:nvPr/>
        </p:nvSpPr>
        <p:spPr>
          <a:xfrm>
            <a:off x="8229600" y="566100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-181440" y="404280"/>
            <a:ext cx="10904760" cy="8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 Black"/>
              </a:rPr>
              <a:t>Вместе с песней веселей!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9144000" cy="501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66"/>
                </a:solidFill>
                <a:latin typeface="Arial"/>
              </a:rPr>
              <a:t>От улыбки хмурый день светлей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66"/>
                </a:solidFill>
                <a:latin typeface="Arial"/>
              </a:rPr>
              <a:t>От улыбки в небе радуга проснется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66"/>
                </a:solidFill>
                <a:latin typeface="Arial"/>
              </a:rPr>
              <a:t>Поделись улыбкою свое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66"/>
                </a:solidFill>
                <a:latin typeface="Arial"/>
              </a:rPr>
              <a:t>И она еще не раз к тебе вернетс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Припев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66"/>
                </a:solidFill>
                <a:latin typeface="Arial"/>
              </a:rPr>
              <a:t>И тогда , наверняка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66"/>
                </a:solidFill>
                <a:latin typeface="Arial"/>
              </a:rPr>
              <a:t>Вдруг запляшут облака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66"/>
                </a:solidFill>
                <a:latin typeface="Arial"/>
              </a:rPr>
              <a:t>И кузнечик запиликает на скрипке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66"/>
                </a:solidFill>
                <a:latin typeface="Arial"/>
              </a:rPr>
              <a:t>С голубого ручейка начинается река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66"/>
                </a:solidFill>
                <a:latin typeface="Arial"/>
              </a:rPr>
              <a:t>Ну ,а дружба начинается с улыбк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b7"/>
                </a:solidFill>
                <a:latin typeface="Arial Black"/>
              </a:rPr>
              <a:t>Спасибо за внимание!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33" name="Picture 5" descr="SDC10734"/>
          <p:cNvPicPr/>
          <p:nvPr/>
        </p:nvPicPr>
        <p:blipFill>
          <a:blip r:embed="rId1"/>
          <a:stretch/>
        </p:blipFill>
        <p:spPr>
          <a:xfrm>
            <a:off x="1116000" y="1557360"/>
            <a:ext cx="6912000" cy="49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Музыкальная викторин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90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то в домике живет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акие ноты растут на грядках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акими нотами можно измерить музыку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ез какой ноты не обходится ни один повар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Picture 8" descr="vetton_ru_17"/>
          <p:cNvPicPr/>
          <p:nvPr/>
        </p:nvPicPr>
        <p:blipFill>
          <a:blip r:embed="rId1"/>
          <a:stretch/>
        </p:blipFill>
        <p:spPr>
          <a:xfrm>
            <a:off x="4916520" y="1700280"/>
            <a:ext cx="392904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b7"/>
                </a:solidFill>
                <a:latin typeface="Arial Black"/>
              </a:rPr>
              <a:t>Музыкальные загадк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90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Arial"/>
              </a:rPr>
              <a:t>У какого инструмента есть и струны и педаль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Arial"/>
              </a:rPr>
              <a:t>Что же это? Несомненно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Arial"/>
              </a:rPr>
              <a:t>Это славный наш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916520" y="1904760"/>
            <a:ext cx="39290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Arial"/>
              </a:rPr>
              <a:t>На листочке, на страничке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Arial"/>
              </a:rPr>
              <a:t>То ли точки, то ли птички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Arial"/>
              </a:rPr>
              <a:t>Все сидят на лесенк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Arial"/>
              </a:rPr>
              <a:t>И щебечут песенки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8080" y="260280"/>
            <a:ext cx="3929040" cy="583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66"/>
                </a:solidFill>
                <a:latin typeface="Arial"/>
              </a:rPr>
              <a:t>Он по виду брат баяну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66"/>
                </a:solidFill>
                <a:latin typeface="Arial"/>
              </a:rPr>
              <a:t>Где веселье, там и он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66"/>
                </a:solidFill>
                <a:latin typeface="Arial"/>
              </a:rPr>
              <a:t>Я подсказывать не стану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66"/>
                </a:solidFill>
                <a:latin typeface="Arial"/>
              </a:rPr>
              <a:t>Всем знаком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59280" y="259920"/>
            <a:ext cx="392904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66"/>
                </a:solidFill>
                <a:latin typeface="Arial"/>
              </a:rPr>
              <a:t>Кто такая? Отгадай-ка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66"/>
                </a:solidFill>
                <a:latin typeface="Arial"/>
              </a:rPr>
              <a:t>Это наша ..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66"/>
                </a:solidFill>
                <a:latin typeface="Arial"/>
              </a:rPr>
              <a:t>Сверху кожа, снизу тоже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66"/>
                </a:solidFill>
                <a:latin typeface="Arial"/>
              </a:rPr>
              <a:t>А в середине пусто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66"/>
                </a:solidFill>
                <a:latin typeface="Arial Black"/>
              </a:rPr>
              <a:t>Найди потерянную рифму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0" y="1905120"/>
            <a:ext cx="47671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Однажды на лесной опушк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Концерт затеяли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Две симпатичные лягушк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Исполнили для всех веселые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916160" y="1905120"/>
            <a:ext cx="4227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Как известно из газет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К нам едет лондонский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Кто желает пойти на концерт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У меня есть лишний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79280" y="333000"/>
            <a:ext cx="458784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66"/>
                </a:solidFill>
                <a:latin typeface="Arial"/>
              </a:rPr>
              <a:t>Ужасно толстый бегемо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66"/>
                </a:solidFill>
                <a:latin typeface="Arial"/>
              </a:rPr>
              <a:t>От смеха чуть не надорвал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66"/>
                </a:solidFill>
                <a:latin typeface="Arial"/>
              </a:rPr>
              <a:t>Расходилась публика с концерт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66"/>
                </a:solidFill>
                <a:latin typeface="Arial"/>
              </a:rPr>
              <a:t>Под звуки комариного</a:t>
            </a:r>
            <a:r>
              <a:rPr b="0" i="1" lang="ru-RU" sz="4000" spc="-1" strike="noStrike">
                <a:solidFill>
                  <a:srgbClr val="ffff66"/>
                </a:solidFill>
                <a:latin typeface="Arial"/>
              </a:rPr>
              <a:t>…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916520" y="259920"/>
            <a:ext cx="392904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66"/>
                </a:solidFill>
                <a:latin typeface="Arial"/>
              </a:rPr>
              <a:t>Развеселил зверей и таракан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66"/>
                </a:solidFill>
                <a:latin typeface="Arial"/>
              </a:rPr>
              <a:t>С собратьями исполнил он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66"/>
                </a:solidFill>
                <a:latin typeface="Arial"/>
              </a:rPr>
              <a:t>Застенчивый, угрюмый носорог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66"/>
                </a:solidFill>
                <a:latin typeface="Arial"/>
              </a:rPr>
              <a:t>Вдруг осмелев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66"/>
                </a:solidFill>
                <a:latin typeface="Arial"/>
              </a:rPr>
              <a:t>Прочел свой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Когда- то в старине глубокой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0" y="1904760"/>
            <a:ext cx="4767120" cy="476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ак называли в средние века во Франции странствующего поэта и певца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родячий музыкант, актер, певец и танцор в средневековой Руси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916160" y="1905120"/>
            <a:ext cx="4227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ог искусства и света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ревнейший инструмент, воспетый в своих произведениях многими поэтами мира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916520" y="476280"/>
            <a:ext cx="3929040" cy="56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66"/>
                </a:solidFill>
                <a:latin typeface="Arial"/>
              </a:rPr>
              <a:t>Вспомните и назовите известных сказочных музыкантов- исполнителей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Picture 7" descr="vetton_ru_44(1)"/>
          <p:cNvPicPr/>
          <p:nvPr/>
        </p:nvPicPr>
        <p:blipFill>
          <a:blip r:embed="rId1"/>
          <a:stretch/>
        </p:blipFill>
        <p:spPr>
          <a:xfrm>
            <a:off x="611280" y="1700280"/>
            <a:ext cx="3929040" cy="3854520"/>
          </a:xfrm>
          <a:prstGeom prst="rect">
            <a:avLst/>
          </a:prstGeom>
          <a:ln w="0">
            <a:noFill/>
          </a:ln>
        </p:spPr>
      </p:pic>
      <p:sp>
        <p:nvSpPr>
          <p:cNvPr id="124" name="AutoShape 8"/>
          <p:cNvSpPr/>
          <p:nvPr/>
        </p:nvSpPr>
        <p:spPr>
          <a:xfrm>
            <a:off x="6012000" y="4869000"/>
            <a:ext cx="1047600" cy="914400"/>
          </a:xfrm>
          <a:prstGeom prst="pi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9"/>
          <p:cNvSpPr/>
          <p:nvPr/>
        </p:nvSpPr>
        <p:spPr>
          <a:xfrm>
            <a:off x="7093080" y="4365720"/>
            <a:ext cx="1047600" cy="914400"/>
          </a:xfrm>
          <a:prstGeom prst="pi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59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Вставьте названия нот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716000" y="907560"/>
            <a:ext cx="442764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..ко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о..мер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н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о..росл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.гна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.лла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.р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.п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.ну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..пос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.мен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я..во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.нист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Picture 7" descr="6"/>
          <p:cNvPicPr/>
          <p:nvPr/>
        </p:nvPicPr>
        <p:blipFill>
          <a:blip r:embed="rId1"/>
          <a:stretch/>
        </p:blipFill>
        <p:spPr>
          <a:xfrm>
            <a:off x="395280" y="1932120"/>
            <a:ext cx="3606840" cy="4000320"/>
          </a:xfrm>
          <a:prstGeom prst="rect">
            <a:avLst/>
          </a:prstGeom>
          <a:ln w="0">
            <a:noFill/>
          </a:ln>
        </p:spPr>
      </p:pic>
      <p:sp>
        <p:nvSpPr>
          <p:cNvPr id="129" name="AutoShape 8"/>
          <p:cNvSpPr/>
          <p:nvPr/>
        </p:nvSpPr>
        <p:spPr>
          <a:xfrm>
            <a:off x="7667640" y="32130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00">
                <a:moveTo>
                  <a:pt x="11905" y="14281"/>
                </a:moveTo>
                <a:lnTo>
                  <a:pt x="11905" y="12323"/>
                </a:lnTo>
                <a:cubicBezTo>
                  <a:pt x="11905" y="11496"/>
                  <a:pt x="12236" y="10800"/>
                  <a:pt x="12837" y="10800"/>
                </a:cubicBezTo>
                <a:cubicBezTo>
                  <a:pt x="13968" y="10800"/>
                  <a:pt x="14865" y="9434"/>
                  <a:pt x="14865" y="7849"/>
                </a:cubicBezTo>
                <a:cubicBezTo>
                  <a:pt x="14865" y="5534"/>
                  <a:pt x="13011" y="3794"/>
                  <a:pt x="10800" y="3794"/>
                </a:cubicBezTo>
                <a:cubicBezTo>
                  <a:pt x="8589" y="3794"/>
                  <a:pt x="6918" y="5534"/>
                  <a:pt x="6918" y="7849"/>
                </a:cubicBezTo>
                <a:lnTo>
                  <a:pt x="8772" y="7849"/>
                </a:lnTo>
                <a:cubicBezTo>
                  <a:pt x="8772" y="6709"/>
                  <a:pt x="9695" y="5821"/>
                  <a:pt x="10800" y="5821"/>
                </a:cubicBezTo>
                <a:cubicBezTo>
                  <a:pt x="11905" y="5821"/>
                  <a:pt x="12837" y="6709"/>
                  <a:pt x="12837" y="7849"/>
                </a:cubicBezTo>
                <a:cubicBezTo>
                  <a:pt x="12837" y="8589"/>
                  <a:pt x="12367" y="9320"/>
                  <a:pt x="11905" y="9320"/>
                </a:cubicBezTo>
                <a:cubicBezTo>
                  <a:pt x="10800" y="9320"/>
                  <a:pt x="9695" y="10800"/>
                  <a:pt x="9695" y="12323"/>
                </a:cubicBezTo>
                <a:lnTo>
                  <a:pt x="9695" y="14281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1T13:26:47Z</dcterms:created>
  <dc:creator>1</dc:creator>
  <dc:description/>
  <dc:language>en-US</dc:language>
  <cp:lastModifiedBy>школа</cp:lastModifiedBy>
  <dcterms:modified xsi:type="dcterms:W3CDTF">2012-02-07T13:17:58Z</dcterms:modified>
  <cp:revision>5</cp:revision>
  <dc:subject/>
  <dc:title>Музыкальная игротека</dc:title>
</cp:coreProperties>
</file>