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67B-E1C9-4F44-A2E0-A8A777D6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A07-7AEE-48F9-9C76-078C252C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C76-B4BB-4FD6-B58C-04A7A4FA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41A-90A4-4717-BAD4-B94BC2A0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F27E-2FE6-4F0C-99E1-32C3943B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ED90-7297-4795-92F4-18B1BE67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4552-C7A5-4DA8-88CC-B0F0CB4D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89F2-88E5-4D91-821C-079B04F2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25F6-88CC-4FB6-BC68-0BEB2202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A3A3-E3A4-4028-8B12-C6A68EA2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1A5E-45E5-42B8-929D-636FED1E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67C-90EA-4D3B-AE3B-1FE18CA7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529C-6A33-4EBE-ADA0-7AC3CB9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982B-2BE6-45D4-8169-2C453AF8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15C3-9D9C-4914-B20E-E6C26EBF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AB00-62B8-4734-8311-AD5D7412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ED7C-867A-42B2-B18D-F0215F07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6D2-A56B-49A0-8B5F-C2544035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0D9-A660-4C22-99E9-B39CD575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4D5-6991-4148-B96E-2AB645A3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C9E-87C5-46AC-8A48-39388113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85F-0F2A-49A5-8E7E-212BF0C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D43-9417-43F8-8D02-77228F56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954-8C05-47F2-90DD-3686A0AF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8FFF-DB93-4B5D-98EC-1DDAC1923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F297-022D-43B5-BD34-EF86160CE2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льная игротека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Веснушк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4"/>
          <p:cNvPicPr/>
          <p:nvPr/>
        </p:nvPicPr>
        <p:blipFill>
          <a:blip r:embed="rId1"/>
          <a:stretch/>
        </p:blipFill>
        <p:spPr>
          <a:xfrm>
            <a:off x="1187280" y="170028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179280" y="31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802800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8229600" y="5661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81440" y="404280"/>
            <a:ext cx="109047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Вместе с песней веселе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т улыбки хмурый день свет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т улыбки в небе радуга просн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Поделись улыбкою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И она еще не раз к тебе верн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пев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И тогда , наверня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Вдруг запляшут обла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И кузнечик запиликает на скрип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С голубого ручейка начинается ре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Ну ,а дружба начинается с улы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SDC10734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льная 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в домике жив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ноты растут на гряд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ми нотами можно измерить музы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какой ноты не обходится ни один пова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vetton_ru_17"/>
          <p:cNvPicPr/>
          <p:nvPr/>
        </p:nvPicPr>
        <p:blipFill>
          <a:blip r:embed="rId1"/>
          <a:stretch/>
        </p:blipFill>
        <p:spPr>
          <a:xfrm>
            <a:off x="4916520" y="1700280"/>
            <a:ext cx="3929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Музыкальные загад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 какого инструмента есть и струны и педал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Что же это? Несомненн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лавный наш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 листочке, на страничк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о ли точки, то ли птич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се сидят на лесен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 щебечут песенк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60280"/>
            <a:ext cx="39290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Он по виду брат баян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Где веселье, там и о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Я подсказывать не стан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Всем знако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9280" y="259920"/>
            <a:ext cx="39290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Кто такая? Отгадай-к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Это наша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Сверху кожа, снизу тож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А в середине пуст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Arial Black"/>
              </a:rPr>
              <a:t>Найди потерянную риф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76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днажды на лесной опуш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нцерт затеял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ве симпатичные ляг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сполнили для всех веселы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160" y="1905120"/>
            <a:ext cx="422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 известно из газ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 нам едет лондонск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то желает пойти на концер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 меня есть лишн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4587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Ужасно толстый бегем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От смеха чуть не надорвал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Расходилась публика с концер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од звуки комариного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16520" y="259920"/>
            <a:ext cx="3929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Развеселил зверей и таракан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С собратьями исполнил о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Застенчивый, угрюмый носорог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Вдруг осмеле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рочел свой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гда- то в старине глубок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7671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ли в средние века во Франции странствующего поэта и певц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дячий музыкант, актер, певец и танцор в средневековой Рус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160" y="1905120"/>
            <a:ext cx="422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 искусства и све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ейший инструмент, воспетый в своих произведениях многими поэтами ми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6520" y="476280"/>
            <a:ext cx="39290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Вспомните и назовите известных сказочных музыкантов- исполнит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vetton_ru_44(1)"/>
          <p:cNvPicPr/>
          <p:nvPr/>
        </p:nvPicPr>
        <p:blipFill>
          <a:blip r:embed="rId1"/>
          <a:stretch/>
        </p:blipFill>
        <p:spPr>
          <a:xfrm>
            <a:off x="611280" y="1700280"/>
            <a:ext cx="3929040" cy="3854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8"/>
          <p:cNvSpPr/>
          <p:nvPr/>
        </p:nvSpPr>
        <p:spPr>
          <a:xfrm>
            <a:off x="6012000" y="4869000"/>
            <a:ext cx="1047600" cy="91440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7093080" y="4365720"/>
            <a:ext cx="1047600" cy="91440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ставьте названия нот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4427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.ко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..ме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..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гн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л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н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.п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м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..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нис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6"/>
          <p:cNvPicPr/>
          <p:nvPr/>
        </p:nvPicPr>
        <p:blipFill>
          <a:blip r:embed="rId1"/>
          <a:stretch/>
        </p:blipFill>
        <p:spPr>
          <a:xfrm>
            <a:off x="395280" y="1932120"/>
            <a:ext cx="360684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8"/>
          <p:cNvSpPr/>
          <p:nvPr/>
        </p:nvSpPr>
        <p:spPr>
          <a:xfrm>
            <a:off x="7667640" y="32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26:47Z</dcterms:created>
  <dc:creator>1</dc:creator>
  <dc:description/>
  <dc:language>en-US</dc:language>
  <cp:lastModifiedBy>школа</cp:lastModifiedBy>
  <dcterms:modified xsi:type="dcterms:W3CDTF">2012-02-07T13:17:58Z</dcterms:modified>
  <cp:revision>5</cp:revision>
  <dc:subject/>
  <dc:title>Музыкальная игротека</dc:title>
</cp:coreProperties>
</file>