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AED-B3C0-40BA-85B8-E1D00853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61F-7EB0-4EB7-A113-060B26AD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ED3-D9A4-4A89-B249-F53BE949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F9A-9C80-4374-8738-AA956C50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5B8B-F563-4D52-B5A4-12C8F8C4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6696-3325-49F1-B54B-1D42C72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D671-AFC6-4BCB-BB64-BE30E3EC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33E-D615-4F41-8556-A11039D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7A2E-C34B-438C-822E-D1F224FA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FD3-1E11-4078-BD3E-86B729A1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4673-7830-4654-92C7-F60EE74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48E-CA77-4D34-9AED-3E5EACE1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6F58-C933-4071-B07F-7C39F8E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4505-A92E-47BF-858A-D9C80EA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3D5D-D683-40EF-9BB7-65F262AC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E090-FEBA-4D7E-B9F9-773AB59B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DE76-A299-4665-9749-976DE378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9D0-A586-4941-A888-19457054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AB3-7C51-477A-B40C-037AFFB9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F02-9328-41A6-A5D0-7807082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A2D-BB36-44A5-B9EE-4ED556B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FF0-05DA-4D93-8595-E5B051B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724-88BF-488A-8D82-C364C689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9FB-34BF-4DA4-B7E8-4EC688B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5A6D-8D59-4483-8428-320B29DE77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2DFA-71DF-434C-A410-91649450F1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льная игротека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Веснуш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5" descr="4"/>
          <p:cNvPicPr/>
          <p:nvPr/>
        </p:nvPicPr>
        <p:blipFill>
          <a:blip r:embed="rId1"/>
          <a:stretch/>
        </p:blipFill>
        <p:spPr>
          <a:xfrm>
            <a:off x="1187280" y="170028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17928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8028000" y="6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229600" y="5661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81440" y="404280"/>
            <a:ext cx="109047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Вместе с песней веселе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т улыбки хмурый день свет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т улыбки в небе радуга просне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Поделись улыбкою сво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она еще не раз к тебе верн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пев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тогда , наверня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Вдруг запляшут обла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И кузнечик запиликает на скрип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С голубого ручейка начинается ре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Ну ,а дружба начинается с улыб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5" descr="SDC10734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узыкальная 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в домике жив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оты растут на гряд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ми нотами можно измерить музык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какой ноты не обходится ни один пова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vetton_ru_17"/>
          <p:cNvPicPr/>
          <p:nvPr/>
        </p:nvPicPr>
        <p:blipFill>
          <a:blip r:embed="rId1"/>
          <a:stretch/>
        </p:blipFill>
        <p:spPr>
          <a:xfrm>
            <a:off x="4916520" y="1700280"/>
            <a:ext cx="3929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Музыкальные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У какого инструмента есть и струны и педал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Что же это? Несомненн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лавный наш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 листочке, на страничк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То ли точки, то ли птич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Все сидят на лесен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 щебечут песенки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60280"/>
            <a:ext cx="39290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Он по виду брат баян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Где веселье, там и о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Я подсказывать не стан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сем знако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59280" y="259920"/>
            <a:ext cx="3929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Кто такая? Отгадай-к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Это наша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Сверху кожа, снизу тоже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А в середине пус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Arial Black"/>
              </a:rPr>
              <a:t>Найди потерянную рифм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76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днажды на лесной опуш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нцерт затеял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ве симпатичные ляг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сполнили для всех веселы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160" y="1905120"/>
            <a:ext cx="422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к известно из газ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 нам едет лондонск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то желает пойти на концер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 меня есть лишни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45878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Ужасно толстый бегем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От смеха чуть не надорвал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Расходилась публика с концер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од звуки комариного</a:t>
            </a: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16520" y="259920"/>
            <a:ext cx="39290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Развеселил зверей и тарака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С собратьями исполнил о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Застенчивый, угрюмый носорог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друг осмеле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Прочел свой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гда- то в старине глубок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7671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ли в средние века во Франции странствующего поэта и певц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дячий музыкант, актер, певец и танцор в средневековой Рус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160" y="1905120"/>
            <a:ext cx="422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искусства и с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ейший инструмент, воспетый в своих произведениях многими поэтами ми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6520" y="476280"/>
            <a:ext cx="39290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Arial"/>
              </a:rPr>
              <a:t>Вспомните и назовите известных сказочных музыкантов- исполнит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etton_ru_44(1)"/>
          <p:cNvPicPr/>
          <p:nvPr/>
        </p:nvPicPr>
        <p:blipFill>
          <a:blip r:embed="rId1"/>
          <a:stretch/>
        </p:blipFill>
        <p:spPr>
          <a:xfrm>
            <a:off x="611280" y="1700280"/>
            <a:ext cx="3929040" cy="385452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8"/>
          <p:cNvSpPr/>
          <p:nvPr/>
        </p:nvSpPr>
        <p:spPr>
          <a:xfrm>
            <a:off x="6012000" y="4869000"/>
            <a:ext cx="104760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7093080" y="4365720"/>
            <a:ext cx="1047600" cy="91440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ставьте названия но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000" y="907560"/>
            <a:ext cx="44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.ко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..м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..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гн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лл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ну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.п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м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..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ни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6"/>
          <p:cNvPicPr/>
          <p:nvPr/>
        </p:nvPicPr>
        <p:blipFill>
          <a:blip r:embed="rId1"/>
          <a:stretch/>
        </p:blipFill>
        <p:spPr>
          <a:xfrm>
            <a:off x="395280" y="1932120"/>
            <a:ext cx="360684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8"/>
          <p:cNvSpPr/>
          <p:nvPr/>
        </p:nvSpPr>
        <p:spPr>
          <a:xfrm>
            <a:off x="7667640" y="32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26:47Z</dcterms:created>
  <dc:creator>1</dc:creator>
  <dc:description/>
  <dc:language>en-US</dc:language>
  <cp:lastModifiedBy>школа</cp:lastModifiedBy>
  <dcterms:modified xsi:type="dcterms:W3CDTF">2012-02-07T13:17:58Z</dcterms:modified>
  <cp:revision>5</cp:revision>
  <dc:subject/>
  <dc:title>Музыкальная игротека</dc:title>
</cp:coreProperties>
</file>