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5CEE-BCE4-410C-B163-E437833C1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334A-5FA8-411B-A19F-BFDAE8CB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35C9-2C10-4BA9-873F-79628F4F7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C1D6-249C-4F8C-81D4-FC38F81E0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9379-8D11-4B3D-A997-56995E1A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6B04-D229-4939-BC5C-70AB90B6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61EE-93D9-43AE-A36A-295664F6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A883-E0A8-48DE-89AA-3607235C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1F92-5E78-4799-A8DA-890CFD7A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1D63-2C35-477C-8A39-8E8D5B29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6FFE-6D68-43F6-A77C-7883D720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CD28-3774-4926-BF15-BFDADAF0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C461-F9C6-4007-8482-909E31512CC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50920" y="763560"/>
            <a:ext cx="7273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Моделирование, 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258920" y="1773360"/>
            <a:ext cx="626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формализация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1692360" y="2924280"/>
            <a:ext cx="626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визуализация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  <p:pic>
        <p:nvPicPr>
          <p:cNvPr id="44" name="Picture 11" descr="йц"/>
          <p:cNvPicPr/>
          <p:nvPr/>
        </p:nvPicPr>
        <p:blipFill>
          <a:blip r:embed="rId1"/>
          <a:stretch/>
        </p:blipFill>
        <p:spPr>
          <a:xfrm>
            <a:off x="3059280" y="4221000"/>
            <a:ext cx="3047760" cy="22813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2"/>
          <p:cNvSpPr/>
          <p:nvPr/>
        </p:nvSpPr>
        <p:spPr>
          <a:xfrm>
            <a:off x="4284720" y="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Клинковская М.В., учитель информатики МОУ гимназии №7 г.Балтийс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250920" y="0"/>
            <a:ext cx="85690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 ПРОЦЕССЕ ПОЗНАНИЯ ОКРУЖАЮЩЕГО МИРА ЧЕЛОВЕЧЕСТВО ПОСТОЯННО ИСПОЛЬЗУЕТ МОДЕЛИРОВАНИЕ И ФОРМАЛИЗАЦИ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При изучении нового объекта сначала обычно строится его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описательная информационная модель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на  естественном языке, затем она формализуется, т.е. выражается с использованием формальных язы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0" y="2997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 процессе исследования формальных моделей        часто производится их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визуализация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50920" y="4292640"/>
            <a:ext cx="8675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Georgia"/>
              </a:rPr>
              <a:t>Для визуализации алгоритмов используются блок-сх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50920" y="486900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Georgia"/>
              </a:rPr>
              <a:t>Для визуализации                                                       пространственных отношений между объектами -- чертеж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24000" y="5805360"/>
            <a:ext cx="84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Georgia"/>
              </a:rPr>
              <a:t>При создании моделей электрических цепей             используют электрические сх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50920" y="1700280"/>
            <a:ext cx="864072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Как вы понимаете значение слова «модель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риведите примеры моделирования в различных областях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На какие два класса можно разделить все информационные модел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риведите примеры материальных моде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риведите примеры различных форм информационных моде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Что представляет собой формализация информационной модел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риведите примеры описательных информационных моде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риведите примеры формализованных информационных моде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324000" y="836640"/>
            <a:ext cx="835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Литерату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Н. Угринович «Информатика. Базовый курс – 9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.Бешенков, Е.Ракитина «Информатика. Систематический курс – 10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Н.В. Макарова «Информатика 7 –9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2195640" y="189000"/>
            <a:ext cx="69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-- любой образ, аналог какого-либо объекта, процесса или явления, используемый в качестве его «заместителя», «представител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887640" y="134136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(Большой энциклопедический словарь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179280" y="404640"/>
            <a:ext cx="1800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МОДЕЛЬ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79280" y="5950080"/>
            <a:ext cx="367668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МОДЕЛИРОВАНИЕ</a:t>
            </a:r>
            <a:endParaRPr b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4030560" y="5877000"/>
            <a:ext cx="51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-- это метод познания, состоящий в создании и исследовании  мод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9" descr="475_b"/>
          <p:cNvPicPr/>
          <p:nvPr/>
        </p:nvPicPr>
        <p:blipFill>
          <a:blip r:embed="rId1"/>
          <a:stretch/>
        </p:blipFill>
        <p:spPr>
          <a:xfrm>
            <a:off x="250920" y="1695600"/>
            <a:ext cx="3193920" cy="3671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3941640" y="2421000"/>
            <a:ext cx="482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Georgia"/>
              </a:rPr>
              <a:t>СОЗДАЕТСЯ ЧЕЛОВЕКОМ В ПРОЦЕССЕ ПОЗНАНИЯ ОКРУЖАЮЩЕГО МИРА И ОТРАЖАЕТ </a:t>
            </a:r>
            <a:r>
              <a:rPr b="1" i="1" lang="ru-RU" sz="1800" spc="-1" strike="noStrike" u="sng">
                <a:solidFill>
                  <a:srgbClr val="000066"/>
                </a:solidFill>
                <a:uFillTx/>
                <a:latin typeface="Georgia"/>
              </a:rPr>
              <a:t>СУЩЕСТВЕННЫЕ</a:t>
            </a:r>
            <a:r>
              <a:rPr b="1" lang="ru-RU" sz="1800" spc="-1" strike="noStrike" u="sng">
                <a:solidFill>
                  <a:srgbClr val="000066"/>
                </a:solidFill>
                <a:uFillTx/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Georgia"/>
              </a:rPr>
              <a:t>ОСОБЕННОСТИ ИЗУЧАЕМОГО ОБЪЕКТА, ЯВЛЕНИЯ ИЛИ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4"/>
          <p:cNvSpPr txBox="1"/>
          <p:nvPr/>
        </p:nvSpPr>
        <p:spPr>
          <a:xfrm>
            <a:off x="179280" y="189000"/>
            <a:ext cx="439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990000"/>
                </a:solidFill>
                <a:latin typeface="Times New Roman"/>
              </a:rPr>
              <a:t>МОДЕЛИРОВАНИЕ  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990000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572000" y="260280"/>
            <a:ext cx="439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0066"/>
                </a:solidFill>
                <a:latin typeface="Times New Roman"/>
              </a:rPr>
              <a:t>КАК  МЕТОД</a:t>
            </a:r>
            <a:endParaRPr b="1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000066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0066"/>
                </a:solidFill>
                <a:latin typeface="Times New Roman"/>
              </a:rPr>
              <a:t>ПОЗНАНИЯ</a:t>
            </a:r>
            <a:endParaRPr b="1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000066"/>
              </a:solidFill>
              <a:latin typeface="Times New Roman"/>
              <a:ea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79280" y="1125360"/>
            <a:ext cx="453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Человечество в своей деятельности (научной, образовательной, технологической, художественной, и т. д.) постоянно создает и использует модели окружающего мир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7" descr="20995"/>
          <p:cNvPicPr/>
          <p:nvPr/>
        </p:nvPicPr>
        <p:blipFill>
          <a:blip r:embed="rId1"/>
          <a:stretch/>
        </p:blipFill>
        <p:spPr>
          <a:xfrm>
            <a:off x="3132000" y="2781360"/>
            <a:ext cx="2644920" cy="3174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пр"/>
          <p:cNvPicPr/>
          <p:nvPr/>
        </p:nvPicPr>
        <p:blipFill>
          <a:blip r:embed="rId2"/>
          <a:stretch/>
        </p:blipFill>
        <p:spPr>
          <a:xfrm>
            <a:off x="6372360" y="1557360"/>
            <a:ext cx="2273040" cy="3311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цц"/>
          <p:cNvPicPr/>
          <p:nvPr/>
        </p:nvPicPr>
        <p:blipFill>
          <a:blip r:embed="rId3"/>
          <a:stretch/>
        </p:blipFill>
        <p:spPr>
          <a:xfrm>
            <a:off x="684360" y="4437000"/>
            <a:ext cx="200340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>
            <a:off x="1403280" y="2708280"/>
            <a:ext cx="5184720" cy="9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990000"/>
                </a:solidFill>
                <a:latin typeface="Times New Roman"/>
              </a:rPr>
              <a:t>РОЛЬ  МОДЕЛЕЙ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990000"/>
              </a:solidFill>
              <a:latin typeface="Times New Roman"/>
              <a:ea typeface="Times New Roman"/>
            </a:endParaRPr>
          </a:p>
        </p:txBody>
      </p:sp>
      <p:sp>
        <p:nvSpPr>
          <p:cNvPr id="60" name="Oval 5"/>
          <p:cNvSpPr/>
          <p:nvPr/>
        </p:nvSpPr>
        <p:spPr>
          <a:xfrm>
            <a:off x="177840" y="260280"/>
            <a:ext cx="2593800" cy="1081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50920" y="62064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 ПРОЕКТИРОВАНИ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7"/>
          <p:cNvSpPr/>
          <p:nvPr/>
        </p:nvSpPr>
        <p:spPr>
          <a:xfrm>
            <a:off x="6156360" y="189000"/>
            <a:ext cx="2736720" cy="1081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6372360" y="54936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 РАЗВИТИИ НАУК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6227640" y="1197000"/>
            <a:ext cx="2737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Garamond"/>
              </a:rPr>
              <a:t>ТЕ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Garamond"/>
              </a:rPr>
              <a:t>ГИПОТЕЗ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Garamond"/>
              </a:rPr>
              <a:t>ЗАК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7812000" y="1341360"/>
            <a:ext cx="144720" cy="935280"/>
          </a:xfrm>
          <a:custGeom>
            <a:avLst/>
            <a:gdLst>
              <a:gd name="textAreaLeft" fmla="*/ 0 w 144720"/>
              <a:gd name="textAreaRight" fmla="*/ 52200 w 14472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8064360" y="1484280"/>
            <a:ext cx="107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</a:rPr>
              <a:t>ТЕОРЕТИ-ЧЕСКИЕ  МОД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0" y="1341360"/>
            <a:ext cx="291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Garamond"/>
              </a:rPr>
              <a:t>- МАКЕТЫ ЗД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Garamond"/>
              </a:rPr>
              <a:t>- СХЕМЫ ЭЛ. ЦЕП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Garamond"/>
              </a:rPr>
              <a:t>- ЧЕРТЕЖИ ДЕТА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Oval 13"/>
          <p:cNvSpPr/>
          <p:nvPr/>
        </p:nvSpPr>
        <p:spPr>
          <a:xfrm>
            <a:off x="3564000" y="5589720"/>
            <a:ext cx="2809800" cy="1081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3635280" y="580536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ХУДОЖЕСТВЕННОЕ      ТВОРЧЕ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Group 18"/>
          <p:cNvGrpSpPr/>
          <p:nvPr/>
        </p:nvGrpSpPr>
        <p:grpSpPr>
          <a:xfrm>
            <a:off x="324000" y="2637000"/>
            <a:ext cx="755640" cy="791640"/>
            <a:chOff x="324000" y="2637000"/>
            <a:chExt cx="755640" cy="791640"/>
          </a:xfrm>
        </p:grpSpPr>
        <p:sp>
          <p:nvSpPr>
            <p:cNvPr id="71" name="Gear"/>
            <p:cNvSpPr/>
            <p:nvPr/>
          </p:nvSpPr>
          <p:spPr>
            <a:xfrm>
              <a:off x="743040" y="2637000"/>
              <a:ext cx="336600" cy="363240"/>
            </a:xfrm>
            <a:custGeom>
              <a:avLst/>
              <a:gdLst>
                <a:gd name="textAreaLeft" fmla="*/ 68040 w 336600"/>
                <a:gd name="textAreaRight" fmla="*/ 278280 w 336600"/>
                <a:gd name="textAreaTop" fmla="*/ 66600 h 363240"/>
                <a:gd name="textAreaBottom" fmla="*/ 296640 h 36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AutoShape 20"/>
            <p:cNvSpPr/>
            <p:nvPr/>
          </p:nvSpPr>
          <p:spPr>
            <a:xfrm>
              <a:off x="324000" y="2786400"/>
              <a:ext cx="402480" cy="434160"/>
            </a:xfrm>
            <a:custGeom>
              <a:avLst/>
              <a:gdLst>
                <a:gd name="textAreaLeft" fmla="*/ 81360 w 402480"/>
                <a:gd name="textAreaRight" fmla="*/ 332640 w 402480"/>
                <a:gd name="textAreaTop" fmla="*/ 79560 h 434160"/>
                <a:gd name="textAreaBottom" fmla="*/ 354600 h 43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AutoShape 21"/>
            <p:cNvSpPr/>
            <p:nvPr/>
          </p:nvSpPr>
          <p:spPr>
            <a:xfrm>
              <a:off x="585000" y="2946600"/>
              <a:ext cx="447480" cy="482040"/>
            </a:xfrm>
            <a:custGeom>
              <a:avLst/>
              <a:gdLst>
                <a:gd name="textAreaLeft" fmla="*/ 90720 w 447480"/>
                <a:gd name="textAreaRight" fmla="*/ 369720 w 447480"/>
                <a:gd name="textAreaTop" fmla="*/ 88200 h 482040"/>
                <a:gd name="textAreaBottom" fmla="*/ 393480 h 48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4" name="Picture 22" descr="мид"/>
          <p:cNvPicPr/>
          <p:nvPr/>
        </p:nvPicPr>
        <p:blipFill>
          <a:blip r:embed="rId1"/>
          <a:stretch/>
        </p:blipFill>
        <p:spPr>
          <a:xfrm>
            <a:off x="2916360" y="260280"/>
            <a:ext cx="1530360" cy="1944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4" descr="ппп"/>
          <p:cNvPicPr/>
          <p:nvPr/>
        </p:nvPicPr>
        <p:blipFill>
          <a:blip r:embed="rId2"/>
          <a:stretch/>
        </p:blipFill>
        <p:spPr>
          <a:xfrm>
            <a:off x="6629400" y="4292640"/>
            <a:ext cx="2279520" cy="2384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5" descr="па"/>
          <p:cNvPicPr/>
          <p:nvPr/>
        </p:nvPicPr>
        <p:blipFill>
          <a:blip r:embed="rId3"/>
          <a:stretch/>
        </p:blipFill>
        <p:spPr>
          <a:xfrm>
            <a:off x="6948360" y="2421000"/>
            <a:ext cx="2016360" cy="1731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6" descr="aivasovsky девятый вал"/>
          <p:cNvPicPr/>
          <p:nvPr/>
        </p:nvPicPr>
        <p:blipFill>
          <a:blip r:embed="rId4"/>
          <a:stretch/>
        </p:blipFill>
        <p:spPr>
          <a:xfrm>
            <a:off x="250920" y="4508640"/>
            <a:ext cx="3173400" cy="21445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7"/>
          <p:cNvSpPr/>
          <p:nvPr/>
        </p:nvSpPr>
        <p:spPr>
          <a:xfrm>
            <a:off x="0" y="4076640"/>
            <a:ext cx="37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Айвазовский «Девятый вал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8"/>
          <p:cNvSpPr/>
          <p:nvPr/>
        </p:nvSpPr>
        <p:spPr>
          <a:xfrm>
            <a:off x="4356000" y="378936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Н.Коперник              и изображение гелиоцентрической системы Копер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24000" y="551664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Georgia"/>
              </a:rPr>
              <a:t>Для описания и исследования                                    одного и того же объекта                                              может использоваться несколько мод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6" descr="ааааа"/>
          <p:cNvPicPr/>
          <p:nvPr/>
        </p:nvPicPr>
        <p:blipFill>
          <a:blip r:embed="rId1"/>
          <a:stretch/>
        </p:blipFill>
        <p:spPr>
          <a:xfrm>
            <a:off x="324000" y="260280"/>
            <a:ext cx="2879640" cy="1716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аааа"/>
          <p:cNvPicPr/>
          <p:nvPr/>
        </p:nvPicPr>
        <p:blipFill>
          <a:blip r:embed="rId2"/>
          <a:stretch/>
        </p:blipFill>
        <p:spPr>
          <a:xfrm>
            <a:off x="6732720" y="333360"/>
            <a:ext cx="1944720" cy="1206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глобус"/>
          <p:cNvPicPr/>
          <p:nvPr/>
        </p:nvPicPr>
        <p:blipFill>
          <a:blip r:embed="rId3"/>
          <a:stretch/>
        </p:blipFill>
        <p:spPr>
          <a:xfrm>
            <a:off x="3492360" y="601560"/>
            <a:ext cx="2159280" cy="40989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4"/>
          <p:cNvSpPr/>
          <p:nvPr/>
        </p:nvSpPr>
        <p:spPr>
          <a:xfrm>
            <a:off x="324000" y="2133720"/>
            <a:ext cx="28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КОНТУРНАЯ КАРТА    ЗЕМНОЙ ПОВЕРХ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5651640" y="1844640"/>
            <a:ext cx="32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ГЛОБУС И КАРТЫ РАЗЛИЧНОГО ВИДА    ДЛЯ ИЗУЧЕНИЯ ПОВЕРХНОСТИ ЗЕМ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436572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Georgia"/>
              </a:rPr>
              <a:t>Для описания и исследования   разных объектов  может использоваться       одна и та же мод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684360" y="333360"/>
            <a:ext cx="6192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--ДВИЖЕНИЕ АВТОМОБИЛ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-- ДВИЖЕНИЕ МЯЧА В ОПРЕДЕЛЕННЫХ УСЛОВИЯХ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-- ОПИСАНИЕ ДВИЖЕНИЯ ПЛА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24000" y="2276640"/>
            <a:ext cx="8569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ЭТИХ СЛУЧАЯХ МОЖНО ИСПОЛЬЗОВАТЬ                                            ОДНУ И ТУ ЖЕ МОДЕЛЬ ДВИЖЕНИЯ МАТЕРИАЛЬНОЙ ТОЧ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(ЗДЕСЬ РАЗМЕРАМИ ОБЪЕКТОВ МОЖНО ПРЕНЕБРЕЧЬ,                         Т.К. САМИ ОБЪЕКТЫ ГОРАЗДО МЕНЬШЕ, ЧЕМ ИХ ПЕРЕМЕЩЕНИ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1763640" y="3068640"/>
            <a:ext cx="5327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МОДЕЛИ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250920" y="5734080"/>
            <a:ext cx="460692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НФОРМАЦИОННЫЕ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" name="WordArt 6"/>
          <p:cNvSpPr txBox="1"/>
          <p:nvPr/>
        </p:nvSpPr>
        <p:spPr>
          <a:xfrm>
            <a:off x="4427640" y="189000"/>
            <a:ext cx="4538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МАТЕРИАЛЬНЫЕ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92" name="Picture 10" descr="tellury"/>
          <p:cNvPicPr/>
          <p:nvPr/>
        </p:nvPicPr>
        <p:blipFill>
          <a:blip r:embed="rId1"/>
          <a:stretch/>
        </p:blipFill>
        <p:spPr>
          <a:xfrm>
            <a:off x="5796000" y="981000"/>
            <a:ext cx="3024000" cy="1943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таблменд"/>
          <p:cNvPicPr/>
          <p:nvPr/>
        </p:nvPicPr>
        <p:blipFill>
          <a:blip r:embed="rId2"/>
          <a:stretch/>
        </p:blipFill>
        <p:spPr>
          <a:xfrm>
            <a:off x="395280" y="3860640"/>
            <a:ext cx="2533680" cy="175896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13"/>
          <p:cNvSpPr/>
          <p:nvPr/>
        </p:nvSpPr>
        <p:spPr>
          <a:xfrm>
            <a:off x="4716360" y="907920"/>
            <a:ext cx="503280" cy="1944720"/>
          </a:xfrm>
          <a:prstGeom prst="upArrow">
            <a:avLst>
              <a:gd name="adj1" fmla="val 50000"/>
              <a:gd name="adj2" fmla="val 96602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4"/>
          <p:cNvSpPr/>
          <p:nvPr/>
        </p:nvSpPr>
        <p:spPr>
          <a:xfrm rot="10800000">
            <a:off x="3708360" y="3716280"/>
            <a:ext cx="503280" cy="1944720"/>
          </a:xfrm>
          <a:prstGeom prst="upArrow">
            <a:avLst>
              <a:gd name="adj1" fmla="val 50000"/>
              <a:gd name="adj2" fmla="val 96602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539640" y="260280"/>
            <a:ext cx="835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ИНФОРМАЦИОННЫЕ  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324000" y="1197000"/>
            <a:ext cx="316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БРАЗНЫЕ МОДЕ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8" name="WordArt 7"/>
          <p:cNvSpPr txBox="1"/>
          <p:nvPr/>
        </p:nvSpPr>
        <p:spPr>
          <a:xfrm>
            <a:off x="5651640" y="1052640"/>
            <a:ext cx="316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НАКОВЫЕ МОДЕ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9" name="WordArt 8"/>
          <p:cNvSpPr txBox="1"/>
          <p:nvPr/>
        </p:nvSpPr>
        <p:spPr>
          <a:xfrm>
            <a:off x="250920" y="3789360"/>
            <a:ext cx="3168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ТАБЛИЦЫ, БЛОК-СХЕМ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0" name="WordArt 9"/>
          <p:cNvSpPr txBox="1"/>
          <p:nvPr/>
        </p:nvSpPr>
        <p:spPr>
          <a:xfrm>
            <a:off x="2411280" y="5013360"/>
            <a:ext cx="6481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ОДЕЛИ, ОТОБРАЖАЮЩИЕ ИЕРАРХИЧЕСКИЕ СИСТЕМ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01" name="Picture 12" descr="рылов, в голубом просторе"/>
          <p:cNvPicPr/>
          <p:nvPr/>
        </p:nvPicPr>
        <p:blipFill>
          <a:blip r:embed="rId1"/>
          <a:stretch/>
        </p:blipFill>
        <p:spPr>
          <a:xfrm>
            <a:off x="684360" y="1700280"/>
            <a:ext cx="2232000" cy="16761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3"/>
          <p:cNvSpPr/>
          <p:nvPr/>
        </p:nvSpPr>
        <p:spPr>
          <a:xfrm>
            <a:off x="6372360" y="1557360"/>
            <a:ext cx="20160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M   A(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  I= 1  TO 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PUT  A(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EXT 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  I=1  TO 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=S+A(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EXT 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INT 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14" descr="схема"/>
          <p:cNvPicPr/>
          <p:nvPr/>
        </p:nvPicPr>
        <p:blipFill>
          <a:blip r:embed="rId2"/>
          <a:stretch/>
        </p:blipFill>
        <p:spPr>
          <a:xfrm>
            <a:off x="324000" y="4292640"/>
            <a:ext cx="1815840" cy="9525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6"/>
          <p:cNvSpPr/>
          <p:nvPr/>
        </p:nvSpPr>
        <p:spPr>
          <a:xfrm>
            <a:off x="2158920" y="544500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 БИОЛОГИИ:                                                                                 ВЕСЬ ЖИВОТНЫЙ МИР                                                    РАССМАТРИВАЕТСЯ КАК ИЕРАРХИЧЕСКАЯ СИСТЕМА         (ТИП, КЛАСС, ОТРЯД, СЕМЕЙСТВО, РОД, ВИД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WordArt 17"/>
          <p:cNvSpPr txBox="1"/>
          <p:nvPr/>
        </p:nvSpPr>
        <p:spPr>
          <a:xfrm rot="5400000">
            <a:off x="3383280" y="2529720"/>
            <a:ext cx="280836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МОДЕЛИ</a:t>
            </a:r>
            <a:endParaRPr b="1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med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324000" y="260280"/>
            <a:ext cx="8569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ФОРМАЛИЗАЦИЯ 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ИНФОРМАЦИОННЫХ   МОДЕЛЕЙ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0" y="2133720"/>
            <a:ext cx="9361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Georgia"/>
              </a:rPr>
              <a:t>Формализация </a:t>
            </a:r>
            <a:r>
              <a:rPr b="1" lang="ru-RU" sz="2400" spc="-1" strike="noStrike">
                <a:solidFill>
                  <a:srgbClr val="000066"/>
                </a:solidFill>
                <a:latin typeface="Georgia"/>
              </a:rPr>
              <a:t>– процесс построения информационных  моделей                                                            с помощью формальных язы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755640" y="5950080"/>
            <a:ext cx="77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Формальные языки: системы специализированных языковых средств или их символов с точными правилами сочетаем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0" y="3429000"/>
            <a:ext cx="356400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МАТЕМАТИЧЕСКИЙ ЯЗЫК АЛГЕБРАИЧЕСКИХ ФОРМУ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 = 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5580000" y="3429000"/>
            <a:ext cx="356400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ЯЗЫК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ХИМИЧЕСКИХ ФОРМУ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2916360" y="4724280"/>
            <a:ext cx="338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НОТНАЯ  ГРАМ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Music"/>
          <p:cNvSpPr/>
          <p:nvPr/>
        </p:nvSpPr>
        <p:spPr>
          <a:xfrm>
            <a:off x="4067280" y="5157720"/>
            <a:ext cx="873000" cy="657360"/>
          </a:xfrm>
          <a:custGeom>
            <a:avLst/>
            <a:gdLst>
              <a:gd name="textAreaLeft" fmla="*/ 322200 w 873000"/>
              <a:gd name="textAreaRight" fmla="*/ 846360 w 873000"/>
              <a:gd name="textAreaTop" fmla="*/ 28080 h 657360"/>
              <a:gd name="textAreaBottom" fmla="*/ 162720 h 657360"/>
            </a:gdLst>
            <a:ahLst/>
            <a:rect l="textAreaLeft" t="textAreaTop" r="textAreaRight" b="textAreaBottom"/>
            <a:pathLst>
              <a:path w="21600" h="21600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9T20:57:09Z</dcterms:created>
  <dc:creator>Костя</dc:creator>
  <dc:description/>
  <dc:language>en-US</dc:language>
  <cp:lastModifiedBy>учитель каб №9</cp:lastModifiedBy>
  <dcterms:modified xsi:type="dcterms:W3CDTF">2012-05-16T14:08:58Z</dcterms:modified>
  <cp:revision>14</cp:revision>
  <dc:subject/>
  <dc:title>Слайд 1</dc:title>
</cp:coreProperties>
</file>