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540-325E-4079-B4D4-B277A0BB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78D-0FDE-4383-AA1B-332383F6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E18-D319-4CDC-9EB2-B220E1B8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5CB-9211-4862-B4E5-3A2F7BA9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A17-13A4-4EBF-A54E-61896011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B9A-20C0-40C2-AFE5-2C707719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C3A-9131-4425-B97F-848792C6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B7D-639C-4C97-AED5-3F76465A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2A8-6857-44A5-99B7-DC56322E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291-2EE9-4D54-B9A4-2F17E646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65E-A738-4FE2-8872-1966C1C0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6A5-D2F3-48D0-B948-59B461B9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3C19-75F1-4614-AD20-5C78A38057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50920" y="763560"/>
            <a:ext cx="727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Моделирование,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58920" y="177336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формализация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692360" y="2924280"/>
            <a:ext cx="62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визуализация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pic>
        <p:nvPicPr>
          <p:cNvPr id="44" name="Picture 11" descr="йц"/>
          <p:cNvPicPr/>
          <p:nvPr/>
        </p:nvPicPr>
        <p:blipFill>
          <a:blip r:embed="rId1"/>
          <a:stretch/>
        </p:blipFill>
        <p:spPr>
          <a:xfrm>
            <a:off x="3059280" y="4221000"/>
            <a:ext cx="3047760" cy="228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2"/>
          <p:cNvSpPr/>
          <p:nvPr/>
        </p:nvSpPr>
        <p:spPr>
          <a:xfrm>
            <a:off x="4284720" y="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Клинковская М.В., учитель информатики МОУ гимназии №7 г.Балтий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50920" y="0"/>
            <a:ext cx="8569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 ПРОЦЕССЕ ПОЗНАНИЯ ОКРУЖАЮЩЕГО МИРА ЧЕЛОВЕЧЕСТВО ПОСТОЯННО ИСПОЛЬЗУЕТ МОДЕЛИРОВАНИЕ И ФОРМАЛИЗАЦ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и изучении нового объекта сначала обычно строится его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писательная информационная модель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на  естественном языке, затем она формализуется, т.е. выражается с использованием формальных язы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0" y="29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 процессе исследования формальных моделей        часто производится их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визуализация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50920" y="4292640"/>
            <a:ext cx="867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Для визуализации алгоритмов используются блок-сх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0920" y="486900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Для визуализации                                                       пространственных отношений между объектами -- черте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24000" y="580536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При создании моделей электрических цепей             используют электрические сх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1700280"/>
            <a:ext cx="86407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к вы понимаете значение слова «модель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моделирования в различных областях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а какие два класса можно разделить все информационные моде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материальных мод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различных форм информационных мод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Что представляет собой формализация информационной моде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описательных информационных мод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формализованных информационных мод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24000" y="836640"/>
            <a:ext cx="835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Литерату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. Угринович «Информатика. Базовый курс – 9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.Бешенков, Е.Ракитина «Информатика. Систематический курс – 1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.В. Макарова «Информатика 7 –9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195640" y="189000"/>
            <a:ext cx="69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- любой образ, аналог какого-либо объекта, процесса или явления, используемый в качестве его «заместителя», «представител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887640" y="1341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(Большой энциклопедический словар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79280" y="40464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МОДЕЛЬ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9280" y="5950080"/>
            <a:ext cx="367668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МОДЕЛИРОВАНИЕ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030560" y="5877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- это метод познания, состоящий в создании и исследовании  мод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9" descr="475_b"/>
          <p:cNvPicPr/>
          <p:nvPr/>
        </p:nvPicPr>
        <p:blipFill>
          <a:blip r:embed="rId1"/>
          <a:stretch/>
        </p:blipFill>
        <p:spPr>
          <a:xfrm>
            <a:off x="250920" y="1695600"/>
            <a:ext cx="3193920" cy="3671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3941640" y="2421000"/>
            <a:ext cx="482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eorgia"/>
              </a:rPr>
              <a:t>СОЗДАЕТСЯ ЧЕЛОВЕКОМ В ПРОЦЕССЕ ПОЗНАНИЯ ОКРУЖАЮЩЕГО МИРА И ОТРАЖАЕТ 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Georgia"/>
              </a:rPr>
              <a:t>СУЩЕСТВЕННЫЕ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Georgia"/>
              </a:rPr>
              <a:t>ОСОБЕННОСТИ ИЗУЧАЕМОГО ОБЪЕКТА, ЯВЛЕНИЯ ИЛИ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179280" y="189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990000"/>
                </a:solidFill>
                <a:latin typeface="Times New Roman"/>
              </a:rPr>
              <a:t>МОДЕЛИРОВАНИЕ 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990000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572000" y="26028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КАК  МЕТОД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ПОЗНАНИЯ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79280" y="1125360"/>
            <a:ext cx="453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Человечество в своей деятельности (научной, образовательной, технологической, художественной, и т. д.) постоянно создает и использует модели окружающего ми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20995"/>
          <p:cNvPicPr/>
          <p:nvPr/>
        </p:nvPicPr>
        <p:blipFill>
          <a:blip r:embed="rId1"/>
          <a:stretch/>
        </p:blipFill>
        <p:spPr>
          <a:xfrm>
            <a:off x="3132000" y="2781360"/>
            <a:ext cx="2644920" cy="317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пр"/>
          <p:cNvPicPr/>
          <p:nvPr/>
        </p:nvPicPr>
        <p:blipFill>
          <a:blip r:embed="rId2"/>
          <a:stretch/>
        </p:blipFill>
        <p:spPr>
          <a:xfrm>
            <a:off x="6372360" y="1557360"/>
            <a:ext cx="2273040" cy="331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цц"/>
          <p:cNvPicPr/>
          <p:nvPr/>
        </p:nvPicPr>
        <p:blipFill>
          <a:blip r:embed="rId3"/>
          <a:stretch/>
        </p:blipFill>
        <p:spPr>
          <a:xfrm>
            <a:off x="684360" y="4437000"/>
            <a:ext cx="200340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1403280" y="2708280"/>
            <a:ext cx="518472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990000"/>
                </a:solidFill>
                <a:latin typeface="Times New Roman"/>
              </a:rPr>
              <a:t>РОЛЬ  МОДЕЛЕЙ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9900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Oval 5"/>
          <p:cNvSpPr/>
          <p:nvPr/>
        </p:nvSpPr>
        <p:spPr>
          <a:xfrm>
            <a:off x="177840" y="260280"/>
            <a:ext cx="259380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50920" y="620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 ПРОЕКТИРОВАН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6156360" y="189000"/>
            <a:ext cx="273672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372360" y="549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 РАЗВИТИИ НАУК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227640" y="1197000"/>
            <a:ext cx="27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ТЕ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ГИПОТЕ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ЗАК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7812000" y="1341360"/>
            <a:ext cx="144720" cy="935280"/>
          </a:xfrm>
          <a:custGeom>
            <a:avLst/>
            <a:gdLst>
              <a:gd name="textAreaLeft" fmla="*/ 0 w 144720"/>
              <a:gd name="textAreaRight" fmla="*/ 52200 w 14472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8064360" y="1484280"/>
            <a:ext cx="10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ТЕОРЕТИ-ЧЕСКИЕ  МОД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0" y="1341360"/>
            <a:ext cx="291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- МАКЕТЫ З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- СХЕМЫ ЭЛ. ЦЕП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- ЧЕРТЕЖИ ДЕТА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564000" y="5589720"/>
            <a:ext cx="280980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3635280" y="5805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УДОЖЕСТВЕННОЕ      ТВОРЧЕ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324000" y="2637000"/>
            <a:ext cx="755640" cy="791640"/>
            <a:chOff x="324000" y="2637000"/>
            <a:chExt cx="755640" cy="791640"/>
          </a:xfrm>
        </p:grpSpPr>
        <p:sp>
          <p:nvSpPr>
            <p:cNvPr id="71" name="Gear"/>
            <p:cNvSpPr/>
            <p:nvPr/>
          </p:nvSpPr>
          <p:spPr>
            <a:xfrm>
              <a:off x="743040" y="2637000"/>
              <a:ext cx="336600" cy="363240"/>
            </a:xfrm>
            <a:custGeom>
              <a:avLst/>
              <a:gdLst>
                <a:gd name="textAreaLeft" fmla="*/ 68040 w 336600"/>
                <a:gd name="textAreaRight" fmla="*/ 278280 w 336600"/>
                <a:gd name="textAreaTop" fmla="*/ 66600 h 363240"/>
                <a:gd name="textAreaBottom" fmla="*/ 296640 h 3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20"/>
            <p:cNvSpPr/>
            <p:nvPr/>
          </p:nvSpPr>
          <p:spPr>
            <a:xfrm>
              <a:off x="324000" y="2786400"/>
              <a:ext cx="402480" cy="434160"/>
            </a:xfrm>
            <a:custGeom>
              <a:avLst/>
              <a:gdLst>
                <a:gd name="textAreaLeft" fmla="*/ 81360 w 402480"/>
                <a:gd name="textAreaRight" fmla="*/ 332640 w 402480"/>
                <a:gd name="textAreaTop" fmla="*/ 79560 h 434160"/>
                <a:gd name="textAreaBottom" fmla="*/ 354600 h 43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21"/>
            <p:cNvSpPr/>
            <p:nvPr/>
          </p:nvSpPr>
          <p:spPr>
            <a:xfrm>
              <a:off x="585000" y="2946600"/>
              <a:ext cx="447480" cy="482040"/>
            </a:xfrm>
            <a:custGeom>
              <a:avLst/>
              <a:gdLst>
                <a:gd name="textAreaLeft" fmla="*/ 90720 w 447480"/>
                <a:gd name="textAreaRight" fmla="*/ 369720 w 447480"/>
                <a:gd name="textAreaTop" fmla="*/ 88200 h 482040"/>
                <a:gd name="textAreaBottom" fmla="*/ 393480 h 48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4" name="Picture 22" descr="мид"/>
          <p:cNvPicPr/>
          <p:nvPr/>
        </p:nvPicPr>
        <p:blipFill>
          <a:blip r:embed="rId1"/>
          <a:stretch/>
        </p:blipFill>
        <p:spPr>
          <a:xfrm>
            <a:off x="2916360" y="260280"/>
            <a:ext cx="1530360" cy="194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4" descr="ппп"/>
          <p:cNvPicPr/>
          <p:nvPr/>
        </p:nvPicPr>
        <p:blipFill>
          <a:blip r:embed="rId2"/>
          <a:stretch/>
        </p:blipFill>
        <p:spPr>
          <a:xfrm>
            <a:off x="6629400" y="4292640"/>
            <a:ext cx="2279520" cy="238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па"/>
          <p:cNvPicPr/>
          <p:nvPr/>
        </p:nvPicPr>
        <p:blipFill>
          <a:blip r:embed="rId3"/>
          <a:stretch/>
        </p:blipFill>
        <p:spPr>
          <a:xfrm>
            <a:off x="6948360" y="2421000"/>
            <a:ext cx="2016360" cy="1731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" descr="aivasovsky девятый вал"/>
          <p:cNvPicPr/>
          <p:nvPr/>
        </p:nvPicPr>
        <p:blipFill>
          <a:blip r:embed="rId4"/>
          <a:stretch/>
        </p:blipFill>
        <p:spPr>
          <a:xfrm>
            <a:off x="250920" y="4508640"/>
            <a:ext cx="3173400" cy="2144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7"/>
          <p:cNvSpPr/>
          <p:nvPr/>
        </p:nvSpPr>
        <p:spPr>
          <a:xfrm>
            <a:off x="0" y="407664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Айвазовский «Девятый ва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4356000" y="37893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.Коперник              и изображение гелиоцентрической системы Копер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24000" y="5516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Georgia"/>
              </a:rPr>
              <a:t>Для описания и исследования                                    одного и того же объекта                                              может использоваться несколько мод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ааааа"/>
          <p:cNvPicPr/>
          <p:nvPr/>
        </p:nvPicPr>
        <p:blipFill>
          <a:blip r:embed="rId1"/>
          <a:stretch/>
        </p:blipFill>
        <p:spPr>
          <a:xfrm>
            <a:off x="324000" y="260280"/>
            <a:ext cx="2879640" cy="171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аааа"/>
          <p:cNvPicPr/>
          <p:nvPr/>
        </p:nvPicPr>
        <p:blipFill>
          <a:blip r:embed="rId2"/>
          <a:stretch/>
        </p:blipFill>
        <p:spPr>
          <a:xfrm>
            <a:off x="6732720" y="333360"/>
            <a:ext cx="1944720" cy="12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глобус"/>
          <p:cNvPicPr/>
          <p:nvPr/>
        </p:nvPicPr>
        <p:blipFill>
          <a:blip r:embed="rId3"/>
          <a:stretch/>
        </p:blipFill>
        <p:spPr>
          <a:xfrm>
            <a:off x="3492360" y="601560"/>
            <a:ext cx="2159280" cy="40989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4"/>
          <p:cNvSpPr/>
          <p:nvPr/>
        </p:nvSpPr>
        <p:spPr>
          <a:xfrm>
            <a:off x="324000" y="213372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НТУРНАЯ КАРТА    ЗЕМНОЙ ПОВЕРХ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651640" y="1844640"/>
            <a:ext cx="32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ЛОБУС И КАРТЫ РАЗЛИЧНОГО ВИДА    ДЛЯ ИЗУЧЕНИЯ ПОВЕРХНОСТИ ЗЕМ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43657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eorgia"/>
              </a:rPr>
              <a:t>Для описания и исследования   разных объектов  может использоваться       одна и та же мод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84360" y="333360"/>
            <a:ext cx="6192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--ДВИЖЕНИЕ АВТОМОБИЛ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-- ДВИЖЕНИЕ МЯЧА В ОПРЕДЕЛЕННЫХ УСЛОВИЯ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-- ОПИСАНИЕ ДВИЖЕНИЯ ПЛА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24000" y="2276640"/>
            <a:ext cx="8569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ЭТИХ СЛУЧАЯХ МОЖНО ИСПОЛЬЗОВАТЬ                                            ОДНУ И ТУ ЖЕ МОДЕЛЬ ДВИЖЕНИЯ МАТЕРИАЛЬНОЙ ТОЧ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(ЗДЕСЬ РАЗМЕРАМИ ОБЪЕКТОВ МОЖНО ПРЕНЕБРЕЧЬ,                         Т.К. САМИ ОБЪЕКТЫ ГОРАЗДО МЕНЬШЕ, ЧЕМ ИХ ПЕРЕМЕЩ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763640" y="3068640"/>
            <a:ext cx="5327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МОДЕЛИ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250920" y="5734080"/>
            <a:ext cx="460692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НФОРМАЦИОННЫ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4427640" y="189000"/>
            <a:ext cx="4538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АТЕРИАЛЬНЫ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2" name="Picture 10" descr="tellury"/>
          <p:cNvPicPr/>
          <p:nvPr/>
        </p:nvPicPr>
        <p:blipFill>
          <a:blip r:embed="rId1"/>
          <a:stretch/>
        </p:blipFill>
        <p:spPr>
          <a:xfrm>
            <a:off x="5796000" y="981000"/>
            <a:ext cx="302400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таблменд"/>
          <p:cNvPicPr/>
          <p:nvPr/>
        </p:nvPicPr>
        <p:blipFill>
          <a:blip r:embed="rId2"/>
          <a:stretch/>
        </p:blipFill>
        <p:spPr>
          <a:xfrm>
            <a:off x="395280" y="3860640"/>
            <a:ext cx="2533680" cy="17589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3"/>
          <p:cNvSpPr/>
          <p:nvPr/>
        </p:nvSpPr>
        <p:spPr>
          <a:xfrm>
            <a:off x="4716360" y="907920"/>
            <a:ext cx="503280" cy="1944720"/>
          </a:xfrm>
          <a:prstGeom prst="upArrow">
            <a:avLst>
              <a:gd name="adj1" fmla="val 50000"/>
              <a:gd name="adj2" fmla="val 96602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4"/>
          <p:cNvSpPr/>
          <p:nvPr/>
        </p:nvSpPr>
        <p:spPr>
          <a:xfrm rot="10800000">
            <a:off x="3708360" y="3716280"/>
            <a:ext cx="503280" cy="1944720"/>
          </a:xfrm>
          <a:prstGeom prst="upArrow">
            <a:avLst>
              <a:gd name="adj1" fmla="val 50000"/>
              <a:gd name="adj2" fmla="val 96602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539640" y="260280"/>
            <a:ext cx="835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ИНФОРМАЦИОННЫЕ 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24000" y="1197000"/>
            <a:ext cx="31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БРАЗНЫЕ МОДЕ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5651640" y="1052640"/>
            <a:ext cx="31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НАКОВЫЕ МОДЕ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250920" y="3789360"/>
            <a:ext cx="316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АБЛИЦЫ, БЛОК-СХЕ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0" name="WordArt 9"/>
          <p:cNvSpPr txBox="1"/>
          <p:nvPr/>
        </p:nvSpPr>
        <p:spPr>
          <a:xfrm>
            <a:off x="2411280" y="5013360"/>
            <a:ext cx="6481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ОДЕЛИ, ОТОБРАЖАЮЩИЕ ИЕРАРХИЧЕСКИЕ СИСТЕ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1" name="Picture 12" descr="рылов, в голубом просторе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676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6372360" y="1557360"/>
            <a:ext cx="2016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M   A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 I= 1  TO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 A(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EXT 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 I=1  TO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=S+A(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EXT 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4" descr="схема"/>
          <p:cNvPicPr/>
          <p:nvPr/>
        </p:nvPicPr>
        <p:blipFill>
          <a:blip r:embed="rId2"/>
          <a:stretch/>
        </p:blipFill>
        <p:spPr>
          <a:xfrm>
            <a:off x="324000" y="4292640"/>
            <a:ext cx="1815840" cy="952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6"/>
          <p:cNvSpPr/>
          <p:nvPr/>
        </p:nvSpPr>
        <p:spPr>
          <a:xfrm>
            <a:off x="2158920" y="5445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БИОЛОГИИ:                                                                                 ВЕСЬ ЖИВОТНЫЙ МИР                                                    РАССМАТРИВАЕТСЯ КАК ИЕРАРХИЧЕСКАЯ СИСТЕМА         (ТИП, КЛАСС, ОТРЯД, СЕМЕЙСТВО, РОД, ВИ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17"/>
          <p:cNvSpPr txBox="1"/>
          <p:nvPr/>
        </p:nvSpPr>
        <p:spPr>
          <a:xfrm rot="5400000">
            <a:off x="3383280" y="2529720"/>
            <a:ext cx="280836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ОДЕЛИ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324000" y="260280"/>
            <a:ext cx="856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ФОРМАЛИЗАЦИЯ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ИНФОРМАЦИОННЫХ   МОДЕЛЕЙ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2133720"/>
            <a:ext cx="936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Georgia"/>
              </a:rPr>
              <a:t>Формализация 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– процесс построения информационных  моделей                                                            с помощью формальных язы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55640" y="59500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Формальные языки: системы специализированных языковых средств или их символов с точными правилами сочетаем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3429000"/>
            <a:ext cx="3564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АТЕМАТИЧЕСКИЙ ЯЗЫК АЛГЕБРАИЧЕСКИХ ФОРМ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 =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580000" y="3429000"/>
            <a:ext cx="35640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ЯЗЫК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ХИМИЧЕСКИХ ФОРМ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916360" y="4724280"/>
            <a:ext cx="33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ОТНАЯ  ГРА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Music"/>
          <p:cNvSpPr/>
          <p:nvPr/>
        </p:nvSpPr>
        <p:spPr>
          <a:xfrm>
            <a:off x="4067280" y="5157720"/>
            <a:ext cx="873000" cy="657360"/>
          </a:xfrm>
          <a:custGeom>
            <a:avLst/>
            <a:gdLst>
              <a:gd name="textAreaLeft" fmla="*/ 322200 w 873000"/>
              <a:gd name="textAreaRight" fmla="*/ 846360 w 873000"/>
              <a:gd name="textAreaTop" fmla="*/ 28080 h 657360"/>
              <a:gd name="textAreaBottom" fmla="*/ 162720 h 65736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20:57:09Z</dcterms:created>
  <dc:creator>Костя</dc:creator>
  <dc:description/>
  <dc:language>en-US</dc:language>
  <cp:lastModifiedBy>учитель каб №9</cp:lastModifiedBy>
  <dcterms:modified xsi:type="dcterms:W3CDTF">2012-05-16T14:08:58Z</dcterms:modified>
  <cp:revision>14</cp:revision>
  <dc:subject/>
  <dc:title>Слайд 1</dc:title>
</cp:coreProperties>
</file>