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5E6-B3B0-4E4D-ADB1-F9CC58F5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906-E6EC-4ECE-B46A-3E1E5DC5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D91-181F-4C20-B4B5-EE386248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F95-5A7E-4357-83AA-52007EBA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9DA-8F9A-4B31-B616-281FCBF8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3FE-AEE9-4AA7-85E2-1332B911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01-DB83-48F1-AC77-A8A5DE1C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5884-A633-4421-88AA-95B8DA9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811-3091-413E-B6B1-C137C41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7F2-82FE-4A19-B2A1-27D85B0A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466-7894-421E-830A-6337A37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52E9-7334-4025-8D43-C30F2112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9B2-119B-43B7-81EF-2B9B797710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7635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Моделирование,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177336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форм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692360" y="2924280"/>
            <a:ext cx="626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визуализац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11" descr="йц"/>
          <p:cNvPicPr/>
          <p:nvPr/>
        </p:nvPicPr>
        <p:blipFill>
          <a:blip r:embed="rId1"/>
          <a:stretch/>
        </p:blipFill>
        <p:spPr>
          <a:xfrm>
            <a:off x="3059280" y="4221000"/>
            <a:ext cx="3047760" cy="228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4284720" y="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Клинковская М.В., учитель информатики МОУ гимназии №7 г.Балтий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50920" y="0"/>
            <a:ext cx="85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ПРОЦЕССЕ ПОЗНАНИЯ ОКРУЖАЮЩЕГО МИРА ЧЕЛОВЕЧЕСТВО ПОСТОЯННО ИСПОЛЬЗУЕТ МОДЕЛИРОВАНИЕ И ФОРМАЛИЗ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и изучении нового объекта сначала обычно строится его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писательная информационная модель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на  естественном языке, затем она формализуется, т.е. выражается с использованием формаль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29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оцессе исследования формальных моделей        часто производится их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изуализация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4292640"/>
            <a:ext cx="867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алгоритмов используются блок-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0920" y="4869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Для визуализации                                                       пространственных отношений между объектами -- чертеж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24000" y="5805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создании моделей электрических цепей             используют электрические сх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700280"/>
            <a:ext cx="864072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 вы понимаете значение слова «модель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оделирования в различных областях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 какие два класса можно разделить все информационные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материаль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различных форм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Что представляет собой формализация информационной мо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описатель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иведите примеры формализованных информационных мод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24000" y="836640"/>
            <a:ext cx="835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Литерату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 Угринович «Информатика. Базовый курс – 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.Бешенков, Е.Ракитина «Информатика. Систематический курс – 1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Н.В. Макарова «Информатика 7 –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195640" y="189000"/>
            <a:ext cx="69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любой образ, аналог какого-либо объекта, процесса или явления, используемый в качестве его «заместителя», «представител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88764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Большой энциклопедический словар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179280" y="404640"/>
            <a:ext cx="18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Ь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9280" y="5950080"/>
            <a:ext cx="3676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РОВАНИЕ</a:t>
            </a:r>
            <a:endParaRPr b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030560" y="5877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-- это метод познания, состоящий в создании и исследовании 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9" descr="475_b"/>
          <p:cNvPicPr/>
          <p:nvPr/>
        </p:nvPicPr>
        <p:blipFill>
          <a:blip r:embed="rId1"/>
          <a:stretch/>
        </p:blipFill>
        <p:spPr>
          <a:xfrm>
            <a:off x="250920" y="1695600"/>
            <a:ext cx="3193920" cy="367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941640" y="2421000"/>
            <a:ext cx="482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СОЗДАЕТСЯ ЧЕЛОВЕКОМ В ПРОЦЕССЕ ПОЗНАНИЯ ОКРУЖАЮЩЕГО МИРА И ОТРАЖАЕТ 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СУЩЕСТВЕННЫЕ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Georgia"/>
              </a:rPr>
              <a:t>ОСОБЕННОСТИ ИЗУЧАЕМОГО ОБЪЕКТА, ЯВЛЕНИЯ И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179280" y="189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МОДЕЛИРОВАНИЕ 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572000" y="26028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КАК  МЕТОД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ПОЗНАНИЯ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9280" y="1125360"/>
            <a:ext cx="453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Человечество в своей деятельности (научной, образовательной, технологической, художественной, и т. д.) постоянно создает и использует модели окружающего ми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20995"/>
          <p:cNvPicPr/>
          <p:nvPr/>
        </p:nvPicPr>
        <p:blipFill>
          <a:blip r:embed="rId1"/>
          <a:stretch/>
        </p:blipFill>
        <p:spPr>
          <a:xfrm>
            <a:off x="3132000" y="2781360"/>
            <a:ext cx="2644920" cy="317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пр"/>
          <p:cNvPicPr/>
          <p:nvPr/>
        </p:nvPicPr>
        <p:blipFill>
          <a:blip r:embed="rId2"/>
          <a:stretch/>
        </p:blipFill>
        <p:spPr>
          <a:xfrm>
            <a:off x="6372360" y="1557360"/>
            <a:ext cx="2273040" cy="331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цц"/>
          <p:cNvPicPr/>
          <p:nvPr/>
        </p:nvPicPr>
        <p:blipFill>
          <a:blip r:embed="rId3"/>
          <a:stretch/>
        </p:blipFill>
        <p:spPr>
          <a:xfrm>
            <a:off x="684360" y="4437000"/>
            <a:ext cx="20034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403280" y="2708280"/>
            <a:ext cx="518472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РОЛЬ  МОДЕЛЕЙ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Oval 5"/>
          <p:cNvSpPr/>
          <p:nvPr/>
        </p:nvSpPr>
        <p:spPr>
          <a:xfrm>
            <a:off x="177840" y="260280"/>
            <a:ext cx="2593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0920" y="620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ПРОЕКТИРОВАН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156360" y="189000"/>
            <a:ext cx="273672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372360" y="549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РАЗВИТИИ НАУК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227640" y="1197000"/>
            <a:ext cx="27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ТЕ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7812000" y="1341360"/>
            <a:ext cx="144720" cy="935280"/>
          </a:xfrm>
          <a:custGeom>
            <a:avLst/>
            <a:gdLst>
              <a:gd name="textAreaLeft" fmla="*/ 0 w 144720"/>
              <a:gd name="textAreaRight" fmla="*/ 52200 w 14472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8064360" y="148428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ТЕОРЕТИ-ЧЕСКИЕ  МОД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0" y="1341360"/>
            <a:ext cx="29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МАКЕТЫ З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СХЕМЫ ЭЛ. ЦЕП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Garamond"/>
              </a:rPr>
              <a:t>- ЧЕРТЕЖИ ДЕТА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564000" y="5589720"/>
            <a:ext cx="28098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635280" y="5805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УДОЖЕСТВЕННОЕ      ТВОРЧЕ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324000" y="2637000"/>
            <a:ext cx="755640" cy="791640"/>
            <a:chOff x="324000" y="2637000"/>
            <a:chExt cx="755640" cy="791640"/>
          </a:xfrm>
        </p:grpSpPr>
        <p:sp>
          <p:nvSpPr>
            <p:cNvPr id="71" name="Gear"/>
            <p:cNvSpPr/>
            <p:nvPr/>
          </p:nvSpPr>
          <p:spPr>
            <a:xfrm>
              <a:off x="743040" y="2637000"/>
              <a:ext cx="336600" cy="363240"/>
            </a:xfrm>
            <a:custGeom>
              <a:avLst/>
              <a:gdLst>
                <a:gd name="textAreaLeft" fmla="*/ 68040 w 336600"/>
                <a:gd name="textAreaRight" fmla="*/ 278280 w 336600"/>
                <a:gd name="textAreaTop" fmla="*/ 66600 h 363240"/>
                <a:gd name="textAreaBottom" fmla="*/ 296640 h 36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20"/>
            <p:cNvSpPr/>
            <p:nvPr/>
          </p:nvSpPr>
          <p:spPr>
            <a:xfrm>
              <a:off x="324000" y="2786400"/>
              <a:ext cx="402480" cy="434160"/>
            </a:xfrm>
            <a:custGeom>
              <a:avLst/>
              <a:gdLst>
                <a:gd name="textAreaLeft" fmla="*/ 81360 w 402480"/>
                <a:gd name="textAreaRight" fmla="*/ 332640 w 402480"/>
                <a:gd name="textAreaTop" fmla="*/ 79560 h 434160"/>
                <a:gd name="textAreaBottom" fmla="*/ 354600 h 43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21"/>
            <p:cNvSpPr/>
            <p:nvPr/>
          </p:nvSpPr>
          <p:spPr>
            <a:xfrm>
              <a:off x="585000" y="2946600"/>
              <a:ext cx="447480" cy="482040"/>
            </a:xfrm>
            <a:custGeom>
              <a:avLst/>
              <a:gdLst>
                <a:gd name="textAreaLeft" fmla="*/ 90720 w 447480"/>
                <a:gd name="textAreaRight" fmla="*/ 369720 w 447480"/>
                <a:gd name="textAreaTop" fmla="*/ 88200 h 482040"/>
                <a:gd name="textAreaBottom" fmla="*/ 393480 h 48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" name="Picture 22" descr="мид"/>
          <p:cNvPicPr/>
          <p:nvPr/>
        </p:nvPicPr>
        <p:blipFill>
          <a:blip r:embed="rId1"/>
          <a:stretch/>
        </p:blipFill>
        <p:spPr>
          <a:xfrm>
            <a:off x="2916360" y="26028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4" descr="ппп"/>
          <p:cNvPicPr/>
          <p:nvPr/>
        </p:nvPicPr>
        <p:blipFill>
          <a:blip r:embed="rId2"/>
          <a:stretch/>
        </p:blipFill>
        <p:spPr>
          <a:xfrm>
            <a:off x="6629400" y="4292640"/>
            <a:ext cx="2279520" cy="23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па"/>
          <p:cNvPicPr/>
          <p:nvPr/>
        </p:nvPicPr>
        <p:blipFill>
          <a:blip r:embed="rId3"/>
          <a:stretch/>
        </p:blipFill>
        <p:spPr>
          <a:xfrm>
            <a:off x="6948360" y="2421000"/>
            <a:ext cx="2016360" cy="1731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" descr="aivasovsky девятый вал"/>
          <p:cNvPicPr/>
          <p:nvPr/>
        </p:nvPicPr>
        <p:blipFill>
          <a:blip r:embed="rId4"/>
          <a:stretch/>
        </p:blipFill>
        <p:spPr>
          <a:xfrm>
            <a:off x="250920" y="4508640"/>
            <a:ext cx="3173400" cy="2144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7"/>
          <p:cNvSpPr/>
          <p:nvPr/>
        </p:nvSpPr>
        <p:spPr>
          <a:xfrm>
            <a:off x="0" y="407664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Айвазовский «Девятый ва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4356000" y="378936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.Коперник              и изображение гелиоцентрической системы Коп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551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Georgia"/>
              </a:rPr>
              <a:t>Для описания и исследования                                    одного и того же объекта                                              может использоваться несколько мод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ааааа"/>
          <p:cNvPicPr/>
          <p:nvPr/>
        </p:nvPicPr>
        <p:blipFill>
          <a:blip r:embed="rId1"/>
          <a:stretch/>
        </p:blipFill>
        <p:spPr>
          <a:xfrm>
            <a:off x="324000" y="260280"/>
            <a:ext cx="2879640" cy="171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аааа"/>
          <p:cNvPicPr/>
          <p:nvPr/>
        </p:nvPicPr>
        <p:blipFill>
          <a:blip r:embed="rId2"/>
          <a:stretch/>
        </p:blipFill>
        <p:spPr>
          <a:xfrm>
            <a:off x="6732720" y="333360"/>
            <a:ext cx="194472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глобус"/>
          <p:cNvPicPr/>
          <p:nvPr/>
        </p:nvPicPr>
        <p:blipFill>
          <a:blip r:embed="rId3"/>
          <a:stretch/>
        </p:blipFill>
        <p:spPr>
          <a:xfrm>
            <a:off x="3492360" y="601560"/>
            <a:ext cx="2159280" cy="4098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2133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КОНТУРНАЯ КАРТА    ЗЕМНОЙ ПОВЕРХ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651640" y="184464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ЛОБУС И КАРТЫ РАЗЛИЧНОГО ВИДА    ДЛЯ ИЗУЧЕНИЯ ПОВЕРХНОСТИ ЗЕМ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4365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Для описания и исследования   разных объектов  может использоваться       одна и та же мод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333360"/>
            <a:ext cx="6192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ДВИЖЕНИЕ АВТОМОБИ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ДВИЖЕНИЕ МЯЧА В ОПРЕДЕЛЕННЫХ УСЛОВИ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-- ОПИСАНИЕ ДВИЖЕНИЯ ПЛА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24000" y="2276640"/>
            <a:ext cx="8569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ЭТИХ СЛУЧАЯХ МОЖНО ИСПОЛЬЗОВАТЬ                                            ОДНУ И ТУ ЖЕ МОДЕЛЬ ДВИЖЕНИЯ МАТЕРИАЛЬНОЙ ТОЧ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ЗДЕСЬ РАЗМЕРАМИ ОБЪЕКТОВ МОЖНО ПРЕНЕБРЕЧЬ,                         Т.К. САМИ ОБЪЕКТЫ ГОРАЗДО МЕНЬШЕ, ЧЕМ ИХ ПЕРЕМЕЩ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763640" y="3068640"/>
            <a:ext cx="53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250920" y="5734080"/>
            <a:ext cx="46069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ФОРМАЦИОН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4427640" y="189000"/>
            <a:ext cx="453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ТЕРИАЛЬНЫ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2" name="Picture 10" descr="tellury"/>
          <p:cNvPicPr/>
          <p:nvPr/>
        </p:nvPicPr>
        <p:blipFill>
          <a:blip r:embed="rId1"/>
          <a:stretch/>
        </p:blipFill>
        <p:spPr>
          <a:xfrm>
            <a:off x="5796000" y="981000"/>
            <a:ext cx="3024000" cy="19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таблменд"/>
          <p:cNvPicPr/>
          <p:nvPr/>
        </p:nvPicPr>
        <p:blipFill>
          <a:blip r:embed="rId2"/>
          <a:stretch/>
        </p:blipFill>
        <p:spPr>
          <a:xfrm>
            <a:off x="395280" y="3860640"/>
            <a:ext cx="2533680" cy="17589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3"/>
          <p:cNvSpPr/>
          <p:nvPr/>
        </p:nvSpPr>
        <p:spPr>
          <a:xfrm>
            <a:off x="4716360" y="90792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4"/>
          <p:cNvSpPr/>
          <p:nvPr/>
        </p:nvSpPr>
        <p:spPr>
          <a:xfrm rot="10800000">
            <a:off x="3708360" y="3716280"/>
            <a:ext cx="503280" cy="1944720"/>
          </a:xfrm>
          <a:prstGeom prst="upArrow">
            <a:avLst>
              <a:gd name="adj1" fmla="val 50000"/>
              <a:gd name="adj2" fmla="val 96602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39640" y="260280"/>
            <a:ext cx="83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НФОРМАЦИОННЫЕ 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24000" y="119700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РАЗН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5651640" y="1052640"/>
            <a:ext cx="316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НАКОВЫЕ МОДЕ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50920" y="3789360"/>
            <a:ext cx="31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АБЛИЦЫ, БЛОК-СХ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2411280" y="5013360"/>
            <a:ext cx="648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ОДЕЛИ, ОТОБРАЖАЮЩИЕ ИЕРАРХИЧЕСКИЕ СИСТ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1" name="Picture 12" descr="рылов, в голубом просторе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676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6372360" y="1557360"/>
            <a:ext cx="2016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M   A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 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 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 I=1  TO 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S+A(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XT 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схема"/>
          <p:cNvPicPr/>
          <p:nvPr/>
        </p:nvPicPr>
        <p:blipFill>
          <a:blip r:embed="rId2"/>
          <a:stretch/>
        </p:blipFill>
        <p:spPr>
          <a:xfrm>
            <a:off x="324000" y="4292640"/>
            <a:ext cx="181584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2158920" y="5445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БИОЛОГИИ:                                                                                 ВЕСЬ ЖИВОТНЫЙ МИР                                                    РАССМАТРИВАЕТСЯ КАК ИЕРАРХИЧЕСКАЯ СИСТЕМА         (ТИП, КЛАСС, ОТРЯД, СЕМЕЙСТВО, РОД, ВИ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7"/>
          <p:cNvSpPr txBox="1"/>
          <p:nvPr/>
        </p:nvSpPr>
        <p:spPr>
          <a:xfrm rot="5400000">
            <a:off x="3383280" y="252972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ОДЕЛИ</a:t>
            </a:r>
            <a:endParaRPr b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324000" y="260280"/>
            <a:ext cx="856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ФОРМАЛИЗАЦИЯ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ИНФОРМАЦИОННЫХ   МОДЕЛЕ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2133720"/>
            <a:ext cx="9361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Georgia"/>
              </a:rPr>
              <a:t>Формализация </a:t>
            </a:r>
            <a:r>
              <a:rPr b="1" lang="ru-RU" sz="2400" spc="-1" strike="noStrike">
                <a:solidFill>
                  <a:srgbClr val="000066"/>
                </a:solidFill>
                <a:latin typeface="Georgia"/>
              </a:rPr>
              <a:t>– процесс построения информационных  моделей                                                            с помощью формальных язы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55640" y="595008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Формальные языки: системы специализированных языковых средств или их символов с точными правилами сочетае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3429000"/>
            <a:ext cx="356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АТЕМАТИЧЕСКИЙ ЯЗЫК АЛГЕБРА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 =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580000" y="3429000"/>
            <a:ext cx="35640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ЯЗЫ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ХИМИЧЕСКИХ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916360" y="4724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ОТНАЯ  ГРА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Music"/>
          <p:cNvSpPr/>
          <p:nvPr/>
        </p:nvSpPr>
        <p:spPr>
          <a:xfrm>
            <a:off x="4067280" y="5157720"/>
            <a:ext cx="873000" cy="657360"/>
          </a:xfrm>
          <a:custGeom>
            <a:avLst/>
            <a:gdLst>
              <a:gd name="textAreaLeft" fmla="*/ 322200 w 873000"/>
              <a:gd name="textAreaRight" fmla="*/ 846360 w 873000"/>
              <a:gd name="textAreaTop" fmla="*/ 28080 h 657360"/>
              <a:gd name="textAreaBottom" fmla="*/ 162720 h 65736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20:57:09Z</dcterms:created>
  <dc:creator>Костя</dc:creator>
  <dc:description/>
  <dc:language>en-US</dc:language>
  <cp:lastModifiedBy>учитель каб №9</cp:lastModifiedBy>
  <dcterms:modified xsi:type="dcterms:W3CDTF">2012-05-16T14:08:58Z</dcterms:modified>
  <cp:revision>14</cp:revision>
  <dc:subject/>
  <dc:title>Слайд 1</dc:title>
</cp:coreProperties>
</file>