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png" ContentType="image/png"/>
  <Override PartName="/ppt/media/image20.jpeg" ContentType="image/jpeg"/>
  <Override PartName="/ppt/media/image19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7.jpeg" ContentType="image/jpeg"/>
  <Override PartName="/ppt/media/image28.png" ContentType="image/pn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1B07-F3A4-4651-BCEA-C8BB695E1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1BDA-D476-46E6-B6A8-0BB9E1B8A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1578-F8D9-45FC-8968-1C3D44D1F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219F-C03A-4344-9711-D9AD4A5E8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8101D0-7571-42F6-AC29-6BE2163A8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1B9510-A7A9-4536-B82E-39A036439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DC54E9-E931-4AD2-8F8D-8AFED6AF4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666C9F-F851-45BF-BC4C-1551CD8E2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A65EAA-100E-485F-B8E5-B95634AFE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4B9CC7-2AC6-4BCC-9758-C01303F04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5DC43C-3147-44B2-A3C3-A21735D6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9AF2-F2F4-43F9-AF55-546BB2E61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A97E36-A81F-4802-8FFE-F570511B6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EADE50-F76D-4FB5-8269-C5E1EFA75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5B28CC-FD05-4F75-BB0A-038DAE4B1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504FA2-26C0-4931-8E15-1E1E8A25E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21FB8E-3351-4DD4-AE65-B7EF43024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E651-B00F-49AF-A5FF-2E0C65A27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A589-F450-4CB7-92A9-8D31746FC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D06B-E3B4-41D7-A272-CAE526CE8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7F93-6AA0-4FD3-8772-505389FE9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3C93-A54D-4D4D-8463-EB951C01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0EC4-6B30-4AF0-A168-B5C253426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AFF4-88BB-4FA7-80A8-D37840C9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39B93-7E4F-473D-AE39-7DC3A47BF2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27F7A-C895-485A-9A6E-697E87071D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hyperlink" Target="file:///../Local%20Settings/Temp/Rar$DI01.031/&#1073;&#1077;&#1088;&#1105;&#1079;&#1086;&#1074;&#1099;&#1081;%20&#1074;&#1077;&#1085;&#1080;&#1082;.files/foto.jpg" TargetMode="External"/><Relationship Id="rId7" Type="http://schemas.openxmlformats.org/officeDocument/2006/relationships/image" Target="../media/image25.jpeg"/><Relationship Id="rId8" Type="http://schemas.openxmlformats.org/officeDocument/2006/relationships/hyperlink" Target="file:///../Local%20Settings/Temp/Rar$DI01.031/&#1074;&#1077;&#1085;&#1080;&#1082;%205.files/1924item.jpg" TargetMode="External"/><Relationship Id="rId9" Type="http://schemas.openxmlformats.org/officeDocument/2006/relationships/image" Target="../media/image26.jpe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4647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Люблю берёзку русскую.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648320" y="1904760"/>
            <a:ext cx="4038480" cy="19875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4" descr="Рисунок2"/>
          <p:cNvPicPr/>
          <p:nvPr/>
        </p:nvPicPr>
        <p:blipFill>
          <a:blip r:embed="rId3"/>
          <a:stretch/>
        </p:blipFill>
        <p:spPr>
          <a:xfrm>
            <a:off x="2556000" y="1341360"/>
            <a:ext cx="4049640" cy="5040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5" descr="телега отличная"/>
          <p:cNvPicPr/>
          <p:nvPr/>
        </p:nvPicPr>
        <p:blipFill>
          <a:blip r:embed="rId4"/>
          <a:stretch/>
        </p:blipFill>
        <p:spPr>
          <a:xfrm>
            <a:off x="1403280" y="1341360"/>
            <a:ext cx="6697800" cy="50245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7" descr="берёзовые серёжки"/>
          <p:cNvPicPr/>
          <p:nvPr/>
        </p:nvPicPr>
        <p:blipFill>
          <a:blip r:embed="rId5"/>
          <a:stretch/>
        </p:blipFill>
        <p:spPr>
          <a:xfrm>
            <a:off x="1676520" y="1219320"/>
            <a:ext cx="6769080" cy="5022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8" descr="Картинка 41 из 393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57200" y="304920"/>
            <a:ext cx="3600360" cy="5040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0" descr="Картинка 21 из 444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975280" y="0"/>
            <a:ext cx="3168720" cy="504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4038480" cy="41148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горь Эммануилович Грабар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«Февральская лазурь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10" descr="Картинка 6 из 27"/>
          <p:cNvPicPr/>
          <p:nvPr/>
        </p:nvPicPr>
        <p:blipFill>
          <a:blip r:embed="rId3"/>
          <a:stretch/>
        </p:blipFill>
        <p:spPr>
          <a:xfrm>
            <a:off x="539640" y="476280"/>
            <a:ext cx="3889440" cy="587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39640" y="907920"/>
            <a:ext cx="4248360" cy="52563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716360" y="2421000"/>
            <a:ext cx="41990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лексей Кондратьеви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аврас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«Грачи прилетели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5335200"/>
            <a:ext cx="8229600" cy="6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асилий Николаевич Бакшеев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«Голубая весна»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1930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7" descr="Бакшеев"/>
          <p:cNvPicPr/>
          <p:nvPr/>
        </p:nvPicPr>
        <p:blipFill>
          <a:blip r:embed="rId2"/>
          <a:stretch/>
        </p:blipFill>
        <p:spPr>
          <a:xfrm>
            <a:off x="1403280" y="333360"/>
            <a:ext cx="6553440" cy="481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Левита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558936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саак Ильич Левитан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«Берёзовая роща»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1885-89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ван Иванович Шишки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«Берёзовая роща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6" descr="Шишкин"/>
          <p:cNvPicPr/>
          <p:nvPr/>
        </p:nvPicPr>
        <p:blipFill>
          <a:blip r:embed="rId2"/>
          <a:stretch/>
        </p:blipFill>
        <p:spPr>
          <a:xfrm>
            <a:off x="566640" y="476280"/>
            <a:ext cx="3645000" cy="561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-15228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0" y="1828800"/>
            <a:ext cx="9448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У красы-берёзки платье серебристо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У красы-берёзки зелёные косиц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Охранять берёзку станем мы гурьбою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Чтоб краса-берёзк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              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выросла большою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914400" y="990720"/>
            <a:ext cx="3865680" cy="51051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120" y="274320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«бер» - светлый, ясный, блестящий, белый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0" descr="Рисунок1"/>
          <p:cNvPicPr/>
          <p:nvPr/>
        </p:nvPicPr>
        <p:blipFill>
          <a:blip r:embed="rId2"/>
          <a:stretch/>
        </p:blipFill>
        <p:spPr>
          <a:xfrm>
            <a:off x="0" y="0"/>
            <a:ext cx="5981760" cy="38098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0" y="38862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Береза у литовце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Бирка у древних германце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Бьорк в старом исландском язык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«бхэо» - светлый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9" descr="Картинка 4 из 4"/>
          <p:cNvPicPr/>
          <p:nvPr/>
        </p:nvPicPr>
        <p:blipFill>
          <a:blip r:embed="rId2"/>
          <a:stretch/>
        </p:blipFill>
        <p:spPr>
          <a:xfrm>
            <a:off x="539640" y="1341360"/>
            <a:ext cx="3327480" cy="4525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Картинка 157 из 996"/>
          <p:cNvPicPr/>
          <p:nvPr/>
        </p:nvPicPr>
        <p:blipFill>
          <a:blip r:embed="rId3"/>
          <a:stretch/>
        </p:blipFill>
        <p:spPr>
          <a:xfrm>
            <a:off x="4140360" y="3357720"/>
            <a:ext cx="4543200" cy="3062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Картинка 16 из 776"/>
          <p:cNvPicPr/>
          <p:nvPr/>
        </p:nvPicPr>
        <p:blipFill>
          <a:blip r:embed="rId4"/>
          <a:stretch/>
        </p:blipFill>
        <p:spPr>
          <a:xfrm>
            <a:off x="0" y="0"/>
            <a:ext cx="90756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береза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28600" y="304920"/>
            <a:ext cx="86821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Берёза – полезное дерево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ahoma"/>
              </a:rPr>
              <a:t>берёзовые дрова – лучшее топливо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Tahoma"/>
              </a:rPr>
              <a:t>из почек изготавливают лекарство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ahoma"/>
              </a:rPr>
              <a:t>из ветвей делают веники и мётл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Tahoma"/>
              </a:rPr>
              <a:t>берёза – это качественная фанера, мебель,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Tahoma"/>
              </a:rPr>
              <a:t>                                </a:t>
            </a:r>
            <a:r>
              <a:rPr b="1" i="1" lang="en-US" sz="2800" spc="-1" strike="noStrike">
                <a:solidFill>
                  <a:srgbClr val="800000"/>
                </a:solidFill>
                <a:latin typeface="Tahoma"/>
              </a:rPr>
              <a:t>лыжи,  посуд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ahoma"/>
              </a:rPr>
              <a:t>                                </a:t>
            </a:r>
            <a:r>
              <a:rPr b="1" i="1" lang="en-US" sz="2800" spc="-1" strike="noStrike">
                <a:solidFill>
                  <a:srgbClr val="000066"/>
                </a:solidFill>
                <a:latin typeface="Tahoma"/>
              </a:rPr>
              <a:t>русская красавица – это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ahoma"/>
              </a:rPr>
              <a:t>                                </a:t>
            </a:r>
            <a:r>
              <a:rPr b="1" i="1" lang="en-US" sz="2800" spc="-1" strike="noStrike">
                <a:solidFill>
                  <a:srgbClr val="000066"/>
                </a:solidFill>
                <a:latin typeface="Tahoma"/>
              </a:rPr>
              <a:t>уксус, ацетон, зелёная 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ahoma"/>
              </a:rPr>
              <a:t>                                </a:t>
            </a:r>
            <a:r>
              <a:rPr b="1" i="1" lang="en-US" sz="2800" spc="-1" strike="noStrike">
                <a:solidFill>
                  <a:srgbClr val="000066"/>
                </a:solidFill>
                <a:latin typeface="Tahoma"/>
              </a:rPr>
              <a:t>жёлтая краски для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ahoma"/>
              </a:rPr>
              <a:t>                                </a:t>
            </a:r>
            <a:r>
              <a:rPr b="1" i="1" lang="en-US" sz="2800" spc="-1" strike="noStrike">
                <a:solidFill>
                  <a:srgbClr val="000066"/>
                </a:solidFill>
                <a:latin typeface="Tahoma"/>
              </a:rPr>
              <a:t>различных  ткане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ahoma"/>
              </a:rPr>
              <a:t>                                </a:t>
            </a:r>
            <a:r>
              <a:rPr b="1" i="1" lang="en-US" sz="2800" spc="-1" strike="noStrike">
                <a:solidFill>
                  <a:srgbClr val="800000"/>
                </a:solidFill>
                <a:latin typeface="Tahoma"/>
              </a:rPr>
              <a:t>её береста – природна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Tahoma"/>
              </a:rPr>
              <a:t>                                </a:t>
            </a:r>
            <a:r>
              <a:rPr b="1" i="1" lang="en-US" sz="2800" spc="-1" strike="noStrike">
                <a:solidFill>
                  <a:srgbClr val="800000"/>
                </a:solidFill>
                <a:latin typeface="Tahoma"/>
              </a:rPr>
              <a:t>бумага, на ней писали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Tahoma"/>
              </a:rPr>
              <a:t>                                </a:t>
            </a:r>
            <a:r>
              <a:rPr b="1" i="1" lang="en-US" sz="2800" spc="-1" strike="noStrike">
                <a:solidFill>
                  <a:srgbClr val="800000"/>
                </a:solidFill>
                <a:latin typeface="Tahoma"/>
              </a:rPr>
              <a:t>наши предки. Сегодня из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Tahoma"/>
              </a:rPr>
              <a:t>                                </a:t>
            </a:r>
            <a:r>
              <a:rPr b="1" i="1" lang="en-US" sz="2800" spc="-1" strike="noStrike">
                <a:solidFill>
                  <a:srgbClr val="800000"/>
                </a:solidFill>
                <a:latin typeface="Tahoma"/>
              </a:rPr>
              <a:t>бересты  делают красивы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Tahoma"/>
              </a:rPr>
              <a:t>                                </a:t>
            </a:r>
            <a:r>
              <a:rPr b="1" i="1" lang="en-US" sz="2800" spc="-1" strike="noStrike">
                <a:solidFill>
                  <a:srgbClr val="800000"/>
                </a:solidFill>
                <a:latin typeface="Tahoma"/>
              </a:rPr>
              <a:t>туес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73680" cy="32688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5105520" y="1657440"/>
            <a:ext cx="356688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11280" y="105264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3348000" y="4149720"/>
            <a:ext cx="2160720" cy="1943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3419640" y="404640"/>
            <a:ext cx="1904760" cy="32864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755640" y="4221000"/>
            <a:ext cx="1728720" cy="1657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5724360" y="765000"/>
            <a:ext cx="2857680" cy="190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7"/>
          <a:stretch/>
        </p:blipFill>
        <p:spPr>
          <a:xfrm>
            <a:off x="5796000" y="3500280"/>
            <a:ext cx="273672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04-26T11:10:37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