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4D4-ACBF-474A-8D85-E05EE822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02F-C74E-4021-9ADD-D94EA481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2BE-4DFE-4471-8DA2-7C2E8E4D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BF8-71B7-4B83-9F95-55A961AC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43552-96C2-44BD-ACDE-D1F78E96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310D0-2B6E-42C2-8EFE-18065554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E29F9-CB05-4ABB-8942-D18B5CE6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4B5EF-CB4A-4DB2-B6E3-7E3163D5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F163C-8353-4A5D-9BA9-B98F1FC7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CC30A-E1E4-4442-8EF3-E49743FD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CAAC9-2E4C-4042-8E34-7981CC00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015-1BC0-4C66-A1D5-8CACF76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A4A6D-164D-46CF-BB52-758747F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34C8E-8740-4549-9D79-C5092864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BD05-B9FA-49C5-8759-9E4BE467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0AACA-3F16-4A8D-BE09-94B6D4B8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D62CD-5ADF-42BE-B24C-ECEBD16E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8C6-C18C-4ECA-B8B2-2F446D1B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554-8552-48DE-8F47-54592E0B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8EE-F06F-4C26-8010-C8C26D04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05E-7232-461D-9CE7-015FBB59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1A2-648E-4CC6-A9EA-5A3974D2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E54-5E78-4321-AA34-31AA4DC9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0EE-0B70-4535-BA22-5D9BE805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DEC7-A76E-4CF2-870E-CAC9FF6B1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27DE-5101-411E-A23D-57CDDCDF3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file:///../Local%20Settings/Temp/Rar$DI01.031/&#1073;&#1077;&#1088;&#1105;&#1079;&#1086;&#1074;&#1099;&#1081;%20&#1074;&#1077;&#1085;&#1080;&#1082;.files/foto.jpg" TargetMode="External"/><Relationship Id="rId7" Type="http://schemas.openxmlformats.org/officeDocument/2006/relationships/image" Target="../media/image25.jpeg"/><Relationship Id="rId8" Type="http://schemas.openxmlformats.org/officeDocument/2006/relationships/hyperlink" Target="file:///../Local%20Settings/Temp/Rar$DI01.031/&#1074;&#1077;&#1085;&#1080;&#1082;%205.files/1924item.jpg" TargetMode="External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464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Люблю берёзку русскую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904760"/>
            <a:ext cx="4038480" cy="198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Рисунок2"/>
          <p:cNvPicPr/>
          <p:nvPr/>
        </p:nvPicPr>
        <p:blipFill>
          <a:blip r:embed="rId3"/>
          <a:stretch/>
        </p:blipFill>
        <p:spPr>
          <a:xfrm>
            <a:off x="2556000" y="1341360"/>
            <a:ext cx="4049640" cy="50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" descr="телега отличная"/>
          <p:cNvPicPr/>
          <p:nvPr/>
        </p:nvPicPr>
        <p:blipFill>
          <a:blip r:embed="rId4"/>
          <a:stretch/>
        </p:blipFill>
        <p:spPr>
          <a:xfrm>
            <a:off x="1403280" y="1341360"/>
            <a:ext cx="6697800" cy="5024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берёзовые серёжки"/>
          <p:cNvPicPr/>
          <p:nvPr/>
        </p:nvPicPr>
        <p:blipFill>
          <a:blip r:embed="rId5"/>
          <a:stretch/>
        </p:blipFill>
        <p:spPr>
          <a:xfrm>
            <a:off x="1676520" y="1219320"/>
            <a:ext cx="6769080" cy="502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Картинка 41 из 39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0492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0" descr="Картинка 21 из 44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75280" y="0"/>
            <a:ext cx="3168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горь Эммануилович Граб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Февральская лазур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0" descr="Картинка 6 из 27"/>
          <p:cNvPicPr/>
          <p:nvPr/>
        </p:nvPicPr>
        <p:blipFill>
          <a:blip r:embed="rId3"/>
          <a:stretch/>
        </p:blipFill>
        <p:spPr>
          <a:xfrm>
            <a:off x="539640" y="476280"/>
            <a:ext cx="3889440" cy="58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248360" cy="525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6360" y="2421000"/>
            <a:ext cx="4199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ексей Кондрат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вра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Грачи прилетел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33520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силий Николаевич Бакшее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«Голубая весна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3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Бакшеев"/>
          <p:cNvPicPr/>
          <p:nvPr/>
        </p:nvPicPr>
        <p:blipFill>
          <a:blip r:embed="rId2"/>
          <a:stretch/>
        </p:blipFill>
        <p:spPr>
          <a:xfrm>
            <a:off x="1403280" y="333360"/>
            <a:ext cx="65534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Левита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аак Ильич Левитан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Берёзовая роща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885-8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ван Иванович Шишк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Берёзовая рощ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Шишкин"/>
          <p:cNvPicPr/>
          <p:nvPr/>
        </p:nvPicPr>
        <p:blipFill>
          <a:blip r:embed="rId2"/>
          <a:stretch/>
        </p:blipFill>
        <p:spPr>
          <a:xfrm>
            <a:off x="566640" y="476280"/>
            <a:ext cx="3645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828800"/>
            <a:ext cx="944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 красы-берёзки платье серебристо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 красы-берёзки зелёные косиц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хранять берёзку станем мы гурьбою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Чтоб краса-берёз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ыросла большою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3865680" cy="5105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бер» - светлый, ясный, блестящий, белы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598176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ереза у литовц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ирка у древних германц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ьорк в старом исландском язы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бхэо» - светл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Картинка 4 из 4"/>
          <p:cNvPicPr/>
          <p:nvPr/>
        </p:nvPicPr>
        <p:blipFill>
          <a:blip r:embed="rId2"/>
          <a:stretch/>
        </p:blipFill>
        <p:spPr>
          <a:xfrm>
            <a:off x="539640" y="1341360"/>
            <a:ext cx="3327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Картинка 157 из 996"/>
          <p:cNvPicPr/>
          <p:nvPr/>
        </p:nvPicPr>
        <p:blipFill>
          <a:blip r:embed="rId3"/>
          <a:stretch/>
        </p:blipFill>
        <p:spPr>
          <a:xfrm>
            <a:off x="4140360" y="3357720"/>
            <a:ext cx="4543200" cy="306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Картинка 16 из 776"/>
          <p:cNvPicPr/>
          <p:nvPr/>
        </p:nvPicPr>
        <p:blipFill>
          <a:blip r:embed="rId4"/>
          <a:stretch/>
        </p:blipFill>
        <p:spPr>
          <a:xfrm>
            <a:off x="0" y="0"/>
            <a:ext cx="9075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берез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04920"/>
            <a:ext cx="8682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Берёза – полезное дере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берёзовые дрова – лучшее топли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из почек изготавливают лекар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из ветвей делают веники и мёт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берёза – это качественная фанера, мебель,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лыжи,  пос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русская красавица – это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уксус, ацетон, зелёная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жёлтая краски дл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различных  ткан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её береста – природ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бумага, на ней писал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наши предки. Сегодня и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бересты  делают красив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туе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3680" cy="326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05520" y="1657440"/>
            <a:ext cx="3566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48000" y="4149720"/>
            <a:ext cx="2160720" cy="194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419640" y="404640"/>
            <a:ext cx="1904760" cy="328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55640" y="422100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724360" y="765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796000" y="3500280"/>
            <a:ext cx="2736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26T11:10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