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F94-1CF2-488B-808E-3A742027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3FC-C504-4313-81D1-C090EDE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AE0-A8AD-4AC7-A512-CDB0F45D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44F-3BE0-4933-9032-636540E4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05BA2-46CF-41A3-A917-CB604C2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E8CA6-C038-40CE-BD3A-5EE9CF24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1C449-71CC-4AD9-966D-1AD8CC5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F601-C13E-45A0-A78B-87F9752C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BB653-C1FD-412D-A982-603DA00F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95C83-1347-4D08-B868-97BDAD4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9D8DF-75E3-4A20-AF33-64B03B4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D55-008E-4487-865F-D2F53C09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58D1-4C12-4C06-8A44-CE326C8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07A21-6526-4511-8903-8BB1D59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063D5-BEBE-4A1C-AC77-AD748C44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2E43-071A-4309-AFEE-3DCF9A54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B36DF-A838-4CCF-B84F-882DAF22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9DC-9060-4801-A760-7F889FD1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2EE-FDC5-4CDB-BB00-6748234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141-63B3-4700-8FC0-93107250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83A-BF51-41B9-9841-E1E1D074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EF2-7E9E-4642-9647-3502441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AED-6A79-4575-81C5-570AE5F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F9D-F0B7-4C58-BE3C-D72DE3D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5602-3DE8-4A9A-AA7A-4ABB98655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1C8-9B85-4921-ACEE-32D729641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file:///../Local%20Settings/Temp/Rar$DI01.031/&#1073;&#1077;&#1088;&#1105;&#1079;&#1086;&#1074;&#1099;&#1081;%20&#1074;&#1077;&#1085;&#1080;&#1082;.files/foto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file:///../Local%20Settings/Temp/Rar$DI01.031/&#1074;&#1077;&#1085;&#1080;&#1082;%205.files/1924item.jpg" TargetMode="External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Люблю берёзку русскую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04760"/>
            <a:ext cx="4038480" cy="198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" descr="Рисунок2"/>
          <p:cNvPicPr/>
          <p:nvPr/>
        </p:nvPicPr>
        <p:blipFill>
          <a:blip r:embed="rId3"/>
          <a:stretch/>
        </p:blipFill>
        <p:spPr>
          <a:xfrm>
            <a:off x="2556000" y="1341360"/>
            <a:ext cx="4049640" cy="50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телега отличная"/>
          <p:cNvPicPr/>
          <p:nvPr/>
        </p:nvPicPr>
        <p:blipFill>
          <a:blip r:embed="rId4"/>
          <a:stretch/>
        </p:blipFill>
        <p:spPr>
          <a:xfrm>
            <a:off x="1403280" y="1341360"/>
            <a:ext cx="6697800" cy="502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берёзовые серёжки"/>
          <p:cNvPicPr/>
          <p:nvPr/>
        </p:nvPicPr>
        <p:blipFill>
          <a:blip r:embed="rId5"/>
          <a:stretch/>
        </p:blipFill>
        <p:spPr>
          <a:xfrm>
            <a:off x="1676520" y="1219320"/>
            <a:ext cx="6769080" cy="502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Картинка 41 из 39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0492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0" descr="Картинка 21 из 4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975280" y="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горь Эммануилович Граб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Февральская лазур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Картинка 6 из 27"/>
          <p:cNvPicPr/>
          <p:nvPr/>
        </p:nvPicPr>
        <p:blipFill>
          <a:blip r:embed="rId3"/>
          <a:stretch/>
        </p:blipFill>
        <p:spPr>
          <a:xfrm>
            <a:off x="539640" y="476280"/>
            <a:ext cx="3889440" cy="58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424836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2421000"/>
            <a:ext cx="419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лексей Кондрат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вра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Грачи прилетел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33520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илий Николаевич Бакшее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«Голубая весн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3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7" descr="Бакшеев"/>
          <p:cNvPicPr/>
          <p:nvPr/>
        </p:nvPicPr>
        <p:blipFill>
          <a:blip r:embed="rId2"/>
          <a:stretch/>
        </p:blipFill>
        <p:spPr>
          <a:xfrm>
            <a:off x="1403280" y="333360"/>
            <a:ext cx="65534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Левита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аак Ильич Левитан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Берёзовая роща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885-8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ван Иванович Шиш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Берёзовая рощ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Шишкин"/>
          <p:cNvPicPr/>
          <p:nvPr/>
        </p:nvPicPr>
        <p:blipFill>
          <a:blip r:embed="rId2"/>
          <a:stretch/>
        </p:blipFill>
        <p:spPr>
          <a:xfrm>
            <a:off x="566640" y="476280"/>
            <a:ext cx="3645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1828800"/>
            <a:ext cx="944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 красы-берёзки платье серебристо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 красы-берёзки зелёные косиц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ранять берёзку станем мы гурьбою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Чтоб краса-берёз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ыросла большою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865680" cy="5105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743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бер» - светлый, ясный, блестящий, бел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598176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реза у литов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ирка у древних германц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ьорк в старом исландском язы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бхэо» - светл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Картинка 4 из 4"/>
          <p:cNvPicPr/>
          <p:nvPr/>
        </p:nvPicPr>
        <p:blipFill>
          <a:blip r:embed="rId2"/>
          <a:stretch/>
        </p:blipFill>
        <p:spPr>
          <a:xfrm>
            <a:off x="539640" y="1341360"/>
            <a:ext cx="3327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Картинка 157 из 996"/>
          <p:cNvPicPr/>
          <p:nvPr/>
        </p:nvPicPr>
        <p:blipFill>
          <a:blip r:embed="rId3"/>
          <a:stretch/>
        </p:blipFill>
        <p:spPr>
          <a:xfrm>
            <a:off x="4140360" y="3357720"/>
            <a:ext cx="4543200" cy="30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Картинка 16 из 776"/>
          <p:cNvPicPr/>
          <p:nvPr/>
        </p:nvPicPr>
        <p:blipFill>
          <a:blip r:embed="rId4"/>
          <a:stretch/>
        </p:blipFill>
        <p:spPr>
          <a:xfrm>
            <a:off x="0" y="0"/>
            <a:ext cx="9075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рез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04920"/>
            <a:ext cx="8682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Берёза – полезное дере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берёзовые дрова – лучшее топли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из почек изготавливают лекар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из ветвей делают веники и мётл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ерёза – это качественная фанера, мебель,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лыжи,  пос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русская красавица – это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уксус, ацетон, зелёная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жёлтая краски дл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ahoma"/>
              </a:rPr>
              <a:t>различных  тка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её береста – природ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умага, на ней писал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наши предки. Сегодня и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бересты  делают красив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                                </a:t>
            </a:r>
            <a:r>
              <a:rPr b="1" i="1" lang="en-US" sz="2800" spc="-1" strike="noStrike">
                <a:solidFill>
                  <a:srgbClr val="800000"/>
                </a:solidFill>
                <a:latin typeface="Tahoma"/>
              </a:rPr>
              <a:t>ту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3680" cy="326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05520" y="1657440"/>
            <a:ext cx="3566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48000" y="4149720"/>
            <a:ext cx="216072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19640" y="404640"/>
            <a:ext cx="1904760" cy="328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5724360" y="765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5796000" y="3500280"/>
            <a:ext cx="2736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6T11:10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