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5EB-DA9B-4523-BE59-D25C17634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1961-6981-4EA6-9B12-A0F4953C5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цветов- 5 конти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D183-6276-4287-841D-8EF020936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рвые в 1920 в .Антверпене белый цвет символизирует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A19F-6400-4A26-A63D-56143B30D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рвые в Амстердаме в 1928,впрвые в1920 в Антверп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AF16-EB88-443D-9628-920E0C63A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ята,заяц,койот,медвед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76BF-7D84-41D0-B746-82D2F1F19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с талисман Олимпийского муз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3B19-D86B-4160-B620-2D6F34F20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проводились каждые 4 года в Олимпии в честь бога Зевса. Игры продолжались 5 дней, а четырехлетний период между двумя играми назывался Олимпиад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FE92-BDCD-4867-AC21-677988499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яя Олимпия была разрушена сначала войнами а затем разгром довершили два сильных землетряс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B1DD-05D5-4F31-A26C-A39A6726B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це19 века появились первые международные спортивные объединения, стали проводиться соревн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2360-E325-40C8-892E-0CD253AFA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749-F2F7-4605-8A59-6608B9D5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FC4-839E-433A-9440-1E04521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CD9-E26D-4665-9DEB-3E1A7CAE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10A-0F5C-47EB-A61F-81553CBB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94E-27B9-4CA7-9674-F29A39E0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1DE-CBB0-418B-B09D-7A97954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CB2-0590-4484-8AB5-948F83E0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828-4C75-4345-A862-98F537D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57B-69D3-4322-A245-0423E35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592-E8D7-4236-8458-6503BF2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5A4-B309-48BC-92B0-BB3B47E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099-AB75-4AD5-A37B-7DE997A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E3CD-6EAA-43CE-B6BC-22CECB37A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Wide Latin"/>
              </a:rPr>
              <a:t>Физическая культур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Times New Roman"/>
              </a:rPr>
              <a:t>Олимпийские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 иг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95640" y="414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Мороз Елена Алексеевн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85440" y="595008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г.Новочеркас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39640" y="54450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hames"/>
              </a:rPr>
              <a:t>МОУ СОШ №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468360" y="18900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ИКА ОЛИМПИЙСКИХ ИГР.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5240" y="1636560"/>
            <a:ext cx="874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ОФИЦИАЛЬНЫЙ ЛОГОТИ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179280" y="2630520"/>
            <a:ext cx="3600720" cy="353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3"/>
          <p:cNvSpPr/>
          <p:nvPr/>
        </p:nvSpPr>
        <p:spPr>
          <a:xfrm>
            <a:off x="4103280" y="2637000"/>
            <a:ext cx="24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odoni MT Black"/>
              </a:rPr>
              <a:t>Европ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6233760" y="3429000"/>
            <a:ext cx="266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Wide Latin"/>
              </a:rPr>
              <a:t>Афр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160520" y="4365720"/>
            <a:ext cx="30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Wide Latin"/>
              </a:rPr>
              <a:t>Амер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6782040" y="515772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Wide Latin"/>
              </a:rPr>
              <a:t>Аз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158720" y="6033960"/>
            <a:ext cx="358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Wide Latin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95280" y="-24300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МВОЛИКА ОЛИМПИЙСКИХ ИГР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94160" y="2852640"/>
            <a:ext cx="21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Wide Latin"/>
              </a:rPr>
              <a:t>ФЛА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286520" y="4437000"/>
            <a:ext cx="220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Times New Roman"/>
              </a:rPr>
              <a:t>ДЕВИ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00LDCAU3O4PWCA4Y3Z3LCAY2QD4KCA3SO8LXCAACSIADCAROFFXWCAKF67MVCABGJKNWCA3ARFH8CA5PWJ4BCALPSWR1CAOI9Z46CAFFL8UNCAHO22Q1CAGDGXFRCA62NLRACA3WJ7J8CAUR8706CADIY2PS"/>
          <p:cNvPicPr/>
          <p:nvPr/>
        </p:nvPicPr>
        <p:blipFill>
          <a:blip r:embed="rId1"/>
          <a:stretch/>
        </p:blipFill>
        <p:spPr>
          <a:xfrm>
            <a:off x="4140360" y="1674720"/>
            <a:ext cx="4103640" cy="2551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96360" y="5180040"/>
            <a:ext cx="24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быстре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400920" y="531504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выш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703480" y="5889600"/>
            <a:ext cx="23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сильне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24000" y="476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826920" y="0"/>
            <a:ext cx="79218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ая символика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800" y="1484280"/>
            <a:ext cx="53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олимпийский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 огон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564000" y="5157720"/>
            <a:ext cx="504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олимпийск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клят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1" descr="261680"/>
          <p:cNvPicPr/>
          <p:nvPr/>
        </p:nvPicPr>
        <p:blipFill>
          <a:blip r:embed="rId1"/>
          <a:stretch/>
        </p:blipFill>
        <p:spPr>
          <a:xfrm>
            <a:off x="5364000" y="1484280"/>
            <a:ext cx="345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olimp_fakel"/>
          <p:cNvPicPr/>
          <p:nvPr/>
        </p:nvPicPr>
        <p:blipFill>
          <a:blip r:embed="rId2"/>
          <a:stretch/>
        </p:blipFill>
        <p:spPr>
          <a:xfrm>
            <a:off x="611280" y="2924280"/>
            <a:ext cx="277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684360" y="0"/>
            <a:ext cx="777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ая символика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39240" y="5084640"/>
            <a:ext cx="550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церемония открытия 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закрытия иг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102_050204"/>
          <p:cNvPicPr/>
          <p:nvPr/>
        </p:nvPicPr>
        <p:blipFill>
          <a:blip r:embed="rId1"/>
          <a:stretch/>
        </p:blipFill>
        <p:spPr>
          <a:xfrm>
            <a:off x="0" y="4076640"/>
            <a:ext cx="3745080" cy="2163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WA8TCASTA66GCASZWSMTCAW28MWFCABUHQG9CA8ALKCMCA6JZDU6CAUGERXWCA2TV1CUCACVCS18CARSZODGCANJFMEFCAQ0BDUKCA3KXUH4CANIKAIBCA47H3E7CAGP02AMCAVCJ9JKCAR013OECAOVFGO6"/>
          <p:cNvPicPr/>
          <p:nvPr/>
        </p:nvPicPr>
        <p:blipFill>
          <a:blip r:embed="rId2"/>
          <a:stretch/>
        </p:blipFill>
        <p:spPr>
          <a:xfrm>
            <a:off x="5407200" y="1197000"/>
            <a:ext cx="290988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397080" y="1628640"/>
            <a:ext cx="4039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олимпийск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меда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9515_p"/>
          <p:cNvPicPr/>
          <p:nvPr/>
        </p:nvPicPr>
        <p:blipFill>
          <a:blip r:embed="rId3"/>
          <a:stretch/>
        </p:blipFill>
        <p:spPr>
          <a:xfrm>
            <a:off x="824400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bf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755640" y="260280"/>
            <a:ext cx="771840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 Олимпийских игр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294160" y="155736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ff"/>
                </a:solidFill>
                <a:latin typeface="Times New Roman"/>
              </a:rPr>
              <a:t>19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294880" y="3208320"/>
            <a:ext cx="34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ff"/>
                </a:solidFill>
                <a:latin typeface="Times New Roman"/>
              </a:rPr>
              <a:t>Мехик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-135000" y="5516640"/>
            <a:ext cx="927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Times New Roman"/>
              </a:rPr>
              <a:t>первый </a:t>
            </a:r>
            <a:r>
              <a:rPr b="1" lang="ru-RU" sz="6000" spc="-1" strike="noStrike">
                <a:solidFill>
                  <a:srgbClr val="6600ff"/>
                </a:solidFill>
                <a:latin typeface="Times New Roman"/>
              </a:rPr>
              <a:t>талисман</a:t>
            </a:r>
            <a:r>
              <a:rPr b="1" lang="ru-RU" sz="5400" spc="-1" strike="noStrike">
                <a:solidFill>
                  <a:srgbClr val="6600ff"/>
                </a:solidFill>
                <a:latin typeface="Times New Roman"/>
              </a:rPr>
              <a:t> олимпи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8" descr="250px-ANGEL_OF_INDEPENDENCE"/>
          <p:cNvPicPr/>
          <p:nvPr/>
        </p:nvPicPr>
        <p:blipFill>
          <a:blip r:embed="rId1"/>
          <a:stretch/>
        </p:blipFill>
        <p:spPr>
          <a:xfrm>
            <a:off x="250920" y="2060640"/>
            <a:ext cx="3821040" cy="32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9515_p"/>
          <p:cNvPicPr/>
          <p:nvPr/>
        </p:nvPicPr>
        <p:blipFill>
          <a:blip r:embed="rId2"/>
          <a:stretch/>
        </p:blipFill>
        <p:spPr>
          <a:xfrm>
            <a:off x="179280" y="260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476360" y="333360"/>
            <a:ext cx="5759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0800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Летних Олимпийских иг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6520" y="2492280"/>
            <a:ext cx="27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юнхен-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869080" y="2949480"/>
            <a:ext cx="31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онреаль-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s1976-m"/>
          <p:cNvPicPr/>
          <p:nvPr/>
        </p:nvPicPr>
        <p:blipFill>
          <a:blip r:embed="rId1"/>
          <a:stretch/>
        </p:blipFill>
        <p:spPr>
          <a:xfrm>
            <a:off x="5364000" y="3789360"/>
            <a:ext cx="3313440" cy="2262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waldi"/>
          <p:cNvPicPr/>
          <p:nvPr/>
        </p:nvPicPr>
        <p:blipFill>
          <a:blip r:embed="rId2"/>
          <a:stretch/>
        </p:blipFill>
        <p:spPr>
          <a:xfrm>
            <a:off x="324000" y="3357720"/>
            <a:ext cx="43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92873348_2"/>
          <p:cNvPicPr/>
          <p:nvPr/>
        </p:nvPicPr>
        <p:blipFill>
          <a:blip r:embed="rId3"/>
          <a:stretch/>
        </p:blipFill>
        <p:spPr>
          <a:xfrm>
            <a:off x="250920" y="18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1333440" y="602136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Валь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949440" y="604512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Ам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5d5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542160" y="450720"/>
            <a:ext cx="39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Лос- Анжелес-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86880" y="1197000"/>
            <a:ext cx="198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еул-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133440" y="2708280"/>
            <a:ext cx="26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осква-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s1984-m"/>
          <p:cNvPicPr/>
          <p:nvPr/>
        </p:nvPicPr>
        <p:blipFill>
          <a:blip r:embed="rId1"/>
          <a:stretch/>
        </p:blipFill>
        <p:spPr>
          <a:xfrm>
            <a:off x="468360" y="1125360"/>
            <a:ext cx="2376360" cy="2951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s1988-m"/>
          <p:cNvPicPr/>
          <p:nvPr/>
        </p:nvPicPr>
        <p:blipFill>
          <a:blip r:embed="rId2"/>
          <a:stretch/>
        </p:blipFill>
        <p:spPr>
          <a:xfrm>
            <a:off x="6122880" y="2133720"/>
            <a:ext cx="2208240" cy="287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s1980-m"/>
          <p:cNvPicPr/>
          <p:nvPr/>
        </p:nvPicPr>
        <p:blipFill>
          <a:blip r:embed="rId3"/>
          <a:stretch/>
        </p:blipFill>
        <p:spPr>
          <a:xfrm>
            <a:off x="3348000" y="3860640"/>
            <a:ext cx="2287800" cy="273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9515_p"/>
          <p:cNvPicPr/>
          <p:nvPr/>
        </p:nvPicPr>
        <p:blipFill>
          <a:blip r:embed="rId4"/>
          <a:stretch/>
        </p:blipFill>
        <p:spPr>
          <a:xfrm>
            <a:off x="8244000" y="1890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025280" y="428616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Сэ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568200" y="50785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Ходо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71640" y="0"/>
            <a:ext cx="5543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95240" y="1341360"/>
            <a:ext cx="67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зимних Олимпийских иг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w1984-m"/>
          <p:cNvPicPr/>
          <p:nvPr/>
        </p:nvPicPr>
        <p:blipFill>
          <a:blip r:embed="rId2"/>
          <a:stretch/>
        </p:blipFill>
        <p:spPr>
          <a:xfrm>
            <a:off x="6588000" y="3213000"/>
            <a:ext cx="1873440" cy="2005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w1980-m"/>
          <p:cNvPicPr/>
          <p:nvPr/>
        </p:nvPicPr>
        <p:blipFill>
          <a:blip r:embed="rId3"/>
          <a:stretch/>
        </p:blipFill>
        <p:spPr>
          <a:xfrm>
            <a:off x="395280" y="306864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w1988-m"/>
          <p:cNvPicPr/>
          <p:nvPr/>
        </p:nvPicPr>
        <p:blipFill>
          <a:blip r:embed="rId4"/>
          <a:stretch/>
        </p:blipFill>
        <p:spPr>
          <a:xfrm>
            <a:off x="3635280" y="4076640"/>
            <a:ext cx="1763640" cy="200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326160" y="2106720"/>
            <a:ext cx="40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Лейк- Плесид-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418560" y="335772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Калгари-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726160" y="2421000"/>
            <a:ext cx="27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араево-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3" descr="9515_p"/>
          <p:cNvPicPr/>
          <p:nvPr/>
        </p:nvPicPr>
        <p:blipFill>
          <a:blip r:embed="rId5"/>
          <a:stretch/>
        </p:blipFill>
        <p:spPr>
          <a:xfrm>
            <a:off x="8244000" y="1890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809280" y="5078520"/>
            <a:ext cx="11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Ро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256200" y="615960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Хайди и Хоу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6927840" y="529596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Вучк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934160" y="836640"/>
            <a:ext cx="300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Times New Roman"/>
              </a:rPr>
              <a:t>Нагано-9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5440" y="4292640"/>
            <a:ext cx="48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олт-Лейк- Сити-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w1998-m"/>
          <p:cNvPicPr/>
          <p:nvPr/>
        </p:nvPicPr>
        <p:blipFill>
          <a:blip r:embed="rId1"/>
          <a:stretch/>
        </p:blipFill>
        <p:spPr>
          <a:xfrm>
            <a:off x="468360" y="563400"/>
            <a:ext cx="4030560" cy="241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2002W_mascot_b"/>
          <p:cNvPicPr/>
          <p:nvPr/>
        </p:nvPicPr>
        <p:blipFill>
          <a:blip r:embed="rId2"/>
          <a:stretch/>
        </p:blipFill>
        <p:spPr>
          <a:xfrm>
            <a:off x="5219640" y="3141720"/>
            <a:ext cx="3745080" cy="374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чебурашка"/>
          <p:cNvPicPr/>
          <p:nvPr/>
        </p:nvPicPr>
        <p:blipFill>
          <a:blip r:embed="rId3"/>
          <a:stretch/>
        </p:blipFill>
        <p:spPr>
          <a:xfrm>
            <a:off x="7812000" y="260280"/>
            <a:ext cx="1008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050920" y="549360"/>
            <a:ext cx="58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66ff"/>
                </a:solidFill>
                <a:latin typeface="Times New Roman"/>
              </a:rPr>
              <a:t>Турин-20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7380360" y="404640"/>
            <a:ext cx="1407960" cy="1062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1621080" y="2922480"/>
            <a:ext cx="255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ff"/>
                </a:solidFill>
                <a:latin typeface="Times New Roman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0" descr="olympicmuseu"/>
          <p:cNvPicPr/>
          <p:nvPr/>
        </p:nvPicPr>
        <p:blipFill>
          <a:blip r:embed="rId2"/>
          <a:stretch/>
        </p:blipFill>
        <p:spPr>
          <a:xfrm>
            <a:off x="971640" y="5157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257640" y="5241960"/>
            <a:ext cx="213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Times New Roman"/>
              </a:rPr>
              <a:t>Пиро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3" descr="00LDCAU3O4PWCA4Y3Z3LCAY2QD4KCA3SO8LXCAACSIADCAROFFXWCAKF67MVCABGJKNWCA3ARFH8CA5PWJ4BCALPSWR1CAOI9Z46CAFFL8UNCAHO22Q1CAGDGXFRCA62NLRACA3WJ7J8CAUR8706CADIY2PS"/>
          <p:cNvPicPr/>
          <p:nvPr/>
        </p:nvPicPr>
        <p:blipFill>
          <a:blip r:embed="rId3"/>
          <a:stretch/>
        </p:blipFill>
        <p:spPr>
          <a:xfrm>
            <a:off x="395280" y="549360"/>
            <a:ext cx="1293840" cy="12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Object 16"/>
          <p:cNvGraphicFramePr/>
          <p:nvPr/>
        </p:nvGraphicFramePr>
        <p:xfrm>
          <a:off x="5076720" y="2205000"/>
          <a:ext cx="3672000" cy="275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2205000"/>
                    <a:ext cx="36720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836720" y="189000"/>
            <a:ext cx="436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ff"/>
                </a:solidFill>
                <a:latin typeface="Times New Roman"/>
              </a:rPr>
              <a:t>Цели урока</a:t>
            </a:r>
            <a:r>
              <a:rPr b="0" lang="ru-RU" sz="60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77880" y="160812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паганда олимпийского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через яркие образы олимпийской символ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99280" y="3340080"/>
            <a:ext cx="45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Знакомство с исто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Олимпийских иг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900360" y="4581360"/>
            <a:ext cx="5558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Повышение мотивации д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занятий спорто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995400" y="5805360"/>
            <a:ext cx="71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Расширение межпредметных связе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975320" y="260280"/>
            <a:ext cx="49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87948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2960" y="1557360"/>
            <a:ext cx="574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Нарисовать эскиз талисм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зимних Олимпийских иг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в Со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79320" y="3141720"/>
            <a:ext cx="68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Составить рассказ о приключен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талисмана одной из Олимпиа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(зимней или летне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163160" y="4719600"/>
            <a:ext cx="479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Отгадай чей талисма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Где находится стол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его сборн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Рисунок1"/>
          <p:cNvPicPr/>
          <p:nvPr/>
        </p:nvPicPr>
        <p:blipFill>
          <a:blip r:embed="rId1"/>
          <a:stretch/>
        </p:blipFill>
        <p:spPr>
          <a:xfrm>
            <a:off x="6300720" y="479736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untitled"/>
          <p:cNvPicPr/>
          <p:nvPr/>
        </p:nvPicPr>
        <p:blipFill>
          <a:blip r:embed="rId2"/>
          <a:stretch/>
        </p:blipFill>
        <p:spPr>
          <a:xfrm>
            <a:off x="6443640" y="4365720"/>
            <a:ext cx="2016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3111480" y="3079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poster-01"/>
          <p:cNvPicPr/>
          <p:nvPr/>
        </p:nvPicPr>
        <p:blipFill>
          <a:blip r:embed="rId1"/>
          <a:stretch/>
        </p:blipFill>
        <p:spPr>
          <a:xfrm>
            <a:off x="2124000" y="1413000"/>
            <a:ext cx="4214880" cy="5229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-1440" y="333360"/>
            <a:ext cx="92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До встречи на олимпийских стадиона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189000"/>
            <a:ext cx="8466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Олимпийские игры</a:t>
            </a:r>
            <a:r>
              <a:rPr b="0" lang="ru-RU" sz="60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i="1" lang="ru-RU" sz="4400" spc="-1" strike="noStrike">
                <a:solidFill>
                  <a:srgbClr val="009900"/>
                </a:solidFill>
                <a:latin typeface="Times New Roman"/>
              </a:rPr>
              <a:t>история и современность</a:t>
            </a: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72720" y="220500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одержание</a:t>
            </a:r>
            <a:r>
              <a:rPr b="0" i="1" lang="ru-RU" sz="36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26560" y="2637000"/>
            <a:ext cx="59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Античные Олимпийские игр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72000" y="3357720"/>
            <a:ext cx="71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овременные Олимпийские игр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14920" y="4005360"/>
            <a:ext cx="64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имволика Олимпийских иг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331280" y="4797360"/>
            <a:ext cx="64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Талисманы Олимпийских иг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20360" y="5734080"/>
            <a:ext cx="42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7740720" y="587700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Игры древности начались в 776 году до н. э. Олим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755640" y="260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ые Олимпийские игры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8" descr="17_JPG_299283903459d6d9a83c00"/>
          <p:cNvPicPr/>
          <p:nvPr/>
        </p:nvPicPr>
        <p:blipFill>
          <a:blip r:embed="rId1"/>
          <a:stretch/>
        </p:blipFill>
        <p:spPr>
          <a:xfrm>
            <a:off x="4284720" y="1989000"/>
            <a:ext cx="4608360" cy="344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9515_p"/>
          <p:cNvPicPr/>
          <p:nvPr/>
        </p:nvPicPr>
        <p:blipFill>
          <a:blip r:embed="rId2"/>
          <a:stretch/>
        </p:blipFill>
        <p:spPr>
          <a:xfrm>
            <a:off x="25092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611280" y="0"/>
            <a:ext cx="7777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ые Олимпийские игры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5" descr="44EDCA33BUHCCAT8F8GPCAM77W21CAY98VR0CAUIQ37ICA7JXE6JCAFSRCAECA2O3IQ5CAG665YDCA9FCMPMCA6XMSO7CATJNN37CAW1QKUECAQDY180CA2XH731CAMW2VUQCA27QYVOCAS55BETCAOQBB4P"/>
          <p:cNvPicPr/>
          <p:nvPr/>
        </p:nvPicPr>
        <p:blipFill>
          <a:blip r:embed="rId1"/>
          <a:stretch/>
        </p:blipFill>
        <p:spPr>
          <a:xfrm>
            <a:off x="468360" y="1773360"/>
            <a:ext cx="3564000" cy="417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 flipV="1">
            <a:off x="4335480" y="2448360"/>
            <a:ext cx="36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284720" y="2060640"/>
            <a:ext cx="401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Times New Roman"/>
              </a:rPr>
              <a:t>Древние Олимпийские игры закончились в 395 году н.э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9515_p"/>
          <p:cNvPicPr/>
          <p:nvPr/>
        </p:nvPicPr>
        <p:blipFill>
          <a:blip r:embed="rId2"/>
          <a:stretch/>
        </p:blipFill>
        <p:spPr>
          <a:xfrm>
            <a:off x="831708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684360" y="260280"/>
            <a:ext cx="78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Text Box 5"/>
          <p:cNvSpPr/>
          <p:nvPr/>
        </p:nvSpPr>
        <p:spPr>
          <a:xfrm flipV="1" rot="10800000">
            <a:off x="755640" y="2923200"/>
            <a:ext cx="590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imes New Roman"/>
              </a:rPr>
              <a:t>В 1896 году французский общественный деятель Пьер де Кубертен возродил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 идею древних соревно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0XXTCA9CLGAPCAIZ4XXJCAJT3APOCA9XNI42CA96R24FCAVL1LYCCA5MME0ICAVZ44NOCAEMIZGBCAG3QNMOCAU8ZNGJCAQPG5ZVCAPP2TEICAVU0Q1DCAV6TAZ0CAVKN0NSCA58YNIQCAX5KP11CATC7G6Q"/>
          <p:cNvPicPr/>
          <p:nvPr/>
        </p:nvPicPr>
        <p:blipFill>
          <a:blip r:embed="rId1"/>
          <a:stretch/>
        </p:blipFill>
        <p:spPr>
          <a:xfrm>
            <a:off x="6516720" y="2349360"/>
            <a:ext cx="1882800" cy="266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9515_p"/>
          <p:cNvPicPr/>
          <p:nvPr/>
        </p:nvPicPr>
        <p:blipFill>
          <a:blip r:embed="rId2"/>
          <a:stretch/>
        </p:blipFill>
        <p:spPr>
          <a:xfrm>
            <a:off x="250920" y="6021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6153120" y="501336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Times New Roman"/>
              </a:rPr>
              <a:t>(1863-19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11600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72080" y="2133720"/>
            <a:ext cx="326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Wide Latin"/>
              </a:rPr>
              <a:t>АФ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21400" y="4673520"/>
            <a:ext cx="27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1896 г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55640" y="5877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 Олимпиада соврем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539CAB8CB0SCAV034ORCAZ1WJGFCAREJMO6CAW5T99TCACNY3OQCA4ZBW6UCAU2R6TFCAP8GIWBCAUO4SOJCA3Q85L7CAKK66I3CA2JB5VYCAMTJGN3CA43JS1PCANHD4HYCAIWFTHACA0H46RVCAPHQUIW"/>
          <p:cNvPicPr/>
          <p:nvPr/>
        </p:nvPicPr>
        <p:blipFill>
          <a:blip r:embed="rId1"/>
          <a:stretch/>
        </p:blipFill>
        <p:spPr>
          <a:xfrm>
            <a:off x="4932360" y="3213000"/>
            <a:ext cx="34560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7_JPG_299283903459d6d9a83c00"/>
          <p:cNvPicPr/>
          <p:nvPr/>
        </p:nvPicPr>
        <p:blipFill>
          <a:blip r:embed="rId2"/>
          <a:stretch/>
        </p:blipFill>
        <p:spPr>
          <a:xfrm>
            <a:off x="539640" y="2276640"/>
            <a:ext cx="3097440" cy="231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9515_p"/>
          <p:cNvPicPr/>
          <p:nvPr/>
        </p:nvPicPr>
        <p:blipFill>
          <a:blip r:embed="rId3"/>
          <a:stretch/>
        </p:blipFill>
        <p:spPr>
          <a:xfrm>
            <a:off x="179280" y="1890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0" y="333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Погибшие Олимпиады</a:t>
            </a: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85080" y="183996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16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276720" y="1700280"/>
            <a:ext cx="559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состоялись из-за первой мировой войн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280" y="314172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914-19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56720" y="4076640"/>
            <a:ext cx="19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40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87948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828360" y="48690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45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76720" y="407664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СОСТОЯЛИСЬ ИЗ-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ТОРОЙ МИРОВ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364000" y="57340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939-19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5"/>
          <p:cNvSpPr txBox="1"/>
          <p:nvPr/>
        </p:nvSpPr>
        <p:spPr>
          <a:xfrm>
            <a:off x="971640" y="189000"/>
            <a:ext cx="74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15040" y="1844640"/>
            <a:ext cx="57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Wide Latin"/>
              </a:rPr>
              <a:t>Летних состояло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4880" y="27082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Arial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058560" y="5084640"/>
            <a:ext cx="56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зимних состояло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878880" y="5805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13_big"/>
          <p:cNvPicPr/>
          <p:nvPr/>
        </p:nvPicPr>
        <p:blipFill>
          <a:blip r:embed="rId1"/>
          <a:stretch/>
        </p:blipFill>
        <p:spPr>
          <a:xfrm>
            <a:off x="6691320" y="1700280"/>
            <a:ext cx="1944720" cy="34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9515_p"/>
          <p:cNvPicPr/>
          <p:nvPr/>
        </p:nvPicPr>
        <p:blipFill>
          <a:blip r:embed="rId2"/>
          <a:stretch/>
        </p:blipFill>
        <p:spPr>
          <a:xfrm>
            <a:off x="179280" y="141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img8"/>
          <p:cNvPicPr/>
          <p:nvPr/>
        </p:nvPicPr>
        <p:blipFill>
          <a:blip r:embed="rId3"/>
          <a:stretch/>
        </p:blipFill>
        <p:spPr>
          <a:xfrm>
            <a:off x="250920" y="2637000"/>
            <a:ext cx="23810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6:02:07Z</dcterms:created>
  <dc:creator>Пользователь</dc:creator>
  <dc:description/>
  <dc:language>en-US</dc:language>
  <cp:lastModifiedBy>ZooM</cp:lastModifiedBy>
  <dcterms:modified xsi:type="dcterms:W3CDTF">2013-12-03T20:32:37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