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C5D5-8787-4B15-9814-1F16652F4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BF0F-4D7B-4A8E-A504-C05625ABF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цветов- 5 конти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8977-1FC1-4BCF-A9EC-59C6E1E65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1920 в .Антверпене белый цвет символизирует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C23B-96F5-4BA0-BBEA-4C1F7D03D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Амстердаме в 1928,впрвые в1920 в Антверп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DC3-7E88-41F4-9B61-CFEC924E4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ята,заяц,койот,медвед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E77-8DFF-482A-BF02-113C4A1FC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с талисман Олимпийского муз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E3C-0C67-4349-A21D-ABE0C3421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проводились каждые 4 года в Олимпии в честь бога Зевса. Игры продолжались 5 дней, а четырехлетний период между двумя играми назывался Олимпиа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F33-525C-46C7-99E2-8B3B43395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яя Олимпия была разрушена сначала войнами а затем разгром довершили два сильных землетряс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AA00-8963-4798-AB97-303973C59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19 века появились первые международные спортивные объединения, стали проводиться сорев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5B5-C165-4480-8396-4AF2D9CC6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18E-8367-49E3-9E7B-32191A7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431-2456-4196-8019-FBED736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7EF-24FB-4FEC-B630-B0DF7189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487-9722-4A78-A522-5B4DB9C8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5BF-CE31-4E4C-A10E-885EDC3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E60-CB9E-4B4C-9D1A-6818CF10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48E-8ED6-41E4-AEB3-B2510D6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CAB-B77C-4955-ADD3-5F7DDB05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B0C-28A6-4588-954B-15D4802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9EB-369D-4F2E-A9B6-9CB0BD5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F3B-3E75-4BEF-A56B-05D394F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20C-EE4B-4607-ACE1-3A57746F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9969-7D9C-44F2-9698-218BB89C1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Wide Latin"/>
              </a:rPr>
              <a:t>Физическая культу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Times New Roman"/>
              </a:rPr>
              <a:t>Олимпийские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95640" y="414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Мороз Елена Алексеевн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85440" y="59500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г.Новочеркас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39640" y="5445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hames"/>
              </a:rPr>
              <a:t>МОУ СОШ №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468360" y="18900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ИКА ОЛИМПИЙСКИХ ИГР.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240" y="1636560"/>
            <a:ext cx="874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ОФИЦИАЛЬНЫЙ ЛОГОТИ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179280" y="2630520"/>
            <a:ext cx="3600720" cy="353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4103280" y="2637000"/>
            <a:ext cx="24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odoni MT Black"/>
              </a:rPr>
              <a:t>Европ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233760" y="3429000"/>
            <a:ext cx="26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Wide Latin"/>
              </a:rPr>
              <a:t>Аф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160520" y="4365720"/>
            <a:ext cx="30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Wide Latin"/>
              </a:rPr>
              <a:t>Аме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782040" y="515772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Wide Latin"/>
              </a:rPr>
              <a:t>Аз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158720" y="6033960"/>
            <a:ext cx="358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Wide Lati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95280" y="-243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МВОЛИКА ОЛИМПИЙСКИХ ИГР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94160" y="2852640"/>
            <a:ext cx="21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Wide Latin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286520" y="4437000"/>
            <a:ext cx="220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ДЕВИ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1"/>
          <a:stretch/>
        </p:blipFill>
        <p:spPr>
          <a:xfrm>
            <a:off x="4140360" y="1674720"/>
            <a:ext cx="4103640" cy="2551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96360" y="5180040"/>
            <a:ext cx="24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быстр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400920" y="531504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выш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703480" y="5889600"/>
            <a:ext cx="23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сильн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24000" y="476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826920" y="0"/>
            <a:ext cx="79218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800" y="1484280"/>
            <a:ext cx="53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олимпийски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 огон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564000" y="5157720"/>
            <a:ext cx="504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клят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261680"/>
          <p:cNvPicPr/>
          <p:nvPr/>
        </p:nvPicPr>
        <p:blipFill>
          <a:blip r:embed="rId1"/>
          <a:stretch/>
        </p:blipFill>
        <p:spPr>
          <a:xfrm>
            <a:off x="5364000" y="148428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olimp_fakel"/>
          <p:cNvPicPr/>
          <p:nvPr/>
        </p:nvPicPr>
        <p:blipFill>
          <a:blip r:embed="rId2"/>
          <a:stretch/>
        </p:blipFill>
        <p:spPr>
          <a:xfrm>
            <a:off x="611280" y="2924280"/>
            <a:ext cx="277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84360" y="0"/>
            <a:ext cx="777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39240" y="5084640"/>
            <a:ext cx="55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церемония открытия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акрытия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102_050204"/>
          <p:cNvPicPr/>
          <p:nvPr/>
        </p:nvPicPr>
        <p:blipFill>
          <a:blip r:embed="rId1"/>
          <a:stretch/>
        </p:blipFill>
        <p:spPr>
          <a:xfrm>
            <a:off x="0" y="4076640"/>
            <a:ext cx="3745080" cy="2163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WA8TCASTA66GCASZWSMTCAW28MWFCABUHQG9CA8ALKCMCA6JZDU6CAUGERXWCA2TV1CUCACVCS18CARSZODGCANJFMEFCAQ0BDUKCA3KXUH4CANIKAIBCA47H3E7CAGP02AMCAVCJ9JKCAR013OECAOVFGO6"/>
          <p:cNvPicPr/>
          <p:nvPr/>
        </p:nvPicPr>
        <p:blipFill>
          <a:blip r:embed="rId2"/>
          <a:stretch/>
        </p:blipFill>
        <p:spPr>
          <a:xfrm>
            <a:off x="5407200" y="1197000"/>
            <a:ext cx="290988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397080" y="1628640"/>
            <a:ext cx="4039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меда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9515_p"/>
          <p:cNvPicPr/>
          <p:nvPr/>
        </p:nvPicPr>
        <p:blipFill>
          <a:blip r:embed="rId3"/>
          <a:stretch/>
        </p:blipFill>
        <p:spPr>
          <a:xfrm>
            <a:off x="824400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bf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55640" y="260280"/>
            <a:ext cx="771840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 Олимпийских игр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294160" y="155736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Times New Roman"/>
              </a:rPr>
              <a:t>19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94880" y="3208320"/>
            <a:ext cx="34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ff"/>
                </a:solidFill>
                <a:latin typeface="Times New Roman"/>
              </a:rPr>
              <a:t>Мехик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-135000" y="5516640"/>
            <a:ext cx="927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первый </a:t>
            </a: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талисман</a:t>
            </a: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 олимпи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250px-ANGEL_OF_INDEPENDENCE"/>
          <p:cNvPicPr/>
          <p:nvPr/>
        </p:nvPicPr>
        <p:blipFill>
          <a:blip r:embed="rId1"/>
          <a:stretch/>
        </p:blipFill>
        <p:spPr>
          <a:xfrm>
            <a:off x="250920" y="2060640"/>
            <a:ext cx="382104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9515_p"/>
          <p:cNvPicPr/>
          <p:nvPr/>
        </p:nvPicPr>
        <p:blipFill>
          <a:blip r:embed="rId2"/>
          <a:stretch/>
        </p:blipFill>
        <p:spPr>
          <a:xfrm>
            <a:off x="179280" y="260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476360" y="333360"/>
            <a:ext cx="575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0800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Летних Олимпийских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6520" y="2492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юнхен-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869080" y="2949480"/>
            <a:ext cx="31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нреаль-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s1976-m"/>
          <p:cNvPicPr/>
          <p:nvPr/>
        </p:nvPicPr>
        <p:blipFill>
          <a:blip r:embed="rId1"/>
          <a:stretch/>
        </p:blipFill>
        <p:spPr>
          <a:xfrm>
            <a:off x="5364000" y="3789360"/>
            <a:ext cx="3313440" cy="2262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waldi"/>
          <p:cNvPicPr/>
          <p:nvPr/>
        </p:nvPicPr>
        <p:blipFill>
          <a:blip r:embed="rId2"/>
          <a:stretch/>
        </p:blipFill>
        <p:spPr>
          <a:xfrm>
            <a:off x="324000" y="3357720"/>
            <a:ext cx="43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92873348_2"/>
          <p:cNvPicPr/>
          <p:nvPr/>
        </p:nvPicPr>
        <p:blipFill>
          <a:blip r:embed="rId3"/>
          <a:stretch/>
        </p:blipFill>
        <p:spPr>
          <a:xfrm>
            <a:off x="250920" y="18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1333440" y="602136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аль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949440" y="604512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Ам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5d5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542160" y="450720"/>
            <a:ext cx="39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ос- Анжелес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86880" y="1197000"/>
            <a:ext cx="19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еул-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133440" y="2708280"/>
            <a:ext cx="26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сква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s1984-m"/>
          <p:cNvPicPr/>
          <p:nvPr/>
        </p:nvPicPr>
        <p:blipFill>
          <a:blip r:embed="rId1"/>
          <a:stretch/>
        </p:blipFill>
        <p:spPr>
          <a:xfrm>
            <a:off x="468360" y="1125360"/>
            <a:ext cx="2376360" cy="2951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1988-m"/>
          <p:cNvPicPr/>
          <p:nvPr/>
        </p:nvPicPr>
        <p:blipFill>
          <a:blip r:embed="rId2"/>
          <a:stretch/>
        </p:blipFill>
        <p:spPr>
          <a:xfrm>
            <a:off x="6122880" y="2133720"/>
            <a:ext cx="2208240" cy="28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s1980-m"/>
          <p:cNvPicPr/>
          <p:nvPr/>
        </p:nvPicPr>
        <p:blipFill>
          <a:blip r:embed="rId3"/>
          <a:stretch/>
        </p:blipFill>
        <p:spPr>
          <a:xfrm>
            <a:off x="3348000" y="3860640"/>
            <a:ext cx="2287800" cy="273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9515_p"/>
          <p:cNvPicPr/>
          <p:nvPr/>
        </p:nvPicPr>
        <p:blipFill>
          <a:blip r:embed="rId4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025280" y="428616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э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68200" y="50785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одо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71640" y="0"/>
            <a:ext cx="5543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95240" y="1341360"/>
            <a:ext cx="67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имних Олимпийских иг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w1984-m"/>
          <p:cNvPicPr/>
          <p:nvPr/>
        </p:nvPicPr>
        <p:blipFill>
          <a:blip r:embed="rId2"/>
          <a:stretch/>
        </p:blipFill>
        <p:spPr>
          <a:xfrm>
            <a:off x="6588000" y="3213000"/>
            <a:ext cx="1873440" cy="200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w1980-m"/>
          <p:cNvPicPr/>
          <p:nvPr/>
        </p:nvPicPr>
        <p:blipFill>
          <a:blip r:embed="rId3"/>
          <a:stretch/>
        </p:blipFill>
        <p:spPr>
          <a:xfrm>
            <a:off x="395280" y="3068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w1988-m"/>
          <p:cNvPicPr/>
          <p:nvPr/>
        </p:nvPicPr>
        <p:blipFill>
          <a:blip r:embed="rId4"/>
          <a:stretch/>
        </p:blipFill>
        <p:spPr>
          <a:xfrm>
            <a:off x="3635280" y="4076640"/>
            <a:ext cx="1763640" cy="200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326160" y="210672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ейк- Плесид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418560" y="335772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Калгари-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726160" y="2421000"/>
            <a:ext cx="27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араево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9515_p"/>
          <p:cNvPicPr/>
          <p:nvPr/>
        </p:nvPicPr>
        <p:blipFill>
          <a:blip r:embed="rId5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809280" y="507852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Р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256200" y="615960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айди и Хоу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6927840" y="5295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уч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934160" y="836640"/>
            <a:ext cx="300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Нагано-9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5440" y="4292640"/>
            <a:ext cx="48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олт-Лейк- Сити-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w1998-m"/>
          <p:cNvPicPr/>
          <p:nvPr/>
        </p:nvPicPr>
        <p:blipFill>
          <a:blip r:embed="rId1"/>
          <a:stretch/>
        </p:blipFill>
        <p:spPr>
          <a:xfrm>
            <a:off x="468360" y="563400"/>
            <a:ext cx="4030560" cy="241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2002W_mascot_b"/>
          <p:cNvPicPr/>
          <p:nvPr/>
        </p:nvPicPr>
        <p:blipFill>
          <a:blip r:embed="rId2"/>
          <a:stretch/>
        </p:blipFill>
        <p:spPr>
          <a:xfrm>
            <a:off x="5219640" y="314172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чебурашка"/>
          <p:cNvPicPr/>
          <p:nvPr/>
        </p:nvPicPr>
        <p:blipFill>
          <a:blip r:embed="rId3"/>
          <a:stretch/>
        </p:blipFill>
        <p:spPr>
          <a:xfrm>
            <a:off x="7812000" y="26028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050920" y="549360"/>
            <a:ext cx="58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ff"/>
                </a:solidFill>
                <a:latin typeface="Times New Roman"/>
              </a:rPr>
              <a:t>Турин-20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380360" y="404640"/>
            <a:ext cx="1407960" cy="1062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1621080" y="2922480"/>
            <a:ext cx="255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0" descr="olympicmuseu"/>
          <p:cNvPicPr/>
          <p:nvPr/>
        </p:nvPicPr>
        <p:blipFill>
          <a:blip r:embed="rId2"/>
          <a:stretch/>
        </p:blipFill>
        <p:spPr>
          <a:xfrm>
            <a:off x="971640" y="5157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257640" y="524196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Times New Roman"/>
              </a:rPr>
              <a:t>Пиро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3"/>
          <a:stretch/>
        </p:blipFill>
        <p:spPr>
          <a:xfrm>
            <a:off x="395280" y="549360"/>
            <a:ext cx="129384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Object 16"/>
          <p:cNvGraphicFramePr/>
          <p:nvPr/>
        </p:nvGraphicFramePr>
        <p:xfrm>
          <a:off x="5076720" y="2205000"/>
          <a:ext cx="3672000" cy="275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2205000"/>
                    <a:ext cx="36720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836720" y="189000"/>
            <a:ext cx="436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Цели урока</a:t>
            </a:r>
            <a:r>
              <a:rPr b="0" lang="ru-RU" sz="60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77880" y="160812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паганда олимпийского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через яркие образы олимпийской символ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99280" y="3340080"/>
            <a:ext cx="45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накомство с исто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Олимпийских иг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900360" y="4581360"/>
            <a:ext cx="5558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Повышение мотивации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анятий спорт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95400" y="5805360"/>
            <a:ext cx="71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Расширение межпредметных связ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975320" y="260280"/>
            <a:ext cx="49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7948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2960" y="1557360"/>
            <a:ext cx="574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Нарисовать эскиз талисм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зимних Олимпийских иг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в Со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79320" y="3141720"/>
            <a:ext cx="68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Составить рассказ о приключ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талисмана одной из Олимпиа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(зимней или летне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163160" y="4719600"/>
            <a:ext cx="479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Отгадай чей талисм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Где находится стол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его сбор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Рисунок1"/>
          <p:cNvPicPr/>
          <p:nvPr/>
        </p:nvPicPr>
        <p:blipFill>
          <a:blip r:embed="rId1"/>
          <a:stretch/>
        </p:blipFill>
        <p:spPr>
          <a:xfrm>
            <a:off x="6300720" y="479736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untitled"/>
          <p:cNvPicPr/>
          <p:nvPr/>
        </p:nvPicPr>
        <p:blipFill>
          <a:blip r:embed="rId2"/>
          <a:stretch/>
        </p:blipFill>
        <p:spPr>
          <a:xfrm>
            <a:off x="6443640" y="4365720"/>
            <a:ext cx="2016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3111480" y="3079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poster-01"/>
          <p:cNvPicPr/>
          <p:nvPr/>
        </p:nvPicPr>
        <p:blipFill>
          <a:blip r:embed="rId1"/>
          <a:stretch/>
        </p:blipFill>
        <p:spPr>
          <a:xfrm>
            <a:off x="2124000" y="1413000"/>
            <a:ext cx="4214880" cy="5229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-1440" y="333360"/>
            <a:ext cx="92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о встречи на олимпийских стадион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189000"/>
            <a:ext cx="8466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Олимпийские игры</a:t>
            </a:r>
            <a:r>
              <a:rPr b="0" lang="ru-RU" sz="6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история и современность</a:t>
            </a: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72720" y="220500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держание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26560" y="2637000"/>
            <a:ext cx="59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Античные Олимпийские игр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72000" y="3357720"/>
            <a:ext cx="71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временные Олимпийские игр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14920" y="4005360"/>
            <a:ext cx="64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имволика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331280" y="4797360"/>
            <a:ext cx="64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Талисманы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20360" y="5734080"/>
            <a:ext cx="42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740720" y="5877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Игры древности начались в 776 году до н. э. Олим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75564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8" descr="17_JPG_299283903459d6d9a83c00"/>
          <p:cNvPicPr/>
          <p:nvPr/>
        </p:nvPicPr>
        <p:blipFill>
          <a:blip r:embed="rId1"/>
          <a:stretch/>
        </p:blipFill>
        <p:spPr>
          <a:xfrm>
            <a:off x="4284720" y="1989000"/>
            <a:ext cx="4608360" cy="344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611280" y="0"/>
            <a:ext cx="7777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44EDCA33BUHCCAT8F8GPCAM77W21CAY98VR0CAUIQ37ICA7JXE6JCAFSRCAECA2O3IQ5CAG665YDCA9FCMPMCA6XMSO7CATJNN37CAW1QKUECAQDY180CA2XH731CAMW2VUQCA27QYVOCAS55BETCAOQBB4P"/>
          <p:cNvPicPr/>
          <p:nvPr/>
        </p:nvPicPr>
        <p:blipFill>
          <a:blip r:embed="rId1"/>
          <a:stretch/>
        </p:blipFill>
        <p:spPr>
          <a:xfrm>
            <a:off x="468360" y="1773360"/>
            <a:ext cx="3564000" cy="417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 flipV="1">
            <a:off x="4335480" y="2448360"/>
            <a:ext cx="36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284720" y="2060640"/>
            <a:ext cx="401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Times New Roman"/>
              </a:rPr>
              <a:t>Древние Олимпийские игры закончились в 395 году н.э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9515_p"/>
          <p:cNvPicPr/>
          <p:nvPr/>
        </p:nvPicPr>
        <p:blipFill>
          <a:blip r:embed="rId2"/>
          <a:stretch/>
        </p:blipFill>
        <p:spPr>
          <a:xfrm>
            <a:off x="831708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684360" y="26028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 Box 5"/>
          <p:cNvSpPr/>
          <p:nvPr/>
        </p:nvSpPr>
        <p:spPr>
          <a:xfrm flipV="1" rot="10800000">
            <a:off x="755640" y="2923200"/>
            <a:ext cx="590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imes New Roman"/>
              </a:rPr>
              <a:t>В 1896 году французский общественный деятель Пьер де Кубертен возродил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 идею древних соревн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0XXTCA9CLGAPCAIZ4XXJCAJT3APOCA9XNI42CA96R24FCAVL1LYCCA5MME0ICAVZ44NOCAEMIZGBCAG3QNMOCAU8ZNGJCAQPG5ZVCAPP2TEICAVU0Q1DCAV6TAZ0CAVKN0NSCA58YNIQCAX5KP11CATC7G6Q"/>
          <p:cNvPicPr/>
          <p:nvPr/>
        </p:nvPicPr>
        <p:blipFill>
          <a:blip r:embed="rId1"/>
          <a:stretch/>
        </p:blipFill>
        <p:spPr>
          <a:xfrm>
            <a:off x="6516720" y="2349360"/>
            <a:ext cx="188280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6153120" y="501336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Times New Roman"/>
              </a:rPr>
              <a:t>(1863-19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11600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72080" y="2133720"/>
            <a:ext cx="32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Wide Latin"/>
              </a:rPr>
              <a:t>АФ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1400" y="4673520"/>
            <a:ext cx="27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1896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55640" y="5877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 Олимпиада соврем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539CAB8CB0SCAV034ORCAZ1WJGFCAREJMO6CAW5T99TCACNY3OQCA4ZBW6UCAU2R6TFCAP8GIWBCAUO4SOJCA3Q85L7CAKK66I3CA2JB5VYCAMTJGN3CA43JS1PCANHD4HYCAIWFTHACA0H46RVCAPHQUIW"/>
          <p:cNvPicPr/>
          <p:nvPr/>
        </p:nvPicPr>
        <p:blipFill>
          <a:blip r:embed="rId1"/>
          <a:stretch/>
        </p:blipFill>
        <p:spPr>
          <a:xfrm>
            <a:off x="4932360" y="3213000"/>
            <a:ext cx="34560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7_JPG_299283903459d6d9a83c00"/>
          <p:cNvPicPr/>
          <p:nvPr/>
        </p:nvPicPr>
        <p:blipFill>
          <a:blip r:embed="rId2"/>
          <a:stretch/>
        </p:blipFill>
        <p:spPr>
          <a:xfrm>
            <a:off x="539640" y="2276640"/>
            <a:ext cx="30974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9515_p"/>
          <p:cNvPicPr/>
          <p:nvPr/>
        </p:nvPicPr>
        <p:blipFill>
          <a:blip r:embed="rId3"/>
          <a:stretch/>
        </p:blipFill>
        <p:spPr>
          <a:xfrm>
            <a:off x="179280" y="1890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Погибшие Олимпиады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85080" y="183996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16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276720" y="1700280"/>
            <a:ext cx="559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состоялись из-за первой мировой войн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280" y="314172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14-19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56720" y="4076640"/>
            <a:ext cx="19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0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7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828360" y="48690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5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76720" y="407664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СОСТОЯЛИСЬ ИЗ-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ТОРОЙ МИРОВ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364000" y="57340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39-19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971640" y="189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15040" y="1844640"/>
            <a:ext cx="57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Wide Latin"/>
              </a:rPr>
              <a:t>Лет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4880" y="270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058560" y="5084640"/>
            <a:ext cx="56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зим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8788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13_big"/>
          <p:cNvPicPr/>
          <p:nvPr/>
        </p:nvPicPr>
        <p:blipFill>
          <a:blip r:embed="rId1"/>
          <a:stretch/>
        </p:blipFill>
        <p:spPr>
          <a:xfrm>
            <a:off x="6691320" y="170028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515_p"/>
          <p:cNvPicPr/>
          <p:nvPr/>
        </p:nvPicPr>
        <p:blipFill>
          <a:blip r:embed="rId2"/>
          <a:stretch/>
        </p:blipFill>
        <p:spPr>
          <a:xfrm>
            <a:off x="179280" y="141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mg8"/>
          <p:cNvPicPr/>
          <p:nvPr/>
        </p:nvPicPr>
        <p:blipFill>
          <a:blip r:embed="rId3"/>
          <a:stretch/>
        </p:blipFill>
        <p:spPr>
          <a:xfrm>
            <a:off x="250920" y="2637000"/>
            <a:ext cx="23810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6:02:07Z</dcterms:created>
  <dc:creator>Пользователь</dc:creator>
  <dc:description/>
  <dc:language>en-US</dc:language>
  <cp:lastModifiedBy>ZooM</cp:lastModifiedBy>
  <dcterms:modified xsi:type="dcterms:W3CDTF">2013-12-03T20:32:37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