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65F7-3D41-4743-B45F-6C523A07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945-1A6E-4A52-8950-3F15FDE4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8A8D-6889-4A3D-A6D2-9B1A9079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72A-66E4-47E3-95CE-4CC2867D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799A-04A7-4D97-893A-2CA12B06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1B24-5AD6-4F74-9C10-133CD4EB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16C-C603-4A7E-95C5-0980E57E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540-8A6F-4404-962E-7AADA05F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1079-68D8-41BC-B6F6-0C10E1B0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32B-EEF8-4384-B08B-D8E12FF7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7B7-8660-4BFD-B0F7-82464CE0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DEB-EECC-49AB-BABF-B3A7CD8B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071E-1CA1-4198-BF04-215089FB08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476360" y="1557360"/>
            <a:ext cx="6480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>
                    <a:alpha val="10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Я выбираю свободу ...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>
                  <a:alpha val="10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2771640" y="53737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6633"/>
                </a:solidFill>
                <a:latin typeface="Monotype Corsiva"/>
              </a:rPr>
              <a:t>О творчестве Александра Гали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езентация1.ppt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826920" y="765000"/>
            <a:ext cx="792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А вскоре в судьбе Галича начался новый этап. Об этом он сам писал так: «Пути Господни неисповедимы, но не случайны. Не случайна была та бессонная ночь в вагоне поезда Москва – Ленинград», когда я написал свою первую песню «Лен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5296"/>
          <p:cNvPicPr/>
          <p:nvPr/>
        </p:nvPicPr>
        <p:blipFill>
          <a:blip r:embed="rId1"/>
          <a:stretch/>
        </p:blipFill>
        <p:spPr>
          <a:xfrm>
            <a:off x="2411280" y="3141720"/>
            <a:ext cx="48182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971640" y="98100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Постепенно песни Галича завоевали всю страну. Их, конечно, не передавали по радио, не включали  в праздничные концерты, не печатали и издавали пластинок. Пути его песен были другие; через самиздат, через магнитофонные запи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olimp_mpk005st"/>
          <p:cNvPicPr/>
          <p:nvPr/>
        </p:nvPicPr>
        <p:blipFill>
          <a:blip r:embed="rId1"/>
          <a:stretch/>
        </p:blipFill>
        <p:spPr>
          <a:xfrm>
            <a:off x="395280" y="4005360"/>
            <a:ext cx="2222640" cy="2055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2916360" y="4005360"/>
            <a:ext cx="56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Бродит Кривда с полосы на полосу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Делится с соседкой Кривдой опытом.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Но гремит напетое вполголоса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Но гудит прочитанное шёп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pasternak"/>
          <p:cNvPicPr/>
          <p:nvPr/>
        </p:nvPicPr>
        <p:blipFill>
          <a:blip r:embed="rId1"/>
          <a:stretch/>
        </p:blipFill>
        <p:spPr>
          <a:xfrm>
            <a:off x="539640" y="2708280"/>
            <a:ext cx="3035520" cy="3384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55640" y="692280"/>
            <a:ext cx="74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Март 1968 года. Новосибирский Академгородок. Единственный открытый концерт Галича. Он исполняет знаменитое «Посвящение Пастернак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780000" y="3284640"/>
            <a:ext cx="47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Разобрали венки на веники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На полчасика погрустнели…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Как гордились мы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              современники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Что он умер в своей пост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dbimg"/>
          <p:cNvPicPr/>
          <p:nvPr/>
        </p:nvPicPr>
        <p:blipFill>
          <a:blip r:embed="rId1"/>
          <a:stretch/>
        </p:blipFill>
        <p:spPr>
          <a:xfrm>
            <a:off x="684360" y="1125360"/>
            <a:ext cx="2636640" cy="4537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3635280" y="620640"/>
            <a:ext cx="504036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Песня «Петербургский романс» вроде бы посвящена декабристам, вышедшим на Сенатскую площадь. Но дата говорит о другом: о событии 22 августа 1968года- дне, когда советские танки вошли в Прагу, а 6 наших сограждан вышли с протестом на Красную площад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И всё так же, не проще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Век наш пробует нас-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Можешь выйти на площадь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В тот назначенный час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nekrasov"/>
          <p:cNvPicPr/>
          <p:nvPr/>
        </p:nvPicPr>
        <p:blipFill>
          <a:blip r:embed="rId1"/>
          <a:stretch/>
        </p:blipFill>
        <p:spPr>
          <a:xfrm>
            <a:off x="395280" y="1773360"/>
            <a:ext cx="2906640" cy="4608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684360" y="333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Песня исхода» посвящена уезжающим из страны Виктору и Галине Некрасовым, которых система вытолкнула из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564000" y="1844640"/>
            <a:ext cx="529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Я не плакальщик и не стража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И в литавры не буду бить.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Уезжаете?! Воля ваша!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Значит- так посему и быть!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Я стою… Велика ли странность?! Я привычно машу рукой!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Уезжайте! А я останусь.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Кто-то должен , презрев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                  усталость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Наших мёртвых хранить покой!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	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	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	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	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826920" y="692280"/>
            <a:ext cx="777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Но вышло , к сожалению иначе… В том 1971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 году прошло заседание секретариата Московского отделения Союза писателей, на повестке дня которого стоял один вопрос: «об исключении писателя Галича Александра Аркадьевича 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из членов Союза советских писателей за несоответствие высокому званию члена данного Союза».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Галича обвинили в политической неблагонадёжности, антисоветчине, в нелюбви к род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042920" y="47862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016000" y="4724280"/>
            <a:ext cx="71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Не  медведи, не львы, не лисы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Не кикимора и сова –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Были лица – почти как лица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И почти как слова –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11280" y="765000"/>
            <a:ext cx="7848360" cy="56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Говорят, в доказательство неблагонадёжности Галича на том самом заседании прокрутили «Старательский вальсок» - одну из самых прямых и жёстких его пес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Estrangelo Edessa"/>
              </a:rPr>
              <a:t>     </a:t>
            </a:r>
            <a:r>
              <a:rPr b="1" i="1" lang="ru-RU" sz="2800" spc="-1" strike="noStrike">
                <a:solidFill>
                  <a:srgbClr val="800000"/>
                </a:solidFill>
                <a:latin typeface="Estrangelo Edessa"/>
              </a:rPr>
              <a:t>Вот как просто попасть в богачи,</a:t>
            </a:r>
            <a:br>
              <a:rPr sz="2800"/>
            </a:br>
            <a:r>
              <a:rPr b="1" i="1" lang="ru-RU" sz="2800" spc="-1" strike="noStrike">
                <a:solidFill>
                  <a:srgbClr val="800000"/>
                </a:solidFill>
                <a:latin typeface="Estrangelo Edessa"/>
              </a:rPr>
              <a:t>     Вот как просто попасть в первачи,</a:t>
            </a:r>
            <a:br>
              <a:rPr sz="2800"/>
            </a:br>
            <a:r>
              <a:rPr b="1" i="1" lang="ru-RU" sz="2800" spc="-1" strike="noStrike">
                <a:solidFill>
                  <a:srgbClr val="800000"/>
                </a:solidFill>
                <a:latin typeface="Estrangelo Edessa"/>
              </a:rPr>
              <a:t>     Вот как просто попасть - в палачи:</a:t>
            </a:r>
            <a:br>
              <a:rPr sz="2800"/>
            </a:br>
            <a:r>
              <a:rPr b="1" i="1" lang="ru-RU" sz="2800" spc="-1" strike="noStrike">
                <a:solidFill>
                  <a:srgbClr val="800000"/>
                </a:solidFill>
                <a:latin typeface="Estrangelo Edessa"/>
              </a:rPr>
              <a:t>     Промолчи, промолчи, промол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«Молчальники», вышедшие в «начальники», узнавали себя в этих строчках и мстили за собственную слабость, трус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611280" y="549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«…Я уезжаю из Советского Союза, но не из России… моя Россия остается со мной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3"/>
          <p:cNvPicPr/>
          <p:nvPr/>
        </p:nvPicPr>
        <p:blipFill>
          <a:blip r:embed="rId1"/>
          <a:srcRect l="4021" t="507" r="7974" b="11289"/>
          <a:stretch/>
        </p:blipFill>
        <p:spPr>
          <a:xfrm>
            <a:off x="5003640" y="1433520"/>
            <a:ext cx="3456000" cy="2355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srpol02"/>
          <p:cNvPicPr/>
          <p:nvPr/>
        </p:nvPicPr>
        <p:blipFill>
          <a:blip r:embed="rId2"/>
          <a:stretch/>
        </p:blipFill>
        <p:spPr>
          <a:xfrm>
            <a:off x="5003640" y="4221000"/>
            <a:ext cx="3384720" cy="2157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осень"/>
          <p:cNvPicPr/>
          <p:nvPr/>
        </p:nvPicPr>
        <p:blipFill>
          <a:blip r:embed="rId3"/>
          <a:stretch/>
        </p:blipFill>
        <p:spPr>
          <a:xfrm>
            <a:off x="539640" y="1557360"/>
            <a:ext cx="37688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826920" y="836640"/>
            <a:ext cx="777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Россия в стихотворении « Русские плачи» - это сторона, где «плачут вятичи, что не стало России», где плакал в церкви юродивый, что пропала Россия»,А гоголевская птица- тройка «объявилась чрезвычайкой в Лефортов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71640" y="350028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молю тебя: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- Выдюжи!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Будь и в тленье живой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Чтоб хоть в сердце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          как в Китеже,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Слышать благовест твой 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pskov-1021543530-small"/>
          <p:cNvPicPr/>
          <p:nvPr/>
        </p:nvPicPr>
        <p:blipFill>
          <a:blip r:embed="rId1"/>
          <a:stretch/>
        </p:blipFill>
        <p:spPr>
          <a:xfrm>
            <a:off x="5364000" y="3068640"/>
            <a:ext cx="33465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539640" y="40464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В 1974 году Галич был вынужден эмигрировать: «…я ведь в сущности не уезжаю. Меня выгоняют… Единственная моя мечта, надежда, вера, счастье –удовлетворение в том, что я всё время буду возвращаться на эту землю. А уж мёртвый-то я вернусь наверняка».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А там, вдали от России, ему стало трудно пис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971640" y="3141720"/>
            <a:ext cx="5256000" cy="324000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187280" y="3141720"/>
            <a:ext cx="604872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нимаю, что просьба тщетна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минают поименитей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у, не тризною, так хоть чем-т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оть всухую, да помянит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оть за то, что я верил в чуд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за песни, что пел без склад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про то, что мне было худо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икогда вспоминать не над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Черновик эпитаф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g1"/>
          <p:cNvPicPr/>
          <p:nvPr/>
        </p:nvPicPr>
        <p:blipFill>
          <a:blip r:embed="rId1"/>
          <a:stretch/>
        </p:blipFill>
        <p:spPr>
          <a:xfrm>
            <a:off x="611280" y="907920"/>
            <a:ext cx="3673440" cy="511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hc06"/>
          <p:cNvPicPr/>
          <p:nvPr/>
        </p:nvPicPr>
        <p:blipFill>
          <a:blip r:embed="rId2"/>
          <a:stretch/>
        </p:blipFill>
        <p:spPr>
          <a:xfrm>
            <a:off x="4788000" y="907920"/>
            <a:ext cx="345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826920" y="620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Гибель Галича в 1977 году многим показалась случайной и нелепой: он взялся рукой за оголённый провод магнитофона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kladbische"/>
          <p:cNvPicPr/>
          <p:nvPr/>
        </p:nvPicPr>
        <p:blipFill>
          <a:blip r:embed="rId1"/>
          <a:stretch/>
        </p:blipFill>
        <p:spPr>
          <a:xfrm>
            <a:off x="1258920" y="2133720"/>
            <a:ext cx="619272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55640" y="76500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780000" y="1484280"/>
            <a:ext cx="439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Estrangelo Edessa"/>
              </a:rPr>
              <a:t>Александр Галич вернулся. Вернулся в свою страну, в свой город – песнями, стихами, памятью и легенд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guitar"/>
          <p:cNvPicPr/>
          <p:nvPr/>
        </p:nvPicPr>
        <p:blipFill>
          <a:blip r:embed="rId1"/>
          <a:stretch/>
        </p:blipFill>
        <p:spPr>
          <a:xfrm>
            <a:off x="395280" y="1557360"/>
            <a:ext cx="28638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95280" y="1197000"/>
            <a:ext cx="802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Palatino Linotype"/>
              </a:rPr>
              <a:t>«Мне всё-таки было под пятьдесят. Я уже всё видел . Я у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990000"/>
                </a:solidFill>
                <a:latin typeface="Palatino Linotype"/>
              </a:rPr>
              <a:t>был благополучным драматургом, благополучным советски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Palatino Linotype"/>
              </a:rPr>
              <a:t>холуём. Я и понял, что так больше не могу. Что я должен наконец-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Palatino Linotype"/>
              </a:rPr>
              <a:t>заговорить в полный голос, заговорить правду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and3"/>
          <p:cNvPicPr/>
          <p:nvPr/>
        </p:nvPicPr>
        <p:blipFill>
          <a:blip r:embed="rId1"/>
          <a:stretch/>
        </p:blipFill>
        <p:spPr>
          <a:xfrm>
            <a:off x="324000" y="1628640"/>
            <a:ext cx="3960720" cy="35355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5292720" y="1125360"/>
            <a:ext cx="3166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Александр Галич один из первых среди бардов открыто выступил против официальной лжи, против всевластия партийного аппарата, против бессилия и страха. Что же это за правда? О чём пел А. Гали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826920" y="692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Александр Аркадьевич Галич родился в 1918 году, детство прошло в Севастоп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lipViewImg"/>
          <p:cNvPicPr/>
          <p:nvPr/>
        </p:nvPicPr>
        <p:blipFill>
          <a:blip r:embed="rId1"/>
          <a:stretch/>
        </p:blipFill>
        <p:spPr>
          <a:xfrm>
            <a:off x="1116000" y="1916280"/>
            <a:ext cx="6912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63640" y="62064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По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семь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перебралась в Москву, в Кривоколенный переу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fl683329671"/>
          <p:cNvPicPr/>
          <p:nvPr/>
        </p:nvPicPr>
        <p:blipFill>
          <a:blip r:embed="rId1"/>
          <a:stretch/>
        </p:blipFill>
        <p:spPr>
          <a:xfrm>
            <a:off x="1258920" y="1844640"/>
            <a:ext cx="6913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971640" y="76500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В 1935 году, окончив 10 классов средней школы, Галич поступил на поэтическое Литературного института и одновременно в театральную Школу-студию под руководством Станислав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tanisl"/>
          <p:cNvPicPr/>
          <p:nvPr/>
        </p:nvPicPr>
        <p:blipFill>
          <a:blip r:embed="rId1"/>
          <a:srcRect l="5190" t="6778" r="3905" b="5089"/>
          <a:stretch/>
        </p:blipFill>
        <p:spPr>
          <a:xfrm>
            <a:off x="1979640" y="2997360"/>
            <a:ext cx="5040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826920" y="765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В годы войны Галич в составе фронтового театра </a:t>
            </a:r>
            <a:r>
              <a:rPr b="1" i="1" lang="ru-RU" sz="2400" spc="-1" strike="noStrike">
                <a:solidFill>
                  <a:srgbClr val="800000"/>
                </a:solidFill>
                <a:latin typeface="Estrangelo Edessa"/>
              </a:rPr>
              <a:t>Валентина</a:t>
            </a: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 Плучека со спектаклями и концертами объездили весь фронт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192_big"/>
          <p:cNvPicPr/>
          <p:nvPr/>
        </p:nvPicPr>
        <p:blipFill>
          <a:blip r:embed="rId1"/>
          <a:stretch/>
        </p:blipFill>
        <p:spPr>
          <a:xfrm>
            <a:off x="1619280" y="2205000"/>
            <a:ext cx="5705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900000" y="90792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Estrangelo Edessa"/>
              </a:rPr>
              <a:t>После войны Галич оставляет актёрскую студию и начинает работать как драматург: он – автор комедии «Вас вызывает Таймыр», один из авторов фильма «Верные друзья»; он пишет для театра пьесы «Пути, которые мы выбираем», «Август», «Матросская тиши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eli"/>
          <p:cNvPicPr/>
          <p:nvPr/>
        </p:nvPicPr>
        <p:blipFill>
          <a:blip r:embed="rId1"/>
          <a:stretch/>
        </p:blipFill>
        <p:spPr>
          <a:xfrm>
            <a:off x="1332000" y="3429000"/>
            <a:ext cx="3382920" cy="281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XGetDBPicServlet"/>
          <p:cNvPicPr/>
          <p:nvPr/>
        </p:nvPicPr>
        <p:blipFill>
          <a:blip r:embed="rId2"/>
          <a:stretch/>
        </p:blipFill>
        <p:spPr>
          <a:xfrm>
            <a:off x="5580000" y="3357720"/>
            <a:ext cx="20955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6:53:39Z</dcterms:created>
  <dc:creator>user</dc:creator>
  <dc:description/>
  <dc:language>en-US</dc:language>
  <cp:lastModifiedBy>Коля</cp:lastModifiedBy>
  <dcterms:modified xsi:type="dcterms:W3CDTF">2013-03-20T19:11:33Z</dcterms:modified>
  <cp:revision>31</cp:revision>
  <dc:subject/>
  <dc:title>Слайд 1</dc:title>
</cp:coreProperties>
</file>