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6E6-10DF-4E0B-A313-9BCA3E82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02D-1AF3-4999-A2CC-08249733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522-3FC0-44CC-91D8-2F31B045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F93-B795-476F-8932-1D7E46B5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C46-00C4-41DF-98F7-DBC14BA5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C92-0339-4FBE-90A6-F2D1BECE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502-D501-4BE5-9704-718D1CC5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65F-B554-4F35-A2DB-FA29EEEA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E75-27F4-44CC-A3AF-F2D098FF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33A-3461-4CAE-9BA5-7712DBC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609-C164-4376-8D11-640B28C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55F-4AAA-4935-A821-B8606AC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6C3F-6E27-4898-9BDA-E5C73124D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76360" y="155736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>
                    <a:alpha val="1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Я выбираю свободу ...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>
                  <a:alpha val="1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771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6633"/>
                </a:solidFill>
                <a:latin typeface="Monotype Corsiva"/>
              </a:rPr>
              <a:t>О творчестве Александра Гал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езентация1.ppt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26920" y="76500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вскоре в судьбе Галича начался новый этап. Об этом он сам писал так: «Пути Господни неисповедимы, но не случайны. Не случайна была та бессонная ночь в вагоне поезда Москва – Ленинград», когда я написал свою первую песню «Лен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296"/>
          <p:cNvPicPr/>
          <p:nvPr/>
        </p:nvPicPr>
        <p:blipFill>
          <a:blip r:embed="rId1"/>
          <a:stretch/>
        </p:blipFill>
        <p:spPr>
          <a:xfrm>
            <a:off x="2411280" y="3141720"/>
            <a:ext cx="48182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971640" y="981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тепенно песни Галича завоевали всю страну. Их, конечно, не передавали по радио, не включали  в праздничные концерты, не печатали и издавали пластинок. Пути его песен были другие; через самиздат, через магнитофонные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olimp_mpk005st"/>
          <p:cNvPicPr/>
          <p:nvPr/>
        </p:nvPicPr>
        <p:blipFill>
          <a:blip r:embed="rId1"/>
          <a:stretch/>
        </p:blipFill>
        <p:spPr>
          <a:xfrm>
            <a:off x="395280" y="4005360"/>
            <a:ext cx="2222640" cy="2055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916360" y="40053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родит Кривда с полосы на полосу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Делится с соседкой Кривдой опытом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ремит напетое вполголоса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удит прочитанное шё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asternak"/>
          <p:cNvPicPr/>
          <p:nvPr/>
        </p:nvPicPr>
        <p:blipFill>
          <a:blip r:embed="rId1"/>
          <a:stretch/>
        </p:blipFill>
        <p:spPr>
          <a:xfrm>
            <a:off x="539640" y="2708280"/>
            <a:ext cx="3035520" cy="3384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5640" y="69228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арт 1968 года. Новосибирский Академгородок. Единственный открытый концерт Галича. Он исполняет знаменитое «Посвящение Пастерн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780000" y="328464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азобрали венки на ве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 полчасика погрустнели…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ак гордились м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современ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 он умер в своей пос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bimg"/>
          <p:cNvPicPr/>
          <p:nvPr/>
        </p:nvPicPr>
        <p:blipFill>
          <a:blip r:embed="rId1"/>
          <a:stretch/>
        </p:blipFill>
        <p:spPr>
          <a:xfrm>
            <a:off x="684360" y="1125360"/>
            <a:ext cx="263664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635280" y="620640"/>
            <a:ext cx="5040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«Петербургский романс» вроде бы посвящена декабристам, вышедшим на Сенатскую площадь. Но дата говорит о другом: о событии 22 августа 1968года- дне, когда советские танки вошли в Прагу, а 6 наших сограждан вышли с протестом на Красную площа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сё так же, не проще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ек наш пробует нас-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жешь выйти на площадь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тот назначенный час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krasov"/>
          <p:cNvPicPr/>
          <p:nvPr/>
        </p:nvPicPr>
        <p:blipFill>
          <a:blip r:embed="rId1"/>
          <a:stretch/>
        </p:blipFill>
        <p:spPr>
          <a:xfrm>
            <a:off x="395280" y="1773360"/>
            <a:ext cx="290664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436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исхода» посвящена уезжающим из страны Виктору и Галине Некрасовым, которых система вытолкнула из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0" y="1844640"/>
            <a:ext cx="529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не плакальщик и не страж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 литавры не буду бит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ете?! Воля ваша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Значит- так посему и быть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стою… Велика ли странность?! Я привычно машу ру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йте! А я останус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то-то должен , презрев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   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ших мёртвых хранить по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826920" y="69228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вышло , к сожалению иначе… В том 1971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году прошло заседание секретариата Московского отделения Союза писателей, на повестке дня которого стоял один вопрос: «об исключении писателя Галича Александра Аркадьевича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з членов Союза советских писателей за несоответствие высокому званию члена данного Союз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алича обвинили в политической неблагонадёжности, антисоветчине, в нелюбви к р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42920" y="47862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016000" y="472428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 медведи, не львы, не лис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кикимора и сова –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ыли лица – почти как лиц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почти как слова –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784836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оворят, в доказательство неблагонадёжности Галича на том самом заседании прокрутили «Старательский вальсок» - одну из самых прямых и жёстких его п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</a:t>
            </a: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Вот как просто попасть в бог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в перв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- в палачи: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Промолчи, промолчи, промол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Молчальники», вышедшие в «начальники», узнавали себя в этих строчках и мстили за собственную слабость, трус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549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…Я уезжаю из Советского Союза, но не из России… моя Россия остается со мно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3"/>
          <p:cNvPicPr/>
          <p:nvPr/>
        </p:nvPicPr>
        <p:blipFill>
          <a:blip r:embed="rId1"/>
          <a:srcRect l="4021" t="507" r="7974" b="11289"/>
          <a:stretch/>
        </p:blipFill>
        <p:spPr>
          <a:xfrm>
            <a:off x="5003640" y="1433520"/>
            <a:ext cx="3456000" cy="235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rpol02"/>
          <p:cNvPicPr/>
          <p:nvPr/>
        </p:nvPicPr>
        <p:blipFill>
          <a:blip r:embed="rId2"/>
          <a:stretch/>
        </p:blipFill>
        <p:spPr>
          <a:xfrm>
            <a:off x="5003640" y="4221000"/>
            <a:ext cx="3384720" cy="215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осень"/>
          <p:cNvPicPr/>
          <p:nvPr/>
        </p:nvPicPr>
        <p:blipFill>
          <a:blip r:embed="rId3"/>
          <a:stretch/>
        </p:blipFill>
        <p:spPr>
          <a:xfrm>
            <a:off x="539640" y="1557360"/>
            <a:ext cx="3768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26920" y="83664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оссия в стихотворении « Русские плачи» - это сторона, где «плачут вятичи, что не стало России», где плакал в церкви юродивый, что пропала Россия»,А гоголевская птица- тройка «объявилась чрезвычайкой в Лефортов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1640" y="3500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лю тебя: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- Выдюжи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удь и в тленье живой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б хоть в сердц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как в Китеж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лышать благовест твой 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skov-1021543530-small"/>
          <p:cNvPicPr/>
          <p:nvPr/>
        </p:nvPicPr>
        <p:blipFill>
          <a:blip r:embed="rId1"/>
          <a:stretch/>
        </p:blipFill>
        <p:spPr>
          <a:xfrm>
            <a:off x="5364000" y="3068640"/>
            <a:ext cx="3346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964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74 году Галич был вынужден эмигрировать: «…я ведь в сущности не уезжаю. Меня выгоняют… Единственная моя мечта, надежда, вера, счастье –удовлетворение в том, что я всё время буду возвращаться на эту землю. А уж мёртвый-то я вернусь наверняк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там, вдали от России, ему стало трудно 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971640" y="3141720"/>
            <a:ext cx="5256000" cy="3240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187280" y="3141720"/>
            <a:ext cx="604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нимаю, что просьба тщетн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минают поименитей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у, не тризною, так хоть чем-т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всухую, да помяни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за то, что я верил в ч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за песни, что пел без склад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ро то, что мне было х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когда вспоминать не над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ерновик эпит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g1"/>
          <p:cNvPicPr/>
          <p:nvPr/>
        </p:nvPicPr>
        <p:blipFill>
          <a:blip r:embed="rId1"/>
          <a:stretch/>
        </p:blipFill>
        <p:spPr>
          <a:xfrm>
            <a:off x="611280" y="907920"/>
            <a:ext cx="3673440" cy="511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hc06"/>
          <p:cNvPicPr/>
          <p:nvPr/>
        </p:nvPicPr>
        <p:blipFill>
          <a:blip r:embed="rId2"/>
          <a:stretch/>
        </p:blipFill>
        <p:spPr>
          <a:xfrm>
            <a:off x="4788000" y="907920"/>
            <a:ext cx="345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26920" y="62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ибель Галича в 1977 году многим показалась случайной и нелепой: он взялся рукой за оголённый провод магнитофон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ladbische"/>
          <p:cNvPicPr/>
          <p:nvPr/>
        </p:nvPicPr>
        <p:blipFill>
          <a:blip r:embed="rId1"/>
          <a:stretch/>
        </p:blipFill>
        <p:spPr>
          <a:xfrm>
            <a:off x="1258920" y="2133720"/>
            <a:ext cx="6192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55640" y="765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80000" y="148428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Estrangelo Edessa"/>
              </a:rPr>
              <a:t>Александр Галич вернулся. Вернулся в свою страну, в свой город – песнями, стихами, памятью и леген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guitar"/>
          <p:cNvPicPr/>
          <p:nvPr/>
        </p:nvPicPr>
        <p:blipFill>
          <a:blip r:embed="rId1"/>
          <a:stretch/>
        </p:blipFill>
        <p:spPr>
          <a:xfrm>
            <a:off x="395280" y="1557360"/>
            <a:ext cx="286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95280" y="119700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«Мне всё-таки было под пятьдесят. Я уже всё видел . Я у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был благополучным драматургом, благополучным советск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холуём. Я и понял, что так больше не могу. Что я должен наконец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заговорить в полный голос, заговорить правду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and3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53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292720" y="1125360"/>
            <a:ext cx="3166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Галич один из первых среди бардов открыто выступил против официальной лжи, против всевластия партийного аппарата, против бессилия и страха. Что же это за правда? О чём пел А. Гал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826920" y="69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Аркадьевич Галич родился в 1918 году, детство прошло в Севасто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lipViewImg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63640" y="620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ем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ребралась в Москву, в Кривоколенный переу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l683329671"/>
          <p:cNvPicPr/>
          <p:nvPr/>
        </p:nvPicPr>
        <p:blipFill>
          <a:blip r:embed="rId1"/>
          <a:stretch/>
        </p:blipFill>
        <p:spPr>
          <a:xfrm>
            <a:off x="1258920" y="184464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71640" y="76500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35 году, окончив 10 классов средней школы, Галич поступил на поэтическое Литературного института и одновременно в театральную Школу-студию под руководством Станисла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anisl"/>
          <p:cNvPicPr/>
          <p:nvPr/>
        </p:nvPicPr>
        <p:blipFill>
          <a:blip r:embed="rId1"/>
          <a:srcRect l="5190" t="6778" r="3905" b="5089"/>
          <a:stretch/>
        </p:blipFill>
        <p:spPr>
          <a:xfrm>
            <a:off x="1979640" y="2997360"/>
            <a:ext cx="5040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26920" y="76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годы войны Галич в составе фронтового театра </a:t>
            </a:r>
            <a:r>
              <a:rPr b="1" i="1" lang="ru-RU" sz="2400" spc="-1" strike="noStrike">
                <a:solidFill>
                  <a:srgbClr val="800000"/>
                </a:solidFill>
                <a:latin typeface="Estrangelo Edessa"/>
              </a:rPr>
              <a:t>Валентина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Плучека со спектаклями и концертами объездили весь фро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92_big"/>
          <p:cNvPicPr/>
          <p:nvPr/>
        </p:nvPicPr>
        <p:blipFill>
          <a:blip r:embed="rId1"/>
          <a:stretch/>
        </p:blipFill>
        <p:spPr>
          <a:xfrm>
            <a:off x="1619280" y="2205000"/>
            <a:ext cx="570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00000" y="9079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ле войны Галич оставляет актёрскую студию и начинает работать как драматург: он – автор комедии «Вас вызывает Таймыр», один из авторов фильма «Верные друзья»; он пишет для театра пьесы «Пути, которые мы выбираем», «Август», «Матросская тиш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eli"/>
          <p:cNvPicPr/>
          <p:nvPr/>
        </p:nvPicPr>
        <p:blipFill>
          <a:blip r:embed="rId1"/>
          <a:stretch/>
        </p:blipFill>
        <p:spPr>
          <a:xfrm>
            <a:off x="1332000" y="3429000"/>
            <a:ext cx="3382920" cy="28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XGetDBPicServlet"/>
          <p:cNvPicPr/>
          <p:nvPr/>
        </p:nvPicPr>
        <p:blipFill>
          <a:blip r:embed="rId2"/>
          <a:stretch/>
        </p:blipFill>
        <p:spPr>
          <a:xfrm>
            <a:off x="5580000" y="3357720"/>
            <a:ext cx="20955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6:53:39Z</dcterms:created>
  <dc:creator>user</dc:creator>
  <dc:description/>
  <dc:language>en-US</dc:language>
  <cp:lastModifiedBy>Коля</cp:lastModifiedBy>
  <dcterms:modified xsi:type="dcterms:W3CDTF">2013-03-20T19:11:33Z</dcterms:modified>
  <cp:revision>31</cp:revision>
  <dc:subject/>
  <dc:title>Слайд 1</dc:title>
</cp:coreProperties>
</file>