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C1D-E3B2-4ADD-9605-5C58C48A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825-1FD7-45A3-AAA2-3B21D925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05D-9CE1-4484-99C0-E83750FB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72E-799F-40BB-9FA1-114AD9A4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A3A-89D1-459C-A4FA-8756BAF7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2BC7-6821-4F99-B26C-CFC99E47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E082-FE48-4C14-B987-DFBB6A2E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12D1-A6AC-44E4-9B3A-98069EC2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E8AA-9A25-41F0-BCD0-EF1D0DA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2AAF-34CE-4352-8B3C-B14DEE4C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05C-84C7-4CB3-A87D-A096631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15A-84C5-4318-9E4E-B6813E6A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BEB-19E6-4B39-B92D-A1864817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E58E-3968-4064-9938-C4E1162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294-B012-49D9-8B49-173D0239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749A-F275-45AB-9EA1-7E24D63E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8769-16AD-4920-83DF-8AEBA756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D1-3E3B-4B01-B976-678D0754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B58-3736-4D63-8689-F07C25BA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03B-B8F9-4E99-AE96-5C9F0886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420-F64F-4A97-9F89-A21B215B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33E-CD27-4598-A7D2-E57224A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A38-0459-4F07-8484-627B5A2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095-5672-47BB-B346-AD40D19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DC5-984B-4FA0-910B-308EB7E93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1ED-C1CC-4AEE-A444-AE1C74A2B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4;&#208;&#187;&#209;&#143;&#209;&#135;&#208;&#186;&#208;&#184;&#208;&#189;#.D0.94.D0.B8.D1.81.D0.BA.D0.BE.D0.B3.D1.80.D0.B0.D1.84.D0.B8.D1.8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вгений Клячк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сийский и Израильский поэт, бард, эстрадный артис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8920" y="1268280"/>
            <a:ext cx="3938760" cy="50403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Горька судьба поэтов всех времён,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Тяжелее всех она казнит Россию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5280" y="4149360"/>
            <a:ext cx="4691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В.Кюхельбек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то есть истина?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*   *   *   *   *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астанет время, когда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е будет ни власти, ни кесарей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еловечество перейдёт в царств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истины и справедливости.</a:t>
            </a:r>
            <a:br>
              <a:rPr sz="2800"/>
            </a:b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М. А. Булгако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40000" y="3933360"/>
            <a:ext cx="6346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Немногих, проникавших в суть вещ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 раскрывавших всем души скриж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Сжигали на кострах и распин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Как всем известно, с самых ранни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. Гё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Песенная лирика.</a:t>
            </a:r>
            <a:br>
              <a:rPr sz="4000"/>
            </a:b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 авторская песня, рок-поэзия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на противостояла, прежде всего, официальной эстраде и узаконенной массовой песне – то есть музыкально – поэтической масскультур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родился 23 марта 1934 г. в Ленинграде. Его отец работал помощником мастера на ткацкой фабрике, мать — в аптеке. В апреле 1942 г. во время ленинградской блокады мать умерла, отец был на фронте, и мальчика эвакуировали из блокадного города в Ярославскую область, где он воспитывался в детском доме. В сентябре 1945 г. отец снова забрал мальчика в Ленингра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52 г. Клячкин поступил в Ленинградский инженерно-строительный институт и в 1957 г. окончил его с отличием, получив специальность «Городское строительство и хозяйство». Работал инженером-проектировщиком в строительных организациях Ленинграда (ГСПИ-1, Ленпрект, Ленинградское отделение Художественного фонда и др.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том 1957 г. участвовал во Всемирном фестивале молодёжи и студентов в Москве. В октябре 1961 г. он написал свою первую песню, «Туман», на стихи К. Кузьминского. С этого момента начинается карьера Клячкина как барда. Подобно большинству своих сверстников-бардов, Клячкин играл на семиструнной гитаре. Поначалу он сочинял песни на стихи других поэтов (И. Бродского, К. Кузьминского, А. Вознесенского, Г. Горбовского и др.), затем у него стало появляться все больше песен на собственные стихи. Многие в СССР именно через песни Клячкина познакомились с поэзией Иосифа Бродского, для которого в 1960-х были закрыты все официальные каналы для публикации. Песни Клячкина «Пилигримы», «Рождественский романс», «Ни страны, ни погоста…», романсы Мышкина, Арлекина, Коломбины, черта и других персонажей поэмы Бродского «Шествие» до сих пор остаются признанными вершинами авторской пес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63-1964 годах Клячкин посещал семинар по работе с самодеятельными композиторами при Ленинградском отделении Союза композиторов СССР. В середине 1980-х он ушел на профессиональную сцену. Выступал как артист Ленконцерта и Росконцерта. В апреле 1990 г. Евгений Клячкин с семьей эмигрировал в Израиль, где проживал в городе Ариэле. Работал по специальности, полученной еще в СССР, выступал с концертами, был на гастролях в США. На свое 60-летие в марте 1994 г. приехал в Россию, дал несколько концертов в Москве, Сант-Петербурге и Тул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погиб во время купания в Средиземном море 30 июля 1994 г. — у него остановилось сердце. Всего песенное наследие Клячкина включает более 300 произведений, около 70 из них написаны на чужие стих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Дискография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си песен Клячкина выпущены на трех дисках на фирме «Мелодия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Осенний мотив» (1987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Пилигримы» (1990) — песни на стихи Иосифа Бродского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В сторону Руси» (1995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оме того, выпущены компакт-дис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Моим ровесникам» (1995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нцы и начала» (1996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учшие песни» (2000), «Евгений Клячкин. Российские барды» (2001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1995 г. фирма «Московские окна» выпустила аудиокассеты «Мокрый вальс» и «Мелодия в ритме лодки», в 1996 г. МП «Авторская песня» выпустила кассету «Моим ровесникам», в 1999 вышла аудиокассета «Ни о чем не жалеть» (М.: «Музыкальное издательство М. О.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да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марте 1994 г. в Санкт-Петербургском издательстве «Бояныч» вышла первая книга песен Е. Клячкина «Не гляди назад…» (Санкт-Петербург), в 1999 г. в том же издательстве — книга «Оглянусь на все, чем жил», в 2000 г. — «Живы, покуда любимы!», сборник песен и воспоминаний (СПб.: «Лань»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мор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етер бродит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перт наглухо чердак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дом наш, как Земля, вращается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вокруг оси, вокруг оси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ось кача... а ось качае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верно, впрочем, как у всех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ропа коричневая с золотом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бежит от самых от дверей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не знаем, что на золото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ложится пыль календарей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, Боже мой, какая разница?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лендари у нас в руках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собрали вместе праздник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росто взяли напрока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олны нежно пахнут корюшкой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нежно тычутся в баркас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камни - с гладкой, нежной кожею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под коленками у нас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ы говоришь, что всё измен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я улыбаюсь и курю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м ветряная машет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маяк мигает кораблю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чем-то странна эта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вбитый в землю вертолёт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инт всё вертится и верт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будто небо достаё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бродит ветер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ахнет плесенью чердак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...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22:37Z</dcterms:created>
  <dc:creator>Zver</dc:creator>
  <dc:description/>
  <dc:language>en-US</dc:language>
  <cp:lastModifiedBy>Zver</cp:lastModifiedBy>
  <dcterms:modified xsi:type="dcterms:W3CDTF">2009-05-01T07:10:32Z</dcterms:modified>
  <cp:revision>4</cp:revision>
  <dc:subject/>
  <dc:title>Евгений Клячкин</dc:title>
</cp:coreProperties>
</file>