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3C6-DBF0-4E78-AEB9-558C952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F0F-7DCA-45B0-8637-C62063B2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B8B-19DB-4E78-B3BE-DACC03C3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BD3-3161-4FEF-AE47-4AE5E506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E9E3-D6B6-468D-9FE6-7C4386F5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B977-449C-4F61-B0D1-CBC05C5D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F7D-6060-4198-8CE3-482C4B1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99C5-F972-4E8C-97AD-9DCCBC0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8211-EB9C-49AE-A4DF-B525947B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7CE-B416-4523-B769-EE8E984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B066-E5DE-4B38-A58B-4350045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E1A-0D54-4407-87BF-549FD548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5A69-3F58-451F-B8AD-D21ACEF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007E-110C-405C-8667-4E581BF3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1837-54AB-4BFA-92AF-EBBB4F4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EFDB-1464-48E3-97C4-1C9259C4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381C-1443-4BA1-8803-6F6A609F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0E9-D5A5-4F3D-94F6-516FFE2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6BA-EAB6-4C93-9D81-7EB51546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013-6545-4CBE-82D5-6FDF164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750-5B67-4D38-B77E-05CCF2AA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BBC-FA6B-4F04-AF02-4DF192B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2F4-C006-40BF-9584-0D6A2546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C41-47B9-4F4C-B3FC-07DE2F35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112-062C-4314-813B-0CB49AD6D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948-02F4-4713-876F-F9E9B75D2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4;&#208;&#187;&#209;&#143;&#209;&#135;&#208;&#186;&#208;&#184;&#208;&#189;#.D0.94.D0.B8.D1.81.D0.BA.D0.BE.D0.B3.D1.80.D0.B0.D1.84.D0.B8.D1.8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вгений Клячки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ссийский и Израильский поэт, бард, эстрадный артис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8920" y="1268280"/>
            <a:ext cx="3938760" cy="50403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Горька судьба поэтов всех времён,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Тяжелее всех она казнит Россию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5280" y="4149360"/>
            <a:ext cx="4691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</a:t>
            </a:r>
            <a:r>
              <a:rPr b="0" i="1" lang="en-US" sz="3200" spc="-1" strike="noStrike">
                <a:solidFill>
                  <a:srgbClr val="feec94"/>
                </a:solidFill>
                <a:latin typeface="Times New Roman"/>
              </a:rPr>
              <a:t>В.Кюхельбек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то есть истина?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*   *   *   *   *  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астанет время, когда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не будет ни власти, ни кесарей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Человечество перейдёт в царств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истины и справедливости.</a:t>
            </a:r>
            <a:br>
              <a:rPr sz="2800"/>
            </a:b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М. А. Булгаков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40000" y="3933360"/>
            <a:ext cx="6346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Немногих, проникавших в суть вещ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 раскрывавших всем души скриж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Сжигали на кострах и распина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Как всем известно, с самых ранних д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feec94"/>
                </a:solidFill>
                <a:latin typeface="Impact"/>
              </a:rPr>
              <a:t>И. Гё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Песенная лирика.</a:t>
            </a:r>
            <a:br>
              <a:rPr sz="4000"/>
            </a:br>
            <a:r>
              <a:rPr b="0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( авторская песня, рок-поэзия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на противостояла, прежде всего, официальной эстраде и узаконенной массовой песне – то есть музыкально – поэтической масскультур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Биограф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родился 23 марта 1934 г. в Ленинграде. Его отец работал помощником мастера на ткацкой фабрике, мать — в аптеке. В апреле 1942 г. во время ленинградской блокады мать умерла, отец был на фронте, и мальчика эвакуировали из блокадного города в Ярославскую область, где он воспитывался в детском доме. В сентябре 1945 г. отец снова забрал мальчика в Ленингра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52 г. Клячкин поступил в Ленинградский инженерно-строительный институт и в 1957 г. окончил его с отличием, получив специальность «Городское строительство и хозяйство». Работал инженером-проектировщиком в строительных организациях Ленинграда (ГСПИ-1, Ленпрект, Ленинградское отделение Художественного фонда и др.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том 1957 г. участвовал во Всемирном фестивале молодёжи и студентов в Москве. В октябре 1961 г. он написал свою первую песню, «Туман», на стихи К. Кузьминского. С этого момента начинается карьера Клячкина как барда. Подобно большинству своих сверстников-бардов, Клячкин играл на семиструнной гитаре. Поначалу он сочинял песни на стихи других поэтов (И. Бродского, К. Кузьминского, А. Вознесенского, Г. Горбовского и др.), затем у него стало появляться все больше песен на собственные стихи. Многие в СССР именно через песни Клячкина познакомились с поэзией Иосифа Бродского, для которого в 1960-х были закрыты все официальные каналы для публикации. Песни Клячкина «Пилигримы», «Рождественский романс», «Ни страны, ни погоста…», романсы Мышкина, Арлекина, Коломбины, черта и других персонажей поэмы Бродского «Шествие» до сих пор остаются признанными вершинами авторской пес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1963-1964 годах Клячкин посещал семинар по работе с самодеятельными композиторами при Ленинградском отделении Союза композиторов СССР. В середине 1980-х он ушел на профессиональную сцену. Выступал как артист Ленконцерта и Росконцерта. В апреле 1990 г. Евгений Клячкин с семьей эмигрировал в Израиль, где проживал в городе Ариэле. Работал по специальности, полученной еще в СССР, выступал с концертами, был на гастролях в США. На свое 60-летие в марте 1994 г. приехал в Россию, дал несколько концертов в Москве, Сант-Петербурге и Тул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гений Клячкин погиб во время купания в Средиземном море 30 июля 1994 г. — у него остановилось сердце. Всего песенное наследие Клячкина включает более 300 произведений, около 70 из них написаны на чужие стих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Дискография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си песен Клячкина выпущены на трех дисках на фирме «Мелодия»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Осенний мотив» (1987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Пилигримы» (1990) — песни на стихи Иосифа Бродского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В сторону Руси» (1995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роме того, выпущены компакт-дис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Моим ровесникам» (1995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Концы и начала» (1996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учшие песни» (2000), «Евгений Клячкин. Российские барды» (2001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1995 г. фирма «Московские окна» выпустила аудиокассеты «Мокрый вальс» и «Мелодия в ритме лодки», в 1996 г. МП «Авторская песня» выпустила кассету «Моим ровесникам», в 1999 вышла аудиокассета «Ни о чем не жалеть» (М.: «Музыкальное издательство М. О.»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зда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марте 1994 г. в Санкт-Петербургском издательстве «Бояныч» вышла первая книга песен Е. Клячкина «Не гляди назад…» (Санкт-Петербург), в 1999 г. в том же издательстве — книга «Оглянусь на все, чем жил», в 2000 г. — «Живы, покуда любимы!», сборник песен и воспоминаний (СПб.: «Лань»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 мор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етер бродит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перт наглухо чердак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дом наш, как Земля, вращается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вокруг оси, вокруг оси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ось кача... а ось качае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верно, впрочем, как у всех..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ропа коричневая с золотом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бежит от самых от дверей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не знаем, что на золото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ложится пыль календарей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, Боже мой, какая разница?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лендари у нас в руках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мы собрали вместе праздник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росто взяли напрока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олны нежно пахнут корюшкой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нежно тычутся в баркас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камни - с гладкой, нежной кожею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под коленками у нас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Ты говоришь, что всё измен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я улыбаюсь и курю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ам ветряная машет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маяк мигает кораблю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о чем-то странна эта мельница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вбитый в землю вертолёт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А винт всё вертится и вертится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как будто небо достаёт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бродит ветер за болотами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пахнет плесенью чердак,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и за сплошными поворотами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 тебя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Не разглядеть... никак... </a:t>
            </a:r>
            <a:br>
              <a:rPr sz="800"/>
            </a:b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22:37Z</dcterms:created>
  <dc:creator>Zver</dc:creator>
  <dc:description/>
  <dc:language>en-US</dc:language>
  <cp:lastModifiedBy>Zver</cp:lastModifiedBy>
  <dcterms:modified xsi:type="dcterms:W3CDTF">2009-05-01T07:10:32Z</dcterms:modified>
  <cp:revision>4</cp:revision>
  <dc:subject/>
  <dc:title>Евгений Клячкин</dc:title>
</cp:coreProperties>
</file>