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D79F-8FCB-4436-8601-10E41014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53B5-04A3-4A34-9B64-B4250560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DD2A-86CD-456A-A2D4-78BB5B965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D333-88F0-4BE1-A3CE-8784CB96C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50E5-D0A0-43DE-8C09-3C4DD869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4B72-7AEF-4DF0-955E-C94A32CC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0F0A-6559-4831-B57F-176534AC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626F-9A86-41CB-B1FC-8D32F9F9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8471-7741-4F58-9DCF-23AF0AC5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1C3E-D02D-4396-A8CF-77E50894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7F62-3964-4D14-8474-AC1819FD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5384-68A7-4D30-ABB0-2EAF9482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52CC-9991-4EA1-85EC-5C23F2D8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4F96-03AD-416C-8408-7F46CB84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A9C4-5085-4850-B103-D0155200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43B1-AC27-4087-8ADA-8CF0218C0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F8EE-5C5A-4110-8C0C-970815A33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6806-3EAF-4F27-A922-DAAE40FF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205A-ECA0-4DB2-8E4B-2DDC3469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BADE-3F84-4E40-86B3-B67DA5F9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8963-49FC-4780-AB52-48126512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7E47-FA60-404C-B927-D250A003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068A-3915-44E7-AEA5-2549106A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D4FA-4EF1-41B9-86D5-B7D71312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5734-39B3-4FB8-A815-B4A2162E5B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697E-0A6B-435C-A0DE-018E420095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208;&#154;&#208;&#187;&#209;&#143;&#209;&#135;&#208;&#186;&#208;&#184;&#208;&#189;#.D0.94.D0.B8.D1.81.D0.BA.D0.BE.D0.B3.D1.80.D0.B0.D1.84.D0.B8.D1.8F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Евгений Клячкин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оссийский и Израильский поэт, бард, эстрадный артист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498920" y="1268280"/>
            <a:ext cx="3938760" cy="5040360"/>
          </a:xfrm>
          <a:prstGeom prst="rect">
            <a:avLst/>
          </a:prstGeom>
          <a:ln w="38160">
            <a:solidFill>
              <a:srgbClr val="feec94"/>
            </a:solidFill>
            <a:miter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1413000"/>
            <a:ext cx="82296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eec94"/>
                </a:solidFill>
                <a:latin typeface="Times New Roman"/>
              </a:rPr>
              <a:t>Горька судьба поэтов всех времён,</a:t>
            </a:r>
            <a:br>
              <a:rPr sz="4000"/>
            </a:br>
            <a:r>
              <a:rPr b="1" i="1" lang="en-US" sz="4000" spc="-1" strike="noStrike">
                <a:solidFill>
                  <a:srgbClr val="feec94"/>
                </a:solidFill>
                <a:latin typeface="Times New Roman"/>
              </a:rPr>
              <a:t>Тяжелее всех она казнит Россию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95280" y="4149360"/>
            <a:ext cx="4691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eec94"/>
                </a:solidFill>
                <a:latin typeface="Times New Roman"/>
              </a:rPr>
              <a:t>                                            </a:t>
            </a:r>
            <a:r>
              <a:rPr b="0" i="1" lang="en-US" sz="3200" spc="-1" strike="noStrike">
                <a:solidFill>
                  <a:srgbClr val="feec94"/>
                </a:solidFill>
                <a:latin typeface="Times New Roman"/>
              </a:rPr>
              <a:t>В.Кюхельбеке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84000" y="620280"/>
            <a:ext cx="77151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Что есть истина?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*   *   *   *   *  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Настанет время, когда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не будет ни власти, ни кесарей.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Человечество перейдёт в царств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истины и справедливости.</a:t>
            </a:r>
            <a:br>
              <a:rPr sz="2800"/>
            </a:br>
            <a:r>
              <a:rPr b="0" i="1" lang="en-US" sz="2800" spc="-1" strike="noStrike">
                <a:solidFill>
                  <a:srgbClr val="feec94"/>
                </a:solidFill>
                <a:latin typeface="Times New Roman"/>
              </a:rPr>
              <a:t>М. А. Булгаков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340000" y="3933360"/>
            <a:ext cx="63468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Impact"/>
              </a:rPr>
              <a:t>Немногих, проникавших в суть вещ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Impact"/>
              </a:rPr>
              <a:t>И раскрывавших всем души скрижал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Impact"/>
              </a:rPr>
              <a:t>Сжигали на кострах и распинал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Impact"/>
              </a:rPr>
              <a:t>Как всем известно, с самых ранних дн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Impact"/>
              </a:rPr>
              <a:t>                                                         </a:t>
            </a:r>
            <a:r>
              <a:rPr b="0" lang="en-US" sz="2800" spc="-1" strike="noStrike">
                <a:solidFill>
                  <a:srgbClr val="feec94"/>
                </a:solidFill>
                <a:latin typeface="Impact"/>
              </a:rPr>
              <a:t>И. Гёт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98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98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98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Песенная лирика.</a:t>
            </a:r>
            <a:br>
              <a:rPr sz="4000"/>
            </a:br>
            <a:r>
              <a:rPr b="0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( авторская песня, рок-поэзия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на противостояла, прежде всего, официальной эстраде и узаконенной массовой песне – то есть музыкально – поэтической масскультуре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Биограф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вгений Клячкин родился 23 марта 1934 г. в Ленинграде. Его отец работал помощником мастера на ткацкой фабрике, мать — в аптеке. В апреле 1942 г. во время ленинградской блокады мать умерла, отец был на фронте, и мальчика эвакуировали из блокадного города в Ярославскую область, где он воспитывался в детском доме. В сентябре 1945 г. отец снова забрал мальчика в Ленингра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1952 г. Клячкин поступил в Ленинградский инженерно-строительный институт и в 1957 г. окончил его с отличием, получив специальность «Городское строительство и хозяйство». Работал инженером-проектировщиком в строительных организациях Ленинграда (ГСПИ-1, Ленпрект, Ленинградское отделение Художественного фонда и др.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етом 1957 г. участвовал во Всемирном фестивале молодёжи и студентов в Москве. В октябре 1961 г. он написал свою первую песню, «Туман», на стихи К. Кузьминского. С этого момента начинается карьера Клячкина как барда. Подобно большинству своих сверстников-бардов, Клячкин играл на семиструнной гитаре. Поначалу он сочинял песни на стихи других поэтов (И. Бродского, К. Кузьминского, А. Вознесенского, Г. Горбовского и др.), затем у него стало появляться все больше песен на собственные стихи. Многие в СССР именно через песни Клячкина познакомились с поэзией Иосифа Бродского, для которого в 1960-х были закрыты все официальные каналы для публикации. Песни Клячкина «Пилигримы», «Рождественский романс», «Ни страны, ни погоста…», романсы Мышкина, Арлекина, Коломбины, черта и других персонажей поэмы Бродского «Шествие» до сих пор остаются признанными вершинами авторской песн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1963-1964 годах Клячкин посещал семинар по работе с самодеятельными композиторами при Ленинградском отделении Союза композиторов СССР. В середине 1980-х он ушел на профессиональную сцену. Выступал как артист Ленконцерта и Росконцерта. В апреле 1990 г. Евгений Клячкин с семьей эмигрировал в Израиль, где проживал в городе Ариэле. Работал по специальности, полученной еще в СССР, выступал с концертами, был на гастролях в США. На свое 60-летие в марте 1994 г. приехал в Россию, дал несколько концертов в Москве, Сант-Петербурге и Туле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вгений Клячкин погиб во время купания в Средиземном море 30 июля 1994 г. — у него остановилось сердце. Всего песенное наследие Клячкина включает более 300 произведений, около 70 из них написаны на чужие стих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Дискография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Записи песен Клячкина выпущены на трех дисках на фирме «Мелодия»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Осенний мотив» (1987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Пилигримы» (1990) — песни на стихи Иосифа Бродского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В сторону Руси» (1995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Кроме того, выпущены компакт-диск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Моим ровесникам» (1995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Концы и начала» (1996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Лучшие песни» (2000), «Евгений Клячкин. Российские барды» (2001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 1995 г. фирма «Московские окна» выпустила аудиокассеты «Мокрый вальс» и «Мелодия в ритме лодки», в 1996 г. МП «Авторская песня» выпустила кассету «Моим ровесникам», в 1999 вышла аудиокассета «Ни о чем не жалеть» (М.: «Музыкальное издательство М. О.»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здания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 марте 1994 г. в Санкт-Петербургском издательстве «Бояныч» вышла первая книга песен Е. Клячкина «Не гляди назад…» (Санкт-Петербург), в 1999 г. в том же издательстве — книга «Оглянусь на все, чем жил», в 2000 г. — «Живы, покуда любимы!», сборник песен и воспоминаний (СПб.: «Лань»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У мор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А ветер бродит за болотами,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и заперт наглухо чердак.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Но за сплошными поворотами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не разглядеть тебя никак... </a:t>
            </a:r>
            <a:br>
              <a:rPr sz="800"/>
            </a:b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А дом наш, как Земля, вращается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вокруг оси, вокруг оси.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А ось кача... а ось качается,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наверно, впрочем, как у всех... </a:t>
            </a:r>
            <a:br>
              <a:rPr sz="800"/>
            </a:b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Тропа коричневая с золотом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бежит от самых от дверей.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И мы не знаем, что на золото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ложится пыль календарей. </a:t>
            </a:r>
            <a:br>
              <a:rPr sz="800"/>
            </a:b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Но, Боже мой, какая разница?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Календари у нас в руках.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И мы собрали вместе праздники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и просто взяли напрокат. </a:t>
            </a:r>
            <a:br>
              <a:rPr sz="800"/>
            </a:b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А волны нежно пахнут корюшкой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и нежно тычутся в баркас.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И камни - с гладкой, нежной кожею,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как под коленками у нас. </a:t>
            </a:r>
            <a:br>
              <a:rPr sz="800"/>
            </a:b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Ты говоришь, что всё изменится,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я улыбаюсь и курю.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Нам ветряная машет мельница,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маяк мигает кораблю. </a:t>
            </a:r>
            <a:br>
              <a:rPr sz="800"/>
            </a:b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Но чем-то странна эта мельница,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как вбитый в землю вертолёт.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А винт всё вертится и вертится,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как будто небо достаёт. </a:t>
            </a:r>
            <a:br>
              <a:rPr sz="800"/>
            </a:b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И бродит ветер за болотами,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и пахнет плесенью чердак,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и за сплошными поворотами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не разглядеть тебя никак...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Не разглядеть... никак...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04:22:37Z</dcterms:created>
  <dc:creator>Zver</dc:creator>
  <dc:description/>
  <dc:language>en-US</dc:language>
  <cp:lastModifiedBy>Zver</cp:lastModifiedBy>
  <dcterms:modified xsi:type="dcterms:W3CDTF">2009-05-01T07:10:32Z</dcterms:modified>
  <cp:revision>4</cp:revision>
  <dc:subject/>
  <dc:title>Евгений Клячкин</dc:title>
</cp:coreProperties>
</file>