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AB32-C428-4CAD-B654-C6C4775DE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73F1-8724-401B-B073-29C3812D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0E7A-2127-410A-811F-93255B23B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467E-F142-4B5A-9D77-5E7794E36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1FD3-3BF0-493F-BBCD-D782B20B2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A37A-0827-4EAE-B5B1-1FDC877B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6BD3-9F26-453A-8434-A2A49759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9318-A8AC-4A87-9675-8F1E60EE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E1C1-A071-4BE7-AF1F-82779C1A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1B7F-1718-448F-A654-8C3111F6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4115-7151-4108-ACB5-54761047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0D10-35D0-4E07-ABB1-A0B4AC56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4881-46BC-45E1-BC50-1FB19280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B25C-188E-4441-BB54-92165518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38A5-4D14-4376-BE8F-D0991AB8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9C76-67D1-4654-B984-20E83BFBD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4A53-D305-46A0-8008-60D8A4C4A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5B13-4AB6-4151-987B-7451D9A8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5574-A132-4832-B43F-3544B715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0254-41FC-4179-BDC8-842C1993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BC1F-3D4C-417B-AA86-08CCF22C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3993-07D2-42E1-93A1-AFEA59DD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10A3-9A7F-4493-8E92-2018859C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501D-6DCC-42FB-AABC-8A0295E5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7560-0709-4718-9DD5-57997C1BC2D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A21A-DDF9-481F-B02C-FC83C621109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484360" y="5589720"/>
            <a:ext cx="64008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боту выполнил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Пегушина Виктор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284640"/>
            <a:ext cx="2679840" cy="35733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ahoma"/>
              </a:rPr>
              <a:t>История России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77600" y="1341360"/>
            <a:ext cx="746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оссийской истории до недавних пор 23 февраля отмечался как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нь Советской армии и Военно-морского флот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В феврале 1918 года (заканчивалась I мировая война) Красная армия успешно отразила натиск немецких войск. Ныне этот праздник переименован в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нь защитника Отечеств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23 февраля – это всенародный праздник, вселяющий в нас радость, в этот день чествуются все защитники от мала до велика, ведь Вооруженные силы страны хранят наш с вами мир и покой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ff33"/>
                </a:solidFill>
                <a:latin typeface="Tahoma"/>
              </a:rPr>
              <a:t>23 февраля День рождения Красной Армии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1056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ffffff"/>
                </a:solidFill>
                <a:latin typeface="Tahoma"/>
              </a:rPr>
              <a:t>День защитников Отечества Возник в 1918 году как день рождения Красной Армии в ознаменование победы под Нарвой и Псковом над германскими завоевателями. Теперь нам осталось лишь вспомнить, что приход Интернационала к власти в России был связан с переменой календаря, и спросить: а когда же праздновался день, ныне называемый "23 февраля" Оказывается, восьмое марта по новому стилю - это 23 февраля по старому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4876920"/>
            <a:ext cx="2862360" cy="1981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020000" y="4653000"/>
            <a:ext cx="2052720" cy="22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"День Красной Армии"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484280"/>
            <a:ext cx="77533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Когда европейские братья по Интернационалу отмечали "восьмое марта", в России этот день назывался 23-им февраля. Поэтому в предреволюционные годы партийцы и сочувствующие им привыкли считать праздничным днем 23 февраля. Затем календарь переменили, но остался рефлекс праздновать что-то революционное 23 февраля. Дата была. В принципе эта дата ничем не хуже и не лучше 8 марта. Но - надо было найти и для нее прикрытие. Спустя несколько лет соответствующий миф был создан: "День Красной Армии". Память о первом сражении и первой победе. Но это - миф. 23 февраля 1918 г. не было еще ни Красной Армии, и не было ее побед. Газеты конца февраля 1918 года не содержат никаких победных реляций. И февральские газеты 1919 года не ликуют по поводу первой годовщины "великой победы". Лишь в 1922 г. 23 февраля было объявлено Днем Красной Армии"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4876920"/>
            <a:ext cx="2320920" cy="1981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171756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Tahoma"/>
              </a:rPr>
              <a:t>Военные ордена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557000"/>
            <a:ext cx="80773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На Руси издавна почитали Георгия Победоносца, избавившего людей от страшного змея - дракона. С 14 века изображение воина на коне стало гербом Москвы. В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1769 г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. в России учрежден военный орден св. великомученика и Победоносца Георгия, в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1913 г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. - военный Георгиевский крест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В 1698 году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, Петром I был учережден первый в России орден - орден Св. Андрея Первозванного - для награждения за воинские подвиги и государственную службу. Орден состоял из золотого креста, голубой ленты, серебряной восьмиконечной звезды и золотой цепи. В центре звезды, в розетке покрытой красной эмалью и золотыми полосками в виде вияния, - двуглавый орел, увенчанный тремя коронами, на груди орла - косой синий крест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4876920"/>
            <a:ext cx="1817640" cy="1981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38560" cy="16876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312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03640" y="1052640"/>
            <a:ext cx="3999240" cy="53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Tahoma"/>
              </a:rPr>
              <a:t>Праздник 23 февраля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02920" y="1484280"/>
            <a:ext cx="6529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раздник 23 февраля - праздник всех мужчин России. Во славу своей Родины, во славу её защитников, соберёмся и поздравим всех кирзовых, и более других мужчин с этим днём. Наша армия непобедима лишь потому, что она действует вопреки логике и здравому смысл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1954080" cy="3205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667640" y="4221000"/>
            <a:ext cx="1295280" cy="2341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 rot="21207000">
            <a:off x="178920" y="1197000"/>
            <a:ext cx="14083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8-10-12T12:35:57Z</dcterms:modified>
  <cp:revision>2</cp:revision>
  <dc:subject/>
  <dc:title>PowerPoint Presentation</dc:title>
</cp:coreProperties>
</file>