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B41F-247B-42E0-9619-E4F15D14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9C8-3335-4D69-B974-64B2FF24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4D0-6569-4176-A197-8282B154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77D-AF18-41E1-A4FC-AB11D6D9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E153-FC69-42B2-8203-FF317684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2EC4-35B7-4E1D-B932-B5165C97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CF0F-E37B-44A1-A671-6BCCB03B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15DE-10F1-4119-9721-8E3B8AF8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8EE9-8341-4387-A346-D7469F38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B163-8493-4FC7-A99B-21FC90D5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4F1B-21D2-458E-95DD-7FD59AAB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F2B-6F4D-44C1-80FA-484368AD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A450-E97F-415D-AFA8-14B0B006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2B0F-FBB2-49C1-A939-469B997B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CC57-CC03-4A36-A1C3-B99050B3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975C-FCDB-4AD3-9E09-9E38749E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FC01-424F-43B7-9DE0-6F054C0C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387-6655-4E4A-B71C-39AF7195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E8EB-8F81-4F7F-B5C1-9A3D8C0D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4005-6A2A-4A0A-AC14-F29EE0A7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46C-F63B-4044-ADC0-8DC07097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E65C-D565-41D3-9EF8-1FE26C8E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A60-6C0B-47D6-B071-8E23F61D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D807-FB66-4CD6-8B33-AAECB038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BBB4-A0E6-4C0C-A81D-86C9D74250F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6C42-9978-4963-AD55-75BE722207C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84360" y="5589720"/>
            <a:ext cx="6400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боту выполнил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егушина Виктор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2679840" cy="3573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История России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7600" y="1341360"/>
            <a:ext cx="746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оссийской истории до недавних пор 23 февраля отмечался как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нь Советской армии и Военно-морского фло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В феврале 1918 года (заканчивалась I мировая война) Красная армия успешно отразила натиск немецких войск. Ныне этот праздник переименован в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нь защитника Отече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23 февраля – это всенародный праздник, вселяющий в нас радость, в этот день чествуются все защитники от мала до велика, ведь Вооруженные силы страны хранят наш с вами мир и покой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ff33"/>
                </a:solidFill>
                <a:latin typeface="Tahoma"/>
              </a:rPr>
              <a:t>23 февраля День рождения Красной Армии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1056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Tahoma"/>
              </a:rPr>
              <a:t>День защитников Отечества Возник в 1918 году как день рождения Красной Армии в ознаменование победы под Нарвой и Псковом над германскими завоевателями. Теперь нам осталось лишь вспомнить, что приход Интернационала к власти в России был связан с переменой календаря, и спросить: а когда же праздновался день, ныне называемый "23 февраля" Оказывается, восьмое марта по новому стилю - это 23 февраля по старому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2862360" cy="1981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020000" y="4653000"/>
            <a:ext cx="205272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"День Красной Армии"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753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огда европейские братья по Интернационалу отмечали "восьмое марта", в России этот день назывался 23-им февраля. Поэтому в предреволюционные годы партийцы и сочувствующие им привыкли считать праздничным днем 23 февраля. Затем календарь переменили, но остался рефлекс праздновать что-то революционное 23 февраля. Дата была. В принципе эта дата ничем не хуже и не лучше 8 марта. Но - надо было найти и для нее прикрытие. Спустя несколько лет соответствующий миф был создан: "День Красной Армии". Память о первом сражении и первой победе. Но это - миф. 23 февраля 1918 г. не было еще ни Красной Армии, и не было ее побед. Газеты конца февраля 1918 года не содержат никаких победных реляций. И февральские газеты 1919 года не ликуют по поводу первой годовщины "великой победы". Лишь в 1922 г. 23 февраля было объявлено Днем Красной Армии"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2320920" cy="1981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17175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Военные ордена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80773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 Руси издавна почитали Георгия Победоносца, избавившего людей от страшного змея - дракона. С 14 века изображение воина на коне стало гербом Москвы. В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1769 г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в России учрежден военный орден св. великомученика и Победоносца Георгия, в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1913 г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- военный Георгиевский крест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В 1698 году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Петром I был учережден первый в России орден - орден Св. Андрея Первозванного - для награждения за воинские подвиги и государственную службу. Орден состоял из золотого креста, голубой ленты, серебряной восьмиконечной звезды и золотой цепи. В центре звезды, в розетке покрытой красной эмалью и золотыми полосками в виде вияния, - двуглавый орел, увенчанный тремя коронами, на груди орла - косой синий крест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181764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38560" cy="1687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312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03640" y="1052640"/>
            <a:ext cx="3999240" cy="53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Праздник 23 февраля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02920" y="1484280"/>
            <a:ext cx="6529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аздник 23 февраля - праздник всех мужчин России. Во славу своей Родины, во славу её защитников, соберёмся и поздравим всех кирзовых, и более других мужчин с этим днём. Наша армия непобедима лишь потому, что она действует вопреки логике и здравому смысл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1954080" cy="3205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667640" y="4221000"/>
            <a:ext cx="1295280" cy="2341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 rot="21207000">
            <a:off x="178920" y="1197000"/>
            <a:ext cx="14083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8-10-12T12:35:57Z</dcterms:modified>
  <cp:revision>2</cp:revision>
  <dc:subject/>
  <dc:title>PowerPoint Presentation</dc:title>
</cp:coreProperties>
</file>