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E7B-6DB5-452B-9EEF-40CC49C9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F08-A142-424D-B920-5BDD530E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853-6B5C-411B-8492-32B8DC4C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EEB-413A-4A81-A5B1-6AD2F14E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6051-AD44-4596-B2D2-38934AC0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5FBF-6114-4253-BBD6-96BD1B60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25DE-A036-472B-8311-0060F0E7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DF6E-3223-4277-A0BD-03D6B246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765F-1E54-4A95-B8E7-55F3B57F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E858-A1B7-4DF9-B42B-C0ADCE2A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3A1E-D501-48CF-BFA8-43EDFBD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A9E-DA7A-40F7-B413-6213DD33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FFB2-769E-4E9B-9488-0A93F453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011F-8A85-4D52-A7FC-E2FF0A6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66E1-60A5-4D9D-BF71-9D1F451A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9F0A-74A9-48BE-BCB7-E5DD0EE2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0E47-C86B-4DB4-B496-F327D727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9C8-C1E3-4159-8090-903F993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C8F-590E-453F-8872-DEE581EF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D1D-1F9C-4BCB-A77D-8B73586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C8B-6CD9-4634-A6FB-79711631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143-CB2A-4D23-9303-F85BC3A1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42C-4AC1-42B7-ABCF-CF43121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467-DDF7-4368-A21C-3E4254A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F6C2-145F-418D-B42A-4F0C94DCE3D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8673-DA94-40DE-9C55-A876634080C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84360" y="558972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у 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егушина Виктор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679840" cy="3573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История Росси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7600" y="134136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ссийской истории до недавних пор 23 февраля отмечался как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нь Советской армии и Военно-морского фл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 феврале 1918 года (заканчивалась I мировая война) Красная армия успешно отразила натиск немецких войск. Ныне этот праздник переименован 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нь защитника Отеч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23 февраля – это всенародный праздник, вселяющий в нас радость, в этот день чествуются все защитники от мала до велика, ведь Вооруженные силы страны хранят наш с вами мир и поко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33"/>
                </a:solidFill>
                <a:latin typeface="Tahoma"/>
              </a:rPr>
              <a:t>23 февраля День рождения Красной Армии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1056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ahoma"/>
              </a:rPr>
              <a:t>День защитников Отечества Возник в 1918 году как день рождения Красной Армии в ознаменование победы под Нарвой и Псковом над германскими завоевателями. Теперь нам осталось лишь вспомнить, что приход Интернационала к власти в России был связан с переменой календаря, и спросить: а когда же праздновался день, ныне называемый "23 февраля" Оказывается, восьмое марта по новому стилю - это 23 февраля по старому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286236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20000" y="4653000"/>
            <a:ext cx="20527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"День Красной Армии"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753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гда европейские братья по Интернационалу отмечали "восьмое марта", в России этот день назывался 23-им февраля. Поэтому в предреволюционные годы партийцы и сочувствующие им привыкли считать праздничным днем 23 февраля. Затем календарь переменили, но остался рефлекс праздновать что-то революционное 23 февраля. Дата была. В принципе эта дата ничем не хуже и не лучше 8 марта. Но - надо было найти и для нее прикрытие. Спустя несколько лет соответствующий миф был создан: "День Красной Армии". Память о первом сражении и первой победе. Но это - миф. 23 февраля 1918 г. не было еще ни Красной Армии, и не было ее побед. Газеты конца февраля 1918 года не содержат никаких победных реляций. И февральские газеты 1919 года не ликуют по поводу первой годовщины "великой победы". Лишь в 1922 г. 23 февраля было объявлено Днем Красной Армии"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232092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7175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Военные ордена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8077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 Руси издавна почитали Георгия Победоносца, избавившего людей от страшного змея - дракона. С 14 века изображение воина на коне стало гербом Москвы. В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769 г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в России учрежден военный орден св. великомученика и Победоносца Георгия, в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913 г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- военный Георгиевский крес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 1698 году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етром I был учережден первый в России орден - орден Св. Андрея Первозванного - для награждения за воинские подвиги и государственную службу. Орден состоял из золотого креста, голубой ленты, серебряной восьмиконечной звезды и золотой цепи. В центре звезды, в розетке покрытой красной эмалью и золотыми полосками в виде вияния, - двуглавый орел, увенчанный тремя коронами, на груди орла - косой синий крес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181764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38560" cy="168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1052640"/>
            <a:ext cx="3999240" cy="53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Праздник 23 февраля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1484280"/>
            <a:ext cx="652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аздник 23 февраля - праздник всех мужчин России. Во славу своей Родины, во славу её защитников, соберёмся и поздравим всех кирзовых, и более других мужчин с этим днём. Наша армия непобедима лишь потому, что она действует вопреки логике и здравому смыс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1954080" cy="32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67640" y="4221000"/>
            <a:ext cx="1295280" cy="234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 rot="21207000">
            <a:off x="178920" y="1197000"/>
            <a:ext cx="14083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10-12T12:35:57Z</dcterms:modified>
  <cp:revision>2</cp:revision>
  <dc:subject/>
  <dc:title>PowerPoint Presentation</dc:title>
</cp:coreProperties>
</file>