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13E-9DB9-49B2-A6CA-1F3BAD56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F97-FFE4-47DC-BA52-F7ECFBFB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F4E-8E8D-4A33-B3B8-F4C7775F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029-9991-4A29-998E-51523711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6ADD-7EA1-4FC7-B029-65E569A1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E3C-B036-4BFE-8763-F3CB8F75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5BA9-64DD-4399-820A-720838C7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736E-FDB0-4D1C-B793-6127C0DF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76E1-0A94-437A-9F54-870E48D2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D52-57B1-46DC-8F93-524CF48E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78FD-CB03-40BC-9FCC-BE0250BC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C85-8C41-4333-BED4-B1DCCEF9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4A56-E146-4380-A640-8E9761C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A15B-C689-4AC3-9910-BA4AC58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9BC4-E993-46E2-B335-AA1F2C09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0772-7E1B-4464-AB83-AFDA1976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F661-EB3C-4A12-970D-4D7CA025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2DA-8E34-4DB0-801F-0CFFB700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025-BF8B-4B39-AEB0-34FDC176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E3F-2F7C-443B-842D-51525699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241-60B6-4036-A17A-A09DBBEB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6C8-2897-4834-887D-822AFDE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B2B-2691-478B-8917-34EE5032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DB2-2380-43C6-B874-6484151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55CD-025B-4BF7-A994-3D4F174B44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8D7-842D-4FD1-B7E1-5B4E9D2B6E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2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3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k.com/club3842265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Александр Пушно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6564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Все о н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Музыкальные 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Телевизионные 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Видео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Полезные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интернет-серве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се о н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лександр Пушной родился 16 мая в 1975 году, в Новосибирском Академгородке. В 1998 году женился. Есть два сына: Дмитрий Пушной и Михаил Пушн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651640" y="2278080"/>
            <a:ext cx="220824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узыкальные 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1983 году начал учиться на форте-пьяно, через 5 лет закончил. В 1997 году поступил в КВН НГУ. В 2002 году стал участником команды ДЛШ. В 2004 году начал участвовать в передаче «Хорошие шутки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4038480" cy="429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левизионные 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905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2004 года был ведущим передач «Хорошие шутки», «Песня дня», вел их вместе с Михаилом Шацем и Татьяной Лазаревой. В 2007 году вел передачу «Кто умнее пятиклассника?», в настоящее время ведет детскую научно-познавательную передачу «Галилео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22880" y="1557360"/>
            <a:ext cx="30211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ео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нимался в роликах МТС, сока Фрустайл, печенья Начинкино. В мультфильме «Ронал-варвар» озвучивал главного геро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69040" y="1557360"/>
            <a:ext cx="37749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езные интернет-серв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915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фиц. группа ВК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k.com/nadorad_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Ж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ushnoy.ru/livejournal.c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ейсбук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book.com/Pushnoy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восибирская группа ВК: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vk.com/club3842265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ександра нету в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itter’e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Контакте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19640" y="1557360"/>
            <a:ext cx="30243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0:08:51Z</dcterms:created>
  <dc:creator>Svetlana</dc:creator>
  <dc:description/>
  <dc:language>en-US</dc:language>
  <cp:lastModifiedBy>Svetlana</cp:lastModifiedBy>
  <dcterms:modified xsi:type="dcterms:W3CDTF">2012-05-14T12:48:08Z</dcterms:modified>
  <cp:revision>3</cp:revision>
  <dc:subject/>
  <dc:title>Александр Пушной</dc:title>
</cp:coreProperties>
</file>