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8F8B-50E5-45BE-A9F4-79AEC66A6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D017-7A58-4414-8355-DFA17540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2DF9-5E8C-4E26-A262-C159A94D7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0006-6D80-4D79-AD9B-AEB18A0BE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7A1A-6431-4E1C-B418-5F3643536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B9B4-7C66-43F8-A3C4-A598BF06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09E80-76C6-48AE-815E-9A14EAF7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A575-670B-4504-89FE-EC7E01EE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121D-9B48-4FBD-B25C-F511BB24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FF857-3924-4BAB-849E-52511FDE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4CDF8-AFDB-4D19-81B6-E80892AF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564C-DFEA-4200-9852-9C180FB7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79BC-A940-424F-8468-B9C9CEC0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BFCE-3FAA-4507-A4A2-D1C727DC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983C-94D7-4E99-9EB5-47098691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B105-2F81-4D4E-9043-C7B1248F5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8902-7695-4192-93F3-CB5957D5C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8DBB-9BF3-4024-BAE5-A0FC1AC5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E97C-0873-41DB-A709-0845E94F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9868-B219-40A9-9A7A-D1B3F905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BD01-F717-4C1E-AA6F-3B3512E9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5147-3C89-4019-8186-E53FDA6C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D609-EBE8-4128-9524-D1FD11BB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4647-5F91-47F3-B073-6917CE31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1C98-259E-4A61-8DCA-EA657905B71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9A79-99F2-4570-88C9-18CE1A69D60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259,6,&#1055;&#1086;&#1083;&#1077;&#1079;&#1085;&#1099;&#1077; &#1080;&#1085;&#1090;&#1077;&#1088;&#1085;&#1077;&#1090;-&#1089;&#1077;&#1088;&#1074;&#1077;&#1088;&#1099;" TargetMode="External"/><Relationship Id="rId2" Type="http://schemas.openxmlformats.org/officeDocument/2006/relationships/hyperlink" Target="259,6,&#1055;&#1086;&#1083;&#1077;&#1079;&#1085;&#1099;&#1077; &#1080;&#1085;&#1090;&#1077;&#1088;&#1085;&#1077;&#1090;-&#1089;&#1077;&#1088;&#1074;&#1077;&#1088;&#1099;" TargetMode="External"/><Relationship Id="rId3" Type="http://schemas.openxmlformats.org/officeDocument/2006/relationships/hyperlink" Target="259,6,&#1055;&#1086;&#1083;&#1077;&#1079;&#1085;&#1099;&#1077; &#1080;&#1085;&#1090;&#1077;&#1088;&#1085;&#1077;&#1090;-&#1089;&#1077;&#1088;&#1074;&#1077;&#1088;&#1099;" TargetMode="External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vk.com/club38422656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Александр Пушной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116000" y="3500280"/>
            <a:ext cx="665640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Verdana"/>
              </a:rPr>
              <a:t>Все о не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Verdana"/>
              </a:rPr>
              <a:t>Музыкальные проект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Verdana"/>
              </a:rPr>
              <a:t>Телевизионные проект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Verdana"/>
              </a:rPr>
              <a:t>Видеопроект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Полезные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интернет-сервер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се о не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Александр Пушной родился 16 мая в 1975 году, в Новосибирском Академгородке. В 1998 году женился. Есть два сына: Дмитрий Пушной и Михаил Пушно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651640" y="2278080"/>
            <a:ext cx="2208240" cy="3090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Музыкальные проек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46432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 1983 году начал учиться на форте-пьяно, через 5 лет закончил. В 1997 году поступил в КВН НГУ. В 2002 году стал участником команды ДЛШ. В 2004 году начал участвовать в передаче «Хорошие шутки»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648320" y="1716120"/>
            <a:ext cx="4038480" cy="4298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Телевизионные проек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59054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 2004 года был ведущим передач «Хорошие шутки», «Песня дня», вел их вместе с Михаилом Шацем и Татьяной Лазаревой. В 2007 году вел передачу «Кто умнее пятиклассника?», в настоящее время ведет детскую научно-познавательную передачу «Галилео»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122880" y="1557360"/>
            <a:ext cx="3021120" cy="4530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идеопроек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536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нимался в роликах МТС, сока Фрустайл, печенья Начинкино. В мультфильме «Ронал-варвар» озвучивал главного геро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369040" y="1557360"/>
            <a:ext cx="3774960" cy="4530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лезные интернет-сервер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59151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фиц. группа ВК: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k.com/nadorad_r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ЖЖ: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pushnoy.ru/livejournal.co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Фейсбук: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acebook.com/PushnoyR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овосибирская группа ВК: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://vk.com/club38422656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лександра нету в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witter’e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ВКонтакте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119640" y="1557360"/>
            <a:ext cx="3024360" cy="4535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10:08:51Z</dcterms:created>
  <dc:creator>Svetlana</dc:creator>
  <dc:description/>
  <dc:language>en-US</dc:language>
  <cp:lastModifiedBy>Svetlana</cp:lastModifiedBy>
  <dcterms:modified xsi:type="dcterms:W3CDTF">2012-05-14T12:48:08Z</dcterms:modified>
  <cp:revision>3</cp:revision>
  <dc:subject/>
  <dc:title>Александр Пушной</dc:title>
</cp:coreProperties>
</file>