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909-0C90-4B6D-9AC4-656DE95F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B64-0251-4E6A-A523-A34248ED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498-0D4C-45C4-8E40-AA71AB3E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1E6F-CA86-4C15-9C5F-E690C432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C896-E689-44F1-985F-C918D4A4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3A0B-9B69-4192-85C0-DDA7E566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F2D3-15C2-4FC6-B1AE-77BFAC84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9125-A1FA-478F-A97A-347DB478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A39D-B9C2-42FA-9F1F-FC1A6258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0F14-97BD-4BA6-8EC1-DB3EDBC6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6BDC-3500-47B9-A4C2-25826138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170-07D6-4A38-BC19-1102C6AA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5E11-DCC6-4885-BEF2-2768FC69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A4B1-EDC8-4EEA-9119-B739E67D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07A0-9DA3-472A-9A07-48D3EB33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235A-B905-4D42-9359-D224141B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A3B8-49ED-4623-B468-9B55F67D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668-258E-4C82-AC74-DD85C073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02F-C36C-43ED-B3E5-B26683F4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1C5-3973-40CC-929B-D90B7824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5C0-96B9-4F3D-AAFE-39DC4E8C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2DA-D8F5-486E-976F-1530100E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340-CD28-4355-AA8E-2AF18A81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A31-C5DA-430C-8673-7DD88526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CCB1-663A-4C73-8378-C93049A446F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70AD-F119-4B52-B9C0-045F2EDBF3F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259,6,&#1055;&#1086;&#1083;&#1077;&#1079;&#1085;&#1099;&#1077; &#1080;&#1085;&#1090;&#1077;&#1088;&#1085;&#1077;&#1090;-&#1089;&#1077;&#1088;&#1074;&#1077;&#1088;&#1099;" TargetMode="External"/><Relationship Id="rId2" Type="http://schemas.openxmlformats.org/officeDocument/2006/relationships/hyperlink" Target="259,6,&#1055;&#1086;&#1083;&#1077;&#1079;&#1085;&#1099;&#1077; &#1080;&#1085;&#1090;&#1077;&#1088;&#1085;&#1077;&#1090;-&#1089;&#1077;&#1088;&#1074;&#1077;&#1088;&#1099;" TargetMode="External"/><Relationship Id="rId3" Type="http://schemas.openxmlformats.org/officeDocument/2006/relationships/hyperlink" Target="259,6,&#1055;&#1086;&#1083;&#1077;&#1079;&#1085;&#1099;&#1077; &#1080;&#1085;&#1090;&#1077;&#1088;&#1085;&#1077;&#1090;-&#1089;&#1077;&#1088;&#1074;&#1077;&#1088;&#1099;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k.com/club38422656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Александр Пушной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6564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</a:rPr>
              <a:t>Все о н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</a:rPr>
              <a:t>Музыкальные проек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</a:rPr>
              <a:t>Телевизионные проек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</a:rPr>
              <a:t>Видеопроек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Полезные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интернет-серве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се о н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лександр Пушной родился 16 мая в 1975 году, в Новосибирском Академгородке. В 1998 году женился. Есть два сына: Дмитрий Пушной и Михаил Пушн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651640" y="2278080"/>
            <a:ext cx="220824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узыкальные проек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643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1983 году начал учиться на форте-пьяно, через 5 лет закончил. В 1997 году поступил в КВН НГУ. В 2002 году стал участником команды ДЛШ. В 2004 году начал участвовать в передаче «Хорошие шутки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716120"/>
            <a:ext cx="4038480" cy="4298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левизионные проек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5905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 2004 года был ведущим передач «Хорошие шутки», «Песня дня», вел их вместе с Михаилом Шацем и Татьяной Лазаревой. В 2007 году вел передачу «Кто умнее пятиклассника?», в настоящее время ведет детскую научно-познавательную передачу «Галилео»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22880" y="1557360"/>
            <a:ext cx="302112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идеопроек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536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нимался в роликах МТС, сока Фрустайл, печенья Начинкино. В мультфильме «Ронал-варвар» озвучивал главного геро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69040" y="1557360"/>
            <a:ext cx="377496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лезные интернет-серв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5915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фиц. группа ВК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k.com/nadorad_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Ж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ushnoy.ru/livejournal.c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ейсбук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cebook.com/Pushnoy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восибирская группа ВК: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vk.com/club3842265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ександра нету в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witter’e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Контакте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119640" y="1557360"/>
            <a:ext cx="302436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0:08:51Z</dcterms:created>
  <dc:creator>Svetlana</dc:creator>
  <dc:description/>
  <dc:language>en-US</dc:language>
  <cp:lastModifiedBy>Svetlana</cp:lastModifiedBy>
  <dcterms:modified xsi:type="dcterms:W3CDTF">2012-05-14T12:48:08Z</dcterms:modified>
  <cp:revision>3</cp:revision>
  <dc:subject/>
  <dc:title>Александр Пушной</dc:title>
</cp:coreProperties>
</file>