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547-8615-4494-9D9D-0619C8C5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077-8727-4418-BC30-0EA89CF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F98-759B-47C8-98D9-3900AA59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3A2-14B7-4D3D-B669-233AB5B1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1FB-EC6B-4ED0-B9D7-D50F67EB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2E5-BB76-4898-9A9A-CF9FC75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01F-217C-44E9-B5BA-01FF7486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240-37FF-4380-9148-3CAE4A3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30B-994D-46AC-87CB-4EB5BF9B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15A-DB72-4D4D-ADD0-E9A2EADA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082-59E0-4838-BC74-6D2375B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041-5687-4568-962F-AE41D5E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15BB-0D10-4CCB-8CE4-B8C470413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24400" y="1197720"/>
            <a:ext cx="7315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ы  представляем 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   Для   этого   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ребуется специальных тренажёр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большого количества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924280" y="406440"/>
            <a:ext cx="597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Работать на компьюте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жно не больше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5 минут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и этом монитор должен б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далён от глаз не менее ч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а 60 см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. Никогда не сидите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омпьютером в темнот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этом случае вредное в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усилив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комнате, где он находи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надо обязательно ежедне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проводить влажную убор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j0240719"/>
          <p:cNvPicPr/>
          <p:nvPr/>
        </p:nvPicPr>
        <p:blipFill>
          <a:blip r:embed="rId2"/>
          <a:stretch/>
        </p:blipFill>
        <p:spPr>
          <a:xfrm>
            <a:off x="611280" y="404640"/>
            <a:ext cx="2187360" cy="34340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261080" y="5515560"/>
            <a:ext cx="650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И  не  забывайте  выполн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следующие  упраж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WIN7XP</cp:lastModifiedBy>
  <dcterms:modified xsi:type="dcterms:W3CDTF">2009-07-24T09:04:16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