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1A53-BDDC-422D-B70C-73385B08F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F4E1-30C8-4F99-9258-062EDBF8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5266-FB4B-47B4-A420-97967AFC9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D447-2CAC-4023-BE28-2E843FD78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712B-0241-4B20-8D14-34D962C1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3B00-6D7E-4E72-BDF1-D9BD0ABB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DBCE-28A8-4471-8E37-5A00DB52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67CE-8E49-48DB-B31D-F390E10E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F163-BAC9-4675-A2CD-D1E8AE3A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D553-A6E9-4823-8B14-2927DA9F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D204-15AD-4015-8092-307BEDD7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732A-15C6-457A-A434-68DA6282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AFA0-211C-43A5-9889-403B0FB6A4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824400" y="1197720"/>
            <a:ext cx="731592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                 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Дорогие ребята!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Если   вы   много   читаете,   смотр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телевизор и  сидите  за  компьютером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от  этого  глаза сильно устаю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Мы  представляем  вам  специальн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глазную   гимнастику.   Для   этого   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требуется специальных тренажёров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большого количества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Вот что посоветовал докт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aptop"/>
          <p:cNvSpPr/>
          <p:nvPr/>
        </p:nvSpPr>
        <p:spPr>
          <a:xfrm>
            <a:off x="6156360" y="404640"/>
            <a:ext cx="2314440" cy="16560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2924280" y="406440"/>
            <a:ext cx="5978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Работать на компьютер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можно не больше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15 минут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в ден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При этом монитор должен бы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удалён от глаз не менее ч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на 60 см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. Никогда не сидите 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компьютером в темнот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в этом случае вредное влия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усиливается в несколько раз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В комнате, где он находитс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надо обязательно ежеднев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проводить влажную убор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j0240719"/>
          <p:cNvPicPr/>
          <p:nvPr/>
        </p:nvPicPr>
        <p:blipFill>
          <a:blip r:embed="rId2"/>
          <a:stretch/>
        </p:blipFill>
        <p:spPr>
          <a:xfrm>
            <a:off x="611280" y="404640"/>
            <a:ext cx="2187360" cy="34340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1261080" y="5515560"/>
            <a:ext cx="650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И  не  забывайте  выполня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следующие  упраж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477000" y="409320"/>
            <a:ext cx="726444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1. «Враще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e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двигая головой, начинайте вращ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глазами сначала по часовой стрелк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том в обратную сторон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 10 раз ту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 обрат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лучаетс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А теперь то ж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амо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тольк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 закрыты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глаз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1"/>
          <p:cNvPicPr/>
          <p:nvPr/>
        </p:nvPicPr>
        <p:blipFill>
          <a:blip r:embed="rId2"/>
          <a:stretch/>
        </p:blipFill>
        <p:spPr>
          <a:xfrm>
            <a:off x="4932360" y="2708280"/>
            <a:ext cx="35892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75200" y="837000"/>
            <a:ext cx="45867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2. «Во все сторон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е поворачивая голов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вигайте глаз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верх-вниз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право-вле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 10- 15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2"/>
          <p:cNvPicPr/>
          <p:nvPr/>
        </p:nvPicPr>
        <p:blipFill>
          <a:blip r:embed="rId2"/>
          <a:stretch/>
        </p:blipFill>
        <p:spPr>
          <a:xfrm>
            <a:off x="5003640" y="2637000"/>
            <a:ext cx="3521160" cy="37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401760" y="766080"/>
            <a:ext cx="60814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3. «Пальчик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ижмите палец к переносиц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смотрите на не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атем медленно отводите пале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т себя, продолж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ледить за н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глаз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вторите э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упражн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есколько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3"/>
          <p:cNvPicPr/>
          <p:nvPr/>
        </p:nvPicPr>
        <p:blipFill>
          <a:blip r:embed="rId2"/>
          <a:stretch/>
        </p:blipFill>
        <p:spPr>
          <a:xfrm>
            <a:off x="5219640" y="3068640"/>
            <a:ext cx="326880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402120" y="838080"/>
            <a:ext cx="613944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4. «Кто та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ажмурьтесь посильнее, а зат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широко откройте глаз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ловно в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чему-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чен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удивилис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втор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ещё раз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4"/>
          <p:cNvPicPr/>
          <p:nvPr/>
        </p:nvPicPr>
        <p:blipFill>
          <a:blip r:embed="rId2"/>
          <a:stretch/>
        </p:blipFill>
        <p:spPr>
          <a:xfrm>
            <a:off x="3635280" y="2924280"/>
            <a:ext cx="491328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474840" y="765720"/>
            <a:ext cx="42238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5. «Морга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моргайте, быстро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ильно сжим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е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ак мож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больш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быстр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5"/>
          <p:cNvPicPr/>
          <p:nvPr/>
        </p:nvPicPr>
        <p:blipFill>
          <a:blip r:embed="rId2"/>
          <a:stretch/>
        </p:blipFill>
        <p:spPr>
          <a:xfrm>
            <a:off x="3276720" y="2924280"/>
            <a:ext cx="524484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95280" y="-169200"/>
            <a:ext cx="7791480" cy="61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360" tIns="914040" bIns="457200" anchor="ctr">
            <a:spAutoFit/>
          </a:bodyPr>
          <a:p>
            <a:pPr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6. «Со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А теперь закройте глаза и расслабьтесь, буд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обираетесь сп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думайте 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чём-нибуд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чен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иятном.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6"/>
          <p:cNvPicPr/>
          <p:nvPr/>
        </p:nvPicPr>
        <p:blipFill>
          <a:blip r:embed="rId2"/>
          <a:stretch/>
        </p:blipFill>
        <p:spPr>
          <a:xfrm>
            <a:off x="5076720" y="2492280"/>
            <a:ext cx="341784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968400" y="1024560"/>
            <a:ext cx="7136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Друзья, берегите зрение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 тогда вы сможете много чит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 узнавать обо всём на св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j0240719"/>
          <p:cNvPicPr/>
          <p:nvPr/>
        </p:nvPicPr>
        <p:blipFill>
          <a:blip r:embed="rId2"/>
          <a:stretch/>
        </p:blipFill>
        <p:spPr>
          <a:xfrm>
            <a:off x="3564000" y="3429000"/>
            <a:ext cx="200340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13:24:27Z</dcterms:created>
  <dc:creator>Сергей</dc:creator>
  <dc:description/>
  <dc:language>en-US</dc:language>
  <cp:lastModifiedBy>WIN7XP</cp:lastModifiedBy>
  <dcterms:modified xsi:type="dcterms:W3CDTF">2009-07-24T09:04:16Z</dcterms:modified>
  <cp:revision>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030000000000010250600207f5200358026400</vt:lpwstr>
  </property>
</Properties>
</file>