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BFC-9B1A-4E34-8243-E67F9316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242-205C-47CB-A50A-81A153E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E75-2E06-4E1C-8F42-D560BB80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A05-9CC0-4BBD-A756-948A90E3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931-2CCE-4A8C-B221-44CA205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73D-DA21-4E47-8738-DE4452E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215-0E1A-4629-BFF2-A9845F8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88D-1B5C-4C12-B799-8F1FF1B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1F2-0A75-4C70-A1E9-0C492ED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C67-6981-4685-9A2E-C2655213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627-1DFC-40D8-8EED-5548B8E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67F-83E3-494C-B3E9-6EA6756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479D-9EDA-4F92-9B55-EEF89A502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24400" y="1197720"/>
            <a:ext cx="7315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ы  представляем 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   Для   этого  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ребуется специальных тренажёр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ольшого количества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924280" y="406440"/>
            <a:ext cx="597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ботать на компьют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жно не больш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5 мину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и этом монитор должен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далён от глаз не менее 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 60 см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 Никогда не сидите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пьютером в темнот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этом случае вредное в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силив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комнате, где он находи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о обязательно ежедне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водить влажную убор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j0240719"/>
          <p:cNvPicPr/>
          <p:nvPr/>
        </p:nvPicPr>
        <p:blipFill>
          <a:blip r:embed="rId2"/>
          <a:stretch/>
        </p:blipFill>
        <p:spPr>
          <a:xfrm>
            <a:off x="611280" y="404640"/>
            <a:ext cx="2187360" cy="3434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261080" y="5515560"/>
            <a:ext cx="65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  не  забывайте  выпол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ледующие 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WIN7XP</cp:lastModifiedBy>
  <dcterms:modified xsi:type="dcterms:W3CDTF">2009-07-24T09:04:16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