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D0D-A290-4949-BD01-C174AD5A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871-3060-4F75-BC68-7D4BA99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E96-FE8D-41AD-B3C4-ED9BEDCB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D57-5699-4F9D-BA8A-30BA7E13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7C2D-004B-4747-B6F3-1E30752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7D16-F8E5-4EB9-A6B5-EF7AD8E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BFB9-77D3-4617-AFB6-3328502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6FC-645E-42C9-B8A8-1D07DBA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3E0D-4E47-4D59-AF19-D210B8C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89B7-7B39-4CBC-8B85-44067E0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8AE5-8376-4C27-8E57-59F3C96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2B0-F2A6-4356-ACFF-3635BD1F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C9F-7171-49AA-97C1-4CDA4CD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38A8-A147-4CA1-8BE1-A7471EA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CDE8-993C-4FB5-9A62-F1511B47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1DD3-9CD3-4DF6-B481-1DB90696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C372-5C0E-4763-BEA0-FC489758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C759-8CF0-4B31-9393-E293EDA3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F288-C1E4-4598-BCC5-355BD56E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D0B6-00AF-4442-8E7B-088A3C4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1950-D418-4C77-B9CD-3EF29FAB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50C8-99CE-48DD-8D08-704CBCC4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7F9-BE70-4D95-96FD-957942C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4DB9-00B6-403B-85B3-7C65DE20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CC33-B0B3-4F1B-ACCC-9C5029F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F1FA-FC0D-4AB2-B5A0-ADAD631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CAC3-3299-4F27-A66F-78BD398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0979-0EA5-4EC9-81DF-B88B7A1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A22C-2F00-493E-9DB8-1A75A4F5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CC1B-8349-41CE-BFC7-D432C57E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54EC-56E8-474A-99E9-868AD1BB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19D3-DB1D-42FA-A1D4-6837D84A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6FA3-04E8-4462-9087-9D618E7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D48-F641-40F8-A102-1A17959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F947-BFB8-4876-922D-D904D54A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2EEC-2FDE-4408-8F5D-C8303E7E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97AB-DFA9-40F1-876E-CBD2D6B7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357C-A7E8-4396-8D32-6343514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DA8B-93DB-4AA4-9026-8F12998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1116-A2A2-4031-9CA5-B2555B9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1CDF2-CB49-4A76-B864-B18BE007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FD00-036D-4275-A33C-AF4F42A4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2BDF-FD1C-4C0D-B4B9-A38C2149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6C929-CF91-4ADF-AA5D-4779D83C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AD9-AFCD-4D83-9C53-523C761F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728E-02B0-4F49-B49B-3296C66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7076-FA61-44C3-94D2-CA130662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C516-3121-4C62-AF95-513ABCD7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157A-470A-4B2B-B807-E4B1FDF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6FE06-E75A-4CF4-A73E-E4EA1014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38D61-1AAB-4027-92E2-C305811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E2333-86B7-4223-AB7F-A624482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04AD-7B65-406F-939E-F16E504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4CFC-5D98-45C4-B5AC-2FFE9C2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3C1D-8B89-417D-AB78-F68E2380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839-04AA-4E4F-8331-D0331CE6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B3A24-8F21-4DB9-BDE0-FC3AFFEE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DD758-5632-4D34-A75E-CA504D49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F1239-371B-4CE5-BAC6-BC788475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6B66-C00F-4309-B90A-385C509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37E2-5E77-484A-A4FF-EFA35F6F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58B9-D855-4CE3-9DFA-518A1C32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C337-9B11-4DDC-B433-871A55A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5817-49F5-4966-84E8-4DFB774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5E2F-0DD8-4C2F-B8ED-38DA0BB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95D9-6B01-4C0C-82E6-0FE5B09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0DC-5026-411B-AD46-66E57B09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AE49-95D9-42B9-85CF-39D9E1F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E12E-F2DA-4826-860B-099DFC27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BCFF-AA78-4938-B199-6FE7D082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571-ABCF-4D2F-ADFF-58CFADB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8CF-7D03-400C-A8A6-1BE1B20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60E-D9C2-4ED6-AD92-73A8F1177EBA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38B0-FD12-45BA-826C-BFC6D00399FB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C77-9F02-48C4-B77F-4AB2E5C5CD11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092D-124E-4B71-BA2F-EE5FC325D633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988-36BC-4732-8D92-D4D3311841CE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555-DDBB-437C-9B3D-F450978C3B54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67480" cy="54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Учитель физики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ГБОУ СОШ № 128 г.Санкт-Петербург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Андронова Екатерина Владимировн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Рисунок 2" descr="http://im5-tub-ru.yandex.net/i?id=274902530-42-72&amp;n=21"/>
          <p:cNvPicPr/>
          <p:nvPr/>
        </p:nvPicPr>
        <p:blipFill>
          <a:blip r:embed="rId1"/>
          <a:stretch/>
        </p:blipFill>
        <p:spPr>
          <a:xfrm>
            <a:off x="324000" y="1916280"/>
            <a:ext cx="180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з для наполнения воздушного шара: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ели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одород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н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гретый возду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ммиак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. В воздух запущен шар объемом 40 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аполненный гелием. Определить подъемную силу шар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3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е: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етеорологические исследования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подъем публик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военные цел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системы видеонаблюде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74674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58920" y="549360"/>
          <a:ext cx="6192720" cy="6095880"/>
        </p:xfrm>
        <a:graphic>
          <a:graphicData uri="http://schemas.openxmlformats.org/drawingml/2006/table">
            <a:tbl>
              <a:tblPr/>
              <a:tblGrid>
                <a:gridCol w="412560"/>
                <a:gridCol w="444600"/>
                <a:gridCol w="446040"/>
                <a:gridCol w="444600"/>
                <a:gridCol w="444600"/>
                <a:gridCol w="444240"/>
                <a:gridCol w="420840"/>
                <a:gridCol w="468360"/>
                <a:gridCol w="444600"/>
                <a:gridCol w="444240"/>
                <a:gridCol w="444600"/>
                <a:gridCol w="444600"/>
                <a:gridCol w="444600"/>
                <a:gridCol w="444240"/>
              </a:tblGrid>
              <a:tr h="44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сок источников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599840"/>
            <a:ext cx="7467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ечатные источник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бник Физика 7 класс под редакцией А.В.Перышки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сылки на стать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й шар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dic.academic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е шары братьев Монгольфье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class-fizika.narod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Ссылки на изображе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воздушного ша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inna1903gr.livejournal.com/116425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333000"/>
            <a:ext cx="7467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ntalon.ru/ru/deal/213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ard.kiev-info.net/727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дирижаб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3.ru/commets/34016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aerostat.at.ua/photo/dirizhabli/32552/1-0-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ebdiscover.ru/46117.ht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шара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on-pepito.blogspot.co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стратоста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blogs.computerra.ru/4907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полета Пилатра де Розье и Д´Арлан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ww.russianexpress.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-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вляемые или неуправляемые полёты в атмосфере Земли на летательных аппаратах легче воздуха.</a:t>
            </a: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е шары братьев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гольфье.</a:t>
            </a:r>
            <a:br>
              <a:rPr sz="4400"/>
            </a:b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Рисунок 5" descr="File:Montgolfiere 1783.jpg"/>
          <p:cNvPicPr/>
          <p:nvPr/>
        </p:nvPicPr>
        <p:blipFill>
          <a:blip r:embed="rId1"/>
          <a:stretch/>
        </p:blipFill>
        <p:spPr>
          <a:xfrm>
            <a:off x="1547640" y="2565360"/>
            <a:ext cx="525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611280" y="33336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ья Жозеф-Мишель  и Жак-Этьенн , изобретатели воздушного ш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Содержимое 3" descr="http://class-fizika.narod.ru/vosd/94.jpg"/>
          <p:cNvPicPr/>
          <p:nvPr/>
        </p:nvPicPr>
        <p:blipFill>
          <a:blip r:embed="rId1"/>
          <a:stretch/>
        </p:blipFill>
        <p:spPr>
          <a:xfrm>
            <a:off x="1619280" y="3068640"/>
            <a:ext cx="48974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678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т на воздушном шаре Пилатра де Розье и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´ Арланда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Picture 2" descr="http://www.russianexpress.net/pub/art_3692.jpg"/>
          <p:cNvPicPr/>
          <p:nvPr/>
        </p:nvPicPr>
        <p:blipFill>
          <a:blip r:embed="rId1"/>
          <a:stretch/>
        </p:blipFill>
        <p:spPr>
          <a:xfrm>
            <a:off x="2268360" y="2852640"/>
            <a:ext cx="3095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й шар – не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giftgroup.ru/img/present_images/127m.jpg"/>
          <p:cNvPicPr/>
          <p:nvPr/>
        </p:nvPicPr>
        <p:blipFill>
          <a:blip r:embed="rId1"/>
          <a:stretch/>
        </p:blipFill>
        <p:spPr>
          <a:xfrm>
            <a:off x="468360" y="16286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bontalon.ru/uploads/deal-pictures/e9f672d50438418d93300d1e86c49f61821b84de9561808.jpg"/>
          <p:cNvPicPr/>
          <p:nvPr/>
        </p:nvPicPr>
        <p:blipFill>
          <a:blip r:embed="rId2"/>
          <a:stretch/>
        </p:blipFill>
        <p:spPr>
          <a:xfrm>
            <a:off x="3780000" y="3573360"/>
            <a:ext cx="4343400" cy="245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ижабль - 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Рисунок 3" descr="http://im0-tub-ru.yandex.net/i?id=460863215-56-72&amp;n=21"/>
          <p:cNvPicPr/>
          <p:nvPr/>
        </p:nvPicPr>
        <p:blipFill>
          <a:blip r:embed="rId1"/>
          <a:stretch/>
        </p:blipFill>
        <p:spPr>
          <a:xfrm>
            <a:off x="755640" y="1700280"/>
            <a:ext cx="3382920" cy="29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http://files.ati.su/Forums/1050/-1365331833/32552.jpg"/>
          <p:cNvPicPr/>
          <p:nvPr/>
        </p:nvPicPr>
        <p:blipFill>
          <a:blip r:embed="rId2"/>
          <a:stretch/>
        </p:blipFill>
        <p:spPr>
          <a:xfrm>
            <a:off x="4859280" y="3581280"/>
            <a:ext cx="3494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атостат – воздушный шар, предназначенный для полетов в стратосферу (на высоту более 11000 м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0" name="Picture 4" descr="http://blogs.computerra.ru/wp-content/uploads/2012/12/Stratos-550x388.jpg"/>
          <p:cNvPicPr/>
          <p:nvPr/>
        </p:nvPicPr>
        <p:blipFill>
          <a:blip r:embed="rId1"/>
          <a:stretch/>
        </p:blipFill>
        <p:spPr>
          <a:xfrm>
            <a:off x="1258920" y="3162240"/>
            <a:ext cx="482580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554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 &gt; </a:t>
            </a:r>
            <a:r>
              <a:rPr b="1" lang="en-US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тяж</a:t>
            </a:r>
            <a:br>
              <a:rPr sz="4600"/>
            </a:b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=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g</a:t>
            </a:r>
            <a:r>
              <a:rPr b="1" lang="el-GR" sz="4600" spc="-1" strike="noStrike">
                <a:solidFill>
                  <a:srgbClr val="ffff00"/>
                </a:solidFill>
                <a:latin typeface="Calibri"/>
              </a:rPr>
              <a:t>ρ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V</a:t>
            </a:r>
            <a:br>
              <a:rPr sz="46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сила Архимеда, Н</a:t>
            </a:r>
            <a:br>
              <a:rPr sz="44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=9,8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/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г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ρ - плотность газа, кг/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0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– объем тела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3:40:39Z</dcterms:created>
  <dc:creator>Владелец</dc:creator>
  <dc:description/>
  <dc:language>en-US</dc:language>
  <cp:lastModifiedBy>User</cp:lastModifiedBy>
  <dcterms:modified xsi:type="dcterms:W3CDTF">2013-01-19T16:08:50Z</dcterms:modified>
  <cp:revision>53</cp:revision>
  <dc:subject/>
  <dc:title>Слайд 1</dc:title>
</cp:coreProperties>
</file>