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0A0-C56C-4815-A477-C4D1FC5D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115-88A3-4A19-95BA-C3F02A3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B02-6CF0-4533-B0B1-B6D5E19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8D4-89D2-4C82-BB72-AAD2437B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3582-9EB7-42A6-A4C9-8FB6D79E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C472-83B1-45D6-9010-3BE0669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93D7-A0F1-4DC3-A0FE-EFDF9C2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6E1-5256-4F95-B5F8-C9648B33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16BA-9F44-4840-B576-D609137E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111-FF2F-43AE-A112-BBE04F2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CEC-52FF-4BA2-8154-701D2167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1FE-BDB0-4408-9EF6-C2CD1C8B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98C3-CABC-4A36-9428-DE2F948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24E2-85CA-4E2F-B683-C5EC9B0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682F-E67A-453F-B94A-32BD934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E92-2893-45B0-BA16-6E85EEA7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8AB0-8336-4800-9887-18A9F0A8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8D841-5B8B-4E8A-8597-B5540280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22EB-4FDF-46BB-9B18-18381834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AFF8-4668-488D-BDFF-AFC88387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4FB3-9C13-472C-BC73-D030C5AC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BE3F-F872-41DC-98C1-8D3939E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B8E-D9EE-4176-833A-DF772B2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1A15-3D08-48C7-BD2F-3A34FB7C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B464C-9DFE-4A7B-B873-5F768C5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0105-A46B-40C5-A4C5-F27446FF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2DCB-CA4A-406E-91C9-92AE5FB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59E7-5CDF-4EFD-AD45-ED62F065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C6D6-150E-4870-B793-7DE0C64B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EA50-1D63-4988-A5A6-65F7E0C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AC95-53DB-4791-AAE2-D1184C5C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88C7-ADF3-4D42-A57E-DEBF8FC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2363-4094-447D-84E6-93F9B7AC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769-726A-4B85-9AAB-ECDCAEF3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F619-1611-4284-ABA1-DF3603EC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FFAFC-90F1-4FF6-B41B-9F36DE6B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57783-DE68-4672-BEB7-B7F84C28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FC46B-8546-438C-9949-3650204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3BE4-1A26-4C00-AC8B-D26FB12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B268-91A6-4357-9B3B-F41519F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20F1-99D2-4AF5-BC12-4B15C47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5C4B-35BE-43F2-A413-9FA780E3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CA2E5-BC98-41ED-A063-05C5B6E0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6D99-EBDB-4715-B1EB-8B7DA32E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FD6-3716-4D3A-B9E8-115244F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AEC3A-CCB3-42D8-819D-C6FDD8F7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E20F-A416-4975-B85D-3D55800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9F423-5327-4629-89C3-76403068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9457-C634-4BF8-86FC-713E02FB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8B39-185C-413F-9DCA-557F19AA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C8B4D-E32F-4B74-83B6-FF7AE9B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DCD0-9128-4864-A409-7ABCF84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6679-6191-4BA4-8F18-3D1CF47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2E53-449D-4DA3-B439-BAA274A3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DB457-9AF1-4A6C-9A12-D03D4EF7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231-5B09-444E-B9B5-57F7DC5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F7FC4-1921-4F37-9AE8-1ADA8985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82CA-90B4-4BAE-9848-98B393C0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ED5E-F071-4EED-9C73-85525550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9B8F-244B-4285-8ED8-80F52AB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C1B2-12B3-4B68-8A3F-D00728F8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B8A9-7EC8-4F58-9CA3-382C6046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BF637-11C5-4720-9276-94F14B9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16C9-793F-4BFB-A477-77474899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7B95-5F43-4374-B137-470FFE1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50D4-E25C-4087-9EBF-1D09138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444-80E6-4C36-9C46-7D1BC3A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8886-D990-4DCD-9354-21078694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EAAAA-036E-4553-B520-2E92B08E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0AE9-AE1D-4116-826D-55BDFA3F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CE2-ACF9-494B-B60B-B76F7DC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CF9C-8661-4E78-8705-79A1D6D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A95B-8CB3-4A00-A454-7B34B50D7AD3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111A-DE68-4D51-99F9-0DB5521E3D46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C33A-F785-4F58-B7F6-E1C2866791E0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E4D-7B9F-4321-9996-271129086D77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17D7-C370-473C-A6C6-15968D2ED784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07C-7F73-4E71-A7D8-A7BFC81F08FA}" type="slidenum">
              <a:rPr b="0" lang="ru-RU" sz="1000" spc="-1" strike="noStrike">
                <a:solidFill>
                  <a:srgbClr val="afada5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467480" cy="54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Учитель физики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ГБОУ СОШ № 128 г.Санкт-Петербург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Андронова Екатерина Владимировн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Рисунок 2" descr="http://im5-tub-ru.yandex.net/i?id=274902530-42-72&amp;n=21"/>
          <p:cNvPicPr/>
          <p:nvPr/>
        </p:nvPicPr>
        <p:blipFill>
          <a:blip r:embed="rId1"/>
          <a:stretch/>
        </p:blipFill>
        <p:spPr>
          <a:xfrm>
            <a:off x="324000" y="1916280"/>
            <a:ext cx="18000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74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з для наполнения воздушного шара: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гели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одород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еон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гретый воздух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аммиак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. В воздух запущен шар объемом 40 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наполненный гелием. Определить подъемную силу шар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3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енение: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метеорологические исследования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подъем публик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военные цели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системы видеонаблюде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-171720"/>
            <a:ext cx="74674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258920" y="549360"/>
          <a:ext cx="6192720" cy="6095880"/>
        </p:xfrm>
        <a:graphic>
          <a:graphicData uri="http://schemas.openxmlformats.org/drawingml/2006/table">
            <a:tbl>
              <a:tblPr/>
              <a:tblGrid>
                <a:gridCol w="412560"/>
                <a:gridCol w="444600"/>
                <a:gridCol w="446040"/>
                <a:gridCol w="444600"/>
                <a:gridCol w="444600"/>
                <a:gridCol w="444240"/>
                <a:gridCol w="420840"/>
                <a:gridCol w="468360"/>
                <a:gridCol w="444600"/>
                <a:gridCol w="444240"/>
                <a:gridCol w="444600"/>
                <a:gridCol w="444600"/>
                <a:gridCol w="444600"/>
                <a:gridCol w="444240"/>
              </a:tblGrid>
              <a:tr h="44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сок источников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599840"/>
            <a:ext cx="7467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ечатные источник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ебник Физика 7 класс под редакцией А.В.Перышки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сылки на стать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й шар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dic.academic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тья «Воздушные шары братьев Монгольфье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class-fizika.narod.ru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Ссылки на изображения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воздушного шар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inna1903gr.livejournal.com/116425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333000"/>
            <a:ext cx="7467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ntalon.ru/ru/deal/213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board.kiev-info.net/727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дирижабл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3.ru/commets/34016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aerostat.at.ua/photo/dirizhabli/32552/1-0-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ebdiscover.ru/46117.ht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шара братьев Монгольфь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don-pepito.blogspot.co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стратостат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blogs.computerra.ru/4907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ображение полета Пилатра де Розье и Д´Арланд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tp://www.russianexpress.ne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хоплавание-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вляемые или неуправляемые полёты в атмосфере Земли на летательных аппаратах легче воздуха.</a:t>
            </a: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467480" cy="396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е шары братьев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гольфье.</a:t>
            </a:r>
            <a:br>
              <a:rPr sz="4400"/>
            </a:b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Рисунок 5" descr="File:Montgolfiere 1783.jpg"/>
          <p:cNvPicPr/>
          <p:nvPr/>
        </p:nvPicPr>
        <p:blipFill>
          <a:blip r:embed="rId1"/>
          <a:stretch/>
        </p:blipFill>
        <p:spPr>
          <a:xfrm>
            <a:off x="1547640" y="2565360"/>
            <a:ext cx="525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611280" y="333360"/>
            <a:ext cx="77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ья Жозеф-Мишель  и Жак-Этьенн , изобретатели воздушного ш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Содержимое 3" descr="http://class-fizika.narod.ru/vosd/94.jpg"/>
          <p:cNvPicPr/>
          <p:nvPr/>
        </p:nvPicPr>
        <p:blipFill>
          <a:blip r:embed="rId1"/>
          <a:stretch/>
        </p:blipFill>
        <p:spPr>
          <a:xfrm>
            <a:off x="1619280" y="3068640"/>
            <a:ext cx="4897440" cy="3529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678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т на воздушном шаре Пилатра де Розье и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´ Арланда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2" name="Picture 2" descr="http://www.russianexpress.net/pub/art_3692.jpg"/>
          <p:cNvPicPr/>
          <p:nvPr/>
        </p:nvPicPr>
        <p:blipFill>
          <a:blip r:embed="rId1"/>
          <a:stretch/>
        </p:blipFill>
        <p:spPr>
          <a:xfrm>
            <a:off x="2268360" y="2852640"/>
            <a:ext cx="3095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душный шар – не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giftgroup.ru/img/present_images/127m.jpg"/>
          <p:cNvPicPr/>
          <p:nvPr/>
        </p:nvPicPr>
        <p:blipFill>
          <a:blip r:embed="rId1"/>
          <a:stretch/>
        </p:blipFill>
        <p:spPr>
          <a:xfrm>
            <a:off x="468360" y="16286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http://bontalon.ru/uploads/deal-pictures/e9f672d50438418d93300d1e86c49f61821b84de9561808.jpg"/>
          <p:cNvPicPr/>
          <p:nvPr/>
        </p:nvPicPr>
        <p:blipFill>
          <a:blip r:embed="rId2"/>
          <a:stretch/>
        </p:blipFill>
        <p:spPr>
          <a:xfrm>
            <a:off x="3780000" y="3573360"/>
            <a:ext cx="4343400" cy="245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ижабль - управляемый аэрост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Рисунок 3" descr="http://im0-tub-ru.yandex.net/i?id=460863215-56-72&amp;n=21"/>
          <p:cNvPicPr/>
          <p:nvPr/>
        </p:nvPicPr>
        <p:blipFill>
          <a:blip r:embed="rId1"/>
          <a:stretch/>
        </p:blipFill>
        <p:spPr>
          <a:xfrm>
            <a:off x="755640" y="1700280"/>
            <a:ext cx="3382920" cy="2952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http://files.ati.su/Forums/1050/-1365331833/32552.jpg"/>
          <p:cNvPicPr/>
          <p:nvPr/>
        </p:nvPicPr>
        <p:blipFill>
          <a:blip r:embed="rId2"/>
          <a:stretch/>
        </p:blipFill>
        <p:spPr>
          <a:xfrm>
            <a:off x="4859280" y="3581280"/>
            <a:ext cx="34941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8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атостат – воздушный шар, предназначенный для полетов в стратосферу (на высоту более 11000 м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0" name="Picture 4" descr="http://blogs.computerra.ru/wp-content/uploads/2012/12/Stratos-550x388.jpg"/>
          <p:cNvPicPr/>
          <p:nvPr/>
        </p:nvPicPr>
        <p:blipFill>
          <a:blip r:embed="rId1"/>
          <a:stretch/>
        </p:blipFill>
        <p:spPr>
          <a:xfrm>
            <a:off x="1258920" y="3162240"/>
            <a:ext cx="482580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554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 &gt; </a:t>
            </a:r>
            <a:r>
              <a:rPr b="1" lang="en-US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тяж</a:t>
            </a:r>
            <a:br>
              <a:rPr sz="4600"/>
            </a:b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F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=</a:t>
            </a:r>
            <a:r>
              <a:rPr b="1" lang="ru-RU" sz="4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g</a:t>
            </a:r>
            <a:r>
              <a:rPr b="1" lang="el-GR" sz="4600" spc="-1" strike="noStrike">
                <a:solidFill>
                  <a:srgbClr val="ffff00"/>
                </a:solidFill>
                <a:latin typeface="Calibri"/>
              </a:rPr>
              <a:t>ρ</a:t>
            </a:r>
            <a:r>
              <a:rPr b="1" lang="en-US" sz="4600" spc="-1" strike="noStrike">
                <a:solidFill>
                  <a:srgbClr val="ffff00"/>
                </a:solidFill>
                <a:latin typeface="Calibri"/>
              </a:rPr>
              <a:t>V</a:t>
            </a:r>
            <a:br>
              <a:rPr sz="46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сила Архимеда, Н</a:t>
            </a:r>
            <a:br>
              <a:rPr sz="44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=9,8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/</a:t>
            </a: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г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ρ - плотность газа, кг/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0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– объем тела,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3:40:39Z</dcterms:created>
  <dc:creator>Владелец</dc:creator>
  <dc:description/>
  <dc:language>en-US</dc:language>
  <cp:lastModifiedBy>User</cp:lastModifiedBy>
  <dcterms:modified xsi:type="dcterms:W3CDTF">2013-01-19T16:08:50Z</dcterms:modified>
  <cp:revision>53</cp:revision>
  <dc:subject/>
  <dc:title>Слайд 1</dc:title>
</cp:coreProperties>
</file>