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20F-948C-4017-92AF-5B1B96F2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B73-9584-4819-8567-958C6AF6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9B9-50C8-4709-B99A-F1F7A852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755-9604-42E7-9D41-6ACE10A0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1A7-8760-4197-9EDE-6115E8F6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26C-1543-462F-B9FA-F2FFDE55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A6BC-25B6-4F6B-920C-D226064A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2C19-1A1C-496A-BA3B-E1DAF973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A7D-A7AE-46B6-952C-7A360ED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1486-1763-4A99-B656-B478906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CA3-423F-409D-9A6C-20B0F1C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A25-F3F9-456E-A5C4-24895B58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B893-5584-4A86-97D9-763F743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C7D4-C66F-43B1-873E-43B998F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AD96-E100-4CD2-B55F-3B5B923F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C4FB-E3A6-4741-B101-FE00C546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DD9B-83B0-4952-9F72-E30C5563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AC75-1E99-4379-A005-42AAA2C6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108D-0BC0-4B42-A410-B5D0E7B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773B-22BF-4173-A904-14C6E09E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EB26-4268-4936-ABB8-5D560FB9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9CB7-58D0-4EE2-AEDD-2E90F67C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798-AB30-4CAE-811B-8CE4662D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F3E4-AFC4-455E-86F9-A0E2D891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829C-A317-4530-AC51-DBCCF5C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2ACA-9344-48BB-A9F8-984FAC46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A5E8-407B-464E-B1E7-B7878678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694C-B258-4876-B0A4-7BDFE83F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8E92-6B29-4A37-9EE8-648D0550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EE92-DC91-4FFA-9864-8D677BFE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5603-8F25-419F-8ADF-483AF83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B48C-6F70-41F9-BC10-886C353A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DC7C-97E2-4B9D-8890-BF496577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32F-A841-4981-929A-E1BB1286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0ADF-7D14-48C6-BAA8-A7A9FE0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E597-7913-448F-9118-0177F282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07AE-F641-495F-95C1-77F96CA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E4C2-2894-4AE0-AD2B-F37BE1A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B2B83-6675-447D-A474-A96D6047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6E10-867F-44D3-9D4C-4E01764D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A483-0A71-4E5D-8837-8EEDD12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FAFF-A18F-4FB8-BE8D-7C622DE1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3FD6-31CB-4D4F-8349-80749B47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D680F-5AB0-4354-8965-24211945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633-4A6D-44FA-B68A-D1DDD2C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A8E3-A302-4394-AECA-F9CA09AE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57B3-FB92-48EC-89CC-0B80F5EF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1C3D-E941-4972-B627-00D31FE9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8B39-C703-45C5-93A3-F9E9653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76FB-201F-4EB8-8775-B05F1E2D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D72F9-3EBD-41B2-A2CC-74391B9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714D-C8B0-4641-BD90-433DCF5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4CA5-D111-4661-9E4F-EA762D8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73508-5E67-4154-80EF-6AA51DE8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BFE4-0688-4A97-8A9F-A7574692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EC0-D163-4A50-928F-CB6DB4E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2FB6-EDD0-4E5D-840F-D2357CD4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3ADA-7AF3-424A-926F-C726368C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3B975-D0E4-4E6E-BDF8-0B026CD9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645F6-182A-4D6F-96DD-10FFE730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2128-AC22-4315-940F-C9B8A673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B216-AB83-43DD-B358-D784DCB8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D7230-B33C-4B9D-BC26-AF8DE92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6EDE-D531-4E5B-B114-DF3AC0A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05F1-78C9-4701-81FF-3338B36B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8415-EB93-4D17-9253-DDBB22E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27D-9D03-4D6E-A6FD-F0ABE08B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C2E14-117C-4CA3-9DB4-99E9047C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FD49F-8014-458E-B04C-5DF0CC95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A709F-DEC0-4E8C-8E3C-F8F91078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919-523E-46E8-B8C7-8E4E453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FA1-0F7B-4C5B-9E3B-727F7149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F83D-480E-425F-AA7B-48CA8B7D63F5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CD29-2DC0-4438-AE8B-CA773180D347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33BF-1755-41C8-8B76-B0AA98EF3107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A2C-FDC5-40E0-AF80-69F2FC4315CE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AA10-6B26-41E3-8C58-45C5A02E8BA9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FB6-B37C-4492-9390-50E4A3309705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67480" cy="54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хоплавание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Учитель физики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ГБОУ СОШ № 128 г.Санкт-Петербург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Андронова Екатерина Владимировн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Рисунок 2" descr="http://im5-tub-ru.yandex.net/i?id=274902530-42-72&amp;n=21"/>
          <p:cNvPicPr/>
          <p:nvPr/>
        </p:nvPicPr>
        <p:blipFill>
          <a:blip r:embed="rId1"/>
          <a:stretch/>
        </p:blipFill>
        <p:spPr>
          <a:xfrm>
            <a:off x="324000" y="1916280"/>
            <a:ext cx="180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74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з для наполнения воздушного шара: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гели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одород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еон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гретый воздух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ммиак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. В воздух запущен шар объемом 40 м</a:t>
            </a:r>
            <a:r>
              <a:rPr b="1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наполненный гелием. Определить подъемную силу шар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3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нение: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етеорологические исследования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подъем публики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военные цели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системы видеонаблюде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74674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58920" y="549360"/>
          <a:ext cx="6192720" cy="6095880"/>
        </p:xfrm>
        <a:graphic>
          <a:graphicData uri="http://schemas.openxmlformats.org/drawingml/2006/table">
            <a:tbl>
              <a:tblPr/>
              <a:tblGrid>
                <a:gridCol w="412560"/>
                <a:gridCol w="444600"/>
                <a:gridCol w="446040"/>
                <a:gridCol w="444600"/>
                <a:gridCol w="444600"/>
                <a:gridCol w="444240"/>
                <a:gridCol w="420840"/>
                <a:gridCol w="468360"/>
                <a:gridCol w="444600"/>
                <a:gridCol w="444240"/>
                <a:gridCol w="444600"/>
                <a:gridCol w="444600"/>
                <a:gridCol w="444600"/>
                <a:gridCol w="444240"/>
              </a:tblGrid>
              <a:tr h="44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сок источников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599840"/>
            <a:ext cx="7467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ечатные источник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бник Физика 7 класс под редакцией А.В.Перышки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сылки на стать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«Воздушный шар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dic.academic.r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«Воздушные шары братьев Монгольфье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class-fizika.narod.r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Ссылки на изображени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воздушного ша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inna1903gr.livejournal.com/116425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6840" y="333000"/>
            <a:ext cx="7467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bontalon.ru/ru/deal/213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board.kiev-info.net/727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дирижаб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d3.ru/commets/34016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aerostat.at.ua/photo/dirizhabli/32552/1-0-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братьев Монгольфь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webdiscover.ru/46117.ht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шара братьев Монгольфь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don-pepito.blogspot.co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стратоста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blogs.computerra.ru/4907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полета Пилатра де Розье и Д´Арланд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www.russianexpress.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хоплавание-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вляемые или неуправляемые полёты в атмосфере Земли на летательных аппаратах легче воздуха.</a:t>
            </a: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шные шары братьев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гольфье.</a:t>
            </a:r>
            <a:br>
              <a:rPr sz="4400"/>
            </a:b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Рисунок 5" descr="File:Montgolfiere 1783.jpg"/>
          <p:cNvPicPr/>
          <p:nvPr/>
        </p:nvPicPr>
        <p:blipFill>
          <a:blip r:embed="rId1"/>
          <a:stretch/>
        </p:blipFill>
        <p:spPr>
          <a:xfrm>
            <a:off x="1547640" y="2565360"/>
            <a:ext cx="525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611280" y="333360"/>
            <a:ext cx="77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тья Жозеф-Мишель  и Жак-Этьенн , изобретатели воздушного ша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Содержимое 3" descr="http://class-fizika.narod.ru/vosd/94.jpg"/>
          <p:cNvPicPr/>
          <p:nvPr/>
        </p:nvPicPr>
        <p:blipFill>
          <a:blip r:embed="rId1"/>
          <a:stretch/>
        </p:blipFill>
        <p:spPr>
          <a:xfrm>
            <a:off x="1619280" y="3068640"/>
            <a:ext cx="4897440" cy="3529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4678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т на воздушном шаре Пилатра де Розье и 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´ Арланда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2" name="Picture 2" descr="http://www.russianexpress.net/pub/art_3692.jpg"/>
          <p:cNvPicPr/>
          <p:nvPr/>
        </p:nvPicPr>
        <p:blipFill>
          <a:blip r:embed="rId1"/>
          <a:stretch/>
        </p:blipFill>
        <p:spPr>
          <a:xfrm>
            <a:off x="2268360" y="2852640"/>
            <a:ext cx="3095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шный шар – неуправляемый аэрост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giftgroup.ru/img/present_images/127m.jpg"/>
          <p:cNvPicPr/>
          <p:nvPr/>
        </p:nvPicPr>
        <p:blipFill>
          <a:blip r:embed="rId1"/>
          <a:stretch/>
        </p:blipFill>
        <p:spPr>
          <a:xfrm>
            <a:off x="468360" y="16286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ttp://bontalon.ru/uploads/deal-pictures/e9f672d50438418d93300d1e86c49f61821b84de9561808.jpg"/>
          <p:cNvPicPr/>
          <p:nvPr/>
        </p:nvPicPr>
        <p:blipFill>
          <a:blip r:embed="rId2"/>
          <a:stretch/>
        </p:blipFill>
        <p:spPr>
          <a:xfrm>
            <a:off x="3780000" y="3573360"/>
            <a:ext cx="4343400" cy="245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ижабль - управляемый аэрост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Рисунок 3" descr="http://im0-tub-ru.yandex.net/i?id=460863215-56-72&amp;n=21"/>
          <p:cNvPicPr/>
          <p:nvPr/>
        </p:nvPicPr>
        <p:blipFill>
          <a:blip r:embed="rId1"/>
          <a:stretch/>
        </p:blipFill>
        <p:spPr>
          <a:xfrm>
            <a:off x="755640" y="1700280"/>
            <a:ext cx="3382920" cy="29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http://files.ati.su/Forums/1050/-1365331833/32552.jpg"/>
          <p:cNvPicPr/>
          <p:nvPr/>
        </p:nvPicPr>
        <p:blipFill>
          <a:blip r:embed="rId2"/>
          <a:stretch/>
        </p:blipFill>
        <p:spPr>
          <a:xfrm>
            <a:off x="4859280" y="3581280"/>
            <a:ext cx="3494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атостат – воздушный шар, предназначенный для полетов в стратосферу (на высоту более 11000 м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0" name="Picture 4" descr="http://blogs.computerra.ru/wp-content/uploads/2012/12/Stratos-550x388.jpg"/>
          <p:cNvPicPr/>
          <p:nvPr/>
        </p:nvPicPr>
        <p:blipFill>
          <a:blip r:embed="rId1"/>
          <a:stretch/>
        </p:blipFill>
        <p:spPr>
          <a:xfrm>
            <a:off x="1258920" y="3162240"/>
            <a:ext cx="482580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554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A &gt; </a:t>
            </a:r>
            <a:r>
              <a:rPr b="1" lang="en-US" sz="88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тяж</a:t>
            </a:r>
            <a:br>
              <a:rPr sz="4600"/>
            </a:b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=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g</a:t>
            </a:r>
            <a:r>
              <a:rPr b="1" lang="el-GR" sz="4600" spc="-1" strike="noStrike">
                <a:solidFill>
                  <a:srgbClr val="ffff00"/>
                </a:solidFill>
                <a:latin typeface="Calibri"/>
              </a:rPr>
              <a:t>ρ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V</a:t>
            </a:r>
            <a:br>
              <a:rPr sz="46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сила Архимеда, Н</a:t>
            </a:r>
            <a:br>
              <a:rPr sz="44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=9,8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/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г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ρ - плотность газа, кг/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0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– объем тела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3:40:39Z</dcterms:created>
  <dc:creator>Владелец</dc:creator>
  <dc:description/>
  <dc:language>en-US</dc:language>
  <cp:lastModifiedBy>User</cp:lastModifiedBy>
  <dcterms:modified xsi:type="dcterms:W3CDTF">2013-01-19T16:08:50Z</dcterms:modified>
  <cp:revision>53</cp:revision>
  <dc:subject/>
  <dc:title>Слайд 1</dc:title>
</cp:coreProperties>
</file>