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27.png" ContentType="image/png"/>
  <Override PartName="/ppt/media/image8.jpeg" ContentType="image/jpeg"/>
  <Override PartName="/ppt/media/image29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32.gif" ContentType="image/gif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EB6-1886-4B28-BB0A-DEE5C5FD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667-9E67-4A4F-8CF5-6B77BFA8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7BC-2880-4A31-8D89-3393FF85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ECC-B0E4-4C3D-9372-7E0DDB0B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CD9E-25BC-49C3-A51C-A7F8D6FB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46F8-803F-4577-8209-C2E1A7B9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DE8-E26D-455D-8400-65BF221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2DF3-D3EC-45C8-8A8D-81C3F20A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8670-E0D8-46F3-8655-98AA226F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A875-4BD6-4629-8F26-507DE6C5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40D-900E-47D3-83FA-93E3A66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AC2-61C6-4DE7-A3BC-61CC9C6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8F64-7E86-4EBF-8590-48086E5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15F5-6ABE-4B08-92E6-FB46823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9F5C-A0C3-49D1-8557-26A4A05F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82D7-2354-4036-924A-4EE4B1F5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32ED-06A1-4F3D-92CD-CA31324B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B9C3-73EE-4B1A-A36B-56ED1FA5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19B8-8702-4843-900E-5D7C2D3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DE71-D516-48E2-BE87-975CA76C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C1AF-7EB3-4104-B7E6-3DA1B4D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490E-C49C-49AD-BF2E-BEC18EF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E1A-8B2F-4AA2-BAF5-B88CC28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6826-7E42-4D38-8A74-B61A6EE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3F2D-9E4C-44A9-99EF-EBFEBEC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12D5-E828-484C-B08D-B3FECA5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7541-DACC-499E-8320-A8036A5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3B1F-BD45-44A9-9DFC-B0756078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7FCA-8F1E-4107-9534-67C7B432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327D-8A43-44AD-8EBD-88A54778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73E6-E49D-43F6-972B-B5AB8FF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F68A-8B16-4D70-80F7-DA18A31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C9BD-C8F4-44A1-9760-DB111B5C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453-3F23-4594-8996-9F97D38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C7A3-96F4-45F1-8187-B093E73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C5F0-2FB2-4507-BBEF-D61810E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CE97-A536-4A27-A458-DD8B389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E99A-7A6C-4C93-AEBF-02616DC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5B6C-61D2-4FAA-B05E-25E96A6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61A3-823F-48E4-88A4-380EB140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FA31-B151-436E-96AF-5046670C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C817-B133-4EFB-81AD-7B0374CB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48D0-9B0D-41F2-919E-257CE66B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8EAE3-C594-4B6D-950B-67EEB130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B6E-29E6-418D-8FB0-E825208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85A63-762A-4D93-83EA-78369D80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36FA-2C3E-450B-9003-3035E3A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7AA1-CB14-437C-B0EC-9FB79F30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0552-76F3-4CB2-A308-9ECE78F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D342-E113-4E92-A193-6620DBC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154B-61AB-4038-ADC7-7B3942EC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692DB-E236-4679-BDC1-0EEC2F78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D27B-A61B-4043-9F7E-AFB2AB0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33E6-7C85-4852-8582-31438EE6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2A6C-FEDF-403C-B937-67DC5558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45B-5CC4-41AB-A509-0D89335D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F230B-F9F2-40A1-9444-6925FA8B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6709-E2B9-45D0-8FB6-55CCE59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7B07-608A-4C4A-B1E0-3B81F2DD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4F67-48C2-4E15-829E-A79B595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ADEB-570A-40C4-9430-47FE8EE4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CD48-8961-42DD-B25C-D5E6D2FD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897ED-92DD-45A2-891D-2FCD0DC9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FC86-9FF1-46F5-8B7B-C947013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6441-7342-4158-ABE8-B3FF6C49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0849-0EED-457C-82EF-8B98105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BF7-2A67-404F-A7EE-186B8AA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1263-88CD-497B-AAD5-91C3B9A4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E90C-413F-4891-9199-FC44FF80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8001A-7367-4C79-A516-C63DE541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DB2B-CFA9-4DD5-B4DF-513CD598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4822-EF43-40E0-92A4-6B0A66F5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D2E7C-1BB9-4DEA-8346-422D5DDD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A30C-9212-448C-9BD3-A2A50BE1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8650-D738-4347-94AF-98A8E360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681E-6152-4315-B71F-08C0541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9F53-5C21-4033-ACF7-18A0221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E6A-B294-47A3-87AF-8807509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61BF-B714-4E55-B08E-128548A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58EC-C0DB-4A18-BFC3-ACD6DD9B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EB00C-BCBE-445B-BE4D-1B3B8C7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E086-9220-41B8-88F8-FCCD2D97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D18C-8AC8-4646-9349-063CA0C1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BE37-441C-4914-B59C-C8AB0A1D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AE9FE-453F-404C-A610-293F133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667B2-B0DA-43A8-81D0-9DD0DBA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A5263-12B3-439C-83FD-DF67E67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4BE9B-3FA8-415F-A9A8-D2A83A0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FFB-A6B6-43CC-8654-6C59C3C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6B50-4C07-45FC-8395-3321F6D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04FD-030F-4C05-B791-0AB232D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4BC7-1C6F-4AEE-8F31-BFCA76E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8D0B-9770-44D0-9BBC-EC7B1F8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F8166-C7D2-43F6-96E5-2B4511CB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1A6BA-4CFB-42E6-AFF1-D714E166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E2807-CB5B-43F5-8D96-C18D7DF5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AA4-50B9-4917-BF26-F1D9DC37BD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0E37-8D4B-4B6D-B103-792D0385CBD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4C0-5C45-4AF1-902A-6401A478E7A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FBB-5919-46D3-9D49-E7F35FD454B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EF1-9612-4A8B-A73D-4B526E2A30E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2A8-F716-436C-8ABB-FBFEF0AB7E3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AD76-13D8-42E9-B3FC-B53ED96E706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988-1116-4317-B512-C61A5F31250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Documents and Settings\Admin\Рабочий стол\777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214280" y="6572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1071720" y="6143760"/>
            <a:ext cx="586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ВЕРБЛЮД – « ЦАРЬ» ДОМАШНИХ ЖИВОТНЫХ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0" y="517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ТЕМА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 « ОСШ  №17 С  ДМЦ»    п.Панфи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матин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ДЖИДИ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6351480" y="-6480"/>
            <a:ext cx="2835360" cy="6870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6.JPG"/>
          <p:cNvPicPr/>
          <p:nvPr/>
        </p:nvPicPr>
        <p:blipFill>
          <a:blip r:embed="rId2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499920" y="4428720"/>
            <a:ext cx="51865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4443480" y="-433440"/>
            <a:ext cx="4298760" cy="7297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8640" y="214200"/>
            <a:ext cx="52578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ДРОМЕДА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Одногорбый верблюд [дромедар]  - изначально обитал в засушливых районах Ближнего Востока до северной Индии и в Африке, преимущественно в Сахаре. Позже одногорбые верблюды были ввезены в Центральную Австралию, где распространены в пустынных областях. Масса дромедара 300-690 кг, высота в холке до 210 см, окраска коричневатая, или песочно-серая, также встречаются черные и белые особи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Характерной особенностью внешнего облика дромедара является длинная изогнутая шея, узкая грудь и единственный горб. Горб образуют жировые отложения, выполняющие роль пищевых запасов на случай необходимости, и его величина изменяется в зависимости от времени года, в голодные времена горб значительно уменьшается в размерах. Шерсть у дромедара длиннее на шее, плечах и в области горба. Ступни имеют копыта, которые прекрасно приспособлены для передвижению по пескам, однако непригодны для путешествия по острым камням, скользким поверхностям и вязкой грязи. Губы дромедара толстые, что позволяет употреблять в пищу колючие раст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4759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6840" y="714240"/>
            <a:ext cx="368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Дромедар - травоядное животное, питается колючими растениями, сухой травой и кустарниками - практически всем, что растет в пустыне. Он ощипывает молодые побеги, которые составляет 70% его рациона. Около 8-12 часов в день дромедар пасется и еще долгое время пережевывает пищу. Верблюды способны доставать пищу на высоте 3,5 м, обдирая ветви или съедая листья на ходу. Каждую порцию пережевывают 40-50 раз. Пока они пережевывают колючки, рот держится открытым. Животные имеют обыкновение обходить большие области и срывать несколько листьев с каждого растения. Этот тип питания уменьшает нагрузку на растения. Помимо растительной пищи дромедарам необходима соль (больше, чем другим жителям пустыни в 6-8 раз)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Picture 4" descr="C:\Documents and Settings\Admin\Рабочий стол\Новое изображение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57920" y="1481040"/>
            <a:ext cx="282888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6419880" y="420840"/>
            <a:ext cx="2663640" cy="52308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2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9" name="Picture 2" descr="C:\Documents and Settings\Admin\Рабочий стол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357600" y="274680"/>
            <a:ext cx="23288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1" name="Picture 2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Admin\Рабочий стол\рабочий стол\видео о природе\животные\иолжд.gif"/>
          <p:cNvPicPr/>
          <p:nvPr/>
        </p:nvPicPr>
        <p:blipFill>
          <a:blip r:embed="rId2"/>
          <a:stretch/>
        </p:blipFill>
        <p:spPr>
          <a:xfrm>
            <a:off x="1643040" y="121428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160800" y="6000840"/>
            <a:ext cx="33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граф №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ние А.. В. С. на стр.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Рисунок 3" descr="верблю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 flipV="1" rot="10203000">
            <a:off x="570600" y="2296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otype Corsiva"/>
              </a:rPr>
              <a:t>КОРАБЛЬ ПУСТЫ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5638680" y="268200"/>
            <a:ext cx="3054600" cy="630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7.JPG"/>
          <p:cNvPicPr/>
          <p:nvPr/>
        </p:nvPicPr>
        <p:blipFill>
          <a:blip r:embed="rId2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5"/>
          <p:cNvSpPr/>
          <p:nvPr/>
        </p:nvSpPr>
        <p:spPr>
          <a:xfrm>
            <a:off x="5643720" y="714240"/>
            <a:ext cx="350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 У КОГО ЕСТЬ ВЕРБЛЮД</a:t>
            </a: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ОГО ОБЕРЕГАЮТ ДУХ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«НЕ  ИЗБЕГАЙ    ТОЩЕГО ВЕРБЛЮДА-   ЭТО   ТВОЯ   УДАЧ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Е  ОТКАЗЫВАЙСЯ  ОТ БРЫКЛИВОЙ  ЛОШАДИ-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ВОИ     КРЫЛЬЯ»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ТАК   ГЛА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НАРОДНАЯ   МУД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5" name="Picture 3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0" y="285840"/>
            <a:ext cx="3643200" cy="6191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714480" y="213840"/>
            <a:ext cx="4971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КОМ ДОМАШНИХ ВЕРБЛЮДОВ ЯВЛЯЕТСЯ ДИКИЙ ВЕРБЛЮД . ОН БЫЛ ПРИРУЧЕН БОЛЕЕ 5000 ЛЕТ НАЗАД В ЦЕНТРАЛЬНОЙ И МАЛОЙ АЗИИ.СЕЙЧАС ВСТРЕЧАЕТСЯ (БАКТИРИАН) НЕБОЛЬШИ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ДАМИ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ПУСТЫНЕ ГОБИ . ОТКРЫТ Н.М. ПРИЖЕВАЛЬСКИМ 1877 год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-360" y="285840"/>
            <a:ext cx="40719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Царство: Живо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Тип: Хор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ласс: Млекопитающ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нфракласс: Плацентар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тряд: Парнокопытн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отряд: Мозоленог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емейство: Верблюдовы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: Верблюды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Живут  30-35 лет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од Верблюды – объединяет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редних и крупных копытных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длиной тела 220-340 см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линой хвоста 55-75 с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сотой в холке 180-210 см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7" descr="C:\Documents and Settings\Admin\Рабочий стол\8.JPG"/>
          <p:cNvPicPr/>
          <p:nvPr/>
        </p:nvPicPr>
        <p:blipFill>
          <a:blip r:embed="rId1"/>
          <a:stretch/>
        </p:blipFill>
        <p:spPr>
          <a:xfrm>
            <a:off x="4214880" y="533520"/>
            <a:ext cx="4471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6010200" y="268200"/>
            <a:ext cx="2755800" cy="58834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429680" y="3571920"/>
            <a:ext cx="1257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5114880" y="-6480"/>
            <a:ext cx="4138560" cy="687096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1000080" y="5357880"/>
            <a:ext cx="756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5529240" y="-19080"/>
            <a:ext cx="3213000" cy="6170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0" name="Picture 2" descr="C:\Documents and Settings\Admin\Рабочий стол\верблюды\0001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 flipV="1" rot="10800000">
            <a:off x="4142880" y="5373720"/>
            <a:ext cx="500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едение верблюдов очень выгодная отрасль экономики в животноводстве. Круглый год верблюды кормятся на пастбищах, а в зимнее время их кормят сеном. Но, а во время спаривания, подкармливают концентрированным кормом. Пить верблюдам дают всего раз в сутки зимой и два раза в сутки л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7:38:55Z</dcterms:created>
  <dc:creator>User</dc:creator>
  <dc:description/>
  <dc:language>en-US</dc:language>
  <cp:lastModifiedBy>КарМаН</cp:lastModifiedBy>
  <dcterms:modified xsi:type="dcterms:W3CDTF">2012-02-28T11:08:47Z</dcterms:modified>
  <cp:revision>51</cp:revision>
  <dc:subject/>
  <dc:title>Слайд 1</dc:title>
</cp:coreProperties>
</file>