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033-0A25-4B81-88C8-5DF3DDF4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C0C-4BD6-4CD3-A10E-AD306A8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3BC-D343-4879-87B7-073F097F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572-1C31-46AC-A9C9-BA2D89B4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71B-FD1A-49B1-9866-ED63F3CC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D19F-5D2E-45C7-BBED-3303F1CC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899-9172-45E7-AEAB-9FC7402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500-2788-4561-B08C-797A74D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33A-CFAE-46F2-9A78-95199BA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6B3-6194-4AA3-BA29-DC5785F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32E6-9254-4BD9-A19A-431ADEF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B5E-95EB-4DE3-BBC1-D1E9C82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57ED-14F8-4E39-9ED3-E4BAB87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D29-FD4B-4C5D-9E7E-736451C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10DA-EA45-4249-B755-70CB0268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880A-42CB-4989-9292-C23A8CC6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2D6-7586-45EF-9FEE-22F0F7A8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E28E-62D7-40CD-96C3-36FA67C3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2DDD-E396-4601-A43B-4F65D98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EEE4-E933-4FD8-A452-A2275BC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998C-6093-4C28-8CC5-2AE091E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6DE2-C886-4DEE-A28D-3776DCD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17E-1950-4389-87F5-429A986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6CD8-0144-4954-93E0-DC860AF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FA76-699B-4629-BD8C-4D227EF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6ABE-399B-42E0-B0B0-70635D6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53A6-1757-48E7-B5BB-8536DE0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CEE5-3586-4B9A-A0B6-4624630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F735-CE9A-4847-A1BD-4CB45D83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0B71-98EA-449E-A04C-67107458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2C04-4562-4F13-A60F-13BCF6A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8356-4007-4F3F-895A-82019AA8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BB2D-414E-4C70-A7C6-B850858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F2A-A9BC-409B-BDC3-65F083B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D637-5ABF-4C37-960D-080090B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482D-D89F-499F-AD9B-D6CB7FFC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AB01-4839-4A05-913B-45FF675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0A81-F97C-4250-AEC5-61123AE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9734-237B-4782-97F7-F46F84F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30F0-2AFE-42E5-B4E9-DC78F69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3B41-F4FD-4268-A8D9-8ACA3CC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29A2-0CEA-4213-A2E0-0C004E0C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4215-146D-4864-A097-E652D551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CFB5-C633-4C96-8392-B092AFA2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D97-5380-4FBB-9B2F-F8B9407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E0B2-55A2-412E-B3CE-29A8D58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7070-90D9-4A15-BF8A-78F6747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FA96-E723-4F1A-8FEF-9AD54B9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BE57-8F1B-4846-B66E-A7CC864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CEF4-5BF9-484F-AA87-BCD2BC3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5463-735B-4C98-BD08-EF32D65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21C21-340B-40D9-B9ED-8C9F27B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237BD-1170-4279-B27D-B760AE7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8A706-405C-4CC3-8A52-E8E3F87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9A51-14E7-4661-99EA-5D596C59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7D9-9DAC-4715-97DB-75B30167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2EAF-7896-441B-80DF-D79030F2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340A-497F-4C1D-91A4-1A667379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6AAD-A49E-473C-825F-0865BACF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5773-10D9-4556-A1F7-C65A7D35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0843-B000-4A9C-B412-1F63434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BFD4-1267-4464-B5DA-41BCC05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FD51A-F6BE-49B7-BBFA-8FCB9332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C09F-25B1-4262-8602-7C3723D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12E1-ED2D-4FC5-A821-AC1F46A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640F-8AAF-4E5C-9E9A-35EC3F7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B5F-9DE3-4D85-A9DD-D3FCD55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E9FF-172C-4037-A3E4-999D7C3C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AAAB-4684-4651-8479-E46D10C6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B089-48D5-4338-9D0A-C7B2ED97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2F6EE-2247-493C-B52F-1C622B82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0291-F59F-4CF0-9FAB-00F27D1C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FAE4-5662-4397-9033-254FB3F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4821-9CC9-4DE5-B539-EBC2FD98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B7AF3-08FA-4489-8D10-302BC2EA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C19E-A36E-41CF-BCC7-7D801AF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5C554-DA1B-4B96-A176-975EF1A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A06-4EE4-4A8A-88DA-12012F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ACFA4-F564-44E0-B586-EF3CC7D8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689EC-803D-4C1A-A895-93F5C5B5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7AA9-53A4-431E-8A55-EEA66CE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135A-8192-49D4-99FB-2226E66D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3592A-F956-4C18-8F13-39A3C0F6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F8B5-F57F-45E1-8CED-277B82E2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4487-3E0A-4AD1-81A7-0E8ECE17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3E64-3F1E-49A4-9F47-37B939CB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E6310-FA84-4ABD-8919-ACCB44A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2B87-E801-435E-9FC4-29DC5B4C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702-7C07-4879-8C6A-A932768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C97A-FF04-491B-822F-893CA39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5160-9310-4F56-A60D-2045AEA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7871-6187-41F3-B861-4D6BF96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0C47-8010-45B1-969C-6468FF9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8218-81F1-410A-86C2-83FBD1B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15D6-2058-4F1A-A550-B5D43FA4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5869-635A-42F2-9846-0F6CCEB6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531-484F-4CEA-9FD4-FF9D7787709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8E10-01DB-4A28-BD04-9EAF1F2DD83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4DD-4A6E-4370-8D31-57B0D1F1A83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2D94-8FCB-4E47-8801-55F64421B73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0ED-998A-48CA-8E3D-565B98114B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E22-C830-4036-9CC7-09315B65FB7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AA0-3771-420D-B9CA-F58A9F58AFD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D89-054B-4F3F-AD87-5D035F166C4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71720" y="614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КарМаН</cp:lastModifiedBy>
  <dcterms:modified xsi:type="dcterms:W3CDTF">2012-02-28T11:08:47Z</dcterms:modified>
  <cp:revision>51</cp:revision>
  <dc:subject/>
  <dc:title>Слайд 1</dc:title>
</cp:coreProperties>
</file>