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jpeg" ContentType="image/jpeg"/>
  <Override PartName="/ppt/media/image27.png" ContentType="image/png"/>
  <Override PartName="/ppt/media/image8.jpeg" ContentType="image/jpeg"/>
  <Override PartName="/ppt/media/image29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9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32.gif" ContentType="image/gif"/>
  <Override PartName="/ppt/media/image1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BC7-EEB3-47E0-A233-EBDDE5B7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05E-F0A3-4CCB-AD3D-5FB19898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921-2DB6-49DC-B16A-1895127A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327-370F-43D9-AEF1-38E2D626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C977-A581-4265-89A9-A1109A4D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135C-70B2-437D-990D-5729DA8E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D824-036C-498F-9F8A-670933A2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5DDD-8FCD-4EC5-80D6-D8D40D39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6C2D-7C7C-4A69-BA69-45067593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01CB-7E6B-408A-99DF-C69B8484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68BD-C78B-4A9F-B9C2-C38A3EF6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8D9-BFB6-4A16-85C7-76E7E269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4307-7D1E-45D6-A674-094F12EE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C15A-0FAA-4900-9A95-86E1116A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77D9-EC49-4F5D-8713-8BD6018D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4597-27CB-4004-945E-7AD4B4D9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2161-0DDC-45A6-A692-10EA2B78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5D87-F657-420B-9857-2AAE3912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129AE-3590-4349-8313-DE4E9F69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05DA6-ABC0-47B9-A7CE-CD03301C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F39A-C670-4228-9279-3062B432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E1BB9-A378-456A-906B-59F23362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5B9-37D2-472E-A83E-CCAE9419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87C6-1FDF-482F-B5B5-B57D3E5E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79C9C-B0B4-4B18-8C33-49493ED9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C55F-6BD8-432C-8EFD-217F736E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4ADA9-0E03-4ECE-837B-ED7804B3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CF51-71CB-4EBD-84D4-AB1ED1A8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2CABC-07A1-431E-B2B1-5C89EE72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F8857-2BCB-4785-8C19-8BE4940D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AF3B5-3B95-4962-B5AB-94873168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FA3C1-A256-46A5-A70A-30CEF571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6B8E0-DEA5-4C53-89B6-F77ACDA9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DF9-9D59-4CB3-AAAF-AA3B46A7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803B2-11A6-4874-82B2-088E79CF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9901B-EDB8-41C3-B8C7-A35C733C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2E23-BD41-42E0-82AA-EED55C97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31519-8FA6-4899-9ED5-DAC861E8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90FA7-99C5-48F4-ABE4-9499374B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11120-AAC2-476A-83BC-061C5883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20FA7-44FF-4716-932B-D2FF0D57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E5935-31A9-41E0-B605-7A1BA9F7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2E8DD-8EC0-4960-9624-EE5B87DB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38653-EF40-4578-8A34-5936FE4C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105-629D-404D-AF2E-2952B856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0DADB-4252-4900-A159-53B32E29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6F7A4-48E9-435C-9DB1-2CB6A2DC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B7770-98B8-44C9-A6E8-7F8FE3AB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6553A-FB3D-4245-B435-90C553B1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AB2E1-5D02-4CAB-A735-09BF04A0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2C846-C425-42B2-800F-D6649805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EC1A6-FE1C-4244-9036-F06D5F57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C9412-A1BA-4E03-AB57-4F0DC95A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DD0F2-063A-4EDE-AF9A-E72827F6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02DB3-4611-4BD7-9184-CDFB24DB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780-089A-45F4-B2BA-989E7842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ACE6D-072B-4BD3-9794-A3FCC1C0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3BBB6-DCD0-48F5-B328-566F550A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8CA82-3E2E-4BB1-B319-FAE15A2B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35C93-6D88-4532-B237-B111BF29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A66CE-260C-475E-A344-28641233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318E0-E152-4FC6-B0BE-7B4F80B7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76E5E-A137-43E6-AF8D-2B5DCCE8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C500F-5DEC-40A9-9243-B7964952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652F4-AAC9-4835-B06D-D7E6965D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A52B7-E696-470B-8544-C2F32648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F27-AF91-4D0D-9872-F1919B48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4AC96-A5D4-4967-A3C1-3FDF3773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59C07-E3F0-45F6-A5A4-A8592C95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54FE0-D5B3-4510-BB53-11D09014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8E7CA-09C9-4B6A-A576-8498086A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A45BE-F979-4BCC-AA4F-58027212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98D16-278D-4392-AEB8-0246F2BB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AB2C6-E96A-400D-B66C-0E826313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FBCA7-CA77-4DA0-8B97-B3D1BB3D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BEFE9-9A9D-4804-9A97-5CA2BAA8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8F0AE-E206-422A-B023-69223B76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420-22E5-4CFF-9020-204CD2AC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488AE-92AC-44A8-B2C1-EA046A44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DB5B9-9A14-4051-BBD4-93D54365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3E2E5-CAAC-4B90-BE51-E15D26E1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DDC3A-3D20-4128-9A5D-EB35CE03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7FCEE-B572-463A-88B8-DF827C5C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BBFC5-C09B-4679-A258-89E242EA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9790F-2930-4FF8-BBBC-643A99E6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84079-6AF9-44E5-9CC2-8C6B1B6D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ECAE2-A985-4989-9094-6F610ECE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546FA-3579-433D-B65B-DA1BFDEF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816-BC4C-49D2-A2CC-15BDCCDA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4BB54-EF7D-4888-A338-5B33EE78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25D11-66DA-48A3-9288-443F67F6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6A645-15B5-4503-BB28-06AA97E9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B68E3-A070-4D5D-9D7A-8C6D717E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0F2E0-39C8-4311-9C6F-E64AF113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A74CD-4F7F-47E3-B1ED-78BE95FC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D98E3-8457-4991-8CAC-50F53D97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788A-3455-49B6-8A7F-5D57019D85E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DF4C-F442-4D0F-AD7B-E727527AE27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85A7-2F77-4848-B19B-075B7B6DB74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97D8-5BFA-4F81-AEDB-217F98E6B9D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0A9E-B64D-4CF1-88B1-0E1B305C72F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75AB-5836-4AA0-80E5-5062A31EA41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D309-2655-4FC1-BFE9-2123892E803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3B44-67B0-4865-A953-041B71647DB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2" descr="C:\Documents and Settings\Admin\Рабочий стол\777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1214280" y="6572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1071720" y="6143760"/>
            <a:ext cx="586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ВЕРБЛЮД – « ЦАРЬ» ДОМАШНИХ ЖИВОТНЫХ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0" y="5173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ТЕМА УРОК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571760" y="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 « ОСШ  №17 С  ДМЦ»    п.Панфи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матинской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ДЖИДИ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6351480" y="-6480"/>
            <a:ext cx="2835360" cy="6870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Documents and Settings\Admin\Рабочий стол\6.JPG"/>
          <p:cNvPicPr/>
          <p:nvPr/>
        </p:nvPicPr>
        <p:blipFill>
          <a:blip r:embed="rId2"/>
          <a:stretch/>
        </p:blipFill>
        <p:spPr>
          <a:xfrm>
            <a:off x="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499920" y="4428720"/>
            <a:ext cx="51865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4443480" y="-433440"/>
            <a:ext cx="4298760" cy="72979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428640" y="214200"/>
            <a:ext cx="52578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 Black"/>
                <a:ea typeface="Arial"/>
              </a:rPr>
              <a:t>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ДРОМЕДАР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Одногорбый верблюд [дромедар]  - изначально обитал в засушливых районах Ближнего Востока до северной Индии и в Африке, преимущественно в Сахаре. Позже одногорбые верблюды были ввезены в Центральную Австралию, где распространены в пустынных областях. Масса дромедара 300-690 кг, высота в холке до 210 см, окраска коричневатая, или песочно-серая, также встречаются черные и белые особи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Характерной особенностью внешнего облика дромедара является длинная изогнутая шея, узкая грудь и единственный горб. Горб образуют жировые отложения, выполняющие роль пищевых запасов на случай необходимости, и его величина изменяется в зависимости от времени года, в голодные времена горб значительно уменьшается в размерах. Шерсть у дромедара длиннее на шее, плечах и в области горба. Ступни имеют копыта, которые прекрасно приспособлены для передвижению по пескам, однако непригодны для путешествия по острым камням, скользким поверхностям и вязкой грязи. Губы дромедара толстые, что позволяет употреблять в пищу колючие расте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11120" y="-4759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6840" y="714240"/>
            <a:ext cx="368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Дромедар - травоядное животное, питается колючими растениями, сухой травой и кустарниками - практически всем, что растет в пустыне. Он ощипывает молодые побеги, которые составляет 70% его рациона. Около 8-12 часов в день дромедар пасется и еще долгое время пережевывает пищу. Верблюды способны доставать пищу на высоте 3,5 м, обдирая ветви или съедая листья на ходу. Каждую порцию пережевывают 40-50 раз. Пока они пережевывают колючки, рот держится открытым. Животные имеют обыкновение обходить большие области и срывать несколько листьев с каждого растения. Этот тип питания уменьшает нагрузку на растения. Помимо растительной пищи дромедарам необходима соль (больше, чем другим жителям пустыни в 6-8 раз)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3" name="Picture 4" descr="C:\Documents and Settings\Admin\Рабочий стол\Новое изображение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5857920" y="1481040"/>
            <a:ext cx="2828880" cy="4525920"/>
          </a:xfrm>
          <a:prstGeom prst="rect">
            <a:avLst/>
          </a:prstGeom>
          <a:ln w="0">
            <a:noFill/>
          </a:ln>
        </p:spPr>
      </p:pic>
      <p:pic>
        <p:nvPicPr>
          <p:cNvPr id="415" name="Заголовок 2" descr=""/>
          <p:cNvPicPr/>
          <p:nvPr/>
        </p:nvPicPr>
        <p:blipFill>
          <a:blip r:embed="rId2"/>
          <a:stretch/>
        </p:blipFill>
        <p:spPr>
          <a:xfrm>
            <a:off x="6419880" y="420840"/>
            <a:ext cx="2663640" cy="5230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Documents and Settings\Admin\Рабочий стол\2.JPG"/>
          <p:cNvPicPr/>
          <p:nvPr/>
        </p:nvPicPr>
        <p:blipFill>
          <a:blip r:embed="rId3"/>
          <a:stretch/>
        </p:blipFill>
        <p:spPr>
          <a:xfrm>
            <a:off x="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9" name="Picture 2" descr="C:\Documents and Settings\Admin\Рабочий стол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357600" y="274680"/>
            <a:ext cx="232884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1" name="Picture 2" descr="C:\Documents and Settings\Admin\Рабочий стол\9.JPG"/>
          <p:cNvPicPr/>
          <p:nvPr/>
        </p:nvPicPr>
        <p:blipFill>
          <a:blip r:embed="rId1"/>
          <a:stretch/>
        </p:blipFill>
        <p:spPr>
          <a:xfrm>
            <a:off x="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Admin\Рабочий стол\рабочий стол\видео о природе\животные\иолжд.gif"/>
          <p:cNvPicPr/>
          <p:nvPr/>
        </p:nvPicPr>
        <p:blipFill>
          <a:blip r:embed="rId2"/>
          <a:stretch/>
        </p:blipFill>
        <p:spPr>
          <a:xfrm>
            <a:off x="1643040" y="1214280"/>
            <a:ext cx="6858000" cy="50007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4"/>
          <p:cNvSpPr/>
          <p:nvPr/>
        </p:nvSpPr>
        <p:spPr>
          <a:xfrm>
            <a:off x="3160800" y="6000840"/>
            <a:ext cx="33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граф № 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ние А.. В. С. на стр. 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Рисунок 3" descr="верблюд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 flipV="1" rot="10203000">
            <a:off x="570600" y="22968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onotype Corsiva"/>
              </a:rPr>
              <a:t>КОРАБЛЬ ПУСТЫ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5638680" y="268200"/>
            <a:ext cx="3054600" cy="6308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Admin\Рабочий стол\7.JPG"/>
          <p:cNvPicPr/>
          <p:nvPr/>
        </p:nvPicPr>
        <p:blipFill>
          <a:blip r:embed="rId2"/>
          <a:stretch/>
        </p:blipFill>
        <p:spPr>
          <a:xfrm>
            <a:off x="0" y="0"/>
            <a:ext cx="564372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5"/>
          <p:cNvSpPr/>
          <p:nvPr/>
        </p:nvSpPr>
        <p:spPr>
          <a:xfrm>
            <a:off x="5643720" y="714240"/>
            <a:ext cx="350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« У КОГО ЕСТЬ ВЕРБЛЮД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ТОГО ОБЕРЕГАЮТ ДУХ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«НЕ  ИЗБЕГАЙ    ТОЩЕГО ВЕРБЛЮДА-   ЭТО   ТВОЯ   УДА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НЕ  ОТКАЗЫВАЙСЯ  ОТ БРЫКЛИВОЙ  ЛОШАДИ-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ТВОИ     КРЫЛЬЯ»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ТАК   ГЛА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НАРОДНАЯ   МУДР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5" name="Picture 3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0" y="285840"/>
            <a:ext cx="3643200" cy="61912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3714480" y="213840"/>
            <a:ext cx="49719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ЕДКОМ ДОМАШНИХ ВЕРБЛЮДОВ ЯВЛЯЕТСЯ ДИКИЙ ВЕРБЛЮД . ОН БЫЛ ПРИРУЧЕН БОЛЕЕ 5000 ЛЕТ НАЗАД В ЦЕНТРАЛЬНОЙ И МАЛОЙ АЗИИ.СЕЙЧАС ВСТРЕЧАЕТСЯ (БАКТИРИАН) НЕБОЛЬШИМИ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ТАДАМИ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 ПУСТЫНЕ ГОБИ . ОТКРЫТ Н.М. ПРИЖЕВАЛЬСКИМ 1877 году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-360" y="285840"/>
            <a:ext cx="4071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Царство: Живот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Тип: Хордов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ласс: Млекопитающ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Инфракласс: Плацентар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тряд: Парнокопыт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дотряд: Мозоленог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емейство: Верблюдов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од: Верблюды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Живут  30-35 лет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од Верблюды – объединяет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редних и крупных копытных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 длиной тела 220-340 см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длиной хвоста 55-75 с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сотой в холке 180-210 см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6160" y="274680"/>
            <a:ext cx="440064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9" name="Picture 7" descr="C:\Documents and Settings\Admin\Рабочий стол\8.JPG"/>
          <p:cNvPicPr/>
          <p:nvPr/>
        </p:nvPicPr>
        <p:blipFill>
          <a:blip r:embed="rId1"/>
          <a:stretch/>
        </p:blipFill>
        <p:spPr>
          <a:xfrm>
            <a:off x="4214880" y="533520"/>
            <a:ext cx="4471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6010200" y="268200"/>
            <a:ext cx="2755800" cy="58834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7429680" y="3571920"/>
            <a:ext cx="1257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5114880" y="-6480"/>
            <a:ext cx="4138560" cy="68709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5"/>
          <p:cNvSpPr/>
          <p:nvPr/>
        </p:nvSpPr>
        <p:spPr>
          <a:xfrm>
            <a:off x="1000080" y="5357880"/>
            <a:ext cx="756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5529240" y="-19080"/>
            <a:ext cx="3213000" cy="6170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C:\Documents and Settings\Admin\Рабочий стол\5.JPG"/>
          <p:cNvPicPr/>
          <p:nvPr/>
        </p:nvPicPr>
        <p:blipFill>
          <a:blip r:embed="rId2"/>
          <a:stretch/>
        </p:blipFill>
        <p:spPr>
          <a:xfrm>
            <a:off x="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0" name="Picture 2" descr="C:\Documents and Settings\Admin\Рабочий стол\верблюды\0001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35788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3"/>
          <p:cNvSpPr/>
          <p:nvPr/>
        </p:nvSpPr>
        <p:spPr>
          <a:xfrm flipV="1" rot="10800000">
            <a:off x="4142880" y="5373720"/>
            <a:ext cx="5000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ведение верблюдов очень выгодная отрасль экономики в животноводстве. Круглый год верблюды кормятся на пастбищах, а в зимнее время их кормят сеном. Но, а во время спаривания, подкармливают концентрированным кормом. Пить верблюдам дают всего раз в сутки зимой и два раза в сутки л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7:38:55Z</dcterms:created>
  <dc:creator>User</dc:creator>
  <dc:description/>
  <dc:language>en-US</dc:language>
  <cp:lastModifiedBy>КарМаН</cp:lastModifiedBy>
  <dcterms:modified xsi:type="dcterms:W3CDTF">2012-02-28T11:08:47Z</dcterms:modified>
  <cp:revision>51</cp:revision>
  <dc:subject/>
  <dc:title>Слайд 1</dc:title>
</cp:coreProperties>
</file>