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7BA2-845C-4092-BA91-60C86F4B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4DE7-A6FD-4273-B01D-0E15054B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2A8C-3DA9-4161-9954-D7476C42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1BB6-9CBC-487C-BD51-0D0284BF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1903-0635-40DC-A404-2E075573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D6EF-C42B-4ACC-834B-E347A488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9366-8A21-4035-9D75-5B53C424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B580-C174-4ACA-9F15-51399659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764E-EFEC-412F-BE30-ECF73FD8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DD77-AAB5-4D0B-B32D-9F4514B3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9155-F99E-451A-A97E-757B6AEF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DF2E-93CE-4C0E-8EDE-3CC84CEE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8177-983A-4105-A6FA-90D04C3AF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19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ten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133360"/>
            <a:ext cx="9144000" cy="316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ке тенис появился в россии . В 1860 году в питербурге открылся клуб «крикет и лаун –тенис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716280"/>
            <a:ext cx="4608360" cy="3141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64000" y="3887640"/>
            <a:ext cx="4680000" cy="297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97960" cy="981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25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е правила игры были созданы в англии . Одна партия ве. лась до 30 очков . Интересна была форма участников . Строгая вечерняя женчины в длинных платьях ; мужчины в смокингах .несомненно , главным усовершествованием был полый мяч . Вот одна из версий его возникновени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484520"/>
            <a:ext cx="4716360" cy="2373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19640" y="4471920"/>
            <a:ext cx="392436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74160" y="-719280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00 году игрок по имени джеймс гибб в америке натолкнулся на маленькие полые цветные шарики – детские игрушки . По возвращении в англию он попробовал подобный полый шарик на столе и обнаружил , что он имеет огробное преимущество перед цель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556080"/>
            <a:ext cx="5003640" cy="3301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3924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8360" y="-7048080"/>
            <a:ext cx="792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« пинг –понг « было зарегистрировано в 1901 году (оно пришло на смену таким названиям ка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ssi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im –flam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f –whaf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жоном джаквесом и продано братьям паркер.оно получилось из сочетания двух звуков : пинг-звук , издаваемый мячом , когда он ударяется о ракетку , и понг –когда мяч отскакивает от стола 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4389480"/>
            <a:ext cx="3851280" cy="2468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48360" y="3933720"/>
            <a:ext cx="3995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0" y="-7826040"/>
            <a:ext cx="3873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нглии пинг-понг как спорт признали еще в начале 1900 года, когда было проведено первое официальное соревнование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тем в 1901 году официальный турнир состоялся в Инди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Его можно считать первым международным соревнованием. Победил один из лучших игроков того времени индийский спортсмен Нандо. Из Англии игра пришла в Австро-Венгрию, в ту часть Европы, которая сегодня является Венгрией, затем в Германию, Чехословакию. В Берлине на Виктория-платц открылось кафе "Пинг-понг". Чуть позднее такие заведения появились в Вене, Праге и других городах Европ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612360" y="10053720"/>
            <a:ext cx="147600" cy="69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0909440" y="11720520"/>
            <a:ext cx="502920" cy="3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85440" y="-1057572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агодаря энергичной деятельности доктора Георга Лемана (Германия) в Берлине в январ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26 года была созда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ждународная федерация настольного тениса –ИТТФ . Первый конгресс- ИТТФ и первый чемпионат мира состоялся в лондоне в декабре 1927 года . В 1928 году в соревнованиях стали участвовать женские пары . С тех пор первенства мира проводились каждый год , за исключением 1940-1946 годов.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5080" y="-31248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7280" y="4859280"/>
            <a:ext cx="3276720" cy="1998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5361120"/>
            <a:ext cx="320364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-5234040"/>
            <a:ext cx="824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36000" cy="3701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755880"/>
            <a:ext cx="665964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06:28:23Z</dcterms:created>
  <dc:creator>Admin</dc:creator>
  <dc:description/>
  <dc:language>en-US</dc:language>
  <cp:lastModifiedBy>Admin</cp:lastModifiedBy>
  <dcterms:modified xsi:type="dcterms:W3CDTF">2012-02-19T12:12:57Z</dcterms:modified>
  <cp:revision>3</cp:revision>
  <dc:subject/>
  <dc:title>Table tenis </dc:title>
</cp:coreProperties>
</file>