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35C-A753-49FA-B3F1-C89F35B8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382-6E4E-47F3-A983-FE214B7F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0CB-27FC-4774-AE10-F5083736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51B-7936-43BF-8FA6-2A3CE3B3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CB4-E73F-4D2A-A349-1157D436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690-188E-4910-A71D-72558063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894-1D24-4493-ADE8-4125CA05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02C-6C5C-428C-9EC8-51E519FA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6A7-682F-4749-BE13-18792E3E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9F4-4B45-4311-B8E7-24699DC7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88F-1C88-47CA-8EC8-AE54F2F5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D65B-B49F-43E4-893D-21329AD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9736-2698-41BD-944C-987B67CF2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1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ten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31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е тенис появился в россии . В 1860 году в питербурге открылся клуб «крикет и лаун –тенис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4608360" cy="314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64000" y="3887640"/>
            <a:ext cx="4680000" cy="29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97960" cy="981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е правила игры были созданы в англии . Одна партия ве. лась до 30 очков . Интересна была форма участников . Строгая вечерняя женчины в длинных платьях ; мужчины в смокингах .несомненно , главным усовершествованием был полый мяч . Вот одна из версий его возникнов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484520"/>
            <a:ext cx="4716360" cy="237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4471920"/>
            <a:ext cx="392436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74160" y="-71928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00 году игрок по имени джеймс гибб в америке натолкнулся на маленькие полые цветные шарики – детские игрушки . По возвращении в англию он попробовал подобный полый шарик на столе и обнаружил , что он имеет огробное преимущество перед ц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556080"/>
            <a:ext cx="5003640" cy="3301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924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8360" y="-7048080"/>
            <a:ext cx="79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« пинг –понг « было зарегистрировано в 1901 году (оно пришло на смену таким названиям ка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ssi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m –fla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f –whaf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жоном джаквесом и продано братьям паркер.оно получилось из сочетания двух звуков : пинг-звук , издаваемый мячом , когда он ударяется о ракетку , и понг –когда мяч отскакивает от стола 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389480"/>
            <a:ext cx="3851280" cy="2468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3933720"/>
            <a:ext cx="3995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0" y="-7826040"/>
            <a:ext cx="387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нглии пинг-понг как спорт признали еще в начале 1900 года, когда было проведено первое официальное соревнование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тем в 1901 году официальный турнир состоялся в Инд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го можно считать первым международным соревнованием. Победил один из лучших игроков того времени индийский спортсмен Нандо. Из Англии игра пришла в Австро-Венгрию, в ту часть Европы, которая сегодня является Венгрией, затем в Германию, Чехословакию. В Берлине на Виктория-платц открылось кафе "Пинг-понг". Чуть позднее такие заведения появились в Вене, Праге и других городах Евро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612360" y="10053720"/>
            <a:ext cx="147600" cy="6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909440" y="11720520"/>
            <a:ext cx="50292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85440" y="-1057572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я энергичной деятельности доктора Георга Лемана (Германия) в Берлине в январ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6 года была созда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ждународная федерация настольного тениса –ИТТФ . Первый конгресс- ИТТФ и первый чемпионат мира состоялся в лондоне в декабре 1927 года . В 1928 году в соревнованиях стали участвовать женские пары . С тех пор первенства мира проводились каждый год , за исключением 1940-1946 годов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5080" y="-31248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4859280"/>
            <a:ext cx="3276720" cy="1998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5361120"/>
            <a:ext cx="320364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52340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6000" cy="3701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755880"/>
            <a:ext cx="6659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6:28:23Z</dcterms:created>
  <dc:creator>Admin</dc:creator>
  <dc:description/>
  <dc:language>en-US</dc:language>
  <cp:lastModifiedBy>Admin</cp:lastModifiedBy>
  <dcterms:modified xsi:type="dcterms:W3CDTF">2012-02-19T12:12:57Z</dcterms:modified>
  <cp:revision>3</cp:revision>
  <dc:subject/>
  <dc:title>Table tenis </dc:title>
</cp:coreProperties>
</file>