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7344-16C5-470E-B335-101DBE0D8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04B5-4170-43B8-839C-A6BF0656E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3061-FBDE-4EE4-9DE4-5FB65FF63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B1BA-313A-4FA6-9639-774249BC7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7093-B9EB-4F45-B7FE-2F930AA24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C203-6A67-4F6D-AFA8-D574E47FE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7973-1827-4B19-9FCC-43C631FA2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E6B2-E449-4A76-B476-897925D1C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FC41-7531-487A-BB67-95CA44483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A693-A8DD-4258-A410-83CF1964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51AF-ECCF-4FA9-B7B5-10FA840F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148B-CA9C-4A0F-B791-DB9BEEE1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3223B-BEFB-4F8C-A4F5-657DB1DAD0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019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 ten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2133360"/>
            <a:ext cx="9144000" cy="316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ке тенис появился в россии . В 1860 году в питербурге открылся клуб «крикет и лаун –тенис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3716280"/>
            <a:ext cx="4608360" cy="3141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464000" y="3887640"/>
            <a:ext cx="4680000" cy="297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697960" cy="981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авила иг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257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вые правила игры были созданы в англии . Одна партия ве. лась до 30 очков . Интересна была форма участников . Строгая вечерняя женчины в длинных платьях ; мужчины в смокингах .несомненно , главным усовершествованием был полый мяч . Вот одна из версий его возникновения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4484520"/>
            <a:ext cx="4716360" cy="2373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219640" y="4471920"/>
            <a:ext cx="392436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074160" y="-7192800"/>
            <a:ext cx="698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900 году игрок по имени джеймс гибб в америке натолкнулся на маленькие полые цветные шарики – детские игрушки . По возвращении в англию он попробовал подобный полый шарик на столе и обнаружил , что он имеет огробное преимущество перед цель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556080"/>
            <a:ext cx="5003640" cy="3301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219640" y="3500280"/>
            <a:ext cx="39243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8360" y="-7048080"/>
            <a:ext cx="792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« пинг –понг « было зарегистрировано в 1901 году (оно пришло на смену таким названиям как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ssia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im –flam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f –whaf)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жоном джаквесом и продано братьям паркер.оно получилось из сочетания двух звуков : пинг-звук , издаваемый мячом , когда он ударяется о ракетку , и понг –когда мяч отскакивает от стола 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4389480"/>
            <a:ext cx="3851280" cy="24685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148360" y="3933720"/>
            <a:ext cx="399564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0" y="-7826040"/>
            <a:ext cx="38736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Англии пинг-понг как спорт признали еще в начале 1900 года, когда было проведено первое официальное соревнование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тем в 1901 году официальный турнир состоялся в Инди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Его можно считать первым международным соревнованием. Победил один из лучших игроков того времени индийский спортсмен Нандо. Из Англии игра пришла в Австро-Венгрию, в ту часть Европы, которая сегодня является Венгрией, затем в Германию, Чехословакию. В Берлине на Виктория-платц открылось кафе "Пинг-понг". Чуть позднее такие заведения появились в Вене, Праге и других городах Европ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612360" y="10053720"/>
            <a:ext cx="147600" cy="69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0909440" y="11720520"/>
            <a:ext cx="502920" cy="37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685440" y="-10575720"/>
            <a:ext cx="698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лагодаря энергичной деятельности доктора Георга Лемана (Германия) в Берлине в январ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926 года была созда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еждународная федерация настольного тениса –ИТТФ . Первый конгресс- ИТТФ и первый чемпионат мира состоялся в лондоне в декабре 1927 года . В 1928 году в соревнованиях стали участвовать женские пары . С тех пор первенства мира проводились каждый год , за исключением 1940-1946 годов.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5080" y="-31248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867280" y="4859280"/>
            <a:ext cx="3276720" cy="1998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5361120"/>
            <a:ext cx="3203640" cy="14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-5234040"/>
            <a:ext cx="824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236000" cy="37018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3755880"/>
            <a:ext cx="6659640" cy="31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9T06:28:23Z</dcterms:created>
  <dc:creator>Admin</dc:creator>
  <dc:description/>
  <dc:language>en-US</dc:language>
  <cp:lastModifiedBy>Admin</cp:lastModifiedBy>
  <dcterms:modified xsi:type="dcterms:W3CDTF">2012-02-19T12:12:57Z</dcterms:modified>
  <cp:revision>3</cp:revision>
  <dc:subject/>
  <dc:title>Table tenis </dc:title>
</cp:coreProperties>
</file>