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A70-1C04-49B7-BB83-E4D33189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26E-52EE-4DEA-9A1D-59C61E6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909-77EF-419B-B629-B1EACBE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E2D-C89E-4EAF-ABAC-AE39030E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DF3-D539-4C13-83DD-C9CE40D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EB0-9FEB-480D-BE4E-FB36F557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29D-07C6-4378-8F5A-A9DA7F4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378-493A-48B6-9018-D3B699E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7A4-F536-4859-8525-D486E3EE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F7E-E256-48A5-AB7A-D95C78A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AA4-42DD-4BB2-9EB0-2522F47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E11-525A-4422-B5FE-7F99A69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680-7994-4C6B-AEDB-76416315F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7" descr="5"/>
          <p:cNvPicPr/>
          <p:nvPr/>
        </p:nvPicPr>
        <p:blipFill>
          <a:blip r:embed="rId3"/>
          <a:stretch/>
        </p:blipFill>
        <p:spPr>
          <a:xfrm>
            <a:off x="3119400" y="1989000"/>
            <a:ext cx="2905200" cy="4456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634920" y="333360"/>
            <a:ext cx="5257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 — веник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ала хозяйке "вымести сор из избы". Конечно, это был не материальный мусор, а сор, из-за которого происходили ссоры, разлад в доме. Изготавливалась она, как правило, из трав, соломы, лыка. Одежда куклы состояла из сарафанчика и платочка. По наряду куклы можно было определить место ее «рождения». Данная кукла бытовала в центральных и южных губер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3"/>
          <p:cNvPicPr/>
          <p:nvPr/>
        </p:nvPicPr>
        <p:blipFill>
          <a:blip r:embed="rId1"/>
          <a:stretch/>
        </p:blipFill>
        <p:spPr>
          <a:xfrm>
            <a:off x="395280" y="907920"/>
            <a:ext cx="3270240" cy="482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уклы-</a:t>
            </a:r>
            <a:r>
              <a:rPr b="0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Двенадцать куколок, спеленутые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SCN1712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380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рядовые ку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то достаточно распространенная категория народной игрушки. Такие куклы, выполненные из различных материалов, достаточно несложные по технологии, связаны с передачей ребенку космогонических, нравственных, символических и мифологических знаний. Обрядовые куклы в своем роде очень уникальны, так как содержат символические знания предыдущих поколений. Они были созданы людьми для обрядовых, культовых и магических целей. Они существуют у большинства народов мира и используются как в языческой, так и в христианской религии. Применяются для различных магических риту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0920" y="393336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народов России куклы использовались в различных обрядах и праздниках народного календаря. Куклы во многом были связа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севозможными обрядами во время проведения праз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DSCN118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332160" y="333360"/>
            <a:ext cx="2478240" cy="3313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Picture 9" descr="DSCN1828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300720" y="333360"/>
            <a:ext cx="2478240" cy="331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9" name="Picture 10" descr="DSCN176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8360" y="333360"/>
            <a:ext cx="245736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572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кла-Стригушка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ыла связана с богатым урожаем. Стригушки делали из соломы, лыка, отходов льнопроизводства. Иногда ее одевали, но иногда ее украшали цветными шерстяными нитками. Соломенные куклы, сделанные из первого «именного» снопа, считались священ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7"/>
          <p:cNvPicPr/>
          <p:nvPr/>
        </p:nvPicPr>
        <p:blipFill>
          <a:blip r:embed="rId1"/>
          <a:stretch/>
        </p:blipFill>
        <p:spPr>
          <a:xfrm>
            <a:off x="5003640" y="907920"/>
            <a:ext cx="3697560" cy="4969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780000" y="259920"/>
            <a:ext cx="5122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 рождественскими обрядами была связана необычн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Коза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Выполнялась данная кукла на крестообразной основе, а лицо, рога и борода были сделаны из лыка. "Коза" была наряжена в красивое платье и имела на себе обрядовые предметы: колокольчики, бусы, серьги, колечки и мешочки с травами. Данная кукла использовалась в обрядах колядовани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"/>
          <p:cNvPicPr/>
          <p:nvPr/>
        </p:nvPicPr>
        <p:blipFill>
          <a:blip r:embed="rId1"/>
          <a:stretch/>
        </p:blipFill>
        <p:spPr>
          <a:xfrm>
            <a:off x="324000" y="1341360"/>
            <a:ext cx="344628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24360" y="1052280"/>
            <a:ext cx="496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естец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тавили её у ведра с водой, обязательно освящённой. Считалось, что в эти дни вода была святой. Кукла была выполнена на крестообразной основе, её украшали тесёмочками и ленточ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"/>
          <p:cNvPicPr/>
          <p:nvPr/>
        </p:nvPicPr>
        <p:blipFill>
          <a:blip r:embed="rId1"/>
          <a:stretch/>
        </p:blipFill>
        <p:spPr>
          <a:xfrm>
            <a:off x="395280" y="1052640"/>
            <a:ext cx="3249720" cy="45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546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чень необычными бы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оликие пасхальные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клы, которых делали к Вербному воскресению, обязательно из красного лоскута. Их дарили на счастье, радость, она могла присутствовать на пасхальном столе вместе с пасхальными дарами, а затем эти куклы отдавали паломникам (на следующий год таких кукол делали нов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6"/>
          <p:cNvPicPr/>
          <p:nvPr/>
        </p:nvPicPr>
        <p:blipFill>
          <a:blip r:embed="rId1"/>
          <a:stretch/>
        </p:blipFill>
        <p:spPr>
          <a:xfrm>
            <a:off x="5292720" y="836640"/>
            <a:ext cx="355752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4260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омашняя Масл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асленичную неделю такую куклу вывешивали за окно. Это было знаком того, что теща ждала зятя и дочь в гости на блины.  Чаще всего  таких кукол изготавливали из соломы и лыка. Лицо обтягивали льняной тканью и одевали в традиционный 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"/>
          <p:cNvPicPr/>
          <p:nvPr/>
        </p:nvPicPr>
        <p:blipFill>
          <a:blip r:embed="rId1"/>
          <a:stretch/>
        </p:blipFill>
        <p:spPr>
          <a:xfrm>
            <a:off x="4859280" y="836640"/>
            <a:ext cx="3898800" cy="5327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27280" y="549360"/>
            <a:ext cx="47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 праздник Ивана Купалы делали на крестообразной основе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па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наряжали в женские одежды (рубаху, сарафан, пояс). На руки Купавки вешали ленточки — заветные девичьи желания, потом их отправляли плыть по реке. Ленточки, плывущие по реке, забирали с собой несчастья и невзгоды. Кукла "Купавк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981000"/>
            <a:ext cx="3592800" cy="489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724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Лицо, как правило, не обозначалось, оставалось белым. Кукла без лица считалась предметом неодушевленным, недоступным для вселения в него злых, недобрых сил, а значит, и безвредным для ребенка. Она должна была принести ему благополучие, здоровье, радость. Это было чудо: из нескольких тряпочек, без рук, без ног, без обозначенного лица передавался характер куклы. Кукла была многолика, она могла смеяться и плак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DSCN17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867280" y="1773360"/>
            <a:ext cx="3095640" cy="413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84360" y="549000"/>
            <a:ext cx="460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сятиручк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кукла, предназначенная молодухе (девушке, недавно вышедшей замуж). Такую куклу часто дарили невесте на свадьбу, чтобы она всё успевала, и всё у неё в семье ладилось. Традиционно эту куклу делали из травы, соломы, лыка и красиво оформля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468360" y="692280"/>
            <a:ext cx="3600360" cy="525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8000" y="54900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84400" y="5168880"/>
            <a:ext cx="497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0920" y="3429000"/>
            <a:ext cx="864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презентации использованы фото кукол мастера из г. Петрозаводска Яшковой Т.Б., сканированные изображения из книги И. Н. Котовой, А. С. Котовой «Русские обряды и традиции. Народная кукла», СПб, «Паритет»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1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уклы-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оберег или берегиня. Как правило, самыми охранными были куклы, выполненные без иглы и ножниц. Ткань старались при изготовлении кукол не резать, а рвать (иногда кукол так и называли — "рванк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DSCN171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948360" y="4292640"/>
            <a:ext cx="1725840" cy="2305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Picture 9" descr="DSCN1754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987640" y="4292640"/>
            <a:ext cx="3198960" cy="239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Picture 11" descr="DSCN1709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1280" y="4292640"/>
            <a:ext cx="1589040" cy="234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щё до рождения ребёнка делали куколку и укладывали в колыбельку, чтобы кукла "обогрела" её для будущего малыша. Когда малыш появлялся на свет, кукла и тогда не расставалась с ним. Чтобы малыш крепко и спокойно спал, приговаривала мать: "Сонница- бессонница, не играй с моим дитятком, а играй с этой куколкой". Кукла отвлекала на себя злые духи, оберегая ребёночка. Тряпичную куклу-берегиню, сделанную своими руками, мать дарила дочери перед свадьбой, благословляя её на замужество. Обереги давали сыну, который отправлялся на службу в армию, мужу — в дорогу. В крестьянских семьях кукол было много, их не разбрасывали, ими дорожили, их берегли. Крестьяне считали, что чем больше кукол, тем больше в семье сча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esson"/>
          <p:cNvPicPr/>
          <p:nvPr/>
        </p:nvPicPr>
        <p:blipFill>
          <a:blip r:embed="rId1"/>
          <a:stretch/>
        </p:blipFill>
        <p:spPr>
          <a:xfrm>
            <a:off x="6227640" y="4581360"/>
            <a:ext cx="916200" cy="198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Picture 6" descr="DSCN1842"/>
          <p:cNvPicPr/>
          <p:nvPr/>
        </p:nvPicPr>
        <p:blipFill>
          <a:blip r:embed="rId2"/>
          <a:stretch/>
        </p:blipFill>
        <p:spPr>
          <a:xfrm>
            <a:off x="2556000" y="4581360"/>
            <a:ext cx="2736720" cy="204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554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еленашка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— древнейшая кукла-оберег. Пеленашка находилась в люльке до крещения ребёнка (При крещении младенец приобретал статус человека). Эту куклу хранили в семье вместе с крестильной рубашкой. Кукла была легка в изготовлении, для неё использовались куски ношеной, чаще домотканой одежды. Спеленутая кукла могла быть использована детьми в игра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SCN1742"/>
          <p:cNvPicPr/>
          <p:nvPr/>
        </p:nvPicPr>
        <p:blipFill>
          <a:blip r:embed="rId1"/>
          <a:stretch/>
        </p:blipFill>
        <p:spPr>
          <a:xfrm>
            <a:off x="6300720" y="620640"/>
            <a:ext cx="231624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737080" cy="210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140360" y="620640"/>
            <a:ext cx="4752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Широкое распространение на Севере России имела кукла —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ерестуш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укла была изготовлена из бересты, свёрнутой в трубочку. Внутрь вкладывалась молитва (или заговор). Это был сильный оберег. Как правило, эту куклу делала для ребёнка и дарила ему родная бабушка (поэтому её иногда называ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абушкина кукл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"/>
          <p:cNvPicPr/>
          <p:nvPr/>
        </p:nvPicPr>
        <p:blipFill>
          <a:blip r:embed="rId1"/>
          <a:stretch/>
        </p:blipFill>
        <p:spPr>
          <a:xfrm>
            <a:off x="395280" y="476280"/>
            <a:ext cx="3462480" cy="568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60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ажным моментом в жизни человека является свадьба. На этот случай существовала специальная обрядовая кукл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Парочка»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огда такую куклу называл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разлучники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У женской и мужской фигуры общая рука — символ крепкого брачного союза. Свадебную «Парочку» изготавливали из трех красных лоскутов одного размера. Куклу дарили молодым на свадьбе, закрепленную на полотенце. Когда рождался в молодой семье первый ребенок, полотенцем начинали пользоваться, а куклу давали ребенку или хранили всю жизнь как оберег семьи 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"/>
          <p:cNvPicPr/>
          <p:nvPr/>
        </p:nvPicPr>
        <p:blipFill>
          <a:blip r:embed="rId1"/>
          <a:stretch/>
        </p:blipFill>
        <p:spPr>
          <a:xfrm>
            <a:off x="5940360" y="981000"/>
            <a:ext cx="3025800" cy="273528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1" name="Picture 5" descr="Svadebnaya"/>
          <p:cNvPicPr/>
          <p:nvPr/>
        </p:nvPicPr>
        <p:blipFill>
          <a:blip r:embed="rId2"/>
          <a:stretch/>
        </p:blipFill>
        <p:spPr>
          <a:xfrm>
            <a:off x="6659640" y="4365720"/>
            <a:ext cx="2160360" cy="1963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507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ернушк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— кукла, которая символизировала достаток в доме, была своего рода оберегом семьи. Иногда ее называ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зернов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крупеничк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Делали эту куклу после сбора урожая. В основе этой куклы- мешочек, наполненный зерном. Также эту куклу могла делать женщина, чтобы у неё были дети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кла символизировала достаток, благополучие в семье.  Бытовала в районах, где выращивали злаковые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укла3"/>
          <p:cNvPicPr/>
          <p:nvPr/>
        </p:nvPicPr>
        <p:blipFill>
          <a:blip r:embed="rId1"/>
          <a:stretch/>
        </p:blipFill>
        <p:spPr>
          <a:xfrm>
            <a:off x="250920" y="4076640"/>
            <a:ext cx="170820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4" name="Picture 8" descr="DSCN178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333360"/>
            <a:ext cx="4105440" cy="28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Picture 10" descr=""/>
          <p:cNvPicPr/>
          <p:nvPr/>
        </p:nvPicPr>
        <p:blipFill>
          <a:blip r:embed="rId3"/>
          <a:stretch/>
        </p:blipFill>
        <p:spPr>
          <a:xfrm>
            <a:off x="2479680" y="3860640"/>
            <a:ext cx="1805040" cy="2735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6" name="Text Box 11"/>
          <p:cNvSpPr/>
          <p:nvPr/>
        </p:nvSpPr>
        <p:spPr>
          <a:xfrm>
            <a:off x="250920" y="342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ерн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9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— оберег жилища, называема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День и Ночь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Как правило, её делали под Новый год. Она была изготовлена из тканей темных и светлых тонов. Светлая ткань символизировала день, а темная ткань—ночь. Рано утром, ежедневно её поворачивали светлой стороной (на день), а вечером- темной (на ночь).  Говорили: «День прошел, и слава Богу, пусть так же пройдет и ноч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6443640" y="476280"/>
            <a:ext cx="2449440" cy="244944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9" name="Picture 6" descr="8"/>
          <p:cNvPicPr/>
          <p:nvPr/>
        </p:nvPicPr>
        <p:blipFill>
          <a:blip r:embed="rId2"/>
          <a:stretch/>
        </p:blipFill>
        <p:spPr>
          <a:xfrm>
            <a:off x="6516720" y="3429000"/>
            <a:ext cx="23256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User</cp:lastModifiedBy>
  <dcterms:modified xsi:type="dcterms:W3CDTF">2010-01-27T01:22:39Z</dcterms:modified>
  <cp:revision>18</cp:revision>
  <dc:subject/>
  <dc:title>Слайд 1</dc:title>
</cp:coreProperties>
</file>