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C11-51D3-4B24-98BA-18D47884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2A8-BC98-4509-BCC4-4C06DC7D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462-CBED-4E31-A52C-ABC492AF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C63-A4B5-4DE8-97E2-705DA2A5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0194-CB44-4FC3-BEFD-02623E6D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140C-4145-4215-81EF-EE154748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AA36-A242-4F45-9757-7AE5C6AD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17E1-562F-4FC3-A55A-384416F6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659B-424B-405E-9D1E-EC7014EE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C03B-E59A-4184-BB80-0DF1B451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10A2-BC57-4B7F-B4F5-7E5993D6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00D-8923-40A3-98CF-98A88A32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297D-C24D-421D-AF7D-1A65F9EC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DA6A-957B-43CF-BD42-73DC890C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0B58-E700-465D-94F2-A6CF6E93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59F8-68B9-4006-A74C-2623334A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5B7A-6A3C-4275-AB57-D1BE9BD2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F0B-4C55-4142-BA5B-E04542BB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18B-8278-466C-A4C3-F556E6FA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26C-2EDA-428D-AF34-494AA88B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FAE-191C-453C-8685-AF38F263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0D4-868A-4111-9F96-E737FF98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F53-3F95-4989-97A1-3CEAC1AD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E02-AB5F-4D29-8512-F9ED073A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8897-14CA-4CDB-96F9-58C548A2693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191D-FCB0-487B-AD3D-6F2D0D7F71A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Наде́жда Алексе́евна Чепра́г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2208240" cy="24588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де́жда Алексе́евна Чепра́га (молд. Nadejda Cepraga; род. 1 сентября 1956, Распопены, Молдавская ССР) — молдавская советская эстрадная певиц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Односельчане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1433520" cy="1596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Односельчане очень любили её и старались помочь ей во всем, готовы были работать за неё в поле, лишь бы она приехала к ним с концерто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«Экран собирает друзей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984400" y="1984320"/>
            <a:ext cx="1379520" cy="1535040"/>
            <a:chOff x="2984400" y="1984320"/>
            <a:chExt cx="1379520" cy="153504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2984400" y="1984320"/>
              <a:ext cx="137952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 txBox="1"/>
            <p:nvPr/>
          </p:nvSpPr>
          <p:spPr>
            <a:xfrm>
              <a:off x="2984400" y="1984320"/>
              <a:ext cx="1379520" cy="153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скоре Надежда принимает участие в передаче Центрального телевидения «Экран собирает друзей». После этого её пригласили в оркестр Центрального Телевидения и Всесоюзного радио под управлением Ю. В. Силантьева, вместе с которым она записала для первомайского «Голубого огонька» свою первую песню «Весёлая свадьба»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Золотая медаль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273480" y="1770120"/>
            <a:ext cx="1185840" cy="1320840"/>
            <a:chOff x="3273480" y="1770120"/>
            <a:chExt cx="1185840" cy="1320840"/>
          </a:xfrm>
        </p:grpSpPr>
        <p:pic>
          <p:nvPicPr>
            <p:cNvPr id="254" name="" descr=""/>
            <p:cNvPicPr/>
            <p:nvPr/>
          </p:nvPicPr>
          <p:blipFill>
            <a:blip r:embed="rId1"/>
            <a:stretch/>
          </p:blipFill>
          <p:spPr>
            <a:xfrm>
              <a:off x="3273480" y="1770120"/>
              <a:ext cx="118584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 txBox="1"/>
            <p:nvPr/>
          </p:nvSpPr>
          <p:spPr>
            <a:xfrm>
              <a:off x="3273480" y="1770120"/>
              <a:ext cx="1185840" cy="1320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1972 году Народный артист СССР И. М. Туманов пригласил Надежду Чепрагу на гастроли во Францию, где она участвует в фестивале народной песни и получает на нём Золотую медаль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Конкурс фолк-музык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482920" y="1984320"/>
            <a:ext cx="1762200" cy="1965240"/>
            <a:chOff x="2482920" y="1984320"/>
            <a:chExt cx="1762200" cy="196524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2482920" y="1984320"/>
              <a:ext cx="176220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 txBox="1"/>
            <p:nvPr/>
          </p:nvSpPr>
          <p:spPr>
            <a:xfrm>
              <a:off x="2482920" y="1984320"/>
              <a:ext cx="1762200" cy="19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песней «Парень из Парижа» она дебютирует в зале «Олимпия». В 1973 году 17-летняя Надежда Чепрага выступает на X Всемирном фестивале молодёжи и студентов в Берлине. За песню «Дойна» она получила звание лауреата и Золотую медаль в конкурсе фолк-музык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«Весна — ровесница любви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том же году вышла первая пластинка-миньон «Струны гитары» с песней Евгения Доги на слова В. Лазарева «Весна — ровесница любви» в исполнении Надежды Чепраг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840040" y="1770120"/>
            <a:ext cx="1327320" cy="1789200"/>
            <a:chOff x="2840040" y="1770120"/>
            <a:chExt cx="1327320" cy="178920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2840040" y="1770120"/>
              <a:ext cx="132732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 txBox="1"/>
            <p:nvPr/>
          </p:nvSpPr>
          <p:spPr>
            <a:xfrm>
              <a:off x="2840040" y="1770120"/>
              <a:ext cx="1327320" cy="17892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Солистка оркестр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913120" y="1770120"/>
            <a:ext cx="1569960" cy="17492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дежда Чепрага была солисткой эстрадно-симфонического оркестра республиканского Гостелерадио, где проработала 10 лет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Музыкальное училище им. Штефана Няг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984400" y="1770120"/>
            <a:ext cx="1443240" cy="1608120"/>
            <a:chOff x="2984400" y="1770120"/>
            <a:chExt cx="1443240" cy="1608120"/>
          </a:xfrm>
        </p:grpSpPr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2984400" y="1770120"/>
              <a:ext cx="144324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 txBox="1"/>
            <p:nvPr/>
          </p:nvSpPr>
          <p:spPr>
            <a:xfrm>
              <a:off x="2984400" y="1770120"/>
              <a:ext cx="1443240" cy="16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1973—1977 годах она училась в музыкальном училище им. Штефана Няги на факультетах вокала хорового дирижир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Консерватория имени Гавриила Музическу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1977—1982 годах — учится в консерватории имени Гавриила Музическу в Кишинёве по классу вокала и хорового дирижирова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52760" y="1698480"/>
            <a:ext cx="1774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Конкурсы…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913120" y="2270160"/>
            <a:ext cx="1312920" cy="1461960"/>
            <a:chOff x="2913120" y="2270160"/>
            <a:chExt cx="1312920" cy="1461960"/>
          </a:xfrm>
        </p:grpSpPr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2913120" y="2270160"/>
              <a:ext cx="13129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 txBox="1"/>
            <p:nvPr/>
          </p:nvSpPr>
          <p:spPr>
            <a:xfrm>
              <a:off x="2913120" y="2270160"/>
              <a:ext cx="1312920" cy="146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В эти годы певица принимает участие в многочисленных конкурсах, фестивалях, телепередачах. Она становится лауреатом фестиваля «Башни Вильнюса-74» (Литовская ССР), дипломантом конкурса «С песней по жизни» (1976, специальный приз за артистичность и телегеничность), лауреатом телефестиваля «Звезда Болгарии», победительницей фестиваля «Интерталант» (1977, Чехословакия), лауреатом Всемирных фестивалей молодёжи и студентов в Берлине (1973), Гаване (1978), Москве (1985, за исполнение песни «Возьмёмся за руки, друзья» вместе с американским певцом Дином Ридом) и Пхеньяне (1989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хеньян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87640" y="1989000"/>
            <a:ext cx="1440000" cy="1603440"/>
            <a:chOff x="2987640" y="1989000"/>
            <a:chExt cx="1440000" cy="160344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2987640" y="1989000"/>
              <a:ext cx="144000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 txBox="1"/>
            <p:nvPr/>
          </p:nvSpPr>
          <p:spPr>
            <a:xfrm>
              <a:off x="2987640" y="1989000"/>
              <a:ext cx="1440000" cy="160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Пхеньяне Надежда Чепрага во время торжественного открытия и закрытия фестиваля исполнила фестивальный вальс на корейском языке. В 1988 году на фестивале советско-лаосской дружбы вместе с лаосским певцом Нгуен Тняном она завершает фестиваль национальной лаосской песней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Биографи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627280" y="2133720"/>
            <a:ext cx="1798560" cy="2003400"/>
            <a:chOff x="2627280" y="2133720"/>
            <a:chExt cx="1798560" cy="200340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2627280" y="2133720"/>
              <a:ext cx="1798560" cy="20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 txBox="1"/>
            <p:nvPr/>
          </p:nvSpPr>
          <p:spPr>
            <a:xfrm>
              <a:off x="2627280" y="2133720"/>
              <a:ext cx="1798560" cy="200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дежда Чепрага родилась 1 сентября 1956 года в селе Распопены Шолданештского района Молдавской ССР. Отец — Алексей Павлович Чепрага (Герой Социалистического Труда, Кавалер Ордена Ленина), мать — Зинаида Дионисовна Чепраг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Концерты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059280" y="2060640"/>
            <a:ext cx="1307880" cy="1455840"/>
            <a:chOff x="3059280" y="2060640"/>
            <a:chExt cx="1307880" cy="145584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3059280" y="2060640"/>
              <a:ext cx="1307880" cy="14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 txBox="1"/>
            <p:nvPr/>
          </p:nvSpPr>
          <p:spPr>
            <a:xfrm>
              <a:off x="3059280" y="2060640"/>
              <a:ext cx="1307880" cy="14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 1977 года Чепрага постоянно участвует в концертах «Песня года». После исполнения песни «Мне приснился шум дождя» в передачах «Голубой огонек» и «Песня-77», которая стала своеобразным «гимном» космонавтов, о певице узнал весь Советский Союз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«Сопот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1566720" cy="17445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1980 году Надежда Чепрага участвовала в юбилейном фестивале «Сопот» и в культурной программе «Олимпиада-80» в Москве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Игры доброй вол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771640" y="2133720"/>
            <a:ext cx="1636920" cy="1822320"/>
            <a:chOff x="2771640" y="2133720"/>
            <a:chExt cx="1636920" cy="182232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2771640" y="2133720"/>
              <a:ext cx="163692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 txBox="1"/>
            <p:nvPr/>
          </p:nvSpPr>
          <p:spPr>
            <a:xfrm>
              <a:off x="2771640" y="2133720"/>
              <a:ext cx="1636920" cy="182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1986 году она приняла участие в заключительном гала-концерте Игр доброй воли. Чепрага была почётным гостем фольклорного фестиваля «Мелодии сердца» в Сан-Франциско (1993, Приз зрителей за песню «Хава-нагила»), конкурса «Венок песен» (1994, Лос-Анджелес) и фестиваля «Голос Сингапура» (1994, Серебряная медаль за песню «Жаворонок»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Фильмы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840040" y="2343240"/>
            <a:ext cx="1506600" cy="1677960"/>
            <a:chOff x="2840040" y="2343240"/>
            <a:chExt cx="1506600" cy="1677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2840040" y="2343240"/>
              <a:ext cx="1506600" cy="16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 txBox="1"/>
            <p:nvPr/>
          </p:nvSpPr>
          <p:spPr>
            <a:xfrm>
              <a:off x="2840040" y="2343240"/>
              <a:ext cx="1506600" cy="167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Чепрага снялась в 7 фильмах на Центральном телевидении СССР 11 фильмах на телерадио Молдовы: «На сборе винограда», «Днестровские мелодии», «И славный день настал», «Шесть лет из дому», «Надежда Чепрага», «Встреча с Н. Чепрагой» (1982), «Эскизы к портрету» (1992), «Две руки, сердце и корона» (1998, студия «Динэйр-фильм», США) и другие. На песни «Три лилии», «Прокати меня, кудрявый», «Обманщик и обманщица», «Рома-Роман», «Ты чужой», «Ветерок», «Раба любви» и «Не забывайте» сняты видеоклипы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Фонды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1433520" cy="15987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фондах Центрального телевидения, Всесоюзного радио и телерадио Молдовы хранятся около 200 исполненных Надеждой Чепрагой песен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Хобб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2149560" cy="2395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свободное время увлекается шитьём, любит хорошие книги, фильмы, музыку. Среди любимых артистов: Н.Крючков, М.Ладынина, Л.Смирнова, Е.Леонов, М.Пуговкин. Занимается бегом, гимнастикой, плаванием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Домашний музей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1695600" cy="188748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дежда Чепрага собрала уникальный домашний музей - более 300 пар обуви, в которых выступала на концертных площадках. Среди домашних любимцев - два  кота и коккер-спаниель Энни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ризнание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1999 году подписан Указ о присвоении Надежде Чепраге почётного звания «Заслуженная артистка Российской Федерации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3 году Надежда Чепрага была награждена Орденским Золотым Крестом «За самоотверженный труд на благо России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4 году получает диплом правительства Москвы за участие в ежегодной благотворительной программе «Дети Мира и Добра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5 году награждается Золотой Медалью к 100-летию М. А. Шолохова за активное участие в фестивале «Шолоховская весна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6 году в Министерстве Культуры рассматривается решение о присвоении почётного звания «Народная артистка Российской Федерации» (ещё не подготовлены документы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7 году получила медаль Префекта Юго-Восточного района Москвы за вклад в развитие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 2008 году награждена высшим общественным знаком отличия — орденом «Екатерина Великая» I степен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Фильмография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050920" y="1989000"/>
            <a:ext cx="2268720" cy="2527560"/>
            <a:chOff x="2050920" y="1989000"/>
            <a:chExt cx="2268720" cy="252756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tretch/>
          </p:blipFill>
          <p:spPr>
            <a:xfrm>
              <a:off x="2050920" y="1989000"/>
              <a:ext cx="226872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 txBox="1"/>
            <p:nvPr/>
          </p:nvSpPr>
          <p:spPr>
            <a:xfrm>
              <a:off x="2050920" y="1989000"/>
              <a:ext cx="2268720" cy="252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?? — На сборе винограда («Телефильм — Кишинэу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82 — Встреча с Надеждой Чепрагой (ЦТ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92 — Эскизы к портрету (ЦТ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98 — Две руки, сердце и корона (студия «Динэйр-фильм», США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005 — Кулагин и партнёры (Сериа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Работа выполнена уч.анг.яз.Куликовой З.Е.,2011г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икипедия.Чепрага  Надежда Алексеевн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Фан клуб .Золотой звездопад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Яндекс.Картинк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Биографи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828880" y="1841400"/>
            <a:ext cx="1606680" cy="1789200"/>
            <a:chOff x="2828880" y="1841400"/>
            <a:chExt cx="1606680" cy="178920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2828880" y="1841400"/>
              <a:ext cx="1606680" cy="17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 txBox="1"/>
            <p:nvPr/>
          </p:nvSpPr>
          <p:spPr>
            <a:xfrm>
              <a:off x="2828880" y="1841400"/>
              <a:ext cx="1606680" cy="178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одилась на севере Республики Молдова в селе Распопены. Отец - Чепрага Алексей Павлович. Мать - Чепрага Зинаида Дионисовна. Муж - Литвинов Евгений Александрович, доктор экономических наук, профессор. Сын - Литвинов Иван Евгеньевич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916360" y="2492280"/>
            <a:ext cx="1571400" cy="17496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Родители Надежды работали в колхозе. В семье было четверо детей: Надя, Нина, Иван и Николай. Семья очень музыкальная - отец великолепно играл на скрипке, мать обладала замечательным сопрано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Музыкальная семья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Дети все пели и танцевали, - как единый ансамбль. Судьба благоволила Надежде, - именно она пошла на профессиональную сцену. Заметили её на фестивале песни уже в четвертом классе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193176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«Думбрава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осле выступления на фестивале песни в четвёртом классе, она становится солисткой самодеятельного коллектива «Думбрава», названного по имени реки, протекающей через её родную деревню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183060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Шестой класс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984400" y="1841400"/>
            <a:ext cx="1251000" cy="13924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шестом классе она снялась в короткометражном фильме студии «Телефильм Кишинэу» «На сборке винограда» в роли солистки ансамбл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Девятый класс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843280" y="1916280"/>
            <a:ext cx="1306440" cy="1455480"/>
            <a:chOff x="2843280" y="1916280"/>
            <a:chExt cx="1306440" cy="145548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2843280" y="1916280"/>
              <a:ext cx="1306440" cy="14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 txBox="1"/>
            <p:nvPr/>
          </p:nvSpPr>
          <p:spPr>
            <a:xfrm>
              <a:off x="2843280" y="1916280"/>
              <a:ext cx="1306440" cy="145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ccecff"/>
                </a:buClr>
                <a:buSzPct val="11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девятом классе Надежда Чепрага дебютировала в одной из популярных детских передач «Будильник» с песней «Весёлая свадьба» на собственные слова и музыку Евгения Дог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Желание родителей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624040" y="1984320"/>
            <a:ext cx="1636920" cy="18226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Родители хотели, чтобы Надежда поступила в педагогический институт на факультет иностранных языков (на отделение французского языка), но её закружила гастрольная жизнь "звезды полей"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9:00:09Z</dcterms:created>
  <dc:creator>Admin</dc:creator>
  <dc:description/>
  <dc:language>en-US</dc:language>
  <cp:lastModifiedBy>Admin</cp:lastModifiedBy>
  <dcterms:modified xsi:type="dcterms:W3CDTF">2011-05-27T17:34:07Z</dcterms:modified>
  <cp:revision>3</cp:revision>
  <dc:subject/>
  <dc:title>Слайд 1</dc:title>
</cp:coreProperties>
</file>