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507-D01E-4AFB-BB45-AD1D798F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E19-2015-4EE0-866A-0791FA19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CCE-32EB-453D-A75F-1DBFFBB7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1A1-F321-43F3-A819-29B51895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EA08-3593-4BD9-8668-5C217B51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B94F-C0EB-48C5-8528-361F0ED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A426-5BE7-4A20-AA68-4E534A3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780A-79B5-4346-B72D-3D780F23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3641-4236-4EED-B415-821DB2FC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6769-D79C-48A6-BA9E-018B4CB7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9CED-6664-4331-9081-218B018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C8B-49F8-44C7-986A-C1B7D93B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3A28-C281-42CA-A32E-44BDE74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9265-757B-431C-A49C-D5A34F3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0179-4C47-4F72-BD37-875DB9FF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A4C2-C610-4FCD-AB69-7BA908E2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512F-7190-496A-A085-E55F4B7D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C66-0E50-4FB2-832B-D4A993B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FFB-082F-4E60-99CC-98CF8BC5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DBB-6439-4603-BFC1-2474D1C4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65D-DE05-49AE-A627-AA0D2386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3B9-BACA-4CAB-846F-B261E5A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6DF-3F91-4B85-A3B6-A603F891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AF0-04E8-45A3-A6BC-E9F613E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EA35-D0CA-4DD8-9555-ECBC7648DA3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C9BA-FD92-4FCB-83AA-8D2EE24773C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Наде́жда Алексе́евна Чепра́г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2208240" cy="2458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́жда Алексе́евна Чепра́га (молд. Nadejda Cepraga; род. 1 сентября 1956, Распопены, Молдавская ССР) — молдавская советская эстрадная певиц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Односельчан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1433520" cy="1596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Односельчане очень любили её и старались помочь ей во всем, готовы были работать за неё в поле, лишь бы она приехала к ним с концер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«Экран собирает друзей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984400" y="1984320"/>
            <a:ext cx="1379520" cy="1535040"/>
            <a:chOff x="2984400" y="1984320"/>
            <a:chExt cx="1379520" cy="15350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984400" y="1984320"/>
              <a:ext cx="137952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 txBox="1"/>
            <p:nvPr/>
          </p:nvSpPr>
          <p:spPr>
            <a:xfrm>
              <a:off x="2984400" y="1984320"/>
              <a:ext cx="1379520" cy="15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скоре Надежда принимает участие в передаче Центрального телевидения «Экран собирает друзей». После этого её пригласили в оркестр Центрального Телевидения и Всесоюзного радио под управлением Ю. В. Силантьева, вместе с которым она записала для первомайского «Голубого огонька» свою первую песню «Весёлая свадьба»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Золотая медал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73480" y="1770120"/>
            <a:ext cx="1185840" cy="1320840"/>
            <a:chOff x="3273480" y="1770120"/>
            <a:chExt cx="1185840" cy="132084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3273480" y="1770120"/>
              <a:ext cx="11858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 txBox="1"/>
            <p:nvPr/>
          </p:nvSpPr>
          <p:spPr>
            <a:xfrm>
              <a:off x="3273480" y="1770120"/>
              <a:ext cx="1185840" cy="13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2 году Народный артист СССР И. М. Туманов пригласил Надежду Чепрагу на гастроли во Францию, где она участвует в фестивале народной песни и получает на нём Золотую медал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нкурс фолк-музык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482920" y="1984320"/>
            <a:ext cx="1762200" cy="1965240"/>
            <a:chOff x="2482920" y="1984320"/>
            <a:chExt cx="1762200" cy="196524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482920" y="1984320"/>
              <a:ext cx="176220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 txBox="1"/>
            <p:nvPr/>
          </p:nvSpPr>
          <p:spPr>
            <a:xfrm>
              <a:off x="2482920" y="1984320"/>
              <a:ext cx="1762200" cy="19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песней «Парень из Парижа» она дебютирует в зале «Олимпия». В 1973 году 17-летняя Надежда Чепрага выступает на X Всемирном фестивале молодёжи и студентов в Берлине. За песню «Дойна» она получила звание лауреата и Золотую медаль в конкурсе фолк-музык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«Весна — ровесница любви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том же году вышла первая пластинка-миньон «Струны гитары» с песней Евгения Доги на слова В. Лазарева «Весна — ровесница любви» в исполнении Надежды Чепраг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40040" y="1770120"/>
            <a:ext cx="1327320" cy="1789200"/>
            <a:chOff x="2840040" y="1770120"/>
            <a:chExt cx="1327320" cy="178920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840040" y="1770120"/>
              <a:ext cx="132732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2840040" y="1770120"/>
              <a:ext cx="132732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Солистка оркестр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913120" y="1770120"/>
            <a:ext cx="1569960" cy="1749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была солисткой эстрадно-симфонического оркестра республиканского Гостелерадио, где проработала 10 лет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Музыкальное училище им. Штефана Няг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84400" y="1770120"/>
            <a:ext cx="1443240" cy="1608120"/>
            <a:chOff x="2984400" y="1770120"/>
            <a:chExt cx="1443240" cy="160812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2984400" y="1770120"/>
              <a:ext cx="14432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 txBox="1"/>
            <p:nvPr/>
          </p:nvSpPr>
          <p:spPr>
            <a:xfrm>
              <a:off x="2984400" y="1770120"/>
              <a:ext cx="1443240" cy="16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3—1977 годах она училась в музыкальном училище им. Штефана Няги на факультетах вокала хорового дирижир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нсерватория имени Гавриила Музическу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7—1982 годах — учится в консерватории имени Гавриила Музическу в Кишинёве по классу вокала и хорового дирижирова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2760" y="1698480"/>
            <a:ext cx="1774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Конкурсы…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913120" y="2270160"/>
            <a:ext cx="1312920" cy="1461960"/>
            <a:chOff x="2913120" y="2270160"/>
            <a:chExt cx="1312920" cy="146196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2913120" y="2270160"/>
              <a:ext cx="13129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 txBox="1"/>
            <p:nvPr/>
          </p:nvSpPr>
          <p:spPr>
            <a:xfrm>
              <a:off x="2913120" y="2270160"/>
              <a:ext cx="1312920" cy="14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 эти годы певица принимает участие в многочисленных конкурсах, фестивалях, телепередачах. Она становится лауреатом фестиваля «Башни Вильнюса-74» (Литовская ССР), дипломантом конкурса «С песней по жизни» (1976, специальный приз за артистичность и телегеничность), лауреатом телефестиваля «Звезда Болгарии», победительницей фестиваля «Интерталант» (1977, Чехословакия), лауреатом Всемирных фестивалей молодёжи и студентов в Берлине (1973), Гаване (1978), Москве (1985, за исполнение песни «Возьмёмся за руки, друзья» вместе с американским певцом Дином Ридом) и Пхеньяне (1989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хеньян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7640" y="1989000"/>
            <a:ext cx="1440000" cy="1603440"/>
            <a:chOff x="2987640" y="1989000"/>
            <a:chExt cx="1440000" cy="16034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2987640" y="1989000"/>
              <a:ext cx="14400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 txBox="1"/>
            <p:nvPr/>
          </p:nvSpPr>
          <p:spPr>
            <a:xfrm>
              <a:off x="2987640" y="1989000"/>
              <a:ext cx="1440000" cy="16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Пхеньяне Надежда Чепрага во время торжественного открытия и закрытия фестиваля исполнила фестивальный вальс на корейском языке. В 1988 году на фестивале советско-лаосской дружбы вместе с лаосским певцом Нгуен Тняном она завершает фестиваль национальной лаосской песне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Биограф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627280" y="2133720"/>
            <a:ext cx="1798560" cy="2003400"/>
            <a:chOff x="2627280" y="2133720"/>
            <a:chExt cx="1798560" cy="20034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2627280" y="2133720"/>
              <a:ext cx="179856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2627280" y="2133720"/>
              <a:ext cx="1798560" cy="20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родилась 1 сентября 1956 года в селе Распопены Шолданештского района Молдавской ССР. Отец — Алексей Павлович Чепрага (Герой Социалистического Труда, Кавалер Ордена Ленина), мать — Зинаида Дионисовна Чепраг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Концерт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059280" y="2060640"/>
            <a:ext cx="1307880" cy="1455840"/>
            <a:chOff x="3059280" y="2060640"/>
            <a:chExt cx="1307880" cy="145584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3059280" y="2060640"/>
              <a:ext cx="130788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3059280" y="2060640"/>
              <a:ext cx="1307880" cy="14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1977 года Чепрага постоянно участвует в концертах «Песня года». После исполнения песни «Мне приснился шум дождя» в передачах «Голубой огонек» и «Песня-77», которая стала своеобразным «гимном» космонавтов, о певице узнал весь Советский Союз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«Сопот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1566720" cy="17445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80 году Надежда Чепрага участвовала в юбилейном фестивале «Сопот» и в культурной программе «Олимпиада-80» в Москв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Игры доброй во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771640" y="2133720"/>
            <a:ext cx="1636920" cy="1822320"/>
            <a:chOff x="2771640" y="2133720"/>
            <a:chExt cx="1636920" cy="182232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2771640" y="2133720"/>
              <a:ext cx="163692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 txBox="1"/>
            <p:nvPr/>
          </p:nvSpPr>
          <p:spPr>
            <a:xfrm>
              <a:off x="2771640" y="2133720"/>
              <a:ext cx="1636920" cy="18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86 году она приняла участие в заключительном гала-концерте Игр доброй воли. Чепрага была почётным гостем фольклорного фестиваля «Мелодии сердца» в Сан-Франциско (1993, Приз зрителей за песню «Хава-нагила»), конкурса «Венок песен» (1994, Лос-Анджелес) и фестиваля «Голос Сингапура» (1994, Серебряная медаль за песню «Жаворонок»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Фильм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40040" y="2343240"/>
            <a:ext cx="1506600" cy="1677960"/>
            <a:chOff x="2840040" y="2343240"/>
            <a:chExt cx="1506600" cy="1677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840040" y="2343240"/>
              <a:ext cx="150660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 txBox="1"/>
            <p:nvPr/>
          </p:nvSpPr>
          <p:spPr>
            <a:xfrm>
              <a:off x="2840040" y="2343240"/>
              <a:ext cx="1506600" cy="167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Чепрага снялась в 7 фильмах на Центральном телевидении СССР 11 фильмах на телерадио Молдовы: «На сборе винограда», «Днестровские мелодии», «И славный день настал», «Шесть лет из дому», «Надежда Чепрага», «Встреча с Н. Чепрагой» (1982), «Эскизы к портрету» (1992), «Две руки, сердце и корона» (1998, студия «Динэйр-фильм», США) и другие. На песни «Три лилии», «Прокати меня, кудрявый», «Обманщик и обманщица», «Рома-Роман», «Ты чужой», «Ветерок», «Раба любви» и «Не забывайте» сняты видеоклип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Фонд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1433520" cy="15987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фондах Центрального телевидения, Всесоюзного радио и телерадио Молдовы хранятся около 200 исполненных Надеждой Чепрагой песен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Хобб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2149560" cy="2395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свободное время увлекается шитьём, любит хорошие книги, фильмы, музыку. Среди любимых артистов: Н.Крючков, М.Ладынина, Л.Смирнова, Е.Леонов, М.Пуговкин. Занимается бегом, гимнастикой, плаванием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Домашний музе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1695600" cy="18874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собрала уникальный домашний музей - более 300 пар обуви, в которых выступала на концертных площадках. Среди домашних любимцев - два  кота и коккер-спаниель Энн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изнани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1999 году подписан Указ о присвоении Надежде Чепраге почётного звания «Заслуженная артистка Российской Федераци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3 году Надежда Чепрага была награждена Орденским Золотым Крестом «За самоотверженный труд на благо Росси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4 году получает диплом правительства Москвы за участие в ежегодной благотворительной программе «Дети Мира и Добр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5 году награждается Золотой Медалью к 100-летию М. А. Шолохова за активное участие в фестивале «Шолоховская весн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6 году в Министерстве Культуры рассматривается решение о присвоении почётного звания «Народная артистка Российской Федерации» (ещё не подготовлены документы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7 году получила медаль Префекта Юго-Восточного района Москвы за вклад в развити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8 году награждена высшим общественным знаком отличия — орденом «Екатерина Великая» I степен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Фильмографи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050920" y="1989000"/>
            <a:ext cx="2268720" cy="2527560"/>
            <a:chOff x="2050920" y="1989000"/>
            <a:chExt cx="2268720" cy="252756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2050920" y="1989000"/>
              <a:ext cx="226872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 txBox="1"/>
            <p:nvPr/>
          </p:nvSpPr>
          <p:spPr>
            <a:xfrm>
              <a:off x="2050920" y="1989000"/>
              <a:ext cx="2268720" cy="252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?? — На сборе винограда («Телефильм — Кишинэу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82 — Встреча с Надеждой Чепрагой (ЦТ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92 — Эскизы к портрету (ЦТ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98 — Две руки, сердце и корона (студия «Динэйр-фильм», СШ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005 — Кулагин и партнёры (Сериа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абота выполнена уч.анг.яз.Куликовой З.Е.,2011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икипедия.Чепрага  Надежда Алексеевн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Фан клуб .Золотой звездопа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Яндекс.Картин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Биограф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28880" y="1841400"/>
            <a:ext cx="1606680" cy="1789200"/>
            <a:chOff x="2828880" y="1841400"/>
            <a:chExt cx="1606680" cy="178920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2828880" y="1841400"/>
              <a:ext cx="16066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2828880" y="1841400"/>
              <a:ext cx="160668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илась на севере Республики Молдова в селе Распопены. Отец - Чепрага Алексей Павлович. Мать - Чепрага Зинаида Дионисовна. Муж - Литвинов Евгений Александрович, доктор экономических наук, профессор. Сын - Литвинов Иван Евгеньевич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1571400" cy="17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Родители Надежды работали в колхозе. В семье было четверо детей: Надя, Нина, Иван и Николай. Семья очень музыкальная - отец великолепно играл на скрипке, мать обладала замечательным сопран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Музыкальная семь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Дети все пели и танцевали, - как единый ансамбль. Судьба благоволила Надежде, - именно она пошла на профессиональную сцену. Заметили её на фестивале песни уже в четвертом класс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19317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«Думбрава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сле выступления на фестивале песни в четвёртом классе, она становится солисткой самодеятельного коллектива «Думбрава», названного по имени реки, протекающей через её родную деревню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183060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Шестой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84400" y="1841400"/>
            <a:ext cx="1251000" cy="13924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шестом классе она снялась в короткометражном фильме студии «Телефильм Кишинэу» «На сборке винограда» в роли солистки ансамбл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Девятый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43280" y="1916280"/>
            <a:ext cx="1306440" cy="1455480"/>
            <a:chOff x="2843280" y="1916280"/>
            <a:chExt cx="1306440" cy="14554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843280" y="1916280"/>
              <a:ext cx="130644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 txBox="1"/>
            <p:nvPr/>
          </p:nvSpPr>
          <p:spPr>
            <a:xfrm>
              <a:off x="2843280" y="1916280"/>
              <a:ext cx="1306440" cy="14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девятом классе Надежда Чепрага дебютировала в одной из популярных детских передач «Будильник» с песней «Весёлая свадьба» на собственные слова и музыку Евгения Дог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Желание родителе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624040" y="1984320"/>
            <a:ext cx="1636920" cy="1822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одители хотели, чтобы Надежда поступила в педагогический институт на факультет иностранных языков (на отделение французского языка), но её закружила гастрольная жизнь "звезды полей"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9:00:09Z</dcterms:created>
  <dc:creator>Admin</dc:creator>
  <dc:description/>
  <dc:language>en-US</dc:language>
  <cp:lastModifiedBy>Admin</cp:lastModifiedBy>
  <dcterms:modified xsi:type="dcterms:W3CDTF">2011-05-27T17:34:07Z</dcterms:modified>
  <cp:revision>3</cp:revision>
  <dc:subject/>
  <dc:title>Слайд 1</dc:title>
</cp:coreProperties>
</file>