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666-03BE-4DF9-B57B-F2102F6B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87D-6570-4505-A16E-D1BB6A62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AA0-A3C8-4D5B-AD7A-18044D27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74E-80AA-4CA9-BDFB-65DFEF73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E91E-8445-447A-AF61-60730E04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660-33C1-4A89-A063-041593DC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F65-76F6-4555-8DD8-F4E51207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2C3A-B8C4-480A-8A99-EAFAEA0F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9909-D7DC-47F4-AABF-E1FDBB9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4013-295C-40FA-ADE1-3E9CF01A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336-AEBA-4149-BC2A-5047AA5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7EB-B601-4A34-9609-55A90F8E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C65F-F896-4804-A0DD-8877872A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D8F6-F285-45B7-A15E-F21A1B3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2A64-81AC-4E82-84AE-215A9BDF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311-6954-4972-934B-E3A5D4AF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6E9E-0E30-4A94-A933-9F3FF5E0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E6E5-AE08-4DF2-8A09-B646E9D9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0C14-A4F2-421B-BFBF-3AA08056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AE03-7799-493F-B21C-A4F7F2FD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573B-4ECD-485A-887B-ECB0E93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99CE-AABD-4692-991B-4C709F1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BCC-A1DA-4BC1-9C4F-9215A2D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BE725-C1DD-43FD-9D0A-63D2B04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51DB-F9E4-43E6-804C-3F8E6225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2B39-D016-4979-99E4-87093C10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CAAE9-C64B-4556-9477-97D9238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D05B-64FC-4CDD-B32A-1DCD4D0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890E-8873-494B-B35E-BE87F7F7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6D235-3417-48F6-B9D8-BC730AB8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3AAB-7B3C-4807-A0E3-0AC6BEC2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2E674-1198-47E3-8EF8-0A242D8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6591-0D80-4D04-9F0A-BBE79163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64C-DEE4-41AB-B784-6D247B88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E61E-9B23-495D-93D8-604ABC90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09B0-649C-473F-B625-3C16005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2B53-545E-4F10-8C9F-E86A6831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1CB6-5A4D-48B9-A086-9F2F31B0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EE39-3515-4A8C-8D76-01186CA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5D9A-E467-4BCF-9CA4-D5B4FC97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870D-E9FB-4A2C-BEC8-91CDAE69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58D7-D4CB-4C00-AB45-2C913E16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C52E9-EF55-41C4-A6AA-81D76366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A653-3DD1-490E-A5D6-347CDADE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1AE-77BA-4E30-BD46-BD15530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0F114-C0BB-4129-84F1-C69E4F8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2ADE0-1501-4189-9680-693D94CF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1F16-1078-4C8B-9864-D3E0ECB9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77047-D212-4CFB-82B5-E4583CFF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4574-8689-41B0-8D35-0571BC3E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FCAA5-DE33-48D3-8F0E-8B8DDBE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C4F9-21CD-4278-B453-DED8732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2926-C78C-44B5-8920-78D108A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8118-D628-4095-91C7-D415F04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7BFBC-61AB-47D5-B689-394FC93C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A98-09DB-4362-AD30-876922B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CD13-BF0B-48E4-9DDD-C8B52B49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E5EE9-D04A-463D-9E77-9E300E4C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729B-8A7F-4E3A-A248-5B4D0C5E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CDE23-CC03-45A4-AEEA-1C6C9117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80AD3-348C-4AAC-81A9-8B26F825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459B-5E9A-4145-B732-A230013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95EF-4EAA-4E62-8A2E-44C42D6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8477-BDBB-48DF-ADDB-05474C75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AAEDC-352E-4F90-BC6D-5D17145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45598-9F9D-4DE4-BF49-0C33F55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ED1-17F7-465F-BD29-AA57E22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D6FD-926E-4857-A75D-BB4FEC7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54F6-8014-48F0-BAC7-0E27FC5A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3CE3-CD02-416E-BC61-33A72766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1E891-7C1B-4719-AD3F-261CB2DB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29385-6F07-4B38-B4E1-88186C06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E180A-BFD3-44BE-BF29-3A7AC469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029D4-7E62-4E9B-ABC2-D6D58F3F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930CF-6517-46B2-B5F0-B1F6280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99EA9-7CB4-4F9C-ABE5-0B284DC6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33B23-B7D1-4104-82F2-DC27B4B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277-CD9F-4D47-B17E-DDF7FD2A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B363-4D04-4FA1-A2DA-1556678E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50D02-1EC2-4B97-A262-A0C2D76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CFC6-F268-4A94-91C9-197E177B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D193-9970-4018-B746-9A717635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18ADD-EF2B-4B8B-8EE0-F7371ED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B1C4-03ED-4A7F-9D99-2F902AA3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0738-6E47-4214-BCF6-07795BED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DDE11-6DC6-43F6-8C21-511267D9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69E6C-2435-47A0-B743-9C9C8AED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A5CB-77EC-48EF-9960-675F675E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AAB-9140-4561-892D-2504D9F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05A63-95E8-46FB-B8E1-3DD9C4AD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F2745-8942-401C-B10D-76B22A9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0A8E3-7519-490E-9841-AAA1477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AD96-BA11-44D1-94FE-CF9A19AB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ABE15-E974-4855-A21D-DA9A9C8C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1B8C-5A3F-47E2-87EB-C4489E9C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93ED-1054-4E0F-8D29-5E6E1632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CE0C-CA68-4E9F-A08D-299842987C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676A-913B-491D-9DDC-1C20B026190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4CC-399C-40B2-ABDA-DF255730E7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F363-0794-403F-B931-E5168112FB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A12A-76C9-4B91-83F7-597B521A74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A37E-F58E-424A-83D5-07E7028FC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FFB2-A5CD-4582-8C71-A085FF9873A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B776-7546-40C1-B6DC-EAA6A2B7E60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44440" y="285840"/>
            <a:ext cx="1077840" cy="6164280"/>
          </a:xfrm>
          <a:prstGeom prst="rect">
            <a:avLst/>
          </a:prstGeom>
          <a:ln w="0">
            <a:noFill/>
          </a:ln>
        </p:spPr>
      </p:pic>
      <p:pic>
        <p:nvPicPr>
          <p:cNvPr id="372" name="Текст 4" descr=""/>
          <p:cNvPicPr/>
          <p:nvPr/>
        </p:nvPicPr>
        <p:blipFill>
          <a:blip r:embed="rId2"/>
          <a:stretch/>
        </p:blipFill>
        <p:spPr>
          <a:xfrm>
            <a:off x="1359000" y="285840"/>
            <a:ext cx="592200" cy="3030480"/>
          </a:xfrm>
          <a:prstGeom prst="rect">
            <a:avLst/>
          </a:prstGeom>
          <a:ln w="0">
            <a:noFill/>
          </a:ln>
        </p:spPr>
      </p:pic>
      <p:pic>
        <p:nvPicPr>
          <p:cNvPr id="373" name="Текст 5" descr=""/>
          <p:cNvPicPr/>
          <p:nvPr/>
        </p:nvPicPr>
        <p:blipFill>
          <a:blip r:embed="rId3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2022480" y="290160"/>
            <a:ext cx="685800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ы  - композитор!</a:t>
            </a:r>
            <a:r>
              <a:rPr b="0" lang="ru-R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пишите какими  выразительными средствами  музыки вы воспользуетесь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45720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20560" indent="-45720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428920" y="2428920"/>
          <a:ext cx="5500800" cy="4206960"/>
        </p:xfrm>
        <a:graphic>
          <a:graphicData uri="http://schemas.openxmlformats.org/drawingml/2006/table">
            <a:tbl>
              <a:tblPr/>
              <a:tblGrid>
                <a:gridCol w="3500280"/>
                <a:gridCol w="200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арактер музы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м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с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marL="52056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ембр (тембры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ит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2868480" y="1285920"/>
            <a:ext cx="3346560" cy="5064120"/>
          </a:xfrm>
          <a:prstGeom prst="rect">
            <a:avLst/>
          </a:prstGeom>
          <a:ln w="0">
            <a:noFill/>
          </a:ln>
        </p:spPr>
      </p:pic>
      <p:pic>
        <p:nvPicPr>
          <p:cNvPr id="379" name="03 - А. Лядов - Кикимор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42960" y="1512720"/>
            <a:ext cx="3611520" cy="4631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5143680" y="1536840"/>
            <a:ext cx="3000240" cy="45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285920" y="1330200"/>
            <a:ext cx="2214360" cy="4711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4714920" y="1360440"/>
            <a:ext cx="361944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5072040" y="1643040"/>
            <a:ext cx="3143160" cy="4491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3"/>
          <a:stretch/>
        </p:blipFill>
        <p:spPr>
          <a:xfrm>
            <a:off x="785880" y="1643040"/>
            <a:ext cx="3054240" cy="46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4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65080" y="1714680"/>
            <a:ext cx="3214800" cy="4286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амятники героям Пушкина в Донецк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-311040" y="285840"/>
            <a:ext cx="1633320" cy="6164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365120" y="290160"/>
            <a:ext cx="581040" cy="301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Текст 7" descr=""/>
          <p:cNvPicPr/>
          <p:nvPr/>
        </p:nvPicPr>
        <p:blipFill>
          <a:blip r:embed="rId2"/>
          <a:stretch/>
        </p:blipFill>
        <p:spPr>
          <a:xfrm>
            <a:off x="1238400" y="3395520"/>
            <a:ext cx="712800" cy="3054600"/>
          </a:xfrm>
          <a:prstGeom prst="rect">
            <a:avLst/>
          </a:prstGeom>
          <a:ln w="0">
            <a:noFill/>
          </a:ln>
        </p:spPr>
      </p:pic>
      <p:pic>
        <p:nvPicPr>
          <p:cNvPr id="395" name="Кикимора плюс.mp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2022480" y="3427560"/>
            <a:ext cx="685800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узыкальный проект Д. Тухманова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«Бяки –Бук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Кикимора минус.mp3" descr=""/>
          <p:cNvPicPr/>
          <p:nvPr/>
        </p:nvPicPr>
        <p:blipFill>
          <a:blip r:embed="rId4"/>
          <a:stretch/>
        </p:blipFill>
        <p:spPr>
          <a:xfrm>
            <a:off x="7143840" y="571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238594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3854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504280" cy="15476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. Лядов  Симфоническая картина «Кикимор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Д. Тухманов  Ю.Энтин «Кикимора» плюсовая и минусовая фонограмм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накомство с композиторо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 персонажами произведени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очинение плана собственной. композиции «Моя кикимора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слушивание  произведение А. Лядова, анализ-сравнение со своим вариантом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ени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3" descr=""/>
          <p:cNvPicPr/>
          <p:nvPr/>
        </p:nvPicPr>
        <p:blipFill>
          <a:blip r:embed="rId1"/>
          <a:stretch/>
        </p:blipFill>
        <p:spPr>
          <a:xfrm>
            <a:off x="66600" y="-66600"/>
            <a:ext cx="845496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3591000" cy="4879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4832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астер симфонической и фортепианной миниатюры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бработки русских народных песен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офессор Санкт-Петербургской консерватори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.К.- выходец из семьи профессиональных музыкантов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ец, дядя, и дед композитора были известными дирижерами своего времени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Рисование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оэтическое творчество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4857840" y="1301760"/>
            <a:ext cx="3286080" cy="46497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5"/>
          <p:cNvSpPr/>
          <p:nvPr/>
        </p:nvSpPr>
        <p:spPr>
          <a:xfrm>
            <a:off x="4487760" y="600084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натолий Константинович Лядов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ортрет работы И. Репина (1902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бщение с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Н. А.Римским-Корсаковым определило всю дальнейшую судьбу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середине 70-х.гг. А. Лядов  вошел в состав «Могучей кучки»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Содержимое 5" descr="r03013i.bmp"/>
          <p:cNvPicPr/>
          <p:nvPr/>
        </p:nvPicPr>
        <p:blipFill>
          <a:blip r:embed="rId2"/>
          <a:stretch/>
        </p:blipFill>
        <p:spPr>
          <a:xfrm>
            <a:off x="4857840" y="1849320"/>
            <a:ext cx="3500280" cy="3895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4984920" y="592920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Н.А.Римский - Корсако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1878г. А. Лядов -педагог Петербургской консерватори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4284720" y="2071800"/>
            <a:ext cx="4749840" cy="35719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6"/>
          <p:cNvSpPr/>
          <p:nvPr/>
        </p:nvSpPr>
        <p:spPr>
          <a:xfrm>
            <a:off x="4618800" y="57150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од основания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нсерватории186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реди его выдающихся учеников –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entury Gothic"/>
              </a:rPr>
              <a:t>С.С.Прокофьев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4572000" y="1538280"/>
            <a:ext cx="41511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(шишимора, мара), в русских народных поверьях — злой дух, малютка-невидимка женского пола, живущая в доме за печкой и занимающаяся прядением и тканье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ециальная камуфлированная накидка, которая используется для маскировки снайпер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6:59:51Z</dcterms:created>
  <dc:creator>Elena</dc:creator>
  <dc:description/>
  <dc:language>en-US</dc:language>
  <cp:lastModifiedBy>Admin</cp:lastModifiedBy>
  <dcterms:modified xsi:type="dcterms:W3CDTF">2011-10-27T17:00:31Z</dcterms:modified>
  <cp:revision>18</cp:revision>
  <dc:subject/>
  <dc:title>Слайд 1</dc:title>
</cp:coreProperties>
</file>