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D67-0D38-4CE8-8B7F-19D41D4B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2B2-5753-4F2C-BBEF-5A66AE07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3D5-11E2-4C0F-A120-0570C45E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EF03-EBF9-4CB2-91ED-19AD5858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4C38-B087-42B0-9C74-1058C7E9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0A19-417F-4988-8647-D98340B8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16C0-8C0C-4AA5-A28B-BF629546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5C19-F36D-4BA1-9C23-63BF2A54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A4EF-E263-4A3C-8C40-7148C71D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839B-7015-4B62-A9F7-54CD9DBE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B22B-E2E0-4003-90F8-7A246B14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239-6FF5-45ED-B191-3BC3191C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BC1A-EFD1-4ACC-BDD1-E64E90E8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7BA3-8C5D-46FB-8994-4E27FEB7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A9EA-660F-4140-8FD1-91C41E2C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9C1B-5C52-4606-BA53-2B36B0E1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C9AF-D312-4686-9816-02739EA5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9CC25-DADD-4B05-966A-84E3E3CC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964C-70C4-45F0-AC5B-320A6A30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55D17-43DB-4734-BE2A-994D647F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ADF70-6245-418F-AD5A-CA99FD57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D960-D162-4919-9417-0ACDF523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467-CE1F-4740-B388-86CF388E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381C-1BAD-4D4C-80F3-D6561238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3054-9890-4DBD-B55F-1287ACDE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DE1B3-C7BE-4B60-A204-0EE4A93A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3A495-CB0D-447A-85CC-4D70D732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1628-662A-4777-B7AF-464263FC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DF408-49CE-4477-B5AE-27BAD346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E5040-98D0-4759-B589-A3B11F3D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409BF-FC3C-4413-9BB0-4D335EC4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EFDA1-B05F-4024-B24B-4A766847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40C54-9A6E-44F3-BC4B-E0AE8C3A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45E-4B4C-4865-B3CE-61AEC33A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7B952-58C9-452D-A342-466CB771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9857D-DDD4-4BE7-A9D0-EBEDBF37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CBAA8-209F-4F4B-908F-27444816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6EE4C-086D-4632-A356-4DAAF5F2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E0ED-4786-4AA3-8347-01989CE3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E79BD-DBAB-4712-B9DF-997481D9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34B97-831D-430D-BE27-C972D514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1150E-1F69-4A95-BC81-7C0AFD15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DE5A6-A669-4542-B9C6-0DDB61E6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DF914-682F-4C3B-92F1-285388D5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972-68BF-48E7-820D-E9FB6DB6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1F046-B20B-4156-AC4B-811E1BB8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D1EA4-3ADA-488E-8DAF-DF977B19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5D2E2-B323-43AF-BBB7-372640A6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14255-B720-4C61-9A79-7839F663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2956E-B960-4580-A2BC-E2937F04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866C5-4085-462D-BE1B-0EA3BFE8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68EBA-5D70-44C9-94F6-99797067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52568-2D85-4974-95F5-58070C07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77DCB-FDF6-4898-8166-7B06C3F2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AA631-5F8D-4FE8-8BA0-403B1454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65E-8F31-4C63-B59C-54471222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6B1FC-A2B0-4AEA-9734-95775586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FDD39-09C9-4022-B30B-55D3E33B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AB805-E3FD-45C5-B426-15DB9987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6CDFB-4A0B-4795-8607-74A74697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12BDA-60FE-4EA4-8672-702181F4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2855E-764C-4841-8C5D-8AB2ECE9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616A5-E689-457F-9E42-346B1E83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F40A8-64C4-4E52-BE08-EBC6CDDA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EC1E2-5C53-4BC2-84C2-B429E77B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9B6E2-0883-4EC3-B1EC-B114EBAB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E16-C818-4A5D-8771-2BA5549C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96A98-FD3B-40DE-BB4B-7A6DFCEE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9EAF7-3498-4D9E-BD57-89F1979C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C1690-1708-4461-86E8-D8A18B7F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F7A19-1468-45A7-937B-73620154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0A420-0BAA-4489-90F1-AC7F74B6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EFD35-A67B-4B14-8162-9A2D9FFF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6FAFD-10A9-4C7F-A191-D1CC15DB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B0395-6505-42C9-9A3B-E85C7DF1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1B679-2B88-46D3-9E4A-C0455C20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C3132-7050-458C-95D9-FAED24EF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E92-A087-49AA-B922-E3BF0639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FE77D-032A-448E-878D-756D902C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92F88-C203-4332-9312-803B34E1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7ECA0-A90D-4568-B8E7-014EBCEE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88E37-4430-49A9-A3D3-06DFD154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2A072-71B4-4D8B-B733-B73C9305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97FCF-BA0F-470D-BA78-816A6AFB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8FCED-564E-4A7C-A4F3-0A423FFA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02505-B3DA-4E6A-8C86-783409B4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96210-B1FB-4990-A983-7BF2DDB3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7168B-2C77-464A-B593-5E29DBC2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6D1-D72E-4CEE-BCB6-1F81F4B9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792A7-B50A-4B33-AFBB-13E43BB0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A59BB-1A9F-47AF-A45E-A7C1CC2F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82EB2-4B27-4368-BD4E-DB73BDE1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5E1BF-2136-485B-A3A4-5D8E133D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B4056-18A3-458F-B573-C56A7408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931F6-67F9-47AA-8C57-4FA236BB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72374-2B22-4B0D-AA57-53EB7C56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CF3F-226E-494C-8700-80EFD33279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FE77-228C-4127-A762-61C93F20D045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9B07-D078-4050-B124-CDA86F0E29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AD63-1E2E-485F-AFF0-C9C1427054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07E3-C30F-429B-B864-E40346F2E3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BE17-EC3D-43AB-9CE6-C10FA3A225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892C-E74E-4A7F-9BC7-BED1ABAFA84B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A3F0-9617-42E2-A864-2A9631720788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4400" cy="159732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1077840" cy="6164280"/>
          </a:xfrm>
          <a:prstGeom prst="rect">
            <a:avLst/>
          </a:prstGeom>
          <a:ln w="0">
            <a:noFill/>
          </a:ln>
        </p:spPr>
      </p:pic>
      <p:pic>
        <p:nvPicPr>
          <p:cNvPr id="372" name="Текст 4" descr=""/>
          <p:cNvPicPr/>
          <p:nvPr/>
        </p:nvPicPr>
        <p:blipFill>
          <a:blip r:embed="rId2"/>
          <a:stretch/>
        </p:blipFill>
        <p:spPr>
          <a:xfrm>
            <a:off x="1359000" y="285840"/>
            <a:ext cx="592200" cy="3030480"/>
          </a:xfrm>
          <a:prstGeom prst="rect">
            <a:avLst/>
          </a:prstGeom>
          <a:ln w="0">
            <a:noFill/>
          </a:ln>
        </p:spPr>
      </p:pic>
      <p:pic>
        <p:nvPicPr>
          <p:cNvPr id="373" name="Текст 5" descr=""/>
          <p:cNvPicPr/>
          <p:nvPr/>
        </p:nvPicPr>
        <p:blipFill>
          <a:blip r:embed="rId3"/>
          <a:stretch/>
        </p:blipFill>
        <p:spPr>
          <a:xfrm>
            <a:off x="1359000" y="3419640"/>
            <a:ext cx="592200" cy="30304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2022480" y="290160"/>
            <a:ext cx="68580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ы  - композитор!</a:t>
            </a: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апишите какими  выразительными средствами  музыки вы воспользуетесь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022480" y="3427560"/>
            <a:ext cx="6858000" cy="30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45720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20560" indent="-4572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428920" y="2428920"/>
          <a:ext cx="5500800" cy="4206960"/>
        </p:xfrm>
        <a:graphic>
          <a:graphicData uri="http://schemas.openxmlformats.org/drawingml/2006/table">
            <a:tbl>
              <a:tblPr/>
              <a:tblGrid>
                <a:gridCol w="3500280"/>
                <a:gridCol w="2000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ор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95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арактер музы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520560" indent="-457200"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ем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гис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ембр (тембры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ит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2868480" y="1285920"/>
            <a:ext cx="3346560" cy="5064120"/>
          </a:xfrm>
          <a:prstGeom prst="rect">
            <a:avLst/>
          </a:prstGeom>
          <a:ln w="0">
            <a:noFill/>
          </a:ln>
        </p:spPr>
      </p:pic>
      <p:pic>
        <p:nvPicPr>
          <p:cNvPr id="379" name="03 - А. Лядов - Кикимора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4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642960" y="1512720"/>
            <a:ext cx="3611520" cy="4631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3"/>
          <a:stretch/>
        </p:blipFill>
        <p:spPr>
          <a:xfrm>
            <a:off x="5143680" y="1536840"/>
            <a:ext cx="3000240" cy="45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1285920" y="1330200"/>
            <a:ext cx="2214360" cy="4711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4714920" y="1360440"/>
            <a:ext cx="3619440" cy="464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5072040" y="1643040"/>
            <a:ext cx="3143160" cy="4491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3"/>
          <a:stretch/>
        </p:blipFill>
        <p:spPr>
          <a:xfrm>
            <a:off x="785880" y="1643040"/>
            <a:ext cx="3054240" cy="462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4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65080" y="1714680"/>
            <a:ext cx="3214800" cy="42861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амятники героям Пушкина в Донецке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-311040" y="285840"/>
            <a:ext cx="1633320" cy="6164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365120" y="290160"/>
            <a:ext cx="581040" cy="301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rmAutofit fontScale="7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4" name="Текст 7" descr=""/>
          <p:cNvPicPr/>
          <p:nvPr/>
        </p:nvPicPr>
        <p:blipFill>
          <a:blip r:embed="rId2"/>
          <a:stretch/>
        </p:blipFill>
        <p:spPr>
          <a:xfrm>
            <a:off x="1238400" y="3395520"/>
            <a:ext cx="712800" cy="3054600"/>
          </a:xfrm>
          <a:prstGeom prst="rect">
            <a:avLst/>
          </a:prstGeom>
          <a:ln w="0">
            <a:noFill/>
          </a:ln>
        </p:spPr>
      </p:pic>
      <p:pic>
        <p:nvPicPr>
          <p:cNvPr id="395" name="Кикимора плюс.mp3" descr=""/>
          <p:cNvPicPr/>
          <p:nvPr/>
        </p:nvPicPr>
        <p:blipFill>
          <a:blip r:embed="rId3"/>
          <a:stretch/>
        </p:blipFill>
        <p:spPr>
          <a:xfrm>
            <a:off x="5286240" y="571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2022480" y="3427560"/>
            <a:ext cx="6858000" cy="30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Музыкальный проект Д. Тухманова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«Бяки –Буки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7" name="Кикимора минус.mp3" descr=""/>
          <p:cNvPicPr/>
          <p:nvPr/>
        </p:nvPicPr>
        <p:blipFill>
          <a:blip r:embed="rId4"/>
          <a:stretch/>
        </p:blipFill>
        <p:spPr>
          <a:xfrm>
            <a:off x="7143840" y="571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238594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3854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6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504280" cy="15476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. Лядов  Симфоническая картина «Кикимора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Д. Тухманов  Ю.Энтин «Кикимора» плюсовая и минусовая фонограмм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Знакомство с композиторо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 персонажами произведени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очинение плана собственной. композиции «Моя кикимора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рослушивание  произведение А. Лядова, анализ-сравнение со своим вариантом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ен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3" descr=""/>
          <p:cNvPicPr/>
          <p:nvPr/>
        </p:nvPicPr>
        <p:blipFill>
          <a:blip r:embed="rId1"/>
          <a:stretch/>
        </p:blipFill>
        <p:spPr>
          <a:xfrm>
            <a:off x="66600" y="-66600"/>
            <a:ext cx="8454960" cy="1828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3591000" cy="4879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648320" y="1857240"/>
            <a:ext cx="403848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Мастер симфонической и фортепианной миниатюры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обработки русских народных песен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рофессор Санкт-Петербургской консерватории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.К.- выходец из семьи профессиональных музыкантов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тец, дядя, и дед композитора были известными дирижерами своего времени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Рисование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оэтическое творчество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4857840" y="1301760"/>
            <a:ext cx="3286080" cy="4649760"/>
          </a:xfrm>
          <a:prstGeom prst="rect">
            <a:avLst/>
          </a:prstGeom>
          <a:ln w="0">
            <a:noFill/>
          </a:ln>
        </p:spPr>
      </p:pic>
      <p:sp>
        <p:nvSpPr>
          <p:cNvPr id="357" name="TextBox 5"/>
          <p:cNvSpPr/>
          <p:nvPr/>
        </p:nvSpPr>
        <p:spPr>
          <a:xfrm>
            <a:off x="4487760" y="6000840"/>
            <a:ext cx="408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натолий Константинович Лядов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ортрет работы И. Репина (1902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3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Общение с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Н. А.Римским-Корсаковым определило всю дальнейшую судьбу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 середине 70-х.гг. А. Лядов  вошел в состав «Могучей кучки»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Содержимое 5" descr="r03013i.bmp"/>
          <p:cNvPicPr/>
          <p:nvPr/>
        </p:nvPicPr>
        <p:blipFill>
          <a:blip r:embed="rId2"/>
          <a:stretch/>
        </p:blipFill>
        <p:spPr>
          <a:xfrm>
            <a:off x="4857840" y="1849320"/>
            <a:ext cx="3500280" cy="38959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"/>
          <p:cNvSpPr/>
          <p:nvPr/>
        </p:nvSpPr>
        <p:spPr>
          <a:xfrm>
            <a:off x="4984920" y="592920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Н.А.Римский - Корсаков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3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 1878г. А. Лядов -педагог Петербургской консерватории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2"/>
          <a:stretch/>
        </p:blipFill>
        <p:spPr>
          <a:xfrm>
            <a:off x="4284720" y="2071800"/>
            <a:ext cx="4749840" cy="3571920"/>
          </a:xfrm>
          <a:prstGeom prst="rect">
            <a:avLst/>
          </a:prstGeom>
          <a:ln w="0">
            <a:noFill/>
          </a:ln>
        </p:spPr>
      </p:pic>
      <p:sp>
        <p:nvSpPr>
          <p:cNvPr id="365" name="TextBox 6"/>
          <p:cNvSpPr/>
          <p:nvPr/>
        </p:nvSpPr>
        <p:spPr>
          <a:xfrm>
            <a:off x="4618800" y="57150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Год основания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онсерватории186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реди его выдающихся учеников –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entury Gothic"/>
              </a:rPr>
              <a:t>С.С.Прокофьев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4572000" y="1538280"/>
            <a:ext cx="415116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(шишимора, мара), в русских народных поверьях — злой дух, малютка-невидимка женского пола, живущая в доме за печкой и занимающаяся прядением и тканье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пециальная камуфлированная накидка, которая используется для маскировки снайпер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6:59:51Z</dcterms:created>
  <dc:creator>Elena</dc:creator>
  <dc:description/>
  <dc:language>en-US</dc:language>
  <cp:lastModifiedBy>Admin</cp:lastModifiedBy>
  <dcterms:modified xsi:type="dcterms:W3CDTF">2011-10-27T17:00:31Z</dcterms:modified>
  <cp:revision>18</cp:revision>
  <dc:subject/>
  <dc:title>Слайд 1</dc:title>
</cp:coreProperties>
</file>