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C96-3FD9-4552-B424-A9484D43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8C8-2B63-400C-9D56-78A2602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62A-BC48-4895-B30D-B4896147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FEE-81D0-4D9F-8C69-D8A5A9D8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AAD-2721-4221-A9BB-E55F4542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D6A-1647-429F-ACF6-CFA66CA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D38D-9CAC-4B2F-8A13-449D9B83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0929-9DDF-47A6-874A-BE44CCEB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916C-EFD6-40AE-82E9-2880E2E6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96BC-D0DF-4B6A-84B9-63747AE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5208-FD87-4B31-A6DD-25B2E75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CBE-3C6F-47A0-87A4-47AE708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D551-5235-404A-A78A-76AC5E4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47F8-8DF8-48AC-A248-A63E90C8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9ED-B68A-4F1C-9F02-96612320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C560-CC2D-40C6-9BFF-AF2D04C3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398-C9BF-44EA-8C6B-263F254B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5A84-6C85-4E9B-A952-7BD18BED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0D0F-DA1F-425F-8313-D8A8A84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DC36-D35D-41AE-9E6A-276C9B59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C4DF-639A-4990-8C87-9AEB5B27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7378-4832-4F05-B42F-ADCEDE6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514-DF97-4E13-A25A-42A4F5A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86D1-8390-4D23-B5BE-EC583C9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A073-4124-4340-B73F-D5E9155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39B6-650C-4957-A365-55A3C8F2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4B52B-7765-40F3-85E1-6554EE5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5C7CE-03CA-4863-AF04-DB240DE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88F0-3AFA-43CB-89CA-CE2D7AEB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CFA9-06CA-4D97-B66D-24CDEF7E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0914-B485-49F7-AC86-F0298DF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4C9B-FFB5-4EF2-B20D-0C163B7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19C8-F5D4-482B-9906-FC51F29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5A8-582B-401D-A67E-90FBAD6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0562-F7A8-4624-ACBF-AF34CEC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80C62-4DD9-4F3A-B8C2-6294F87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1B33-498E-451F-912F-BC1DFB0D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8721C-9E08-43A7-920B-1388742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37DD-E9DE-47C3-BFD8-193EBC1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75DC-B40E-40A5-B01A-BBF9C18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CD3A-C3A2-40DA-9BE9-06F0C4CD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24B3-DBC2-4DF9-8082-CEBC15FE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8136-21F1-4885-9404-A6FA5BD5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4D26-E450-45FF-A045-64672702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F8D-98FB-4D40-B0EB-C59BFC5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0C3C-4D3B-4E8C-83A6-474FD1F0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CF79-C08B-41B1-B8CD-B3A3489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85D0-10EC-4348-95EB-9A1B3237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837A2-CF76-4D87-9B8C-40A8804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654C-3F1D-477C-8163-0B9F93E6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BC3F-D5B9-4842-B55C-48DE0282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6DBC-37BF-48FD-BC1B-DBB8E6C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842F0-07B5-4930-81F8-27B26BE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C66E-AC64-473D-AE7B-4D17C02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2F2A-BBD0-4674-A060-F06E352F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704-54EA-42E3-9491-A1E14BC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EF04-33A4-4103-8A76-0CF2620C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1D7D-02D5-4E7C-82FF-D8FB7795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E2F1-61FF-46FF-9805-D5E9124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4B09-1516-4F75-8C4D-D40B5D4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A895-67CD-4B7F-A62F-75C0A68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8168C-C9C0-4DAD-8FE5-76FC9BD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A093-869D-416A-8BBA-6A95D98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3EFA9-CEE4-49E9-BCA5-62C401C4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1940-0520-46EB-882F-EEFDEC3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CD62-4028-4A2C-9AF2-01ECA9E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3F8-DDC2-4961-B710-0E2223A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B3F9-ACC0-4D66-A248-74BD62C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5CBC-693A-404D-BE4E-303FE3B1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9739-88D5-47B0-BB9D-5C88CBA7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75B5-1FDC-452E-87BB-03DF84C2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7D700-E5F5-4652-8887-98CACD90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71B8E-262D-4E5D-A221-0163556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8FAB-822A-4E1E-B588-49514A35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7297C-2528-4E86-9482-0FEB1E1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6F674-E7DC-4FAF-A720-95C0282C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F350-0088-487F-B0BC-ACCEAAB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0D5-B69F-4D19-89B1-634ECDE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1B852-70FC-4496-A721-324288D7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3EC6D-06E1-492B-99E2-96FAD780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66A0-DFC7-4F92-B68A-1F95BB2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3728D-D953-458F-8CB3-9C7B96A0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CAAC4-FD4E-48A8-8005-42925B2D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3795-358F-42D6-BEC7-7FC59FBE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6C0DF-B117-4B72-8E58-D0DC91DD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3298-C9C5-4791-B46A-6EAA727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135D-F9CD-4122-9BCD-E0823CB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25E96-AA84-4F81-AB6A-454B75F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777-B671-492C-AD40-C9DAFD28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96D9-5C23-4A34-99D2-E968FEB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C5FA-27BE-49DE-937C-13C986B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30C5F-2996-4E77-95E9-359E56B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B256-F11C-4720-B1CB-0A3DB42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606C0-BB33-4D04-820F-F9324B82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410F-E111-44D4-9A24-8A27AB41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24D6A-476F-4878-9E61-5259E530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CD6F-2661-4229-8118-D760F6E467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3E1-7B04-4411-94AD-AA2F99C8059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3CB-3C20-42E9-9C60-CB5F4D66A1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D07-BD7D-4A46-8E11-3CD1574CEE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4D8-DF30-476E-BD64-3329B08CF9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7EE8-7F18-41E8-972E-39DBB6EE67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437-B9DE-4256-9E14-967178B032A0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666-9633-4D64-8247-45D5C06E7EB6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1077840" cy="6164280"/>
          </a:xfrm>
          <a:prstGeom prst="rect">
            <a:avLst/>
          </a:prstGeom>
          <a:ln w="0">
            <a:noFill/>
          </a:ln>
        </p:spPr>
      </p:pic>
      <p:pic>
        <p:nvPicPr>
          <p:cNvPr id="372" name="Текст 4" descr=""/>
          <p:cNvPicPr/>
          <p:nvPr/>
        </p:nvPicPr>
        <p:blipFill>
          <a:blip r:embed="rId2"/>
          <a:stretch/>
        </p:blipFill>
        <p:spPr>
          <a:xfrm>
            <a:off x="1359000" y="285840"/>
            <a:ext cx="592200" cy="3030480"/>
          </a:xfrm>
          <a:prstGeom prst="rect">
            <a:avLst/>
          </a:prstGeom>
          <a:ln w="0">
            <a:noFill/>
          </a:ln>
        </p:spPr>
      </p:pic>
      <p:pic>
        <p:nvPicPr>
          <p:cNvPr id="373" name="Текст 5" descr=""/>
          <p:cNvPicPr/>
          <p:nvPr/>
        </p:nvPicPr>
        <p:blipFill>
          <a:blip r:embed="rId3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  - композитор!</a:t>
            </a: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пишите какими  выразительными средствами  музыки вы воспользуетесь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428920" y="2428920"/>
          <a:ext cx="5500800" cy="4206960"/>
        </p:xfrm>
        <a:graphic>
          <a:graphicData uri="http://schemas.openxmlformats.org/drawingml/2006/table">
            <a:tbl>
              <a:tblPr/>
              <a:tblGrid>
                <a:gridCol w="3500280"/>
                <a:gridCol w="200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арактер муз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с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бр (тембр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ит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868480" y="1285920"/>
            <a:ext cx="3346560" cy="5064120"/>
          </a:xfrm>
          <a:prstGeom prst="rect">
            <a:avLst/>
          </a:prstGeom>
          <a:ln w="0">
            <a:noFill/>
          </a:ln>
        </p:spPr>
      </p:pic>
      <p:pic>
        <p:nvPicPr>
          <p:cNvPr id="379" name="03 - А. Лядов - Кикимор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42960" y="1512720"/>
            <a:ext cx="3611520" cy="4631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5143680" y="1536840"/>
            <a:ext cx="3000240" cy="45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285920" y="1330200"/>
            <a:ext cx="2214360" cy="4711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4714920" y="1360440"/>
            <a:ext cx="361944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072040" y="1643040"/>
            <a:ext cx="3143160" cy="4491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3"/>
          <a:stretch/>
        </p:blipFill>
        <p:spPr>
          <a:xfrm>
            <a:off x="785880" y="1643040"/>
            <a:ext cx="3054240" cy="46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4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65080" y="1714680"/>
            <a:ext cx="3214800" cy="4286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амятники героям Пушкина в Донецк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-311040" y="285840"/>
            <a:ext cx="1633320" cy="6164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365120" y="290160"/>
            <a:ext cx="581040" cy="301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Текст 7" descr=""/>
          <p:cNvPicPr/>
          <p:nvPr/>
        </p:nvPicPr>
        <p:blipFill>
          <a:blip r:embed="rId2"/>
          <a:stretch/>
        </p:blipFill>
        <p:spPr>
          <a:xfrm>
            <a:off x="1238400" y="3395520"/>
            <a:ext cx="712800" cy="3054600"/>
          </a:xfrm>
          <a:prstGeom prst="rect">
            <a:avLst/>
          </a:prstGeom>
          <a:ln w="0">
            <a:noFill/>
          </a:ln>
        </p:spPr>
      </p:pic>
      <p:pic>
        <p:nvPicPr>
          <p:cNvPr id="395" name="Кикимора плюс.mp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узыкальный проект Д. Тухманов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Бяки –Бук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Кикимора минус.mp3" descr=""/>
          <p:cNvPicPr/>
          <p:nvPr/>
        </p:nvPicPr>
        <p:blipFill>
          <a:blip r:embed="rId4"/>
          <a:stretch/>
        </p:blipFill>
        <p:spPr>
          <a:xfrm>
            <a:off x="7143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8594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3854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04280" cy="1547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 Лядов  Симфоническая картина «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Д. Тухманов  Ю.Энтин «Кикимора» плюсовая и минусовая фонограмм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накомство с композитор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персонажами произведе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чинение плана собственной. композиции «Моя 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слушивание  произведение А. Лядова, анализ-сравнение со своим вариантом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3" descr=""/>
          <p:cNvPicPr/>
          <p:nvPr/>
        </p:nvPicPr>
        <p:blipFill>
          <a:blip r:embed="rId1"/>
          <a:stretch/>
        </p:blipFill>
        <p:spPr>
          <a:xfrm>
            <a:off x="66600" y="-66600"/>
            <a:ext cx="845496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591000" cy="4879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астер симфонической и фортепианной миниатюр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работки русских народных песен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офессор Санкт-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К.- выходец из семьи профессиональных музыкантов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ец, дядя, и дед композитора были известными дирижерами своего времени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этическое творчество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857840" y="1301760"/>
            <a:ext cx="3286080" cy="46497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4487760" y="60008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натолий Константинович Лядов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ртрет работы И. Репина (1902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щение 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Н. А.Римским-Корсаковым определило всю дальнейшую судьбу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середине 70-х.гг. А. Лядов  вошел в состав «Могучей кучки»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Содержимое 5" descr="r03013i.bmp"/>
          <p:cNvPicPr/>
          <p:nvPr/>
        </p:nvPicPr>
        <p:blipFill>
          <a:blip r:embed="rId2"/>
          <a:stretch/>
        </p:blipFill>
        <p:spPr>
          <a:xfrm>
            <a:off x="4857840" y="1849320"/>
            <a:ext cx="3500280" cy="3895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984920" y="59292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Н.А.Римский - Корсако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1878г. А. Лядов -педагог 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4284720" y="2071800"/>
            <a:ext cx="4749840" cy="35719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618800" y="57150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од основания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нсерватории186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реди его выдающихся учеников –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С.С.Прокофьев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4572000" y="1538280"/>
            <a:ext cx="41511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шишимора, мара), в русских народных поверьях — злой дух, малютка-невидимка женского пола, живущая в доме за печкой и занимающаяся прядением и тканье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ециальная камуфлированная накидка, которая используется для маскировки снайпер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59:51Z</dcterms:created>
  <dc:creator>Elena</dc:creator>
  <dc:description/>
  <dc:language>en-US</dc:language>
  <cp:lastModifiedBy>Admin</cp:lastModifiedBy>
  <dcterms:modified xsi:type="dcterms:W3CDTF">2011-10-27T17:00:31Z</dcterms:modified>
  <cp:revision>18</cp:revision>
  <dc:subject/>
  <dc:title>Слайд 1</dc:title>
</cp:coreProperties>
</file>