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3129-F56E-4DEE-8D1B-EA0BD85C3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515E-0B7F-4BD2-8237-6D2C52D32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19E0-B2FD-4DD4-BF26-0A9EFFF99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4E28-134B-442F-8C5A-0BB960315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B969-5903-47AC-BC70-5CACF7D51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C5BC-BC5F-4558-A290-99F1EEB59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427E-FE04-476D-8319-B2179D1D6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2AD4-F5E8-48EA-82AA-C1D28BBC2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ACCA-116B-4339-B7FE-6A0BF078E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0623-61F1-4B70-81FC-B4C222926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D36C-76C3-422C-8E6D-81B999CA8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4911-96F0-4569-BB31-C974D160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32FC6-BE3A-4B68-8951-651D97A15C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184480"/>
            <a:ext cx="7772400" cy="101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полнение стежко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141360"/>
            <a:ext cx="6400800" cy="283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шивка кре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правило, наборы для вышивания комплектуются кратким учебным курсом. Во многих методических указаниях рекомендуется вышивать от центра с большого участка, вышиваемого одним цветом (по кругу)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коменд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3акрепление нит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822960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репление нити в начале раб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пособ 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подходит, как для вышивания в одну, так и в две или три  нитк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гла вводится с лицевой стороны, делается маленький стежок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вости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итки закрываетс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ежками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к-11-1"/>
          <p:cNvPicPr/>
          <p:nvPr/>
        </p:nvPicPr>
        <p:blipFill>
          <a:blip r:embed="rId1"/>
          <a:srcRect l="0" t="0" r="0" b="12224"/>
          <a:stretch/>
        </p:blipFill>
        <p:spPr>
          <a:xfrm>
            <a:off x="3708360" y="3860640"/>
            <a:ext cx="439272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3акрепление нити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05264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пособ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для вышивания в две нитки). От пасмы отделяется одна нитка, складывается пополам и вдевается в иглу обоими концами. На другом конце сложенной нити образуется петелька. Иглой с нитками делается маленький стежок, иголка продевается в петельку, которая затягивается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12"/>
          <p:cNvPicPr/>
          <p:nvPr/>
        </p:nvPicPr>
        <p:blipFill>
          <a:blip r:embed="rId1"/>
          <a:stretch/>
        </p:blipFill>
        <p:spPr>
          <a:xfrm>
            <a:off x="3276720" y="4292640"/>
            <a:ext cx="324000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3акрепление нити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пособ 3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для вышивания в две нитки). От пасмы отделяется 1 нитка, вдевается в иголку. Далее делается маленький стежок. Нить вытягивается наполовину, после чего оба конца вдеваются в иголку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крепление нити в конце строки (работы).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завершении вышивки нитку можно закрепить на лицевой стороне, протаскивая её под вышитые стежки, или на изнанке - аналогичным способом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6560" y="-171360"/>
            <a:ext cx="770436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шивка крестом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направление и виды стежк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4360" y="1268280"/>
            <a:ext cx="8229600" cy="517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ов «крест» является одним из самых простых декоративных шв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ест состоит из двух перекрещивающихся диагональных стеж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ачала выполняются стежки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ом направлении (полукрест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тем процесс повторяется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тную сторону. При этом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наночной стороне образу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вные ряды вертикаль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горизонтальны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в зависим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авления вышив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к-13-1"/>
          <p:cNvPicPr/>
          <p:nvPr/>
        </p:nvPicPr>
        <p:blipFill>
          <a:blip r:embed="rId1"/>
          <a:srcRect l="0" t="0" r="0" b="17468"/>
          <a:stretch/>
        </p:blipFill>
        <p:spPr>
          <a:xfrm>
            <a:off x="5724360" y="2637000"/>
            <a:ext cx="324036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шивка крестом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направление и виды стежков)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бы крестики были ровными, иголка должна входить в одни и те же дырочки. Любая вышивка смотрится аккуратнее, если все стежки выполнены в одном направлении, а на изнаночной стороне                        работы отсутствуют длинные                    протяжки нит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к-13-2"/>
          <p:cNvPicPr/>
          <p:nvPr/>
        </p:nvPicPr>
        <p:blipFill>
          <a:blip r:embed="rId1"/>
          <a:stretch/>
        </p:blipFill>
        <p:spPr>
          <a:xfrm>
            <a:off x="5838840" y="3500280"/>
            <a:ext cx="330516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шивка крестом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(направление и виды стежков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какой-то участок вышивается полукрестом, то стежки должны лежать в том же направлении, что и верхние стежки кре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огда в вышивках используются 1/4 и 3/4креста. Эти стежки нужны для сглаживания контуров вышиваемого объекта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к-14-1"/>
          <p:cNvPicPr/>
          <p:nvPr/>
        </p:nvPicPr>
        <p:blipFill>
          <a:blip r:embed="rId1"/>
          <a:srcRect l="0" t="0" r="-3149" b="16065"/>
          <a:stretch/>
        </p:blipFill>
        <p:spPr>
          <a:xfrm>
            <a:off x="2627280" y="4724280"/>
            <a:ext cx="41054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шивка крестом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направление и виды стежков).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выделения отдельных  деталей (например, складок на одежде) или прорисовки мелких частей (например, нос или рот на лице человечка) используется строчной шов, так называемый, бэкститч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к-14-2"/>
          <p:cNvPicPr/>
          <p:nvPr/>
        </p:nvPicPr>
        <p:blipFill>
          <a:blip r:embed="rId1"/>
          <a:srcRect l="0" t="0" r="0" b="24411"/>
          <a:stretch/>
        </p:blipFill>
        <p:spPr>
          <a:xfrm>
            <a:off x="2700360" y="3860640"/>
            <a:ext cx="33843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6T05:23:24Z</dcterms:created>
  <dc:creator>*</dc:creator>
  <dc:description/>
  <dc:language>en-US</dc:language>
  <cp:lastModifiedBy>Пользователь</cp:lastModifiedBy>
  <dcterms:modified xsi:type="dcterms:W3CDTF">2013-09-07T10:47:21Z</dcterms:modified>
  <cp:revision>49</cp:revision>
  <dc:subject/>
  <dc:title>СХЕМА</dc:title>
</cp:coreProperties>
</file>