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CD2-4F17-437D-8B76-2D71F49B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FD2-4EB0-4213-B5DA-2BCD1BE0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88C-49A2-4AC2-829B-77FD7360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068-B7FD-4DD7-8A77-66C10444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8F3-80CA-4FD8-B582-49B6B67C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CBD-926B-48BC-B38F-FA3ED1C0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BDB-E8C3-4D06-BC7D-B6FA9DCC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44D-F370-49DB-87E9-B0C405B9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1E9-FBBE-4EA0-92E1-116699A2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C97-51E8-4A0B-B366-253B8431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891-66CE-42E1-BA1A-0FE12553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624-71EB-41F6-AA65-FC3234B6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C47A-1838-4B05-B2D3-5796659FA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844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ение стеж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шивка кр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равило, наборы для вышивания комплектуются кратким учебным курсом. Во многих методических указаниях рекомендуется вышивать от центра с большого участка, вышиваемого одним цветом (по кругу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акрепление ни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ление нити в начал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особ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одходит, как для вышивания в одну, так и в две или три  нит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ла вводится с лицевой стороны, делается маленький стежок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вост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тки закрывает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жками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к-11-1"/>
          <p:cNvPicPr/>
          <p:nvPr/>
        </p:nvPicPr>
        <p:blipFill>
          <a:blip r:embed="rId1"/>
          <a:srcRect l="0" t="0" r="0" b="12224"/>
          <a:stretch/>
        </p:blipFill>
        <p:spPr>
          <a:xfrm>
            <a:off x="3708360" y="386064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акрепление нити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особ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для вышивания в две нитки). От пасмы отделяется одна нитка, складывается пополам и вдевается в иглу обоими концами. На другом конце сложенной нити образуется петелька. Иглой с нитками делается маленький стежок, иголка продевается в петельку, которая затягиваетс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2"/>
          <p:cNvPicPr/>
          <p:nvPr/>
        </p:nvPicPr>
        <p:blipFill>
          <a:blip r:embed="rId1"/>
          <a:stretch/>
        </p:blipFill>
        <p:spPr>
          <a:xfrm>
            <a:off x="3276720" y="4292640"/>
            <a:ext cx="32400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акрепление нити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особ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ля вышивания в две нитки). От пасмы отделяется 1 нитка, вдевается в иголку. Далее делается маленький стежок. Нить вытягивается наполовину, после чего оба конца вдеваются в иголку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репление нити в конце строки (работы)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завершении вышивки нитку можно закрепить на лицевой стороне, протаскивая её под вышитые стежки, или на изнанке - аналогичным способ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-171360"/>
            <a:ext cx="770436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ивка крестом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направление и виды стеж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22960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ов «крест» является одним из самых простых декоративных шв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ст состоит из двух перекрещивающихся диагональных стеж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выполняются стежк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м направлении (полукрест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процесс повторя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ую сторону. При этом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наночной стороне образ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вные ряды вертик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оризонталь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я выши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-13-1"/>
          <p:cNvPicPr/>
          <p:nvPr/>
        </p:nvPicPr>
        <p:blipFill>
          <a:blip r:embed="rId1"/>
          <a:srcRect l="0" t="0" r="0" b="17468"/>
          <a:stretch/>
        </p:blipFill>
        <p:spPr>
          <a:xfrm>
            <a:off x="5724360" y="2637000"/>
            <a:ext cx="3240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ивка крестом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направление и виды стежков)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крестики были ровными, иголка должна входить в одни и те же дырочки. Любая вышивка смотрится аккуратнее, если все стежки выполнены в одном направлении, а на изнаночной стороне                        работы отсутствуют длинные                    протяжки ни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к-13-2"/>
          <p:cNvPicPr/>
          <p:nvPr/>
        </p:nvPicPr>
        <p:blipFill>
          <a:blip r:embed="rId1"/>
          <a:stretch/>
        </p:blipFill>
        <p:spPr>
          <a:xfrm>
            <a:off x="5838840" y="3500280"/>
            <a:ext cx="33051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ивка кресто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направление и виды стежк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какой-то участок вышивается полукрестом, то стежки должны лежать в том же направлении, что и верхние стежки кр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гда в вышивках используются 1/4 и 3/4креста. Эти стежки нужны для сглаживания контуров вышиваемого объект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к-14-1"/>
          <p:cNvPicPr/>
          <p:nvPr/>
        </p:nvPicPr>
        <p:blipFill>
          <a:blip r:embed="rId1"/>
          <a:srcRect l="0" t="0" r="-3149" b="16065"/>
          <a:stretch/>
        </p:blipFill>
        <p:spPr>
          <a:xfrm>
            <a:off x="2627280" y="4724280"/>
            <a:ext cx="41054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ивка крестом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направление и виды стежков)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ыделения отдельных  деталей (например, складок на одежде) или прорисовки мелких частей (например, нос или рот на лице человечка) используется строчной шов, так называемый, бэкстит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-14-2"/>
          <p:cNvPicPr/>
          <p:nvPr/>
        </p:nvPicPr>
        <p:blipFill>
          <a:blip r:embed="rId1"/>
          <a:srcRect l="0" t="0" r="0" b="24411"/>
          <a:stretch/>
        </p:blipFill>
        <p:spPr>
          <a:xfrm>
            <a:off x="2700360" y="386064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23:24Z</dcterms:created>
  <dc:creator>*</dc:creator>
  <dc:description/>
  <dc:language>en-US</dc:language>
  <cp:lastModifiedBy>Пользователь</cp:lastModifiedBy>
  <dcterms:modified xsi:type="dcterms:W3CDTF">2013-09-07T10:47:21Z</dcterms:modified>
  <cp:revision>49</cp:revision>
  <dc:subject/>
  <dc:title>СХЕМА</dc:title>
</cp:coreProperties>
</file>