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8CA15-2F97-4309-BAB1-A8BFF1526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7FCD9-57CF-4CF2-9441-4BB53E6E1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B72DD-3D3F-4C76-97C3-CC2FA0A4E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71C4A-7928-42CC-8E9F-5D75FA08F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24591-2FFE-43EC-8D8C-CAF31F3D8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D28CB-67C0-41D5-9F08-23832901B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25DC0-8EA0-4858-ADBE-E9CEF9C4A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A7412-EF68-42C2-A37B-E0B6C539B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AB366-5247-4E85-8A96-35ACAD000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316A8-3BCD-4561-882D-14080E8A6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0AC56-7944-43F1-8D1E-F50DDEFF5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41E8B-B729-4E53-A9FD-B00B044B8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50E08-2B9B-4BE8-896B-30541ABF12B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2184480"/>
            <a:ext cx="7772400" cy="101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ыполнение стежков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3141360"/>
            <a:ext cx="6400800" cy="283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шивка крест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 правило, наборы для вышивания комплектуются кратким учебным курсом. Во многих методических указаниях рекомендуется вышивать от центра с большого участка, вышиваемого одним цветом (по кругу)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екоменд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3акрепление нити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11280" y="1268280"/>
            <a:ext cx="8229600" cy="276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крепление нити в начале работ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Способ 1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подходит, как для вышивания в одну, так и в две или три  нитки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гла вводится с лицевой стороны, делается маленький стежок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хвости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итки закрываетс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ежками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6" descr="к-11-1"/>
          <p:cNvPicPr/>
          <p:nvPr/>
        </p:nvPicPr>
        <p:blipFill>
          <a:blip r:embed="rId1"/>
          <a:srcRect l="0" t="0" r="0" b="12224"/>
          <a:stretch/>
        </p:blipFill>
        <p:spPr>
          <a:xfrm>
            <a:off x="3708360" y="3860640"/>
            <a:ext cx="439272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3акрепление нити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9640" y="1052640"/>
            <a:ext cx="822960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Способ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для вышивания в две нитки). От пасмы отделяется одна нитка, складывается пополам и вдевается в иглу обоими концами. На другом конце сложенной нити образуется петелька. Иглой с нитками делается маленький стежок, иголка продевается в петельку, которая затягивается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12"/>
          <p:cNvPicPr/>
          <p:nvPr/>
        </p:nvPicPr>
        <p:blipFill>
          <a:blip r:embed="rId1"/>
          <a:stretch/>
        </p:blipFill>
        <p:spPr>
          <a:xfrm>
            <a:off x="3276720" y="4292640"/>
            <a:ext cx="3240000" cy="231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3акрепление нити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Способ 3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для вышивания в две нитки). От пасмы отделяется 1 нитка, вдевается в иголку. Далее делается маленький стежок. Нить вытягивается наполовину, после чего оба конца вдеваются в иголку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акрепление нити в конце строки (работы).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 завершении вышивки нитку можно закрепить на лицевой стороне, протаскивая её под вышитые стежки, или на изнанке - аналогичным способом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26560" y="-171360"/>
            <a:ext cx="7704360" cy="15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ышивка крестом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(направление и виды стежков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4360" y="1268280"/>
            <a:ext cx="8229600" cy="517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Шов «крест» является одним из самых простых декоративных шв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рест состоит из двух перекрещивающихся диагональных стежк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начала выполняются стежки 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дном направлении (полукрест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тем процесс повторяется 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ратную сторону. При этом 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наночной стороне образую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овные ряды вертикальны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горизонтальных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в зависим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правления вышивк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к-13-1"/>
          <p:cNvPicPr/>
          <p:nvPr/>
        </p:nvPicPr>
        <p:blipFill>
          <a:blip r:embed="rId1"/>
          <a:srcRect l="0" t="0" r="0" b="17468"/>
          <a:stretch/>
        </p:blipFill>
        <p:spPr>
          <a:xfrm>
            <a:off x="5724360" y="2637000"/>
            <a:ext cx="3240360" cy="26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ышивка крестом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(направление и виды стежков).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тобы крестики были ровными, иголка должна входить в одни и те же дырочки. Любая вышивка смотрится аккуратнее, если все стежки выполнены в одном направлении, а на изнаночной стороне                        работы отсутствуют длинные                    протяжки ните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к-13-2"/>
          <p:cNvPicPr/>
          <p:nvPr/>
        </p:nvPicPr>
        <p:blipFill>
          <a:blip r:embed="rId1"/>
          <a:stretch/>
        </p:blipFill>
        <p:spPr>
          <a:xfrm>
            <a:off x="5838840" y="3500280"/>
            <a:ext cx="3305160" cy="31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ышивка крестом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(направление и виды стежков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сли какой-то участок вышивается полукрестом, то стежки должны лежать в том же направлении, что и верхние стежки крес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огда в вышивках используются 1/4 и 3/4креста. Эти стежки нужны для сглаживания контуров вышиваемого объекта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6" descr="к-14-1"/>
          <p:cNvPicPr/>
          <p:nvPr/>
        </p:nvPicPr>
        <p:blipFill>
          <a:blip r:embed="rId1"/>
          <a:srcRect l="0" t="0" r="-3149" b="16065"/>
          <a:stretch/>
        </p:blipFill>
        <p:spPr>
          <a:xfrm>
            <a:off x="2627280" y="4724280"/>
            <a:ext cx="4105440" cy="17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ышивка крестом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(направление и виды стежков).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ля выделения отдельных  деталей (например, складок на одежде) или прорисовки мелких частей (например, нос или рот на лице человечка) используется строчной шов, так называемый, бэкститч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к-14-2"/>
          <p:cNvPicPr/>
          <p:nvPr/>
        </p:nvPicPr>
        <p:blipFill>
          <a:blip r:embed="rId1"/>
          <a:srcRect l="0" t="0" r="0" b="24411"/>
          <a:stretch/>
        </p:blipFill>
        <p:spPr>
          <a:xfrm>
            <a:off x="2700360" y="3860640"/>
            <a:ext cx="338436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6T05:23:24Z</dcterms:created>
  <dc:creator>*</dc:creator>
  <dc:description/>
  <dc:language>en-US</dc:language>
  <cp:lastModifiedBy>Пользователь</cp:lastModifiedBy>
  <dcterms:modified xsi:type="dcterms:W3CDTF">2013-09-07T10:47:21Z</dcterms:modified>
  <cp:revision>49</cp:revision>
  <dc:subject/>
  <dc:title>СХЕМА</dc:title>
</cp:coreProperties>
</file>