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98D-71D6-42F6-9C01-0D757FCB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F1A-4426-41DC-AB16-BF1CB828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9ED-A8BA-4A4B-8FF5-E68E65D2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85A-3146-484A-8C9F-B5E26A70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ACF4-A257-4462-8CEF-20CAE7F5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B7A7-E3F9-4A92-9C66-8E7BE473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C75D-DB53-41A2-84BB-28BD903F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52A5-F3A8-45C7-A5B4-21BA5F55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6585-5A34-45FE-83CB-2597731E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38AF-F03C-4189-8BFF-41EC9397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DEC7-DDFF-4CA2-8AD1-33CB3D3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417-8EC2-4B47-93DB-DFA93762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A6F0-D2C1-4766-ADAD-F8CEB9A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2D6C-2837-4643-B697-640991F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2E45-B9BB-4095-8713-D53B5483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EB3D-2A36-4BE6-9ED1-5824469D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C3B4-9EFC-442F-A009-89095958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49C-C2F4-4867-B4FF-4D474477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101-1AA9-480A-BC5F-4CBA8DAA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B2F-CFAF-42C8-965C-65931342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5B5-62A3-462A-9AA4-04900458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01D-71C4-45DF-AD6C-4CF6E6D3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146-D914-4660-9839-80DECB16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404-BD1D-42DB-9CF9-5E28826E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04BE-EDB3-491E-A5EC-FBCEC91EC28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C841-6DB8-4F16-A9C2-114DC2F3988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пасности в спортивном туриз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739680" y="270000"/>
            <a:ext cx="5327640" cy="3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Школа туристкой подготовки начального уровн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Ядовитые или опасны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секомые и зме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уки -  я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челы – аллер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усы зм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икие животны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две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аи волк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упные копытные в период спаривания (осен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Ядовитые раст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есть незнакомые яго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трогать незнакомые раст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убъективные опас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остаточная подготовка группы (техническая, физическа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ликты в групп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шибки в ориентировании (всей группой, по одиночк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теря снаряжения (по разным причинам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ав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е скрытые заболевания, которые обострили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пасности в похода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ъективные (связанные с окружающим миром и не зависящие от туристо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ивные (зависящие от отдельного  туриста или группы в целом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мп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олод (мороз, обледенение маршрутов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ара (перегрев, защита от солнца, минимум движения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онь (пожары, взрывы примусов и горелок) - соблюдать меры безопас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ете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носит бива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юдей на горном рельеф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худшает слышимость команд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ражение электрическим токо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бегать во время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стрых гребней и скальных останце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сырых трещин на скал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одиночных деревьев в открытом по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водоем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ждь, длительные осад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ышается уровень воды в реках – подтопление берег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величивается опасность схода с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никают ополз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ановятся скользкими тропы и покрытые лишайниками камн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негопады, лави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величивается вероятность схода лав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трудняется передвижение – падает скорость (отставание от график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омаются палатки от сне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мнепады и обвалы, осып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правило наступают дважды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при освещении солнцем ска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при замерзании воды в трещин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валы вынужденные и непроизво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ыпи – обломки камней, море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олодная – гипотерм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асность утону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7:25:53Z</dcterms:created>
  <dc:creator>--</dc:creator>
  <dc:description/>
  <dc:language>en-US</dc:language>
  <cp:lastModifiedBy>ZooM</cp:lastModifiedBy>
  <dcterms:modified xsi:type="dcterms:W3CDTF">2013-12-03T20:39:50Z</dcterms:modified>
  <cp:revision>4</cp:revision>
  <dc:subject/>
  <dc:title>Опасности в спортивном туризме</dc:title>
</cp:coreProperties>
</file>