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C9B-B3D1-47EB-B867-CF10DD5D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FCE-62A5-4C14-BDA2-023C704E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6BF-002B-4816-8A93-FFAB147A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62C-541C-45E7-A392-B2F53E54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2CF3-1AC5-4319-9D9C-E68E842A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874-192A-4085-9EBB-BB3AA862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34A4-F006-45B3-9981-5927F042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49B2-E6ED-43F2-B055-E6F50BF0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EAAD-B19B-4090-9BC8-737FF0E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6782-D008-4FD5-A538-6AA4F0F6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A1F-F4CD-4BB3-94BB-9A39D01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F0F-7D10-44DB-A1DA-9DD94E5A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C50C-962A-46ED-A9D8-97008FF8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65A1-BAB4-4E66-BA2E-1EA8999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3985-E090-4A92-86FB-FE6411F2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046A-27B9-4710-B847-DD48A9A7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D274-71C0-4ED3-82D0-C1E60F1C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C8E-3F63-4DB5-8D66-A0C4F965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31A-E4C6-469B-B181-0358BCE7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6AD-5AFD-40B5-9BC8-DDC00120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CA1-ED30-4A44-A624-371E64FF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B3F-D79A-47B9-B3E2-48CF0DE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E78-C975-46D1-A9B2-4D6EDD5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57F-C4CF-4D42-B8A7-E7B4AF6A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A00E-5540-45C8-A77E-A87E99780A1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C90E-792B-4D6A-9B5F-64E9EC615D0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пасности в спортивном туриз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739680" y="270000"/>
            <a:ext cx="532764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Школа туристкой подготовки начального уровн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Ядовитые или опасны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секомые и зме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уки -  я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челы – аллер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усы зм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кие живот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две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и вол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упные копытные в период спаривания (осен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довитые рас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есть незнакомые яг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трогать незнакомые рас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бъективные опас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ая подготовка группы (техническая, физическа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ы в групп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шибки в ориентировании (всей группой, по одиночк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теря снаряжения (по разным причинам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е скрытые заболевания, которые обострили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асности в похода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ъективные (связанные с окружающим миром и не зависящие от турист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ивные (зависящие от отдельного  туриста или группы в целом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п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лод (мороз, обледенение маршрут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ара (перегрев, защита от солнца, минимум движ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онь (пожары, взрывы примусов и горелок) - соблюдать меры безопас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ет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осит бива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дей на горном рельеф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худшает слышимость команд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ажение электрическим ток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бегать во время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стрых гребней и скальных останц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ырых трещин на скал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диночных деревьев в открытом по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водоем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ждь, длительные ос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ается уровень воды в реках – подтопление берег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ивается опасность схода с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ают ополз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новятся скользкими тропы и покрытые лишайниками камн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негопады, лави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ивается вероятность схода лав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трудняется передвижение – падает скорость (отставание от график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омаются палатки от сне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непады и обвалы, осы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правило наступают дважд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и освещении солнцем ска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и замерзании воды в трещин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валы вынужденные и непроизво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ыпи – обломки камней, море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лодная – гипотер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асность утону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7:25:53Z</dcterms:created>
  <dc:creator>--</dc:creator>
  <dc:description/>
  <dc:language>en-US</dc:language>
  <cp:lastModifiedBy>ZooM</cp:lastModifiedBy>
  <dcterms:modified xsi:type="dcterms:W3CDTF">2013-12-03T20:39:50Z</dcterms:modified>
  <cp:revision>4</cp:revision>
  <dc:subject/>
  <dc:title>Опасности в спортивном туризме</dc:title>
</cp:coreProperties>
</file>