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E74-C57A-444E-91F9-D95ADF46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470-5F11-46E0-B201-A80EC6E9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6DA-420B-46C8-86CD-EEDCF665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3B7-9952-4D1B-B999-ED0AE305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F436-A618-4540-8F4D-10F65FB8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777E-E858-4C04-B458-90ABFAA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0775-251D-4ACC-A9DB-04A26028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0BD-C2DB-44FD-B3B8-7A2D651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4AD-2184-4EE5-95FE-2F9D8FC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B7F-015A-4B8F-8DAF-D1EAA8C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F83-ECF0-4B2A-ADDC-E5644DC9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675-3575-4A41-9C63-28A3D0B0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D159-1D31-4249-89A8-C63391A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571-C625-4D4C-80CA-8DEA003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B5DB-B12E-4D32-AB2D-DE0738F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11FB-97D3-4F79-8F8F-C81A00F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3ED-1023-46EC-9174-59B5AA89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5F4-48CE-447C-B069-18D44CD5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CC4-C73A-47A6-B61B-4F8F32C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0AF-926C-451B-A140-8F57764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346-2054-424A-A496-3AD5E01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884-CF7B-4AD8-995D-A05D17C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087-1531-4ACE-A29B-6F8D5C3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FB8-9C85-4555-AA3E-BD197A1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A39-54C5-4C96-853B-EA52F467EF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529A-1724-4DEC-AFA3-DC699DD377B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асности в спортивном туриз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739680" y="270000"/>
            <a:ext cx="532764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Школа туристкой подготовки начального уровн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Ядовитые или опасны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секомые и зме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уки -  я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челы – аллер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усы зм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кие живот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две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и вол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упные копытные в период спаривания (осен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довит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есть незнакомые яг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трогать незнакомые рас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бъективные опас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ая подготовка группы (техническая, физическа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в групп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шибки в ориентировании (всей группой, по одиночк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теря снаряжения (по разным причинам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е скрытые заболевания, которые обостр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асности в похода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ъективные (связанные с окружающим миром и не зависящие от турис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ивные (зависящие от отдельного  туриста или группы в целом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п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 (мороз, обледенение маршру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ара (перегрев, защита от солнца, минимум движ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онь (пожары, взрывы примусов и горелок) - соблюдать меры безопас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ет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осит бива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ей на горном рельеф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худшает слышимость команд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ажение электрическим ток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бегать во время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стрых гребней и скальных останц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ырых трещин на скал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диночных деревьев в открытом по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водоем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ждь, длительные ос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ается уровень воды в реках – подтопление берег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опасность схода с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ают опол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новятся скользкими тропы и покрытые лишайниками кам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гопады, лави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вероятность схода лав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трудняется передвижение – падает скорость (отставание от график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омаются палатки от сн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непады и обвалы,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правило наступают дважд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освещении солнцем ска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замерзании воды в трещин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валы вынужденные и непроизво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ыпи – обломки камней, море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ная – гипотер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асность утону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7:25:53Z</dcterms:created>
  <dc:creator>--</dc:creator>
  <dc:description/>
  <dc:language>en-US</dc:language>
  <cp:lastModifiedBy>ZooM</cp:lastModifiedBy>
  <dcterms:modified xsi:type="dcterms:W3CDTF">2013-12-03T20:39:50Z</dcterms:modified>
  <cp:revision>4</cp:revision>
  <dc:subject/>
  <dc:title>Опасности в спортивном туризме</dc:title>
</cp:coreProperties>
</file>