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7E1-E0D0-4B5B-848F-E45C59DB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02B-0BA1-4AAF-9D12-E08B617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C9E46-33BB-4E8A-A0E4-CAAB6F09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84498-DC9C-466D-BF21-64AA6B68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1DE1C-0C5F-4318-8C75-034DE80B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D8B84-B9B0-4E39-9B20-43582366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C37C3-A805-4486-B85F-F039C3F5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45D6E-F01F-4378-A40F-15AA3B1B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9B1E2-A9EE-41D5-8F92-C7F9E377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3E191-83FD-4D27-B567-8D5905B2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4C724-3F78-40EB-8FAD-0A058DC5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93D4E-18ED-421F-8F3F-749E7DCE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AE6-4B42-43B2-8B25-756A055E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A8DAF-DFF8-470E-B880-A9A8538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864CF7-B812-4266-A9AF-841BC530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8C234-AFB2-4244-9C3E-F50C1EF0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93C9B-9E22-4DC3-B852-28648313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B6438-E963-4A03-8BDB-A7B6A5A8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2BF83-874C-4E2F-B0B1-EA3AC094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DF8A6-22EB-47C0-97D7-F934257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D0CAB-E613-4818-982B-7E27A0C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0A0EF-265A-4743-9661-2808A83A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D0069-8291-4A0C-9F45-9DD92B45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1B9-0CCF-487C-AD26-064115D0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46E86-4831-4B8A-9DE7-3D66D3F7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1AAE1-11FC-49ED-8C35-4D70C724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0E6B1-2BB6-4BC8-AB8F-CA29988B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643EF-E09B-490C-9A56-ED5C6E5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C9F14-F872-4E49-897F-75F921BD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C8CD6-F81D-4500-A7DC-5CF12915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310AB-2502-4FAC-A826-D0CBEC4E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A217A-5CAD-41EA-A976-6657EB18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8D1CB-558E-4E3A-9304-BE5F90D5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0D06E-BF8B-405D-9292-1A05058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5232-63C0-48EB-B8F6-17D3AE91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4E250-49AA-4FF4-964B-F96A5E2A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A3102-B409-45C9-BC42-1171F3F9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7426A-1294-4B7F-A360-F7D5B35C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F7585-3AAD-4E60-A8AC-23387F58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86F5B-8F88-4354-9B10-EE1F703E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3166F-2A7F-4F5F-B288-99D2F32F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19B54-DEFF-491A-8E98-37C6E54C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3027C-5C9D-4DEC-B24E-A228824F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1D0FE-465E-45C7-A3AE-CAE0CB8B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DF312-867E-4226-A5E5-40C944C7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5277-D06A-4E5A-8C35-EA39E63A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3AAE6-38B9-4F94-87B5-F64A1BA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4BC5A-411B-4DEB-AA83-D91F259C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0FF95-8B6B-4E42-A96C-D90739B7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0E5DB-985D-4163-8C6E-94A9902D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0B11B-688D-4375-9740-EEF19FF5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E5A9-C2ED-40FA-AA57-69B455AB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C449-7D44-4B19-A372-29357B32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375C-2F2D-4044-8E71-39F415C8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04C2-31F4-4CE9-A146-FF2D07FB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889C-E01B-4C88-87A9-E4CDC946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574-7FF2-4A38-B103-F13AC427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11E1-E240-4FED-9474-52A72FF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DE9B-C693-4409-B975-30E1AD0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52FC-20CA-419D-AA58-0F41110A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7BE2-2C99-4B27-BE97-B5C42071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43A4-DF71-45C0-A927-1E2888C5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5E1AF-7D71-49D4-9221-7B48CAE0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F7007-E9DD-45E8-8D35-A9EC6453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D8C86-87C5-4D2E-9FD9-945E212B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BBFD7-1E46-42D8-9501-FF784620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82F5-73AC-4F6E-9119-DD63823A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2E9-9D54-43CB-AB78-44BD9C30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FD249-C5DB-4061-9A6A-3557B5B3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6B5F-4614-41D8-8B59-597DCD75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2D08F-EC07-4F55-AB79-60B93B0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FCE3-A58E-43C5-A370-18758383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A0AF-35D4-4AF3-9D05-6AAF80B4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BE7C-0523-4407-B728-E1241BEA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EC63-24DB-484E-965D-0C9B01AA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F3CE-8A91-41E0-890F-5EF9120F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68CD8-1554-408D-A4D9-585D1CF0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F4C8-DC9F-4109-B891-AFCE6B86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F5F-3D46-4637-9850-4DA1427E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3C86-A1EA-4A2E-808C-3EE78652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5599-6EE2-44D6-9243-1BF82C56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089B-FF36-43E3-9A99-F2E0D895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314AC-B302-4E2B-B129-A8118398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9BC3-880E-4820-AC6B-8F8158B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F1387-AC10-4F92-A832-AA4C7EE7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E9DE-A618-4F4C-83F1-7C11D053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E190-FB3A-4FA6-93C7-5EBEB537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6FF3-B0C2-41A8-9A54-5195DCAF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E6611-2885-43D0-9994-49E9F8E9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049-59D3-407E-B461-23F2CF2B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6A105-B5FA-4E8C-B674-E8A1E222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D855C-745D-430A-86DF-42E8F283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DCE1A-62F2-4A0D-BF58-F30200E1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9F33-F378-447E-BAFD-EC9BD002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2F7E9-C481-4FE9-8DF4-B77E17E7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5A83-6E41-424E-B0A6-FBBE0496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BEFD2-FF27-40E5-AA41-DD438594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640F8-FABA-4D2C-9D41-A59C2B78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66840-A93B-4780-92E1-3AC96A88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C5B07-5F98-477C-97AC-68BE10A1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C84-2875-4CBC-AE98-7D083A10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5436-D8D8-4330-ADC3-395EBC50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241B0-2583-40FA-A576-2253EB60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FB170-DBD9-4109-93B7-B0223D7D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BD0DE-3ECE-4C0F-A722-69033B34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E6DA2-D6F7-4B27-BC4F-4EE543E0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74119-B50E-4810-9031-C00E2FBC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2B42D-EE5A-4A35-82BD-F2E5DB61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4265-39DA-4151-A07C-E906C41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F19D-8C15-413A-99E3-8ECF8F73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BBFF0-D45D-4EBF-A22D-BC7A772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781-D3EE-4C2C-8BB6-5EA2EEA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5294F-4F24-4C85-BA1B-51A137D2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A4436-EC14-446C-935B-2862BAF4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A09C0-0F95-40D0-A8BE-A7159429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63FA7-176A-4EDF-B58B-A0544943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D582C-0E75-4CF6-AB51-527183E4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00D70-7063-42BD-877A-74716D7B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E332F-8AB8-41BA-BB05-B716728E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2C945-7D8D-4DEF-A5A3-FB546333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24E49-1FD4-45F7-981B-EFA64556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1EAD1-5E15-4085-9D12-2C27A9AD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5AE-6E51-42BF-AE25-D9A4AF75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84C20-5E25-49EA-82CF-7D0ACF0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A4D0-4B36-4F28-95D9-05E2CC80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BF900-D3A8-4EFF-806E-08A00BC0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1AA3C-031A-4CD1-AB4D-1C2DB0D7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CE3E7-08CF-4C8C-B286-17553E78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74868-BC40-40BC-8F67-42D834AA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F38C3-9425-4C0B-9A04-E1D2FAC5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CD513-3C62-46BA-B8CB-81938234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5AC8A-956C-4B12-80CB-6BF3E962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BFF90-91F3-47F4-B22B-8086F53E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F82-A11F-414D-8E31-A6E2039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35B3C-2261-4771-B2AB-DFF26D61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63024-779D-4DC9-A9AF-EF8286E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6156C-F8E5-416E-BC61-4750637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7793C-80FA-4728-BCDA-DDDB8222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BD0DA-57CE-4526-BDC7-E9FD3D23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E44F1-0EA8-4495-937A-C5344F49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9932F-530C-4FB2-A177-8E82A4C1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C8435-A449-48DB-93B4-81DF58D1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41A37-32B4-4B63-9FCF-2F63A82C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F1328-B8C8-4FCC-86F8-3B07227C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8C7A-C9A4-41DE-A021-E719C4313EB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5DFB-3DC8-4659-96AD-663B221DBB4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C3A7-31BB-479D-B0C3-B112A1C5DD7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11D8-F3E4-47EB-AAF8-5BDC5343773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B605-5E60-465A-BE15-E27E4EF3B5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F64B-CA72-4DEA-8F0F-8B5269B48B4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A061-ED77-4356-83A2-5880994B426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0141-80A4-41F8-87C6-3F2684A38C9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2E9C-5AAA-4807-9EE8-9FD1E379811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5DC2-D991-4E03-93E0-D43D68C829F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4987-0727-4C49-AFE3-101A71BF7A6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edf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1A15-371B-4CA3-B486-C58326652A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portkinef.ru/page.php?pageId=100601&amp;menuItemTreeCode=0759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3"/>
          <p:cNvSpPr/>
          <p:nvPr/>
        </p:nvSpPr>
        <p:spPr>
          <a:xfrm>
            <a:off x="928800" y="207180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ма: Техника нападающего удар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Прямоугольник 5"/>
          <p:cNvSpPr/>
          <p:nvPr/>
        </p:nvSpPr>
        <p:spPr>
          <a:xfrm>
            <a:off x="857160" y="264312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 урок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крепление техники прямого нападающего удар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закрепление техники  блокирова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– закрепление  развития игрового мышления посредством игры в волейбо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Прямоугольник 7"/>
          <p:cNvSpPr/>
          <p:nvPr/>
        </p:nvSpPr>
        <p:spPr>
          <a:xfrm>
            <a:off x="4214880" y="478620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йное пособие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ике нападающего удара в волейболе.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2" name="Picture 4" descr="VOLL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57120"/>
            <a:ext cx="2714760" cy="16272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" descr="D:\Мама\к от симоновой\комп.bmp"/>
          <p:cNvPicPr/>
          <p:nvPr/>
        </p:nvPicPr>
        <p:blipFill>
          <a:blip r:embed="rId3"/>
          <a:stretch/>
        </p:blipFill>
        <p:spPr>
          <a:xfrm rot="734400">
            <a:off x="5976720" y="668160"/>
            <a:ext cx="2473200" cy="205920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Прямоугольник 1"/>
          <p:cNvSpPr/>
          <p:nvPr/>
        </p:nvSpPr>
        <p:spPr>
          <a:xfrm>
            <a:off x="928800" y="1928880"/>
            <a:ext cx="72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ота подъема локтя варьируется в широких пределах в зависимости от индивидуальных способностей игроков. Однако локоть всегда должен быть выше оси плечевого сустава. Нередко игроки принимают положение «лук» – прогибаются в грудной и поясничной частях, ноги сгибают в коленях, отводя голень наза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ая рука принимает активное участие в движении замаха: ее отводят в сторону, растягивая большую грудную мышцу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Прямоугольник 1"/>
          <p:cNvSpPr/>
          <p:nvPr/>
        </p:nvSpPr>
        <p:spPr>
          <a:xfrm>
            <a:off x="928800" y="1714680"/>
            <a:ext cx="7572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ное движение начинают с поворота тела вокруг вертикальной оси, одновременно выводят вперед и поднимают правое плечо. Это движение задает начальную скорость руке, которая включается в работу несколько позже. Ее выпрямляют в локтевом суставе, вытягивают верх и немного вперед, затем опускают по дуге вперед-вниз к левому колену. Одновременно плечо выводят вперед, что помогает задать более точное направление полет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ь накладывается на мяч в расслабленном состоянии сзади-сверху хлестким движением. Одновременно с опусканием руки вперед ее сгибают, направляя мяч вниз. Скорость движения руки наращивается плавно. К моменту скорость должна быть максимально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игрок снижается и приземляется, обязательно сгибая ноги в коленных суставах, что предохраняет опорно-двигательный аппарат от травм и позволяет сразу перейти к последующим действия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D:\Мама\к от симоновой\волейболл.bmp"/>
          <p:cNvPicPr/>
          <p:nvPr/>
        </p:nvPicPr>
        <p:blipFill>
          <a:blip r:embed="rId1"/>
          <a:stretch/>
        </p:blipFill>
        <p:spPr>
          <a:xfrm>
            <a:off x="2500200" y="1285920"/>
            <a:ext cx="3786480" cy="5048280"/>
          </a:xfrm>
          <a:prstGeom prst="rect">
            <a:avLst/>
          </a:prstGeom>
          <a:ln w="0">
            <a:noFill/>
          </a:ln>
        </p:spPr>
      </p:pic>
      <p:sp>
        <p:nvSpPr>
          <p:cNvPr id="693" name="Прямоугольник 2"/>
          <p:cNvSpPr/>
          <p:nvPr/>
        </p:nvSpPr>
        <p:spPr>
          <a:xfrm>
            <a:off x="2857680" y="50004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ова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3"/>
          <p:cNvPicPr/>
          <p:nvPr/>
        </p:nvPicPr>
        <p:blipFill>
          <a:blip r:embed="rId1"/>
          <a:stretch/>
        </p:blipFill>
        <p:spPr>
          <a:xfrm>
            <a:off x="428760" y="1285920"/>
            <a:ext cx="8291520" cy="2911320"/>
          </a:xfrm>
          <a:prstGeom prst="rect">
            <a:avLst/>
          </a:prstGeom>
          <a:ln w="0">
            <a:noFill/>
          </a:ln>
        </p:spPr>
      </p:pic>
      <p:sp>
        <p:nvSpPr>
          <p:cNvPr id="695" name="Прямоугольник 2"/>
          <p:cNvSpPr/>
          <p:nvPr/>
        </p:nvSpPr>
        <p:spPr>
          <a:xfrm>
            <a:off x="3072240" y="714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Прямоугольник 3"/>
          <p:cNvSpPr/>
          <p:nvPr/>
        </p:nvSpPr>
        <p:spPr>
          <a:xfrm>
            <a:off x="714240" y="4286160"/>
            <a:ext cx="7858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ходясь в стойке готовности перед сеткой – ноги на ширине плеч, несколько согнуты в коленных суставах, руки полусогнуты перед туловищем, – игрок следит за действиями сопернико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только игрок определил предполагаемое место атаки, он или прыгает с места или незамедлительно перемещается туда приставными или обычными шагами и принимает исходное положение – ноги сгибаются до положения полуприсед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1"/>
          <p:cNvSpPr/>
          <p:nvPr/>
        </p:nvSpPr>
        <p:spPr>
          <a:xfrm>
            <a:off x="1143000" y="1857240"/>
            <a:ext cx="678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Активным разгибанием ног, выпрямлением туловища и резким маховым движением рук чуть позже нападающего (при передаче мяча на удар по средней траектории) блокирующий игрок выпрыгивает вверх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ынося вверх перед грудью согнутые в локтевых суставах руки, волейболист выпрямляет их. Расстояние между ладонями не превышает диаметра мяча. Пальцы параллельно поднятых вперед-вверх рук широко разведены, кисти слегка напряжены, расположены над сеткой и перенесены на сторону соперника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ик 1"/>
          <p:cNvSpPr/>
          <p:nvPr/>
        </p:nvSpPr>
        <p:spPr>
          <a:xfrm>
            <a:off x="1071720" y="2214720"/>
            <a:ext cx="721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Блокирующий игрок в прыжке контролирует мяч и одновременно следит за действиями нападающего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В момент постановки блока туловище незначительно сгибается в тазобедренном суставе, ноги выпрямлены, мяч накрыт кистя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7–8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После постановки блока волейболист опускает руки перед собой так, чтобы не задеть сетку, и приземляется на полусогнутые ноги, продолжая внимательно следить за мячом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D:\Мама\к от симоновой\волейболл2.bmp"/>
          <p:cNvPicPr/>
          <p:nvPr/>
        </p:nvPicPr>
        <p:blipFill>
          <a:blip r:embed="rId1"/>
          <a:stretch/>
        </p:blipFill>
        <p:spPr>
          <a:xfrm>
            <a:off x="1571760" y="1357200"/>
            <a:ext cx="6072120" cy="48927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Прямоугольник 1"/>
          <p:cNvSpPr/>
          <p:nvPr/>
        </p:nvSpPr>
        <p:spPr>
          <a:xfrm>
            <a:off x="2367720" y="21420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хника движений ног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2" descr="3"/>
          <p:cNvPicPr/>
          <p:nvPr/>
        </p:nvPicPr>
        <p:blipFill>
          <a:blip r:embed="rId1"/>
          <a:stretch/>
        </p:blipFill>
        <p:spPr>
          <a:xfrm>
            <a:off x="1643040" y="642960"/>
            <a:ext cx="5429160" cy="3089160"/>
          </a:xfrm>
          <a:prstGeom prst="rect">
            <a:avLst/>
          </a:prstGeom>
          <a:ln w="0">
            <a:noFill/>
          </a:ln>
        </p:spPr>
      </p:pic>
      <p:sp>
        <p:nvSpPr>
          <p:cNvPr id="677" name="Прямоугольник 3"/>
          <p:cNvSpPr/>
          <p:nvPr/>
        </p:nvSpPr>
        <p:spPr>
          <a:xfrm>
            <a:off x="857160" y="4143240"/>
            <a:ext cx="7500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Толчковая нога – это выражение условное. Оно идет от привычки считать сильнейшей ту ногу, которой человеку привычно отталкиваться. На самом деле возможности обеих ног одинаковы. Игроки, у которых более ловкая рука – правая, чаще отталкиваются левой ногой. Некоторые игроки, прежде чем сделать первый шаг, наблюдая за пасующим, переминаются на месте. И это не ошибка. Главное – не пойти вперед преждевременно и не опоздать с разбегом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Прямоугольник 1"/>
          <p:cNvSpPr/>
          <p:nvPr/>
        </p:nvSpPr>
        <p:spPr>
          <a:xfrm>
            <a:off x="2071800" y="1571760"/>
            <a:ext cx="6715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Время начала разбега и его направление определяют по восходящей траектории передачи мяча для нападающего удара. Для выработки умения определять это время необходимы многократные упражнения. Надо стараться определять время и место встречи с мячом тогда, когда он только оторвался от рук пасующего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В напрыгивании перед прыжком волейболисты посылают вперед правую ногу – это наиболее целесообразно для удара правой рукой. Энергичный замах рукой и отведение плеча поворачивают туловище игрока вправо, при этом правая нога касается площадки раньше лево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оследнем шаге (при напрыгивании) надо соблюдать разумную меру, помня, что напрыгивание – лишь способ для увеличения амплитуды прыжка, а не самоцель. Этому способствует опережающий рывок туловищем вперед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2" descr="8-6"/>
          <p:cNvPicPr/>
          <p:nvPr/>
        </p:nvPicPr>
        <p:blipFill>
          <a:blip r:embed="rId1"/>
          <a:stretch/>
        </p:blipFill>
        <p:spPr>
          <a:xfrm>
            <a:off x="79200" y="12600"/>
            <a:ext cx="2279880" cy="407844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1"/>
          <p:cNvSpPr/>
          <p:nvPr/>
        </p:nvSpPr>
        <p:spPr>
          <a:xfrm>
            <a:off x="500040" y="164304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 моменту постановки ног руки, естественно, круговым движением тянут тело вверх. Иногда рекомендуют ставить ноги перед толчком на пятки. Это неверно. Ноги ставят так: правую – вначале на внешний свод стопы, а левую – на всю стопу. Обе ноги как бы упираются в пол, а для этого необходима наибольшая площадь опоры. Чем больше скорость разбега, тем больше вынос ног вперед, большее опережение постановки правой ноги, а также поворот туловища вправо. Погасив инерцию напрыгивания и разбега, игрок энергично отталкивается ног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Более энергичный рывок вверх правой рукой при отталкивании раньше потянет за собой всю правую сторону тела игрока. Правая нога тогда получит равную по времени с левой ногой нагрузку, поэтому при постановке правой ноги, опережая ее, правая рука посылается вперед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небрежение равномерным распределением нагрузки на ноги может быть причиной их травм. Прыжок выполняют с активным махом рук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1" name="Picture 5" descr="j030148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43200" y="642960"/>
            <a:ext cx="1314720" cy="9777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500120" y="42876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хника движений рук при выполнении нападающего удара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TextBox 4"/>
          <p:cNvSpPr/>
          <p:nvPr/>
        </p:nvSpPr>
        <p:spPr>
          <a:xfrm>
            <a:off x="500040" y="4572000"/>
            <a:ext cx="8215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нападающем ударе выделяют четыре фазы: разбег, прыжок, удар по мячу, сниж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 В разбеге делают 1–3 шага. Первый шаг относительно небольшой, скорость движения невелика. Второй шаг корректирует направление разбега. Длина шага увеличена, скорость движения возрастает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4" name="Picture 1" descr="http://spo.1september.ru/2009/12/3.4.jpg"/>
          <p:cNvPicPr/>
          <p:nvPr/>
        </p:nvPicPr>
        <p:blipFill>
          <a:blip r:embed="rId1"/>
          <a:stretch/>
        </p:blipFill>
        <p:spPr>
          <a:xfrm>
            <a:off x="1214280" y="1214280"/>
            <a:ext cx="6637320" cy="30718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Box 1"/>
          <p:cNvSpPr/>
          <p:nvPr/>
        </p:nvSpPr>
        <p:spPr>
          <a:xfrm>
            <a:off x="157176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Прямоугольник 2"/>
          <p:cNvSpPr/>
          <p:nvPr/>
        </p:nvSpPr>
        <p:spPr>
          <a:xfrm>
            <a:off x="1071720" y="1857240"/>
            <a:ext cx="721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На третьем шаге горизонтальная скорость разбега преобразуется в вертикальную скорость прыжка. Шаг по длине наибольший. Его выполняют скачком и определяют как напрыгивающий. При этом одну ногу, обычно правую, выносят вытянутой вперед и ставят на пятку, стопа находится в положении разгибания, носок на себя. Только при такой жесткой постановке правой ноги на опору возникает стопорящий эффект. Другой ногой в последнем шаге отталкиваются от опоры и через небольшой промежуток времени подставляют к правой. При одношажном разбеге выполняется только один напрыгивающий шаг. Одновременно с напрыгивающим шагом обе руки отводятся наза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Прямоугольник 1"/>
          <p:cNvSpPr/>
          <p:nvPr/>
        </p:nvSpPr>
        <p:spPr>
          <a:xfrm>
            <a:off x="928800" y="314316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–4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Чтобы выйти к месту встречи с мячом, при ударе поверх сетки выполняется прыжок. Отталкивание в первую очередь начинают руки по дуге сзади-вперед-вверх, затем ноги разгибают во всех суставах. Большое значение имеет согласованность движений: в момент приставления левой ноги руки посылают вниз с таким расчетом, чтобы выпрямление ног совпало с движением рук ввер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8" name="Picture 6" descr="phistory4"/>
          <p:cNvPicPr/>
          <p:nvPr/>
        </p:nvPicPr>
        <p:blipFill>
          <a:blip r:embed="rId1"/>
          <a:stretch/>
        </p:blipFill>
        <p:spPr>
          <a:xfrm>
            <a:off x="3214800" y="500040"/>
            <a:ext cx="2546280" cy="252576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571680" y="2017080"/>
            <a:ext cx="81435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гда ноги игрока отрываются от опоры, тело начинает движение вверх и несколько вперед – это фаза полета. В момент отрыва ног от опоры следует верхнюю часть туловища отводить назад, что способствует уменьшению длины траектории полета. Руки вначале движутся вместе до уровня лица, затем активно включается в работу правая (бьющая) рук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со взлетом игрок делает замах правой рукой назад-вверх. При замахе важно соблюдать последовательность движения: плечо, локоть, предплечье, кисть. Предплечье отводят за голову, кисть разворачивают ладонью вверх, правое плечо отводят назад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2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3:39:15Z</dcterms:created>
  <dc:creator>Admin</dc:creator>
  <dc:description/>
  <dc:language>en-US</dc:language>
  <cp:lastModifiedBy>Admin</cp:lastModifiedBy>
  <dcterms:modified xsi:type="dcterms:W3CDTF">2004-02-12T00:16:46Z</dcterms:modified>
  <cp:revision>12</cp:revision>
  <dc:subject/>
  <dc:title>Слайд 1</dc:title>
</cp:coreProperties>
</file>