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7B3-2E39-4BA9-B368-601B9B76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C22-DC81-4A5A-AB0B-A3E511A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56193-B7BD-4D78-961C-7D0CC0D4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DBC10-AE8B-4CB6-8D17-3C918BD9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68290-D45D-40E6-A3FD-1E80AD74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A56C1-52DD-4A41-96DC-7C33AD8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049D2-92C7-411B-B597-235B259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1A0A8-CAB6-4DC1-9B74-20783419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0F67B-C99B-4D17-A63D-08CB5235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B897C-6C8C-4E12-A404-FDF9931B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56D70-B435-4401-B7DA-739DE162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CAF96-034B-4CDE-ACCA-8B59BF5A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BF4-5412-46FD-A74E-7A02CA76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AD771-C1EE-4FB4-96AF-BB63727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A7285-36C3-467A-9FE3-FD682CA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EBF1B-6C99-4D28-AF6C-E8176EF2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D755D-15B3-4BE2-8DC2-03E77A0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80D07-47F8-4FBC-B50C-BEB07974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335C1-27BC-4197-A35B-AE4D631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18351-5520-49F7-9F99-2559FA8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29EF1-1FF6-46F5-9484-5238C7DB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A0CE6-3224-4510-923D-5FC2A28C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8E4EF-EEEA-4F87-B94E-4E4ACFB0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1F3-AA7C-455F-A13E-E56D09AC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14895-F7B6-4AAA-B352-C9295D5F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060E2-711D-4C95-BCA5-40DBF9A9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1E232-AC2A-4D0D-8E8C-9612952F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621D1-C82B-4D6D-826D-88DB8D8A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5A35C-BBFA-41A3-B6AC-7C77973C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44C2C-F3A4-42C9-857F-A50569BC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BB5DE-11BB-44C1-9D8E-DBF011F7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24F2D-9413-486C-A7BD-5D51740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0DDAE-5CB3-4DF6-8952-548061E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D340-EBA4-4114-A432-C7EF760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B4C7-BEE3-48CF-A6A4-0C84DECD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B308F-9E66-400E-AF59-CC8F889E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F2127-E8D3-462B-B1F3-40F01212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A9BF-DF8D-4A71-925A-7D002329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FD3D7-7EF3-4FD8-8C5A-834A3939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8CC06-20B7-4FF6-A784-80D47B1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1EA68-AC73-417E-9329-FCA0B832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58FB8-2192-4C18-B4FB-B496B225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1417F-EECF-4726-BC50-7623A057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7763A-79FA-4DC1-94C0-BB06B3B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53AF3-5C2F-4B8C-B1BC-DA072B31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A599-3AB4-42E2-8D55-33D5B9B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7485D-693D-4903-A9C9-2162993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13B0D-0472-49BF-BF88-DD43B89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EC9F7-F988-4C15-9228-2154A15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BC6D3-0297-43FC-86C5-E57814E6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71048-37D5-4C6D-935D-89793F2F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7153-221C-4649-9ED7-5F87D08E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D79-6245-47F9-B7FE-28AA6383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2DA-4C0B-4310-B6DE-4CC2DE76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D7EE-A664-4B93-9134-90A19127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E4D2-F48F-4BC6-807E-600B180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8EF-03A3-4DFA-9552-6F82D4C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8C77-B968-4116-95D8-6609D3C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789-D83F-45F2-86D3-F87D11D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C3FB-8FBF-41CE-BE8D-7560480E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6765-E335-45B8-B401-3F790CC3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CCE4-7424-46AC-942B-AE894D14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E655-5DEF-4C04-B5D1-98D4E730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AAC0-2FAF-4F67-803A-F02BEF3C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9A9B-5273-4BD9-B76F-8E700044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8BCC4-4244-4328-A464-22A46EEB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2313-CEB5-4E88-AB2D-80B0B16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C2D-4F86-442B-A074-1E5191B4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A0FB-A6F7-42C5-94EA-14B96ACB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D801-8A72-4119-BBD3-7425AEE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D121-B3C9-494A-8E30-F32867C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8A5D-03E9-4FA0-8835-641BEB7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3E53-EF00-4254-B2A2-D99594C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461F-7909-4D8D-B9D7-FE612651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1D2B-1479-42F5-B12E-FDB6B4F3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DD98-3517-4A0E-AAB4-FB73A89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F524-E3FF-4814-A4EF-D191228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E474-360F-4212-9422-D9744A0A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D6D-7A3D-41EA-A94E-4368D64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313D-7EE4-45AA-9A30-B03F9734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4E01-1484-405C-8B7E-8A197400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E475-5883-44F7-9DA9-9800B9A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2E64-0B4D-4C9A-BE4A-924CC4E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CBA00-7C87-4C25-9E22-E8B467E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92D6-ED49-4B0F-A333-525D8C9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D07B-9222-4753-86BF-2635356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3331-FBF3-4850-AE80-5C521667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F1E1-7B23-429F-B39B-4519F150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FAF9D-41BA-4247-9728-67F78153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438-B649-4AEC-8609-E528E6D1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1AD9-D634-4AB7-9545-E754123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4078-CB85-4156-8DEF-B9FEE4AB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25E11-B7DE-44D4-84E4-A7616AE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0F90-3CC8-411A-80B9-F5179ED0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83DD-5B48-4289-A457-B7ECB81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B6D4-9C4B-46AD-8D47-1BB6416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2EE92-3D76-4526-A6A8-733D37C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C1614-AFE8-46B3-AFE1-BBF728C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2FEE-2BE7-4A17-9A4B-41F6D875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7DEB-86B2-4798-AF09-60099A6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389-D8A2-4F5E-A3F8-4461F095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3083D-2DDB-4088-96B4-8D2554C5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03CF-FFED-40BA-8A5C-C2DCA949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BDC0-F468-4F47-BDAD-A64FD6CD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54A6-D856-40A7-B315-5521220E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ECCC9-86B2-4B1E-9F02-AB32570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23ED-D131-45D6-BD16-605BC6D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A7E3A-CA6D-4339-AE0A-AAC64CA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11E99-6373-44BB-AE9E-2AE1F54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3DA9-0D86-4BEB-BBF3-A0E66879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F3A3-58B7-41A9-94A9-5DBA8D9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47F-532D-4F7B-B5C2-25246EB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3FC73-ED2D-453A-91D7-71897377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EB6E-2480-4ADB-A0B4-CBDB012D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B45C-E211-475F-B6A2-42F12E9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CE111-F7B3-41BD-A7C5-4E209FEF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5310F-7687-4619-B4CB-1E208A3C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ACC6-FD4A-4E70-A767-06D1B39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F0509-49F0-4F56-872A-DB54D078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95187-A553-4005-B881-274D51DA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24430-BC2C-4DDF-98E1-F0B4AF0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E96C-745B-40A5-B3C8-194794C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D77-4915-43F3-B766-9B44084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FBA4-9D55-4CF3-A5AE-8AC00E5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CF9F-937E-49C0-B798-7BCD7EF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C601-2473-4981-AD0D-A24B2A56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3D024-65A1-4F13-A27A-197C4A7A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9446-7A1C-455E-BF00-7026C95A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4088D-C0BE-473A-B910-AAD25DF5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FE7B-B2B6-462E-8C73-E75B86E7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BE8B3-50C6-44C6-ABA7-E5844AA1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4818A-9E79-49C8-AB4F-D557D7C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06B2-8964-4463-973A-7C84460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CFD-F10F-420E-9711-44BD3ED9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CF254-A726-475B-A577-2AC304C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C4B3-92F0-47D6-8D76-41B670D0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8823D-7157-4C8D-B2B2-662BAE8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BD0A3-93F3-4103-9961-61E032A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6C6B-A998-4B1B-A15C-4ADB505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AA24-07BB-42BC-AAB2-6DC890B4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C1DB-4C83-43CD-A9B4-FE8117E4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A7C42-BBF9-47DD-A43D-B23EE478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DB191-283F-47C7-865B-5D43BE7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BA13E-FDD2-43E2-8490-14E70C9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98B3-B683-40B9-95ED-47DCC15E9E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5504-B4F7-4FCC-A508-697EDD3ACFF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2DF4-199F-4476-9419-3D4584D06B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DE5C-8015-42CE-8158-2616C8638D9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239C-4005-4163-B4A1-C694938E4D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39AF-9B9E-4FBF-9DFE-8C8BFBD6395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09AA-1594-4405-9927-22C7B4C1557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8309-7AD7-403F-9E0E-4426EE3775E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2198-3AEC-4C67-B23E-29384FFFEFD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877B-07A9-49A5-8F13-BCB34F2CBC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4D97-7327-4E19-96FC-B09AF09E456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CDB2-C0D2-4931-9B56-4460975862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portkinef.ru/page.php?pageId=100601&amp;menuItemTreeCode=0759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3"/>
          <p:cNvSpPr/>
          <p:nvPr/>
        </p:nvSpPr>
        <p:spPr>
          <a:xfrm>
            <a:off x="928800" y="20718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ма: Техника нападающего уда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Прямоугольник 5"/>
          <p:cNvSpPr/>
          <p:nvPr/>
        </p:nvSpPr>
        <p:spPr>
          <a:xfrm>
            <a:off x="857160" y="264312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 урок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крепление техники прямого нападающего уда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закрепление техники  блокиров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закрепление  развития игрового мышления посредством игры в волейбо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Прямоугольник 7"/>
          <p:cNvSpPr/>
          <p:nvPr/>
        </p:nvSpPr>
        <p:spPr>
          <a:xfrm>
            <a:off x="4214880" y="478620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ое пособи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ике нападающего удара в волейбол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4" descr="VO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57120"/>
            <a:ext cx="2714760" cy="1627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D:\Мама\к от симоновой\комп.bmp"/>
          <p:cNvPicPr/>
          <p:nvPr/>
        </p:nvPicPr>
        <p:blipFill>
          <a:blip r:embed="rId3"/>
          <a:stretch/>
        </p:blipFill>
        <p:spPr>
          <a:xfrm rot="734400">
            <a:off x="5976720" y="668160"/>
            <a:ext cx="2473200" cy="205920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Прямоугольник 1"/>
          <p:cNvSpPr/>
          <p:nvPr/>
        </p:nvSpPr>
        <p:spPr>
          <a:xfrm>
            <a:off x="928800" y="1928880"/>
            <a:ext cx="72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та подъема локтя варьируется в широких пределах в зависимости от индивидуальных способностей игроков. Однако локоть всегда должен быть выше оси плечевого сустава. Нередко игроки принимают положение «лук» – прогибаются в грудной и поясничной частях, ноги сгибают в коленях, отводя голень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я рука принимает активное участие в движении замаха: ее отводят в сторону, растягивая большую грудную мышц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Прямоугольник 1"/>
          <p:cNvSpPr/>
          <p:nvPr/>
        </p:nvSpPr>
        <p:spPr>
          <a:xfrm>
            <a:off x="928800" y="171468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ое движение начинают с поворота тела вокруг вертикальной оси, одновременно выводят вперед и поднимают правое плечо. Это движение задает начальную скорость руке, которая включается в работу несколько позже. Ее выпрямляют в локтевом суставе, вытягивают верх и немного вперед, затем опускают по дуге вперед-вниз к левому колену. Одновременно плечо выводят вперед, что помогает задать более точное направление полет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 накладывается на мяч в расслабленном состоянии сзади-сверху хлестким движением. Одновременно с опусканием руки вперед ее сгибают, направляя мяч вниз. Скорость движения руки наращивается плавно. К моменту скорость должна быть максимальн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игрок снижается и приземляется, обязательно сгибая ноги в коленных суставах, что предохраняет опорно-двигательный аппарат от травм и позволяет сразу перейти к последующим действия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:\Мама\к от симоновой\волейболл.bmp"/>
          <p:cNvPicPr/>
          <p:nvPr/>
        </p:nvPicPr>
        <p:blipFill>
          <a:blip r:embed="rId1"/>
          <a:stretch/>
        </p:blipFill>
        <p:spPr>
          <a:xfrm>
            <a:off x="2500200" y="1285920"/>
            <a:ext cx="3786480" cy="5048280"/>
          </a:xfrm>
          <a:prstGeom prst="rect">
            <a:avLst/>
          </a:prstGeom>
          <a:ln w="0">
            <a:noFill/>
          </a:ln>
        </p:spPr>
      </p:pic>
      <p:sp>
        <p:nvSpPr>
          <p:cNvPr id="693" name="Прямоугольник 2"/>
          <p:cNvSpPr/>
          <p:nvPr/>
        </p:nvSpPr>
        <p:spPr>
          <a:xfrm>
            <a:off x="2857680" y="50004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ов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3"/>
          <p:cNvPicPr/>
          <p:nvPr/>
        </p:nvPicPr>
        <p:blipFill>
          <a:blip r:embed="rId1"/>
          <a:stretch/>
        </p:blipFill>
        <p:spPr>
          <a:xfrm>
            <a:off x="428760" y="1285920"/>
            <a:ext cx="8291520" cy="2911320"/>
          </a:xfrm>
          <a:prstGeom prst="rect">
            <a:avLst/>
          </a:prstGeom>
          <a:ln w="0">
            <a:noFill/>
          </a:ln>
        </p:spPr>
      </p:pic>
      <p:sp>
        <p:nvSpPr>
          <p:cNvPr id="695" name="Прямоугольник 2"/>
          <p:cNvSpPr/>
          <p:nvPr/>
        </p:nvSpPr>
        <p:spPr>
          <a:xfrm>
            <a:off x="3072240" y="714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Прямоугольник 3"/>
          <p:cNvSpPr/>
          <p:nvPr/>
        </p:nvSpPr>
        <p:spPr>
          <a:xfrm>
            <a:off x="714240" y="4286160"/>
            <a:ext cx="7858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ходясь в стойке готовности перед сеткой – ноги на ширине плеч, несколько согнуты в коленных суставах, руки полусогнуты перед туловищем, – игрок следит за действиями соперник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только игрок определил предполагаемое место атаки, он или прыгает с места или незамедлительно перемещается туда приставными или обычными шагами и принимает исходное положение – ноги сгибаются до положения полуприсед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1"/>
          <p:cNvSpPr/>
          <p:nvPr/>
        </p:nvSpPr>
        <p:spPr>
          <a:xfrm>
            <a:off x="1143000" y="1857240"/>
            <a:ext cx="678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Активным разгибанием ног, выпрямлением туловища и резким маховым движением рук чуть позже нападающего (при передаче мяча на удар по средней траектории) блокирующий игрок выпрыгивает ввер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ынося вверх перед грудью согнутые в локтевых суставах руки, волейболист выпрямляет их. Расстояние между ладонями не превышает диаметра мяча. Пальцы параллельно поднятых вперед-вверх рук широко разведены, кисти слегка напряжены, расположены над сеткой и перенесены на сторону соперни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ик 1"/>
          <p:cNvSpPr/>
          <p:nvPr/>
        </p:nvSpPr>
        <p:spPr>
          <a:xfrm>
            <a:off x="1071720" y="2214720"/>
            <a:ext cx="721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локирующий игрок в прыжке контролирует мяч и одновременно следит за действиями нападающег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момент постановки блока туловище незначительно сгибается в тазобедренном суставе, ноги выпрямлены, мяч накрыт кистя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–8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После постановки блока волейболист опускает руки перед собой так, чтобы не задеть сетку, и приземляется на полусогнутые ноги, продолжая внимательно следить за мячом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D:\Мама\к от симоновой\волейболл2.bmp"/>
          <p:cNvPicPr/>
          <p:nvPr/>
        </p:nvPicPr>
        <p:blipFill>
          <a:blip r:embed="rId1"/>
          <a:stretch/>
        </p:blipFill>
        <p:spPr>
          <a:xfrm>
            <a:off x="1571760" y="1357200"/>
            <a:ext cx="6072120" cy="4892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1"/>
          <p:cNvSpPr/>
          <p:nvPr/>
        </p:nvSpPr>
        <p:spPr>
          <a:xfrm>
            <a:off x="2367720" y="21420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ика движений но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2" descr="3"/>
          <p:cNvPicPr/>
          <p:nvPr/>
        </p:nvPicPr>
        <p:blipFill>
          <a:blip r:embed="rId1"/>
          <a:stretch/>
        </p:blipFill>
        <p:spPr>
          <a:xfrm>
            <a:off x="1643040" y="642960"/>
            <a:ext cx="5429160" cy="3089160"/>
          </a:xfrm>
          <a:prstGeom prst="rect">
            <a:avLst/>
          </a:prstGeom>
          <a:ln w="0">
            <a:noFill/>
          </a:ln>
        </p:spPr>
      </p:pic>
      <p:sp>
        <p:nvSpPr>
          <p:cNvPr id="677" name="Прямоугольник 3"/>
          <p:cNvSpPr/>
          <p:nvPr/>
        </p:nvSpPr>
        <p:spPr>
          <a:xfrm>
            <a:off x="857160" y="414324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Толчковая нога – это выражение условное. Оно идет от привычки считать сильнейшей ту ногу, которой человеку привычно отталкиваться. На самом деле возможности обеих ног одинаковы. Игроки, у которых более ловкая рука – правая, чаще отталкиваются левой ногой. Некоторые игроки, прежде чем сделать первый шаг, наблюдая за пасующим, переминаются на месте. И это не ошибка. Главное – не пойти вперед преждевременно и не опоздать с разбего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1"/>
          <p:cNvSpPr/>
          <p:nvPr/>
        </p:nvSpPr>
        <p:spPr>
          <a:xfrm>
            <a:off x="2071800" y="1571760"/>
            <a:ext cx="6715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ремя начала разбега и его направление определяют по восходящей траектории передачи мяча для нападающего удара. Для выработки умения определять это время необходимы многократные упражнения. Надо стараться определять время и место встречи с мячом тогда, когда он только оторвался от рук пасующего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 напрыгивании перед прыжком волейболисты посылают вперед правую ногу – это наиболее целесообразно для удара правой рукой. Энергичный замах рукой и отведение плеча поворачивают туловище игрока вправо, при этом правая нога касается площадки раньше лево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оследнем шаге (при напрыгивании) надо соблюдать разумную меру, помня, что напрыгивание – лишь способ для увеличения амплитуды прыжка, а не самоцель. Этому способствует опережающий рывок туловищем вперед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8-6"/>
          <p:cNvPicPr/>
          <p:nvPr/>
        </p:nvPicPr>
        <p:blipFill>
          <a:blip r:embed="rId1"/>
          <a:stretch/>
        </p:blipFill>
        <p:spPr>
          <a:xfrm>
            <a:off x="79200" y="12600"/>
            <a:ext cx="2279880" cy="407844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500040" y="164304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 моменту постановки ног руки, естественно, круговым движением тянут тело вверх. Иногда рекомендуют ставить ноги перед толчком на пятки. Это неверно. Ноги ставят так: правую – вначале на внешний свод стопы, а левую – на всю стопу. Обе ноги как бы упираются в пол, а для этого необходима наибольшая площадь опоры. Чем больше скорость разбега, тем больше вынос ног вперед, большее опережение постановки правой ноги, а также поворот туловища вправо. Погасив инерцию напрыгивания и разбега, игрок энергично отталкивается ног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олее энергичный рывок вверх правой рукой при отталкивании раньше потянет за собой всю правую сторону тела игрока. Правая нога тогда получит равную по времени с левой ногой нагрузку, поэтому при постановке правой ноги, опережая ее, правая рука посылается вперед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небрежение равномерным распределением нагрузки на ноги может быть причиной их травм. Прыжок выполняют с активным махом рук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5" descr="j030148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43200" y="642960"/>
            <a:ext cx="1314720" cy="977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500120" y="42876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ика движений рук при выполнении нападающего удара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500040" y="457200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нападающем ударе выделяют четыре фазы: разбег, прыжок, удар по мячу, сниж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В разбеге делают 1–3 шага. Первый шаг относительно небольшой, скорость движения невелика. Второй шаг корректирует направление разбега. Длина шага увеличена, скорость движения возрастает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1" descr="http://spo.1september.ru/2009/12/3.4.jpg"/>
          <p:cNvPicPr/>
          <p:nvPr/>
        </p:nvPicPr>
        <p:blipFill>
          <a:blip r:embed="rId1"/>
          <a:stretch/>
        </p:blipFill>
        <p:spPr>
          <a:xfrm>
            <a:off x="1214280" y="1214280"/>
            <a:ext cx="6637320" cy="30718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1"/>
          <p:cNvSpPr/>
          <p:nvPr/>
        </p:nvSpPr>
        <p:spPr>
          <a:xfrm>
            <a:off x="157176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Прямоугольник 2"/>
          <p:cNvSpPr/>
          <p:nvPr/>
        </p:nvSpPr>
        <p:spPr>
          <a:xfrm>
            <a:off x="1071720" y="1857240"/>
            <a:ext cx="721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 третьем шаге горизонтальная скорость разбега преобразуется в вертикальную скорость прыжка. Шаг по длине наибольший. Его выполняют скачком и определяют как напрыгивающий. При этом одну ногу, обычно правую, выносят вытянутой вперед и ставят на пятку, стопа находится в положении разгибания, носок на себя. Только при такой жесткой постановке правой ноги на опору возникает стопорящий эффект. Другой ногой в последнем шаге отталкиваются от опоры и через небольшой промежуток времени подставляют к правой. При одношажном разбеге выполняется только один напрыгивающий шаг. Одновременно с напрыгивающим шагом обе руки отводятся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рямоугольник 1"/>
          <p:cNvSpPr/>
          <p:nvPr/>
        </p:nvSpPr>
        <p:spPr>
          <a:xfrm>
            <a:off x="928800" y="31431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–4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тобы выйти к месту встречи с мячом, при ударе поверх сетки выполняется прыжок. Отталкивание в первую очередь начинают руки по дуге сзади-вперед-вверх, затем ноги разгибают во всех суставах. Большое значение имеет согласованность движений: в момент приставления левой ноги руки посылают вниз с таким расчетом, чтобы выпрямление ног совпало с движением рук ввер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6" descr="phistory4"/>
          <p:cNvPicPr/>
          <p:nvPr/>
        </p:nvPicPr>
        <p:blipFill>
          <a:blip r:embed="rId1"/>
          <a:stretch/>
        </p:blipFill>
        <p:spPr>
          <a:xfrm>
            <a:off x="3214800" y="500040"/>
            <a:ext cx="2546280" cy="2525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571680" y="2017080"/>
            <a:ext cx="81435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ноги игрока отрываются от опоры, тело начинает движение вверх и несколько вперед – это фаза полета. В момент отрыва ног от опоры следует верхнюю часть туловища отводить назад, что способствует уменьшению длины траектории полета. Руки вначале движутся вместе до уровня лица, затем активно включается в работу правая (бьющая) ру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со взлетом игрок делает замах правой рукой назад-вверх. При замахе важно соблюдать последовательность движения: плечо, локоть, предплечье, кисть. Предплечье отводят за голову, кисть разворачивают ладонью вверх, правое плечо отводят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3:39:15Z</dcterms:created>
  <dc:creator>Admin</dc:creator>
  <dc:description/>
  <dc:language>en-US</dc:language>
  <cp:lastModifiedBy>Admin</cp:lastModifiedBy>
  <dcterms:modified xsi:type="dcterms:W3CDTF">2004-02-12T00:16:46Z</dcterms:modified>
  <cp:revision>12</cp:revision>
  <dc:subject/>
  <dc:title>Слайд 1</dc:title>
</cp:coreProperties>
</file>