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CC4F-F13C-4D6B-A016-D105F7E0D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CC36-30CB-49F3-9530-ACD0C3B7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C362C1-B9F1-4988-A83C-27BCBD61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40C81C-C6A5-4F5E-BAE5-945B001C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A36FD2-1A7A-4464-812F-BE3E40B6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8C2999-0E57-48BE-8C1B-D4925116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A5803A-E4E4-4BE5-8EA1-DA008634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EAEA3C-A34E-427C-87EB-B5BAAB5F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546F4C-419B-4900-9854-74637862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1C7107-DF23-4A37-8DDC-695621458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4CE39E-018F-41B6-A5DF-7850B63CD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5D5DFC-9E95-415D-B4DF-3E6BA28B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2B15-A2B2-40B1-80DE-33554A614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9E41A6-5964-45B7-8091-6DBCC48E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9EBF92-4D65-48AD-81BE-42860F2A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A88094-726F-4F93-B121-AADB7134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EDC86F-62BB-497A-82C9-DE2F529E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BF505A-C924-405D-A22F-5FA89E36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E7EB58-37B0-41D4-AAF0-7C2B5C57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BD07D5-F981-4FE1-A563-D4970996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ECE97C-C2F4-439F-80C4-94DB1D79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6C0C5D-7990-491D-B5D8-3451AD3F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297DC7-C3E1-42AE-8E5A-CB54BF9ED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390A-4986-4F8F-9B14-F9D754CBD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1DEC39-56C9-4D3C-8597-1A0D13A2F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49B35-C002-483E-BB15-EBEBECA21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1FAAD-7ACB-4156-98EC-EEA3F705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F1DB5-E21B-42A0-9A96-35C50B4B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3CE98-9CCA-4D6C-B6DD-8B29DD40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3CDC3-0996-4892-B618-F6FFA86D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99FEE-4A8D-4488-8CB3-AA09B1E7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540ED-63C6-4A0B-BB2B-6D895367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BD309A-1D4F-496F-927B-36F0F5FA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D5AF8-A225-40FF-BAF6-746F0560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9295-DCFE-4674-98F8-81B868B2F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EFADA-2262-47BC-8C42-69FBC9AE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FE29F-A176-43FC-A7CA-45396FE1B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C73F3-004B-4FB2-9AED-0F8ECE2ED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4C2A3C-C495-4524-9848-FEC008C6B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D76CE0-008E-43EF-B8CA-B18D8BE0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D587D3-7695-466D-ADEE-6B5A0F97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43637D-7AA1-43EE-B04C-9BCA588C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DAE80A-0CA2-4442-A255-D3A74227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83D1B4-4532-4100-A651-F89AA6D8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D59AAA-C2B7-4844-891B-F8B32005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2D24-AF79-4AD0-B302-9CB273CC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DCB4F7-0048-4756-A565-C225D79B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6D1217-8588-4B64-B653-AE052892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23D0C0-11DD-4891-B3FD-F72537A4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77AA9E-F2D5-438D-96DA-67AC48443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3EFF9C-9697-4020-888C-0C8F46801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1C47-1E5F-4E7F-B089-5AEBA86A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C631-C138-4265-80D3-8DD16165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76C5-AF31-4D49-974F-3E2FEEB2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BDE3-F619-4251-B760-52431B99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B396-AFA1-4DC3-9FFD-B9A8F1BD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0C5F-F44A-4BDC-9922-1AC6012F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3D9A-2297-49C4-BD43-D40FAE97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8A55-E756-4768-BFC4-6651525D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D9C9-4896-4F83-9B4B-2592D9AE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E985-C486-4267-A17F-1E5B91AA1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30BD-62BF-455F-B263-B339C31C2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28213-F62B-41DB-9083-F632FEBE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BA482-CBC0-4C9D-B60B-AED32F6A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FD77B-AEE4-411A-B1B4-1791813B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FEC68-2762-4B82-85C7-5DFEBAF5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36002-4E2C-4D5E-881A-C8483AFF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13F9-22DF-4628-ACA6-71C08DBF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21757-AEF2-4D17-A056-0C1DAD67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75820-FFE8-46B6-9F48-72A09322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B5FFA-E145-4782-9381-48EDBA44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9CE7F-111F-430F-9E88-38CAB542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B00AC-7F25-4D7F-8F44-00E4F33E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6E8E6-9EBC-4F54-A513-878A07DF9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B6889-BF19-4F31-A7FD-22FBC22FB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A1803-3DC9-4D0C-B10F-8A6A2300D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3EC45-0B8F-4712-ADE7-C099CFC0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FA882-34E9-4188-95D3-85C4CB4F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7790-EF2F-4D20-9AB1-120281D0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774A6-8527-4EDC-A63B-EF2516C1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23B1D-78EB-4DFF-B765-5C08C96C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30B3B-840F-4724-AD64-448F7015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C2399-F7E2-4C02-9722-E5CB2871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2A514-AFE9-4550-B59B-2E89B07C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D5038-53EB-46B0-A2CB-71836DE5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F677C-C57E-4AF4-8C09-EA19EE9A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C8977-4D19-4555-9E6C-0161E96C2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BC46D-FC0D-4F4C-A641-83ACC9C4C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71CE5-4E81-4D57-B38D-E450A06FF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A030-039B-445E-AA13-2A93E206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61FBA-4D2F-4ABB-8DD9-BB05440B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39E74-F6A6-4CB5-8273-E4645D77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8204A-6F26-4A0F-A631-0143D999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C7346-384F-4857-BAAA-BA66AD77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1ACD5-A027-4B61-B466-67028350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C4F1F-CB91-4BAE-A6B8-DC087308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9C6DD-4042-432A-925C-6E895858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93A5D-EEEF-42D5-BDA5-01917CB7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50F80-E248-4907-A10C-CDA5AD17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7859B-9A67-4D8E-925E-2D0678248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D51B-5CEB-4186-9446-78B2711B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35535-6EB6-4172-A023-CD875B460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F1A12-2150-40DA-9C0B-ED54EC4D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DB701-87A4-44AE-BCE7-0B3A06BA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C5CC9-84EF-46F4-9511-F7E4E492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C336F-AF10-461F-865E-FB571F33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6EA2C-34A6-4EEB-AF90-39C6C0E1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CF9DD-C86E-4C39-8018-C083B106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377A4-F7BA-4FC9-BB44-5BC71A15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69587-0A09-449A-9332-F08AA521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E9FCC-157F-44D8-97D3-C167D1C8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7E70-4609-4A4A-B3D3-A9837C98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3A78C-C568-4B63-81E4-275F127B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6F773-4496-4934-B4B0-4424801ED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AD78D-B115-436B-A182-E9CCE0CB9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8C64F-4711-4A55-95DB-247172307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96364-1B8D-45A9-B2BF-ED4FB127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C70CE-EC1B-46B0-BA85-77BA0140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B1FEA-61B7-495D-A34B-CE1E371D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488A8-FBFA-46A4-BB64-E0803554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34410-FF1A-4891-B7A1-885A0FDF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DCC6D-A1D2-4177-9C1F-5412660F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FD67-7D82-4C43-927F-1203987A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687D8-5376-4383-B6B1-489DBD06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CA878-DDA1-4339-929D-00B36FD6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F5006-81DC-4774-AAAF-160107AA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BFFE4-A5F7-40F3-851E-A01CEEFF7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924E8-D6C6-4F04-ADE7-580683C80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E38AE-8076-4BA1-8639-232DD7685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1B234-A410-4CE7-99DD-5DBC45DA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9F377-3CC5-4C3E-88B1-156206F4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88829-BE64-4FB9-8802-872433B9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446B7-295E-47BE-B74D-5572EED3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33C7-3E1B-498D-8891-4C8DC345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40195-85BD-4DED-AB44-9D1A09A1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8F18E-F3AE-450D-BCF7-B348B6F6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092C8-0792-4F81-9299-13253697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4B65D-4BAE-4388-AA0F-EEF3DBD5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A6BE2-D656-476D-B7FB-FF2D1936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F952F-E2C7-4A1F-96DB-236FEBF45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F0B52-B6E1-424C-8BD7-05D2B4973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B300B8-76F0-436D-89EA-649E69367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FBC0DF-6B85-4A50-B372-AF6A9B8F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4E16D8-7326-401E-B480-96CF3F71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edf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8E2F-8B16-4F00-A4B7-12D685164A5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edf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6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89B4-4EB3-412E-9785-D6F114D76D9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edf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9013-F9CD-4347-A1C3-9DA69BB9440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edf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0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8F5C-5C47-497B-96D9-3BDB0A379D6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edf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3454-593E-421E-BF5D-AB7DEA194CE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edf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A849-4C69-4771-8609-3368D4191C7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edf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2FD4-6000-4E12-B70A-474B8A7BC7A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edf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871A-3861-4D1E-B7D9-62D4E9EAC63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edf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F358-B1EC-4049-859E-FB4A0824722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edf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946A-7213-4452-9CD3-33E725C2950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edf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1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5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6611-BC21-416C-88CA-7E045A48198D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edf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9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3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7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989F-60A3-4E6D-A7E5-4973B291AC7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portkinef.ru/page.php?pageId=100601&amp;menuItemTreeCode=0759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Box 3"/>
          <p:cNvSpPr/>
          <p:nvPr/>
        </p:nvSpPr>
        <p:spPr>
          <a:xfrm>
            <a:off x="928800" y="207180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Тема: Техника нападающего удар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0" name="Прямоугольник 5"/>
          <p:cNvSpPr/>
          <p:nvPr/>
        </p:nvSpPr>
        <p:spPr>
          <a:xfrm>
            <a:off x="857160" y="2643120"/>
            <a:ext cx="55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Задачи урока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закрепление техники прямого нападающего удар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– закрепление техники  блокирования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– закрепление  развития игрового мышления посредством игры в волейбол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Прямоугольник 7"/>
          <p:cNvSpPr/>
          <p:nvPr/>
        </p:nvSpPr>
        <p:spPr>
          <a:xfrm>
            <a:off x="4214880" y="478620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ьтимедийное пособие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хнике нападающего удара в волейболе.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2" name="Picture 4" descr="VOLLE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357120"/>
            <a:ext cx="2714760" cy="162720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2" descr="D:\Мама\к от симоновой\комп.bmp"/>
          <p:cNvPicPr/>
          <p:nvPr/>
        </p:nvPicPr>
        <p:blipFill>
          <a:blip r:embed="rId3"/>
          <a:stretch/>
        </p:blipFill>
        <p:spPr>
          <a:xfrm rot="734400">
            <a:off x="5976720" y="668160"/>
            <a:ext cx="2473200" cy="2059200"/>
          </a:xfrm>
          <a:prstGeom prst="rect">
            <a:avLst/>
          </a:prstGeom>
          <a:ln w="0">
            <a:noFill/>
          </a:ln>
        </p:spPr>
      </p:pic>
    </p:spTree>
  </p:cSld>
  <p:transition advTm="2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Прямоугольник 1"/>
          <p:cNvSpPr/>
          <p:nvPr/>
        </p:nvSpPr>
        <p:spPr>
          <a:xfrm>
            <a:off x="928800" y="1928880"/>
            <a:ext cx="7286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сота подъема локтя варьируется в широких пределах в зависимости от индивидуальных способностей игроков. Однако локоть всегда должен быть выше оси плечевого сустава. Нередко игроки принимают положение «лук» – прогибаются в грудной и поясничной частях, ноги сгибают в коленях, отводя голень назад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ая рука принимает активное участие в движении замаха: ее отводят в сторону, растягивая большую грудную мышцу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2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Прямоугольник 1"/>
          <p:cNvSpPr/>
          <p:nvPr/>
        </p:nvSpPr>
        <p:spPr>
          <a:xfrm>
            <a:off x="928800" y="1714680"/>
            <a:ext cx="7572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рное движение начинают с поворота тела вокруг вертикальной оси, одновременно выводят вперед и поднимают правое плечо. Это движение задает начальную скорость руке, которая включается в работу несколько позже. Ее выпрямляют в локтевом суставе, вытягивают верх и немного вперед, затем опускают по дуге вперед-вниз к левому колену. Одновременно плечо выводят вперед, что помогает задать более точное направление полета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ть накладывается на мяч в расслабленном состоянии сзади-сверху хлестким движением. Одновременно с опусканием руки вперед ее сгибают, направляя мяч вниз. Скорость движения руки наращивается плавно. К моменту скорость должна быть максимальной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 игрок снижается и приземляется, обязательно сгибая ноги в коленных суставах, что предохраняет опорно-двигательный аппарат от травм и позволяет сразу перейти к последующим действиям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2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2" descr="D:\Мама\к от симоновой\волейболл.bmp"/>
          <p:cNvPicPr/>
          <p:nvPr/>
        </p:nvPicPr>
        <p:blipFill>
          <a:blip r:embed="rId1"/>
          <a:stretch/>
        </p:blipFill>
        <p:spPr>
          <a:xfrm>
            <a:off x="2500200" y="1285920"/>
            <a:ext cx="3786480" cy="5048280"/>
          </a:xfrm>
          <a:prstGeom prst="rect">
            <a:avLst/>
          </a:prstGeom>
          <a:ln w="0">
            <a:noFill/>
          </a:ln>
        </p:spPr>
      </p:pic>
      <p:sp>
        <p:nvSpPr>
          <p:cNvPr id="693" name="Прямоугольник 2"/>
          <p:cNvSpPr/>
          <p:nvPr/>
        </p:nvSpPr>
        <p:spPr>
          <a:xfrm>
            <a:off x="2857680" y="500040"/>
            <a:ext cx="26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ирован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2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2" descr="3"/>
          <p:cNvPicPr/>
          <p:nvPr/>
        </p:nvPicPr>
        <p:blipFill>
          <a:blip r:embed="rId1"/>
          <a:stretch/>
        </p:blipFill>
        <p:spPr>
          <a:xfrm>
            <a:off x="428760" y="1285920"/>
            <a:ext cx="8291520" cy="2911320"/>
          </a:xfrm>
          <a:prstGeom prst="rect">
            <a:avLst/>
          </a:prstGeom>
          <a:ln w="0">
            <a:noFill/>
          </a:ln>
        </p:spPr>
      </p:pic>
      <p:sp>
        <p:nvSpPr>
          <p:cNvPr id="695" name="Прямоугольник 2"/>
          <p:cNvSpPr/>
          <p:nvPr/>
        </p:nvSpPr>
        <p:spPr>
          <a:xfrm>
            <a:off x="3072240" y="7142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Прямоугольник 3"/>
          <p:cNvSpPr/>
          <p:nvPr/>
        </p:nvSpPr>
        <p:spPr>
          <a:xfrm>
            <a:off x="714240" y="4286160"/>
            <a:ext cx="7858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Находясь в стойке готовности перед сеткой – ноги на ширине плеч, несколько согнуты в коленных суставах, руки полусогнуты перед туловищем, – игрок следит за действиями соперников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Как только игрок определил предполагаемое место атаки, он или прыгает с места или незамедлительно перемещается туда приставными или обычными шагами и принимает исходное положение – ноги сгибаются до положения полуприседа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2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Прямоугольник 1"/>
          <p:cNvSpPr/>
          <p:nvPr/>
        </p:nvSpPr>
        <p:spPr>
          <a:xfrm>
            <a:off x="1143000" y="1857240"/>
            <a:ext cx="6786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Активным разгибанием ног, выпрямлением туловища и резким маховым движением рук чуть позже нападающего (при передаче мяча на удар по средней траектории) блокирующий игрок выпрыгивает вверх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Вынося вверх перед грудью согнутые в локтевых суставах руки, волейболист выпрямляет их. Расстояние между ладонями не превышает диаметра мяча. Пальцы параллельно поднятых вперед-вверх рук широко разведены, кисти слегка напряжены, расположены над сеткой и перенесены на сторону соперника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2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Прямоугольник 1"/>
          <p:cNvSpPr/>
          <p:nvPr/>
        </p:nvSpPr>
        <p:spPr>
          <a:xfrm>
            <a:off x="1071720" y="2214720"/>
            <a:ext cx="7215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Блокирующий игрок в прыжке контролирует мяч и одновременно следит за действиями нападающего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6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В момент постановки блока туловище незначительно сгибается в тазобедренном суставе, ноги выпрямлены, мяч накрыт кистям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7–8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После постановки блока волейболист опускает руки перед собой так, чтобы не задеть сетку, и приземляется на полусогнутые ноги, продолжая внимательно следить за мячом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2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2" descr="D:\Мама\к от симоновой\волейболл2.bmp"/>
          <p:cNvPicPr/>
          <p:nvPr/>
        </p:nvPicPr>
        <p:blipFill>
          <a:blip r:embed="rId1"/>
          <a:stretch/>
        </p:blipFill>
        <p:spPr>
          <a:xfrm>
            <a:off x="1571760" y="1357200"/>
            <a:ext cx="6072120" cy="4892760"/>
          </a:xfrm>
          <a:prstGeom prst="rect">
            <a:avLst/>
          </a:prstGeom>
          <a:ln w="0">
            <a:noFill/>
          </a:ln>
        </p:spPr>
      </p:pic>
    </p:spTree>
  </p:cSld>
  <p:transition advTm="2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Прямоугольник 1"/>
          <p:cNvSpPr/>
          <p:nvPr/>
        </p:nvSpPr>
        <p:spPr>
          <a:xfrm>
            <a:off x="2367720" y="21420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Техника движений ног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6" name="Picture 2" descr="3"/>
          <p:cNvPicPr/>
          <p:nvPr/>
        </p:nvPicPr>
        <p:blipFill>
          <a:blip r:embed="rId1"/>
          <a:stretch/>
        </p:blipFill>
        <p:spPr>
          <a:xfrm>
            <a:off x="1643040" y="642960"/>
            <a:ext cx="5429160" cy="3089160"/>
          </a:xfrm>
          <a:prstGeom prst="rect">
            <a:avLst/>
          </a:prstGeom>
          <a:ln w="0">
            <a:noFill/>
          </a:ln>
        </p:spPr>
      </p:pic>
      <p:sp>
        <p:nvSpPr>
          <p:cNvPr id="677" name="Прямоугольник 3"/>
          <p:cNvSpPr/>
          <p:nvPr/>
        </p:nvSpPr>
        <p:spPr>
          <a:xfrm>
            <a:off x="857160" y="4143240"/>
            <a:ext cx="7500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1.Толчковая нога – это выражение условное. Оно идет от привычки считать сильнейшей ту ногу, которой человеку привычно отталкиваться. На самом деле возможности обеих ног одинаковы. Игроки, у которых более ловкая рука – правая, чаще отталкиваются левой ногой. Некоторые игроки, прежде чем сделать первый шаг, наблюдая за пасующим, переминаются на месте. И это не ошибка. Главное – не пойти вперед преждевременно и не опоздать с разбегом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2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Прямоугольник 1"/>
          <p:cNvSpPr/>
          <p:nvPr/>
        </p:nvSpPr>
        <p:spPr>
          <a:xfrm>
            <a:off x="2071800" y="1571760"/>
            <a:ext cx="67150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2.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Время начала разбега и его направление определяют по восходящей траектории передачи мяча для нападающего удара. Для выработки умения определять это время необходимы многократные упражнения. Надо стараться определять время и место встречи с мячом тогда, когда он только оторвался от рук пасующего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3.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В напрыгивании перед прыжком волейболисты посылают вперед правую ногу – это наиболее целесообразно для удара правой рукой. Энергичный замах рукой и отведение плеча поворачивают туловище игрока вправо, при этом правая нога касается площадки раньше левой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4.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последнем шаге (при напрыгивании) надо соблюдать разумную меру, помня, что напрыгивание – лишь способ для увеличения амплитуды прыжка, а не самоцель. Этому способствует опережающий рывок туловищем вперед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9" name="Picture 2" descr="8-6"/>
          <p:cNvPicPr/>
          <p:nvPr/>
        </p:nvPicPr>
        <p:blipFill>
          <a:blip r:embed="rId1"/>
          <a:stretch/>
        </p:blipFill>
        <p:spPr>
          <a:xfrm>
            <a:off x="79200" y="12600"/>
            <a:ext cx="2279880" cy="4078440"/>
          </a:xfrm>
          <a:prstGeom prst="rect">
            <a:avLst/>
          </a:prstGeom>
          <a:ln w="0">
            <a:noFill/>
          </a:ln>
        </p:spPr>
      </p:pic>
    </p:spTree>
  </p:cSld>
  <p:transition advTm="2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Прямоугольник 1"/>
          <p:cNvSpPr/>
          <p:nvPr/>
        </p:nvSpPr>
        <p:spPr>
          <a:xfrm>
            <a:off x="500040" y="1643040"/>
            <a:ext cx="8215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К моменту постановки ног руки, естественно, круговым движением тянут тело вверх. Иногда рекомендуют ставить ноги перед толчком на пятки. Это неверно. Ноги ставят так: правую – вначале на внешний свод стопы, а левую – на всю стопу. Обе ноги как бы упираются в пол, а для этого необходима наибольшая площадь опоры. Чем больше скорость разбега, тем больше вынос ног вперед, большее опережение постановки правой ноги, а также поворот туловища вправо. Погасив инерцию напрыгивания и разбега, игрок энергично отталкивается ногам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6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Более энергичный рывок вверх правой рукой при отталкивании раньше потянет за собой всю правую сторону тела игрока. Правая нога тогда получит равную по времени с левой ногой нагрузку, поэтому при постановке правой ноги, опережая ее, правая рука посылается вперед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енебрежение равномерным распределением нагрузки на ноги может быть причиной их травм. Прыжок выполняют с активным махом рукам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1" name="Picture 5" descr="j0301480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643200" y="642960"/>
            <a:ext cx="1314720" cy="977760"/>
          </a:xfrm>
          <a:prstGeom prst="rect">
            <a:avLst/>
          </a:prstGeom>
          <a:ln w="0">
            <a:noFill/>
          </a:ln>
        </p:spPr>
      </p:pic>
    </p:spTree>
  </p:cSld>
  <p:transition advTm="2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Прямоугольник 1"/>
          <p:cNvSpPr/>
          <p:nvPr/>
        </p:nvSpPr>
        <p:spPr>
          <a:xfrm>
            <a:off x="1500120" y="428760"/>
            <a:ext cx="64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Техника движений рук при выполнении нападающего удара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3" name="TextBox 4"/>
          <p:cNvSpPr/>
          <p:nvPr/>
        </p:nvSpPr>
        <p:spPr>
          <a:xfrm>
            <a:off x="500040" y="4572000"/>
            <a:ext cx="8215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нападающем ударе выделяют четыре фазы: разбег, прыжок, удар по мячу, снижение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1.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 В разбеге делают 1–3 шага. Первый шаг относительно небольшой, скорость движения невелика. Второй шаг корректирует направление разбега. Длина шага увеличена, скорость движения возрастает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4" name="Picture 1" descr="http://spo.1september.ru/2009/12/3.4.jpg"/>
          <p:cNvPicPr/>
          <p:nvPr/>
        </p:nvPicPr>
        <p:blipFill>
          <a:blip r:embed="rId1"/>
          <a:stretch/>
        </p:blipFill>
        <p:spPr>
          <a:xfrm>
            <a:off x="1214280" y="1214280"/>
            <a:ext cx="6637320" cy="3071880"/>
          </a:xfrm>
          <a:prstGeom prst="rect">
            <a:avLst/>
          </a:prstGeom>
          <a:ln w="0">
            <a:noFill/>
          </a:ln>
        </p:spPr>
      </p:pic>
    </p:spTree>
  </p:cSld>
  <p:transition advTm="2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Box 1"/>
          <p:cNvSpPr/>
          <p:nvPr/>
        </p:nvSpPr>
        <p:spPr>
          <a:xfrm>
            <a:off x="1571760" y="857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6" name="Прямоугольник 2"/>
          <p:cNvSpPr/>
          <p:nvPr/>
        </p:nvSpPr>
        <p:spPr>
          <a:xfrm>
            <a:off x="1071720" y="1857240"/>
            <a:ext cx="7215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На третьем шаге горизонтальная скорость разбега преобразуется в вертикальную скорость прыжка. Шаг по длине наибольший. Его выполняют скачком и определяют как напрыгивающий. При этом одну ногу, обычно правую, выносят вытянутой вперед и ставят на пятку, стопа находится в положении разгибания, носок на себя. Только при такой жесткой постановке правой ноги на опору возникает стопорящий эффект. Другой ногой в последнем шаге отталкиваются от опоры и через небольшой промежуток времени подставляют к правой. При одношажном разбеге выполняется только один напрыгивающий шаг. Одновременно с напрыгивающим шагом обе руки отводятся назад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2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Прямоугольник 1"/>
          <p:cNvSpPr/>
          <p:nvPr/>
        </p:nvSpPr>
        <p:spPr>
          <a:xfrm>
            <a:off x="928800" y="314316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3–4.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Чтобы выйти к месту встречи с мячом, при ударе поверх сетки выполняется прыжок. Отталкивание в первую очередь начинают руки по дуге сзади-вперед-вверх, затем ноги разгибают во всех суставах. Большое значение имеет согласованность движений: в момент приставления левой ноги руки посылают вниз с таким расчетом, чтобы выпрямление ног совпало с движением рук вверх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8" name="Picture 6" descr="phistory4"/>
          <p:cNvPicPr/>
          <p:nvPr/>
        </p:nvPicPr>
        <p:blipFill>
          <a:blip r:embed="rId1"/>
          <a:stretch/>
        </p:blipFill>
        <p:spPr>
          <a:xfrm>
            <a:off x="3214800" y="500040"/>
            <a:ext cx="2546280" cy="2525760"/>
          </a:xfrm>
          <a:prstGeom prst="rect">
            <a:avLst/>
          </a:prstGeom>
          <a:ln w="0">
            <a:noFill/>
          </a:ln>
        </p:spPr>
      </p:pic>
    </p:spTree>
  </p:cSld>
  <p:transition advTm="2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2"/>
          <p:cNvSpPr/>
          <p:nvPr/>
        </p:nvSpPr>
        <p:spPr>
          <a:xfrm>
            <a:off x="571680" y="2017080"/>
            <a:ext cx="81435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гда ноги игрока отрываются от опоры, тело начинает движение вверх и несколько вперед – это фаза полета. В момент отрыва ног от опоры следует верхнюю часть туловища отводить назад, что способствует уменьшению длины траектории полета. Руки вначале движутся вместе до уровня лица, затем активно включается в работу правая (бьющая) рука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временно со взлетом игрок делает замах правой рукой назад-вверх. При замахе важно соблюдать последовательность движения: плечо, локоть, предплечье, кисть. Предплечье отводят за голову, кисть разворачивают ладонью вверх, правое плечо отводят назад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2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03:39:15Z</dcterms:created>
  <dc:creator>Admin</dc:creator>
  <dc:description/>
  <dc:language>en-US</dc:language>
  <cp:lastModifiedBy>Admin</cp:lastModifiedBy>
  <dcterms:modified xsi:type="dcterms:W3CDTF">2004-02-12T00:16:46Z</dcterms:modified>
  <cp:revision>12</cp:revision>
  <dc:subject/>
  <dc:title>Слайд 1</dc:title>
</cp:coreProperties>
</file>