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33AA-7D22-4441-B635-D7189DA8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DB8A-448D-4318-B8E9-6B3EC40D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DD9E-BFDF-4F00-B692-B2AE8BCE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2FEF-7B4F-4220-A953-B03A1C59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E0C3-19F7-40F6-8660-E8B97A0F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08D3-82D4-4310-A7DF-1739CF15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1EE7-B1B9-44B2-9864-C2C22563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003A-2A23-48E6-8AD8-5B45B512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9A5-46F1-48F5-B3F0-EA1B2B9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1857-8C1B-4E1C-BABC-C4AEF0A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B53-1FE0-455C-A1AB-F2B76C7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8847-948F-45AD-8C6A-B4DC5089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7CF-1FB4-44ED-9DAE-3C40E8E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B28-0F23-4B2D-9F8F-809AF59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9058-6E88-42B7-A89A-4C08D51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315-448A-42A9-BFD3-C28D8266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E85-858C-4652-A2CC-CDF39E7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ABC0-36F8-4D08-B367-5DDB6B1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155F-1891-498B-91DB-E6BE632B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503B-AEAF-4F41-AA22-D9909F4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4F22-37B0-4987-B9D5-B9B947B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ADC0-23B6-4D22-B7D8-EB83662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4191-548D-4D04-B04A-4251010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82F2-5769-4570-B1E4-792246F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A71D-B19F-4098-820D-F9668A7C48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C5A-0927-4F3D-95E6-2D41EA209D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«Люблю с малолетства деревню</a:t>
            </a:r>
            <a:br>
              <a:rPr sz="3500"/>
            </a:b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        И сердцем забыть не могу…»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400536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языковые средства, создающие образ деревни   в  поэз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. А. Мельников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6920" y="189000"/>
            <a:ext cx="67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порвать мне мучительной св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олгой осенью нашей земл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деревцом  у сырой коновяз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журавлями в холодной да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. Рубц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олнца тонкое кружево» (1999 г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Черемух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спростерся над дерев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ий бархат небосклона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се луга цветам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Вет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Зимнее утр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ggggg"/>
          <p:cNvPicPr/>
          <p:nvPr/>
        </p:nvPicPr>
        <p:blipFill>
          <a:blip r:embed="rId1"/>
          <a:stretch/>
        </p:blipFill>
        <p:spPr>
          <a:xfrm>
            <a:off x="468360" y="1413000"/>
            <a:ext cx="342900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7487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Times New Roman"/>
              </a:rPr>
              <a:t>При описании сельского пейзажа используются  различные тропы, инверсионные  словосочетания, обилие  прилагательных и  глаголов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928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хороводе снежных ли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дье утра сп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к разлитой нежной си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 взъерошенный прилип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Зимнее утро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Рисунок9"/>
          <p:cNvPicPr/>
          <p:nvPr/>
        </p:nvPicPr>
        <p:blipFill>
          <a:blip r:embed="rId1"/>
          <a:stretch/>
        </p:blipFill>
        <p:spPr>
          <a:xfrm>
            <a:off x="4876920" y="3643200"/>
            <a:ext cx="4159080" cy="2482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5296320" y="6072120"/>
            <a:ext cx="34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И. Ендогуров «Начал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ны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Жизни человеческой начало» (2003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7" descr="Untitled-1"/>
          <p:cNvPicPr/>
          <p:nvPr/>
        </p:nvPicPr>
        <p:blipFill>
          <a:blip r:embed="rId1"/>
          <a:stretch/>
        </p:blipFill>
        <p:spPr>
          <a:xfrm>
            <a:off x="539640" y="1700280"/>
            <a:ext cx="3702240" cy="4952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ерев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Дом под небом синим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Урал за эту даль лесистую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650880"/>
            <a:ext cx="878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этом сборнике поэт  продолжает  возвращаться к старым мотивам – мотивам разрушенного, покинутого села, но в то же время восторгается неброской красотой России, красотой деревн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389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е деревн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полем дикий ле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за все за э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 излишних сл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всю жизнь поэтом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, клянусь, го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Дом под небом сини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9" descr="Рисунок6"/>
          <p:cNvPicPr/>
          <p:nvPr/>
        </p:nvPicPr>
        <p:blipFill>
          <a:blip r:embed="rId1"/>
          <a:stretch/>
        </p:blipFill>
        <p:spPr>
          <a:xfrm>
            <a:off x="5291280" y="3714840"/>
            <a:ext cx="3744720" cy="231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5410800" y="6156360"/>
            <a:ext cx="348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Золотая осе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бод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8760" y="48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Урал за эту даль лесистую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овый день врывается в окно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петухи за пенье голосисто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юют рассвета синего зерно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Урал за эту даль лесистую»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деревня 9"/>
          <p:cNvPicPr/>
          <p:nvPr/>
        </p:nvPicPr>
        <p:blipFill>
          <a:blip r:embed="rId1"/>
          <a:stretch/>
        </p:blipFill>
        <p:spPr>
          <a:xfrm>
            <a:off x="3778200" y="233280"/>
            <a:ext cx="5257800" cy="3843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260280" y="18900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 В. Туржанск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еревушк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Стихи. Юбилейный сборник» (2004 г.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я тебя, деревня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Хочется историю тряхну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Чужбина и в раю чужбин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7" descr="lllllll 1"/>
          <p:cNvPicPr/>
          <p:nvPr/>
        </p:nvPicPr>
        <p:blipFill>
          <a:blip r:embed="rId1"/>
          <a:stretch/>
        </p:blipFill>
        <p:spPr>
          <a:xfrm>
            <a:off x="468360" y="1440000"/>
            <a:ext cx="3551040" cy="52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лазах стоит рожь, как жив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рядом в траве полев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знечики в ней, не смолка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ют свой уют в разно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9" descr="Рисунок7"/>
          <p:cNvPicPr/>
          <p:nvPr/>
        </p:nvPicPr>
        <p:blipFill>
          <a:blip r:embed="rId1"/>
          <a:stretch/>
        </p:blipFill>
        <p:spPr>
          <a:xfrm>
            <a:off x="4282920" y="3525840"/>
            <a:ext cx="4753080" cy="3216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"/>
          <p:cNvSpPr/>
          <p:nvPr/>
        </p:nvSpPr>
        <p:spPr>
          <a:xfrm>
            <a:off x="918000" y="628488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Степ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рику  В.Мельникова, в какой- то степени можно отнести к «тихой поэзии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 деревни в поэзии В. Мельникова меняет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80360" y="260280"/>
            <a:ext cx="41536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луга цвет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усея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олнца улыб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о кры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а увязли в зелени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Все луга цветам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усеяны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49840" y="3933720"/>
            <a:ext cx="43855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грусть тогда придет нев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хлынет радость в тот же ча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будет сердцу больно, бо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слезы потекут из глаз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Задурила непогод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33" descr="Рисунок2"/>
          <p:cNvPicPr/>
          <p:nvPr/>
        </p:nvPicPr>
        <p:blipFill>
          <a:blip r:embed="rId1"/>
          <a:stretch/>
        </p:blipFill>
        <p:spPr>
          <a:xfrm>
            <a:off x="4932360" y="3716280"/>
            <a:ext cx="3664080" cy="250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Рисунок1"/>
          <p:cNvPicPr/>
          <p:nvPr/>
        </p:nvPicPr>
        <p:blipFill>
          <a:blip r:embed="rId2"/>
          <a:stretch/>
        </p:blipFill>
        <p:spPr>
          <a:xfrm>
            <a:off x="4979880" y="189000"/>
            <a:ext cx="3408480" cy="265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5"/>
          <p:cNvSpPr/>
          <p:nvPr/>
        </p:nvSpPr>
        <p:spPr>
          <a:xfrm>
            <a:off x="5036400" y="630864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. И. Левитан «Летний вечер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4956120" y="2871720"/>
            <a:ext cx="350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В. Шевченко «Деревен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йза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e5e5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а языковых уровнях было обнаружено следующее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    на лексическом уровне -  использование лирических, изобразительных эпитетов и   эмоционально окрашенных слов в реч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    на синтаксическом уровне –инверсионные словосочетан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   на морфологическом уровне – обилие прилагательных и глагол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)    с помощью тропов создается светлый ностальгический образ ушедшей деревн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)    в русской природе  можно обнаружить тёплые «семейные» отноше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Валентин Александрович Мельников – человек с молодой душой и интересными задумками на будущее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И. Г. Секачё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cademy Italic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7" descr="Untitled-3"/>
          <p:cNvPicPr/>
          <p:nvPr/>
        </p:nvPicPr>
        <p:blipFill>
          <a:blip r:embed="rId1"/>
          <a:stretch/>
        </p:blipFill>
        <p:spPr>
          <a:xfrm>
            <a:off x="2590920" y="115920"/>
            <a:ext cx="349380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051720" y="407664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1934 – 2008 гг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3"/>
          <p:cNvSpPr/>
          <p:nvPr/>
        </p:nvSpPr>
        <p:spPr>
          <a:xfrm>
            <a:off x="181800" y="4005360"/>
            <a:ext cx="5862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вид твой воистину древ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мушки на берег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лю тебя с детства, деревн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сердцем забыть не мог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Люблю я тебя, деревня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4" descr="Рисунок8"/>
          <p:cNvPicPr/>
          <p:nvPr/>
        </p:nvPicPr>
        <p:blipFill>
          <a:blip r:embed="rId1"/>
          <a:stretch/>
        </p:blipFill>
        <p:spPr>
          <a:xfrm>
            <a:off x="3278160" y="404640"/>
            <a:ext cx="5757840" cy="3521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6"/>
          <p:cNvSpPr/>
          <p:nvPr/>
        </p:nvSpPr>
        <p:spPr>
          <a:xfrm>
            <a:off x="2160" y="36972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Д. Поленов «Русск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 (Северна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ня)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Он был больной страданиями родины, больной тем, что у нас происходит»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                                                Д. Лихаче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Цель проекта: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ыявление языковых средств, создающих образ деревни в творчестве В. А. Мельнико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ип проекта – исследовательск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дач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ить биографию В. А. Мельнико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знакомиться с его поэтическими сборник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анализировать состав изобразительных средств, которые использует авто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анализ изобразительных средств на определенных языковых уров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следить, как с помощью языковых средств автор создает образ дерев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328572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1.наблюд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2.сравнение</a:t>
            </a:r>
            <a:br>
              <a:rPr sz="3200"/>
            </a:br>
            <a:r>
              <a:rPr b="0" lang="ru-RU" sz="3200" spc="-1" strike="noStrike">
                <a:solidFill>
                  <a:srgbClr val="e5e5ff"/>
                </a:solidFill>
                <a:latin typeface="Times New Roman"/>
              </a:rPr>
              <a:t>3.изучение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393840" y="428760"/>
            <a:ext cx="8962200" cy="5998320"/>
            <a:chOff x="393840" y="428760"/>
            <a:chExt cx="8962200" cy="5998320"/>
          </a:xfrm>
        </p:grpSpPr>
        <p:pic>
          <p:nvPicPr>
            <p:cNvPr id="113" name="Схема 7" descr=""/>
            <p:cNvPicPr/>
            <p:nvPr/>
          </p:nvPicPr>
          <p:blipFill>
            <a:blip r:embed="rId1"/>
            <a:stretch/>
          </p:blipFill>
          <p:spPr>
            <a:xfrm>
              <a:off x="393840" y="428760"/>
              <a:ext cx="7544160" cy="27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1"/>
            <p:cNvSpPr/>
            <p:nvPr/>
          </p:nvSpPr>
          <p:spPr>
            <a:xfrm>
              <a:off x="4342320" y="3408480"/>
              <a:ext cx="5013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историко –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биографический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2.литературоведческий 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анализ текста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3. аналог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4. конкретизация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5" name="TextBox 5"/>
          <p:cNvSpPr/>
          <p:nvPr/>
        </p:nvSpPr>
        <p:spPr>
          <a:xfrm>
            <a:off x="2644920" y="1285920"/>
            <a:ext cx="36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раб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6" name="Прямая со стрелкой 9"/>
          <p:cNvCxnSpPr/>
          <p:nvPr/>
        </p:nvCxnSpPr>
        <p:spPr>
          <a:xfrm flipH="1">
            <a:off x="2499840" y="1928880"/>
            <a:ext cx="572400" cy="35784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17" name="Прямая со стрелкой 11"/>
          <p:cNvCxnSpPr/>
          <p:nvPr/>
        </p:nvCxnSpPr>
        <p:spPr>
          <a:xfrm>
            <a:off x="5572080" y="1928880"/>
            <a:ext cx="572400" cy="429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18" name="TextBox 12"/>
          <p:cNvSpPr/>
          <p:nvPr/>
        </p:nvSpPr>
        <p:spPr>
          <a:xfrm>
            <a:off x="1157760" y="242892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пир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65760" y="241632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тическ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Время в ладонях» (1994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11" descr="Untitled-2"/>
          <p:cNvPicPr/>
          <p:nvPr/>
        </p:nvPicPr>
        <p:blipFill>
          <a:blip r:embed="rId1"/>
          <a:stretch/>
        </p:blipFill>
        <p:spPr>
          <a:xfrm>
            <a:off x="452520" y="1628640"/>
            <a:ext cx="375912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лепой дождь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юблю деревню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Русская песн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Письмо сестр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У бабушки день рождения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" y="500040"/>
            <a:ext cx="87138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Times New Roman"/>
              </a:rPr>
              <a:t>В  первой книге В. А. Мельникова значительное место занимают описания сельской природы, навеянные  воспоминаниями о тех днях, которые автор провёл в деревн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1280" y="4214880"/>
            <a:ext cx="6408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помнишь сестричка, те детские год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ушку, деревню, зеленый угор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вволю резвились, ходили в похо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вырубки, в гари, по ягоды в бор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Мельников «Письмо сестре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9" descr="Рисунок3"/>
          <p:cNvPicPr/>
          <p:nvPr/>
        </p:nvPicPr>
        <p:blipFill>
          <a:blip r:embed="rId1"/>
          <a:stretch/>
        </p:blipFill>
        <p:spPr>
          <a:xfrm>
            <a:off x="5564160" y="4321080"/>
            <a:ext cx="343692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143040" y="628668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Д. Поленов «О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елодии моей души» (1996 г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Лето в деревне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Выбираю деревню на жительств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адурила непогода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тарый дом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Средь безлюдного сел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lllllll"/>
          <p:cNvPicPr/>
          <p:nvPr/>
        </p:nvPicPr>
        <p:blipFill>
          <a:blip r:embed="rId1"/>
          <a:stretch/>
        </p:blipFill>
        <p:spPr>
          <a:xfrm>
            <a:off x="539640" y="1557360"/>
            <a:ext cx="33433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428400"/>
            <a:ext cx="87138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Во втором сборнике создается образ деревни  разрушенной, никому не нужной, покинутой людьми. Но несмотря на это, лирический герой, как и автор, вспоминает  светлую, радостную, когда- то счастливую жизнь в русской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Times New Roman"/>
              </a:rPr>
              <a:t>деревне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920" y="4033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горала жизнь дот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земле спал лист опавший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чер с зорькою не пляш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ь безлюдного се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. А. Мельников «Средь безлюдн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9" descr="Рисунок4"/>
          <p:cNvPicPr/>
          <p:nvPr/>
        </p:nvPicPr>
        <p:blipFill>
          <a:blip r:embed="rId1"/>
          <a:stretch/>
        </p:blipFill>
        <p:spPr>
          <a:xfrm>
            <a:off x="5219640" y="4000680"/>
            <a:ext cx="3853080" cy="2214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537800" y="628668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И. Куинджи «Забытая деревн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01:12Z</dcterms:created>
  <dc:creator>1</dc:creator>
  <dc:description/>
  <dc:language>en-US</dc:language>
  <cp:lastModifiedBy>Admin</cp:lastModifiedBy>
  <dcterms:modified xsi:type="dcterms:W3CDTF">2011-01-10T11:17:52Z</dcterms:modified>
  <cp:revision>36</cp:revision>
  <dc:subject/>
  <dc:title>       «Люблю с малолетства деревню И сердцем забыть не могу»</dc:title>
</cp:coreProperties>
</file>