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99D3-4CCC-47A0-97F5-56F08058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EFBD-D55D-4784-BE79-D8165390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C06C-E54A-4D4B-BEA1-6C876EFF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DB30-38A1-4227-A5D3-3E0465F7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7869-EB2E-46CD-A2FD-469D83A0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BA0A-471C-4EDF-ABEA-1A9B42F7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E3A7-62D1-494F-96FB-4684212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5CB9-C592-471E-90B2-F03B027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932A-E5DE-4539-9E74-004F3441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E2A7-A230-4BA6-BE1D-10EB14E2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C67B-FACC-41A9-992F-69658677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D656-53A4-43B1-BD7C-CDFB2CC7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9683-3E35-4133-B4E5-C548F87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4878-A246-4D1D-BF75-D2FBBDF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E024-EBBE-4AD9-B38C-F7D40510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EA5F-FF25-4312-9D09-B7A1238D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BF0A-87D6-49A6-88FD-9B19D01C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B04A-AC73-4EDE-B134-D4ABA92D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AA7F-1202-4CC5-8461-C01DE153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CF9A-2939-4989-BCAA-E7105E5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0861-8A3C-4F5A-B102-7B9F4522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1277-842B-4C0F-B521-43104F8E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8057-201B-4C04-9C54-24114B9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23F0-9765-4FD2-8F48-EA79F9E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1AEF-65B3-4249-9ADA-7D5BDED7D3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EF38-F027-4840-BD2F-A3554B10E3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«Люблю с малолетства деревню</a:t>
            </a:r>
            <a:br>
              <a:rPr sz="3500"/>
            </a:b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        И сердцем забыть не могу…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7640" y="400536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языковые средства, создающие образ деревни   в  поэзи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. А. Мельников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66920" y="189000"/>
            <a:ext cx="67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порвать мне мучительной св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олгой осенью нашей земл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еревцом  у сырой коновяз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журавлями в холодной д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. Рубц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олнца тонкое кружево» (1999 г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Черемух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спростерся над дерев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ий бархат небосклон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Все луга цвета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 усеяны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Ветер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ейза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Зимнее утро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ggggg"/>
          <p:cNvPicPr/>
          <p:nvPr/>
        </p:nvPicPr>
        <p:blipFill>
          <a:blip r:embed="rId1"/>
          <a:stretch/>
        </p:blipFill>
        <p:spPr>
          <a:xfrm>
            <a:off x="468360" y="1413000"/>
            <a:ext cx="342900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500040"/>
            <a:ext cx="87487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Times New Roman"/>
              </a:rPr>
              <a:t>При описании сельского пейзажа используются  различные тропы, инверсионные  словосочетания, обилие  прилагательных и  глаголов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928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хороводе снежных ли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водье утра сп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к разлитой нежной с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 взъерошенный прилип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Зимнее утро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Рисунок9"/>
          <p:cNvPicPr/>
          <p:nvPr/>
        </p:nvPicPr>
        <p:blipFill>
          <a:blip r:embed="rId1"/>
          <a:stretch/>
        </p:blipFill>
        <p:spPr>
          <a:xfrm>
            <a:off x="4876920" y="3643200"/>
            <a:ext cx="4159080" cy="2482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5296320" y="607212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 И. Ендогуров «Начал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ны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Жизни человеческой начало» (2003 г.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7" descr="Untitled-1"/>
          <p:cNvPicPr/>
          <p:nvPr/>
        </p:nvPicPr>
        <p:blipFill>
          <a:blip r:embed="rId1"/>
          <a:stretch/>
        </p:blipFill>
        <p:spPr>
          <a:xfrm>
            <a:off x="539640" y="1700280"/>
            <a:ext cx="3702240" cy="4952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Деревн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Дом под небом синим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Урал за эту даль лесистую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650880"/>
            <a:ext cx="878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Times New Roman"/>
              </a:rPr>
              <a:t>В этом сборнике поэт  продолжает  возвращаться к старым мотивам – мотивам разрушенного, покинутого села, но в то же время восторгается неброской красотой России, красотой деревн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389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сские деревн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полем дикий ле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а все за э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 излишних сл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всю жизнь поэтом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, клянусь, го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Дом под небом синим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9" descr="Рисунок6"/>
          <p:cNvPicPr/>
          <p:nvPr/>
        </p:nvPicPr>
        <p:blipFill>
          <a:blip r:embed="rId1"/>
          <a:stretch/>
        </p:blipFill>
        <p:spPr>
          <a:xfrm>
            <a:off x="5291280" y="3714840"/>
            <a:ext cx="3744720" cy="2313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5410800" y="6156360"/>
            <a:ext cx="34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И. Левитан «Золотая осен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бод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8760" y="480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лю Урал за эту даль лесистую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овый день врывается в окно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петухи за пенье голосисто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юют рассвета синего зерно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Урал за эту даль лесистую»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5" descr="деревня 9"/>
          <p:cNvPicPr/>
          <p:nvPr/>
        </p:nvPicPr>
        <p:blipFill>
          <a:blip r:embed="rId1"/>
          <a:stretch/>
        </p:blipFill>
        <p:spPr>
          <a:xfrm>
            <a:off x="3778200" y="233280"/>
            <a:ext cx="5257800" cy="3843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60280" y="18900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 В. Туржанск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еревушк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Стихи. Юбилейный сборник» (2004 г.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я тебя, деревня!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Хочется историю тряхнуть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Чужбина и в раю чужбина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7" descr="lllllll 1"/>
          <p:cNvPicPr/>
          <p:nvPr/>
        </p:nvPicPr>
        <p:blipFill>
          <a:blip r:embed="rId1"/>
          <a:stretch/>
        </p:blipFill>
        <p:spPr>
          <a:xfrm>
            <a:off x="468360" y="1440000"/>
            <a:ext cx="355104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9280" y="333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лазах стоит рожь, как жив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рядом в траве полев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знечики в ней, не смолк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ют свой уют в разноб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я тебя, деревня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9" descr="Рисунок7"/>
          <p:cNvPicPr/>
          <p:nvPr/>
        </p:nvPicPr>
        <p:blipFill>
          <a:blip r:embed="rId1"/>
          <a:stretch/>
        </p:blipFill>
        <p:spPr>
          <a:xfrm>
            <a:off x="4282920" y="3525840"/>
            <a:ext cx="4753080" cy="3216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918000" y="628488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И. Куинджи «Степ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рику  В.Мельникова, в какой- то степени можно отнести к «тихой поэзии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 деревни в поэзии В. Мельникова меняет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80360" y="260280"/>
            <a:ext cx="41536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луга цвета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усея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солнца улыб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о кры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ма увязли в зелени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Все луга цветами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усеяны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49840" y="3933720"/>
            <a:ext cx="43855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грусть тогда придет нево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хлынет радость в тот же ча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будет сердцу больно, бо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лезы потекут из гла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Задурила непогод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33" descr="Рисунок2"/>
          <p:cNvPicPr/>
          <p:nvPr/>
        </p:nvPicPr>
        <p:blipFill>
          <a:blip r:embed="rId1"/>
          <a:stretch/>
        </p:blipFill>
        <p:spPr>
          <a:xfrm>
            <a:off x="4932360" y="3716280"/>
            <a:ext cx="3664080" cy="250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Рисунок1"/>
          <p:cNvPicPr/>
          <p:nvPr/>
        </p:nvPicPr>
        <p:blipFill>
          <a:blip r:embed="rId2"/>
          <a:stretch/>
        </p:blipFill>
        <p:spPr>
          <a:xfrm>
            <a:off x="4979880" y="189000"/>
            <a:ext cx="3408480" cy="265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5"/>
          <p:cNvSpPr/>
          <p:nvPr/>
        </p:nvSpPr>
        <p:spPr>
          <a:xfrm>
            <a:off x="5036400" y="630864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И. Левитан «Летний вечер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4956120" y="2871720"/>
            <a:ext cx="350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В. Шевченко «Деревенск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йза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а языковых уровнях было обнаружено следующее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)     на лексическом уровне -  использование лирических, изобразительных эпитетов и   эмоционально окрашенных слов в реч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)    на синтаксическом уровне –инверсионные словосочетан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)    на морфологическом уровне – обилие прилагательных и глагол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)    с помощью тропов создается светлый ностальгический образ ушедшей деревн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)    в русской природе  можно обнаружить тёплые «семейные» отнош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486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Валентин Александрович Мельников – человек с молодой душой и интересными задумками на будущее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И. Г. Секачё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 Italic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7" descr="Untitled-3"/>
          <p:cNvPicPr/>
          <p:nvPr/>
        </p:nvPicPr>
        <p:blipFill>
          <a:blip r:embed="rId1"/>
          <a:stretch/>
        </p:blipFill>
        <p:spPr>
          <a:xfrm>
            <a:off x="2590920" y="115920"/>
            <a:ext cx="349380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051720" y="407664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1934 – 2008 гг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3"/>
          <p:cNvSpPr/>
          <p:nvPr/>
        </p:nvSpPr>
        <p:spPr>
          <a:xfrm>
            <a:off x="181800" y="4005360"/>
            <a:ext cx="5862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вид твой воистину древ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амушки на бере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лю тебя с детства, деревн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сердцем забыть не мог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я тебя, деревня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4" descr="Рисунок8"/>
          <p:cNvPicPr/>
          <p:nvPr/>
        </p:nvPicPr>
        <p:blipFill>
          <a:blip r:embed="rId1"/>
          <a:stretch/>
        </p:blipFill>
        <p:spPr>
          <a:xfrm>
            <a:off x="3278160" y="404640"/>
            <a:ext cx="5757840" cy="3521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6"/>
          <p:cNvSpPr/>
          <p:nvPr/>
        </p:nvSpPr>
        <p:spPr>
          <a:xfrm>
            <a:off x="2160" y="36972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Д. Поленов «Русска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ня (Северна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ня)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Он был больной страданиями родины, больной тем, что у нас происходит»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                                                Д. Лихаче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Цель проекта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ыявление языковых средств, создающих образ деревни в творчестве В. А. Мельнико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ип проекта – исследовательский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ить биографию В. А. Мельник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знакомиться с его поэтическими сборни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анализировать состав изобразительных средств, которые использует авто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анализ изобразительных средств на определенных языковых уровн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следить, как с помощью языковых средств автор создает образ дерев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328572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1.наблюдение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2.сравнение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3.изучение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2" name="Organization Chart 7"/>
          <p:cNvGrpSpPr/>
          <p:nvPr/>
        </p:nvGrpSpPr>
        <p:grpSpPr>
          <a:xfrm>
            <a:off x="393840" y="428760"/>
            <a:ext cx="8962200" cy="5998320"/>
            <a:chOff x="393840" y="428760"/>
            <a:chExt cx="8962200" cy="5998320"/>
          </a:xfrm>
        </p:grpSpPr>
        <p:pic>
          <p:nvPicPr>
            <p:cNvPr id="113" name="Схема 7" descr=""/>
            <p:cNvPicPr/>
            <p:nvPr/>
          </p:nvPicPr>
          <p:blipFill>
            <a:blip r:embed="rId1"/>
            <a:stretch/>
          </p:blipFill>
          <p:spPr>
            <a:xfrm>
              <a:off x="393840" y="428760"/>
              <a:ext cx="7544160" cy="27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1"/>
            <p:cNvSpPr/>
            <p:nvPr/>
          </p:nvSpPr>
          <p:spPr>
            <a:xfrm>
              <a:off x="4342320" y="3408480"/>
              <a:ext cx="5013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историко –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биографический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2.литературоведческий 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анализ текста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3. аналогия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4. конкретизация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5" name="TextBox 5"/>
          <p:cNvSpPr/>
          <p:nvPr/>
        </p:nvSpPr>
        <p:spPr>
          <a:xfrm>
            <a:off x="2644920" y="1285920"/>
            <a:ext cx="36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рабо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16" name="Прямая со стрелкой 9"/>
          <p:cNvCxnSpPr/>
          <p:nvPr/>
        </p:nvCxnSpPr>
        <p:spPr>
          <a:xfrm flipH="1">
            <a:off x="2499840" y="1928880"/>
            <a:ext cx="572400" cy="35784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17" name="Прямая со стрелкой 11"/>
          <p:cNvCxnSpPr/>
          <p:nvPr/>
        </p:nvCxnSpPr>
        <p:spPr>
          <a:xfrm>
            <a:off x="5572080" y="1928880"/>
            <a:ext cx="572400" cy="4291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18" name="TextBox 12"/>
          <p:cNvSpPr/>
          <p:nvPr/>
        </p:nvSpPr>
        <p:spPr>
          <a:xfrm>
            <a:off x="1157760" y="2428920"/>
            <a:ext cx="26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865760" y="241632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Время в ладонях» (1994 г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11" descr="Untitled-2"/>
          <p:cNvPicPr/>
          <p:nvPr/>
        </p:nvPicPr>
        <p:blipFill>
          <a:blip r:embed="rId1"/>
          <a:stretch/>
        </p:blipFill>
        <p:spPr>
          <a:xfrm>
            <a:off x="452520" y="1628640"/>
            <a:ext cx="375912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лепой дождь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деревню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Русская песн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Письмо сестре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У бабушки день рождени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" y="500040"/>
            <a:ext cx="87138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Times New Roman"/>
              </a:rPr>
              <a:t>В  первой книге В. А. Мельникова значительное место занимают описания сельской природы, навеянные  воспоминаниями о тех днях, которые автор провёл в деревне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1280" y="4214880"/>
            <a:ext cx="6408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помнишь сестричка, те детские год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ушку, деревню, зеленый угор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вволю резвились, ходили в похо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вырубки, в гари, по ягоды в бор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Письмо сестр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9" descr="Рисунок3"/>
          <p:cNvPicPr/>
          <p:nvPr/>
        </p:nvPicPr>
        <p:blipFill>
          <a:blip r:embed="rId1"/>
          <a:stretch/>
        </p:blipFill>
        <p:spPr>
          <a:xfrm>
            <a:off x="5564160" y="4321080"/>
            <a:ext cx="343692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143040" y="628668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Д. Поленов «О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Мелодии моей души» (1996 г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ето в деревне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Выбираю деревню на жительств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адурила непогода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тарый до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редь безлюдного сел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lllllll"/>
          <p:cNvPicPr/>
          <p:nvPr/>
        </p:nvPicPr>
        <p:blipFill>
          <a:blip r:embed="rId1"/>
          <a:stretch/>
        </p:blipFill>
        <p:spPr>
          <a:xfrm>
            <a:off x="539640" y="1557360"/>
            <a:ext cx="33433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428400"/>
            <a:ext cx="87138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Times New Roman"/>
              </a:rPr>
              <a:t>Во втором сборнике создается образ деревни  разрушенной, никому не нужной, покинутой людьми. Но несмотря на это, лирический герой, как и автор, вспоминает  светлую, радостную, когда- то счастливую жизнь в русской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Times New Roman"/>
              </a:rPr>
              <a:t>деревне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920" y="4033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горала жизнь дот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земле спал лист опавший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чер с зорькою не пляшу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ь безлюдного се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Средь безлюдн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9" descr="Рисунок4"/>
          <p:cNvPicPr/>
          <p:nvPr/>
        </p:nvPicPr>
        <p:blipFill>
          <a:blip r:embed="rId1"/>
          <a:stretch/>
        </p:blipFill>
        <p:spPr>
          <a:xfrm>
            <a:off x="5219640" y="4000680"/>
            <a:ext cx="3853080" cy="2214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537800" y="628668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И. Куинджи «Забытая деревн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3:01:12Z</dcterms:created>
  <dc:creator>1</dc:creator>
  <dc:description/>
  <dc:language>en-US</dc:language>
  <cp:lastModifiedBy>Admin</cp:lastModifiedBy>
  <dcterms:modified xsi:type="dcterms:W3CDTF">2011-01-10T11:17:52Z</dcterms:modified>
  <cp:revision>36</cp:revision>
  <dc:subject/>
  <dc:title>       «Люблю с малолетства деревню И сердцем забыть не могу»</dc:title>
</cp:coreProperties>
</file>