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D20-E9BB-4470-BE4F-37FD28E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D30-E4E0-4F5F-B9B7-2A58F26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058-43E4-412F-A16C-C1AF00E0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72A-F324-4209-B091-24841F16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361-B75A-421C-B5F0-3153243A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66A-9B2F-4FBF-AD17-19C77B55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758-A8F2-4C6B-8D8A-4E8D3E19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4BF-74FA-4A17-9C42-E7D578B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BFB-D579-4DA2-A9B5-700AEC6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512-CC05-4636-BBE6-6C51F90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C20-8181-4EE9-9D7B-8338B22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2F0-140D-4C1F-992D-93C6D17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D5D6-4420-4D6B-A618-46C2BA04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569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естиваль исследовательских и творческих  работ учащихся : « Портфоли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ема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«Математика и психолог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421000"/>
            <a:ext cx="7705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ченица 7А класса      МОУ «Куриловская гимназ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ерпуховского района       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Вербенко Елиза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01336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робьева  Галина Николаевна, 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У «Куриловская гимн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008 –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H="1">
            <a:off x="323280" y="26028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3720"/>
            <a:ext cx="8569440" cy="67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Тест «Сова» или «жаворо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известно, есть люди, которые предпочитают утренние часы для работы и других занятий. Этот тип людей называют  -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жаворонками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Совы 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же деятельны по вечерам. Статистикой доказано, что «совы» в  утренние часы делают в 2 раза больше ошибок, чем «жаворон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голубей 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наблюдаются особенности как «жаворонков», так и «сов». Например, они не любят очень рано вставать, но и ложиться поздно не хотят. Их работоспособность имеет два пика: в 10-12 часов и в 15-18 часов. Люди этого типа любят нормальный  7-8 часовой сон и придерживаются самого обычного режима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ди разного типа заметно отличаются реакциями не только на физические и  температурные  нагрузки, но даже на лекарства и их дозы.     Этот тест поможет определить свою принадлежность к одной из трех категорий и понять, в какое время вы наиболее работоспособны.  Поэтому полезно знать  свой тип пове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й вывод, который я сделала – психолог должен хорошо, без ошибок уметь считать, значит , математика необходима психоло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9960" y="4724280"/>
            <a:ext cx="48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ующий тест  был намного сложн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979200"/>
            <a:ext cx="2952720" cy="466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изучения устойчивости, сосредоточенности, объема и распределения внимания используется метод «корректурная проб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щимся предлагается бланк, в котором 20 строк и 40 букв. Необходимо в течении трех мин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черкивать бук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4736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3560" y="723960"/>
            <a:ext cx="4736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198720"/>
            <a:ext cx="8713800" cy="1648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00a8"/>
                </a:solidFill>
                <a:latin typeface="Arial"/>
              </a:rPr>
              <a:t>Обработка результато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начала подсчитывается количество букв, просмотренных за три минуты. Затем по формуле определяется показатель продуктивности и устойчивости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176720" y="3124080"/>
                <a:ext cx="1141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708360" y="2492280"/>
                <a:ext cx="790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5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2,8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203640" y="249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78160" y="3342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492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720" y="3574080"/>
            <a:ext cx="63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казатель продуктивности и устойчивости вним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личество просмотренных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личество ошибок( буква пропущена и не зачеркну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рем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400a8"/>
                </a:solidFill>
                <a:latin typeface="Arial"/>
              </a:rPr>
              <a:t>Здесь используется умение работать с форму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185040"/>
            <a:ext cx="8713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Результа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1 – высокий уров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5&lt;S&lt;1,0 средн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0,5 – низкий уровен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едставлении результата использу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тем подсчитывается уровень по клас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определении общего уровня устойчивости  и продуктивности  внимания по группам в целом используются поня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проценты, среднее арифметическое, умение работать с неравенствами  и умение решать задачи на пропо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84600"/>
            <a:ext cx="8280360" cy="64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Количество человек                                  проц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го в классе -15 человек                      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ледовано:    11 человек                        x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исимость пря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им пропор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5:11 =100: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=11·100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=73,33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≈7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есь очень важно знать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правила округления чис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принятые в математик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80360"/>
            <a:ext cx="8713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Итак, по результатам проведенного теста получилось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ысокий уровень: 3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редний уровень: 7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изкий  уровень:  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Име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00a8"/>
                </a:solidFill>
                <a:latin typeface="Arial"/>
              </a:rPr>
              <a:t>Всего обследовано: 11 человек  -   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00a8"/>
                </a:solidFill>
                <a:latin typeface="Arial"/>
              </a:rPr>
              <a:t>Высокий уровень :3 человека    -       х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прямая, решим пропор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1:3 = 100: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х=27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алогично для среднего уровня получили:63,6% 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низкого уровня     -9,1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19280" y="155160"/>
            <a:ext cx="70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Общий результат психологом заносится в таблицу, а умению работать с таблицей так же учат на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19280" y="2781360"/>
          <a:ext cx="6481800" cy="301464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2147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щихся:   15          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        11            73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254160"/>
            <a:ext cx="8352000" cy="631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 хочется привести в пример еще один тест, но он очень сложный, его проводила Ковалев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 был показан принцип обработки теста: Синдром «эмоционального выгора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, кто принимал участие в тесте, предлагались 35  утверждений , например:1) « Иногда мне кажется, что результаты моей работы не стоят тех усилий, которые я затрачиваю», 2) «Я уверен, что моя работа нужна людям»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аждому вопросу нужно было высказать свое мнение. Для оценки степени своего согласия с утверждением используется шк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 «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 «скорее 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«не знаю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 «скорее не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 «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19520" y="31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64500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Цель работы: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выяснить, нужны ли математические знания в психо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0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Без знания математики нельзя понять ни основ современной техники, ни того, как ученые изучают природные и социальн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Колмогоров А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720" y="43056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Бланк для запол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270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50832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каждой строке соответствует симптом и соответствующие номера утверждений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000" y="25956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ин из бланков от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68374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2607480"/>
            <a:ext cx="78501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обработке результатов теста в первой строке ответ в пункте 8 заменить н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отивоположны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о же самое выполнить для пунктов:2,10, 12, 6,14   и во всей четвертой строке. Далее подсчитываетс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лгебраическая сум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баллов по строкам. Чем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ыше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оговый балл в строке, тем выше выраженность данного симп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 эмоционального выгорания». Затем психолог  интерпретирует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вая строка  - симптом неудовлетворенности собой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Как видно из таблицы, у этого учителя в первой строке самый высокий ба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622440"/>
            <a:ext cx="773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анном тесте  при обработке результатов   использую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ожительные и отрицательные числ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ологу необходимо знать определение </a:t>
            </a:r>
            <a:r>
              <a:rPr b="1" lang="en-US" sz="2800" spc="-1" strike="noStrike">
                <a:solidFill>
                  <a:srgbClr val="6400a8"/>
                </a:solidFill>
                <a:latin typeface="Arial"/>
              </a:rPr>
              <a:t>противоположных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сложения чисел с разными знак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 , наконец ,психолог должен выбрать </a:t>
            </a: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самый</a:t>
            </a:r>
            <a:r>
              <a:rPr b="0" i="1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высокий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оговый балл. Значит, нужно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уметь сравниват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рицательные числа, положительные  и отрицательные ,положительные и ноль, отрицательные и ноль, положительные  числ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48956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2060640"/>
            <a:ext cx="7632720" cy="454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римере только  этих трех тестов я убедилась, что </a:t>
            </a:r>
            <a:r>
              <a:rPr b="0" lang="en-US" sz="3200" spc="-1" strike="noStrike">
                <a:solidFill>
                  <a:srgbClr val="6400a8"/>
                </a:solidFill>
                <a:latin typeface="Arial"/>
              </a:rPr>
              <a:t>математика очень нужна психологии, а психолог должен быть хорошим математи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меть считать, работать с положительными и отрицательными числами, знать правила сравнения и округления чисел, уметь пользоваться формулами, заполнять таблицы, решать математические задачи на пропор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сихология. Словарь. Составитель Л. А. Карпенко. Под общ. ред. А. В. Петровского, М.Г. Ярошевск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: Политиздат,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22100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Школьникам о математике и математиках. Сост. М. М. Лиман. – М.: Просвещение,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4105080" cy="865080"/>
          </a:xfrm>
          <a:prstGeom prst="rect">
            <a:avLst/>
          </a:prstGeom>
          <a:solidFill>
            <a:srgbClr val="c0f1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456000"/>
          </a:xfrm>
          <a:prstGeom prst="rect">
            <a:avLst/>
          </a:prstGeom>
          <a:solidFill>
            <a:srgbClr val="c0f1a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Тестирование –метод психологической диагно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Использование математических знаний при интерпретации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Заключ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826920" y="334080"/>
            <a:ext cx="21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13800" cy="6435720"/>
          </a:xfrm>
          <a:prstGeom prst="rect">
            <a:avLst/>
          </a:prstGeom>
          <a:solidFill>
            <a:srgbClr val="e8e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му одним людям постоянно сопутствует удача и успех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другие всю жизнь недовольны собой? Отчего в одних семьях царит благополучие и покой, а другие напоминают поле битв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оизвести на собеседника хорошее впечатление и правильно построить деловой разгов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эти и подобные вопросы ищут ответы психологи разных стран. Ими проводятся интересные эксперименты, создаются различные методики, призванные помочь нам разобраться во внутреннем мире человека, в его поведени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блюдения психологов помогают нам лучше понять себя и других, найти решение многих жизненн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спользуется ли математика в психологии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разобраться в этом, я обратилась за помощью к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школьному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сихологу Ковалевой Лесе Игоревне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 что я узнала из её расс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0080"/>
            <a:ext cx="8640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сихология – наука, которая изучает факты, закономерности  и механизмы психики. Психика является свойством мозга. Психология исследует личность в общении и деятельности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6699ff"/>
                </a:solidFill>
                <a:latin typeface="Arial"/>
              </a:rPr>
              <a:t>Современная психология находится на стыке ряда наук, в частност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Для того, чтобы установить определенные психологические качества личности, используют тес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-498600"/>
            <a:ext cx="828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Тест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3300"/>
                </a:solidFill>
                <a:latin typeface="Monotype Corsiva"/>
              </a:rPr>
              <a:t>– это кратковременное задание, выполнение которого может служить показателем развития психических функций и свойств  личности. При помощи тестов стремятся выявить наличие или отсутствие определенных способностей, навыков, умений;  наиболее точно охарактеризовать некоторые качества личности.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5812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Процесс тестирования может быть раздел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на четыре 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ыбор те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целью тестирования и степенью достоверности и надежности те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его провед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инструкцией к тесту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личественная обрабо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анных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нтерпретация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системой теоретических допущений относительно предмета тестирова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этап  предполагает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применение математического аппарата психоло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использование статистических приемов и применение основных положений теории вероятностей, которые дают возможность судить о достоверности получаемых вы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04640"/>
            <a:ext cx="8351640" cy="5999040"/>
          </a:xfrm>
          <a:prstGeom prst="rect">
            <a:avLst/>
          </a:prstGeom>
          <a:solidFill>
            <a:srgbClr val="c5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психологии  существует немало исследовательских методик и тестов, направленных именно на выявление индивидуальных черт конкретного человека. Не все они одинаково точны и надежны. Некоторые могут дать лишь приблизительные результаты, которые ни в коем случае нельзя рассматривать как окончательный «пригово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 не менее большинство тестов способны выявить общие тенденции личности, они способны помочь каждому из нас хотя бы в общих чертах разобраться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й тест, который мне доверила провести  школьный психолог Ковалева Л. И.   -         тес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ова» или «жаворон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46720" cy="6597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12000" y="3500280"/>
            <a:ext cx="2520720" cy="304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ядом с ответами я расставила заранее  указанный балл, соответствующий выбранному ответу. Затем для каждого теста я нашла сумму всех баллов. Используя таблицу результатов, определила тип каждого учащего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333360"/>
            <a:ext cx="25210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раздала шестиклассникам напечатанные вопросы теста  и различные варианты ответов, учащиеся должны были выделить выбран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30:28Z</dcterms:created>
  <dc:creator>User</dc:creator>
  <dc:description/>
  <dc:language>en-US</dc:language>
  <cp:lastModifiedBy>User</cp:lastModifiedBy>
  <dcterms:modified xsi:type="dcterms:W3CDTF">2009-01-28T20:48:41Z</dcterms:modified>
  <cp:revision>24</cp:revision>
  <dc:subject/>
  <dc:title>Слайд 1</dc:title>
</cp:coreProperties>
</file>