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49B-5B85-4242-A16E-8417BBF7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C346-B03F-4CC3-8020-C9975455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C5F-E6A0-4F6E-A854-F664D3A0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4A8-68B1-462B-860A-73887B51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95E-9EE0-4DD8-A1DD-46EC04DA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F63-0670-4DB1-BA51-4579B46C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D79-FF06-47C1-A70E-8BD42E0B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E66-1DFA-4076-B461-5B42FBF8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7BA1-91E5-4870-88AC-D8D6B43B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896-21EF-46E0-802E-0508B4FD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10B0-9F9E-43B7-A12B-A363C154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B5CF-1D85-410F-9EB8-D753BD1F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D506-12F1-4CF4-90B5-D56B5A0F9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8569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Фестиваль исследовательских и творческих  работ учащихся : « Портфоли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Тема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«Математика и психолог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2421000"/>
            <a:ext cx="7705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ченица 7А класса      МОУ «Куриловская гимназ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ерпуховского района       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Вербенко Елиза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01336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оробьева  Галина Николаевна, у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У «Куриловская гимназ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2008 –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flipH="1">
            <a:off x="323280" y="260280"/>
            <a:ext cx="21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3720"/>
            <a:ext cx="8569440" cy="67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Тест «Сова» или «жавороно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известно, есть люди, которые предпочитают утренние часы для работы и других занятий. Этот тип людей называют  -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«жаворонками»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«Совы 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же деятельны по вечерам. Статистикой доказано, что «совы» в  утренние часы делают в 2 раза больше ошибок, чем «жаворонк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«голубей 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наблюдаются особенности как «жаворонков», так и «сов». Например, они не любят очень рано вставать, но и ложиться поздно не хотят. Их работоспособность имеет два пика: в 10-12 часов и в 15-18 часов. Люди этого типа любят нормальный  7-8 часовой сон и придерживаются самого обычного режима 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юди разного типа заметно отличаются реакциями не только на физические и  температурные  нагрузки, но даже на лекарства и их дозы.     Этот тест поможет определить свою принадлежность к одной из трех категорий и понять, в какое время вы наиболее работоспособны.  Поэтому полезно знать  свой тип поведен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вый вывод, который я сделала – психолог должен хорошо, без ошибок уметь считать, значит , математика необходима психолог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9960" y="4724280"/>
            <a:ext cx="48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едующий тест  был намного сложне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979200"/>
            <a:ext cx="2952720" cy="466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изучения устойчивости, сосредоточенности, объема и распределения внимания используется метод «корректурная проб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ащимся предлагается бланк, в котором 20 строк и 40 букв. Необходимо в течении трех мину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черкивать бук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67280" y="1197000"/>
            <a:ext cx="4736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3560" y="723960"/>
            <a:ext cx="4736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198720"/>
            <a:ext cx="8713800" cy="1648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00a8"/>
                </a:solidFill>
                <a:latin typeface="Arial"/>
              </a:rPr>
              <a:t>Обработка результатов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Сначала подсчитывается количество букв, просмотренных за три минуты. Затем по формуле определяется показатель продуктивности и устойчивости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176720" y="3124080"/>
                <a:ext cx="1141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708360" y="2492280"/>
                <a:ext cx="790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5</m:t>
                        </m:r>
                        <m:r>
                          <m:t xml:space="preserve">Ν</m:t>
                        </m:r>
                        <m:r>
                          <m:t xml:space="preserve">−</m:t>
                        </m:r>
                        <m:r>
                          <m:t xml:space="preserve">2,8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203640" y="24915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78160" y="3342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24922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32720" y="3574080"/>
            <a:ext cx="639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казатель продуктивности и устойчивости вним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оличество просмотренных бук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оличество ошибок( буква пропущена и не зачеркнут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время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400a8"/>
                </a:solidFill>
                <a:latin typeface="Arial"/>
              </a:rPr>
              <a:t>Здесь используется умение работать с формул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9280" y="185040"/>
            <a:ext cx="87138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Результа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gt;1 – высокий урове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5&lt;S&lt;1,0 средн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lt;0,5 – низкий уровен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редставлении результата использу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тем подсчитывается уровень по клас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определении общего уровня устойчивости  и продуктивности  внимания по группам в целом используются понят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проценты, среднее арифметическое, умение работать с неравенствами  и умение решать задачи на пропор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84600"/>
            <a:ext cx="8280360" cy="64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990099"/>
                </a:solidFill>
                <a:latin typeface="Arial"/>
              </a:rPr>
              <a:t>Количество человек                                  проц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го в классе -15 человек                      10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следовано:    11 человек                        x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исимость пря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шим пропор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5:11 =100: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=11·100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=73,333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≈73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десь очень важно знать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правила округления чисе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принятые в математик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180360"/>
            <a:ext cx="87138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</a:rPr>
              <a:t>Итак, по результатам проведенного теста получилось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Высокий уровень: 3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Средний уровень: 7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Низкий  уровень:  1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Име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00a8"/>
                </a:solidFill>
                <a:latin typeface="Arial"/>
              </a:rPr>
              <a:t>Всего обследовано: 11 человек  -    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00a8"/>
                </a:solidFill>
                <a:latin typeface="Arial"/>
              </a:rPr>
              <a:t>Высокий уровень :3 человека    -       х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исимость прямая, решим пропорц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11:3 = 100: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х=27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алогично для среднего уровня получили:63,6% 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ля низкого уровня     -9,1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19280" y="155160"/>
            <a:ext cx="70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Общий результат психологом заносится в таблицу, а умению работать с таблицей так же учат на уроках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619280" y="2781360"/>
          <a:ext cx="6481800" cy="3014640"/>
        </p:xfrm>
        <a:graphic>
          <a:graphicData uri="http://schemas.openxmlformats.org/drawingml/2006/table">
            <a:tbl>
              <a:tblPr/>
              <a:tblGrid>
                <a:gridCol w="2133720"/>
                <a:gridCol w="2133360"/>
                <a:gridCol w="221472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учащихся:   15          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:        11            73,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чело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254160"/>
            <a:ext cx="8352000" cy="631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е хочется привести в пример еще один тест, но он очень сложный, его проводила Ковалева Л.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е был показан принцип обработки теста: Синдром «эмоционального выгорани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, кто принимал участие в тесте, предлагались 35  утверждений , например:1) « Иногда мне кажется, что результаты моей работы не стоят тех усилий, которые я затрачиваю», 2) «Я уверен, что моя работа нужна людям»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аждому вопросу нужно было высказать свое мнение. Для оценки степени своего согласия с утверждением используется шк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 «д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 «скорее д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«не знаю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 «скорее нет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 «н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719520" y="3108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364500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Цель работы:</a:t>
            </a:r>
            <a:br>
              <a:rPr sz="3600"/>
            </a:b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выяснить, нужны ли математические знания в психолог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33360"/>
            <a:ext cx="801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Без знания математики нельзя понять ни основ современной техники, ни того, как ученые изучают природные и социальные я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                                                     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Колмогоров А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08720" y="43056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Бланк для заполн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337080" cy="2703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58920" y="50832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каждой строке соответствует симптом и соответствующие номера утверждений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00000" y="25956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ин из бланков отве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6837480" cy="20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4360" y="2607480"/>
            <a:ext cx="78501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обработке результатов теста в первой строке ответ в пункте 8 заменить на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ротивоположный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То же самое выполнить для пунктов:2,10, 12, 6,14   и во всей четвертой строке. Далее подсчитывается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алгебраическая сумм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баллов по строкам. Чем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ыше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тоговый балл в строке, тем выше выраженность данного симпт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 эмоционального выгорания». Затем психолог  интерпретирует резуль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ервая строка  - симптом неудовлетворенности собой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Как видно из таблицы, у этого учителя в первой строке самый высокий бал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622440"/>
            <a:ext cx="7731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данном тесте  при обработке результатов   использую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ожительные и отрицательные числ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сихологу необходимо знать определение </a:t>
            </a:r>
            <a:r>
              <a:rPr b="1" lang="en-US" sz="2800" spc="-1" strike="noStrike">
                <a:solidFill>
                  <a:srgbClr val="6400a8"/>
                </a:solidFill>
                <a:latin typeface="Arial"/>
              </a:rPr>
              <a:t>противоположных чис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а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сложения чисел с разными знак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и , наконец ,психолог должен выбрать </a:t>
            </a:r>
            <a:r>
              <a:rPr b="1" i="1" lang="en-US" sz="2800" spc="-1" strike="noStrike">
                <a:solidFill>
                  <a:srgbClr val="cc00cc"/>
                </a:solidFill>
                <a:latin typeface="Arial"/>
              </a:rPr>
              <a:t>самый</a:t>
            </a:r>
            <a:r>
              <a:rPr b="0" i="1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Arial"/>
              </a:rPr>
              <a:t>высокий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тоговый балл. Значит, нужно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уметь сравнивать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трицательные числа, положительные  и отрицательные ,положительные и ноль, отрицательные и ноль, положительные  числ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489564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Заключ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2060640"/>
            <a:ext cx="7632720" cy="454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римере только  этих трех тестов я убедилась, что </a:t>
            </a:r>
            <a:r>
              <a:rPr b="0" lang="en-US" sz="3200" spc="-1" strike="noStrike">
                <a:solidFill>
                  <a:srgbClr val="6400a8"/>
                </a:solidFill>
                <a:latin typeface="Arial"/>
              </a:rPr>
              <a:t>математика очень нужна психологии, а психолог должен быть хорошим математик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уметь считать, работать с положительными и отрицательными числами, знать правила сравнения и округления чисел, уметь пользоваться формулами, заполнять таблицы, решать математические задачи на пропор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сихология. Словарь. Составитель Л. А. Карпенко. Под общ. ред. А. В. Петровского, М.Г. Ярошевск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: Политиздат, 19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22100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Школьникам о математике и математиках. Сост. М. М. Лиман. – М.: Просвещение, 19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4105080" cy="865080"/>
          </a:xfrm>
          <a:prstGeom prst="rect">
            <a:avLst/>
          </a:prstGeom>
          <a:solidFill>
            <a:srgbClr val="c0f1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48720" cy="3456000"/>
          </a:xfrm>
          <a:prstGeom prst="rect">
            <a:avLst/>
          </a:prstGeom>
          <a:solidFill>
            <a:srgbClr val="c0f1a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Тестирование –метод психологической диагно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Использование математических знаний при интерпретации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Заключ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826920" y="334080"/>
            <a:ext cx="21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189000"/>
            <a:ext cx="8713800" cy="6435720"/>
          </a:xfrm>
          <a:prstGeom prst="rect">
            <a:avLst/>
          </a:prstGeom>
          <a:solidFill>
            <a:srgbClr val="e8e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чему одним людям постоянно сопутствует удача и успех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другие всю жизнь недовольны собой? Отчего в одних семьях царит благополучие и покой, а другие напоминают поле битв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роизвести на собеседника хорошее впечатление и правильно построить деловой разгово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эти и подобные вопросы ищут ответы психологи разных стран. Ими проводятся интересные эксперименты, создаются различные методики, призванные помочь нам разобраться во внутреннем мире человека, в его поведении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блюдения психологов помогают нам лучше понять себя и других, найти решение многих жизненных проб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Используется ли математика в психологии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разобраться в этом, я обратилась за помощью к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школьному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психологу Ковалевой Лесе Игоревне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т что я узнала из её расс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90080"/>
            <a:ext cx="864072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сихология – наука, которая изучает факты, закономерности  и механизмы психики. Психика является свойством мозга. Психология исследует личность в общении и деятельности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3200" spc="-1" strike="noStrike">
                <a:solidFill>
                  <a:srgbClr val="6699ff"/>
                </a:solidFill>
                <a:latin typeface="Arial"/>
              </a:rPr>
              <a:t>Современная психология находится на стыке ряда наук, в частности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мате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Для того, чтобы установить определенные психологические качества личности, используют тест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-498600"/>
            <a:ext cx="828036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3300"/>
                </a:solidFill>
                <a:latin typeface="Arial"/>
              </a:rPr>
              <a:t>Тест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993300"/>
                </a:solidFill>
                <a:latin typeface="Monotype Corsiva"/>
              </a:rPr>
              <a:t>– это кратковременное задание, выполнение которого может служить показателем развития психических функций и свойств  личности. При помощи тестов стремятся выявить наличие или отсутствие определенных способностей, навыков, умений;  наиболее точно охарактеризовать некоторые качества личности.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25812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Процесс тестирования может быть раздел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на четыре  эта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ыбор те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определяется целью тестирования и степенью достоверности и надежности тес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его провед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определяется инструкцией к тесту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оличественная обработ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анных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интерпретация результа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определяется системой теоретических допущений относительно предмета тестирова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тий этап  предполагает </a:t>
            </a:r>
            <a:r>
              <a:rPr b="1" i="1" lang="en-US" sz="2400" spc="-1" strike="noStrike">
                <a:solidFill>
                  <a:srgbClr val="d60093"/>
                </a:solidFill>
                <a:latin typeface="Arial"/>
              </a:rPr>
              <a:t>применение математического аппарата психолог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использование статистических приемов и применение основных положений теории вероятностей, которые дают возможность судить о достоверности получаемых выв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404640"/>
            <a:ext cx="8351640" cy="5999040"/>
          </a:xfrm>
          <a:prstGeom prst="rect">
            <a:avLst/>
          </a:prstGeom>
          <a:solidFill>
            <a:srgbClr val="c5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психологии  существует немало исследовательских методик и тестов, направленных именно на выявление индивидуальных черт конкретного человека. Не все они одинаково точны и надежны. Некоторые могут дать лишь приблизительные результаты, которые ни в коем случае нельзя рассматривать как окончательный «приговор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 не менее большинство тестов способны выявить общие тенденции личности, они способны помочь каждому из нас хотя бы в общих чертах разобраться в се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ый тест, который мне доверила провести  школьный психолог Ковалева Л. И.   -         тест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Сова» или «жавороно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46720" cy="6597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12000" y="3500280"/>
            <a:ext cx="2520720" cy="304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ядом с ответами я расставила заранее  указанный балл, соответствующий выбранному ответу. Затем для каждого теста я нашла сумму всех баллов. Используя таблицу результатов, определила тип каждого учащегос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333360"/>
            <a:ext cx="2521080" cy="2562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раздала шестиклассникам напечатанные вопросы теста  и различные варианты ответов, учащиеся должны были выделить выбранный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2:30:28Z</dcterms:created>
  <dc:creator>User</dc:creator>
  <dc:description/>
  <dc:language>en-US</dc:language>
  <cp:lastModifiedBy>User</cp:lastModifiedBy>
  <dcterms:modified xsi:type="dcterms:W3CDTF">2009-01-28T20:48:41Z</dcterms:modified>
  <cp:revision>24</cp:revision>
  <dc:subject/>
  <dc:title>Слайд 1</dc:title>
</cp:coreProperties>
</file>