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19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CF9-D5C3-476B-A3DF-D7B78B0E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82A-85AB-4C3A-9C4D-5EFE4419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D64-5C38-4DDB-A3BF-D2988DEC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AC5-E6AA-4AD6-A44E-AA3587A4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3C34-F7A1-4EC2-93F9-5E1C4AB9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5808-5FAB-47E2-822B-07383B8D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5F08-3189-4C5A-9347-5F747BDC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E3BC-0A84-46DD-A1AE-0C4FBDC8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D6CC-198A-470E-B3BD-8D52317F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7FA7-BB88-4B46-BFF3-B984E59F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5FAA-6694-4E03-8BEB-52DBB947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1A7-DE4C-4BAC-B8A1-CC8A0835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7A0D-E3EB-45E6-A6E4-F0508FFC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B77C-F2B7-46F7-AC27-1E657E2A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8CB6-B99B-4C26-8A3D-B652CFBF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6034-8811-4248-A4AB-B2DA7BAE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A4EC-50B4-4C82-9BD2-8842800E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5D6-5502-49AA-B3AA-B25B9C64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C46-89E1-4A6B-BDBF-2728C640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9DF-0439-480E-8187-317D5976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963-BE60-4354-84C1-E3D4958B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DDE-DE81-46B2-98F7-2F898B80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063-E38E-4102-B944-061E99F4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575-D85F-4765-A772-77890438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4b00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C2F8-B20A-4C3A-8956-FFBFB17A82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F5E7-189E-4634-B48E-8EEB882AC2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885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Композиторы Венской     классической школы</a:t>
            </a:r>
            <a:endParaRPr b="1" lang="en-US" sz="5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360" y="3338640"/>
            <a:ext cx="5364360" cy="35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5675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узыкальный мир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.А. Моцарт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7280" y="2133720"/>
            <a:ext cx="471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ды жизни (1756-1791) Австрия, Зальцбур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первые соединил в опере драматическое и ком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мфоническая му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уховная музыка («Реквием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296856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734364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Занимательно:</a:t>
            </a:r>
            <a:br>
              <a:rPr sz="32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Моцарт, как известно, был вундеркиндом: 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Когда любящий отец отнял у малыша неоконченную нотную запись, он изумленно воскликнул: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- Но этот концерт так труден, что его никто не сможет сыграть!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- Какие глупости, папа! - возразил Моцарт,- его может сыграть даже ребенок. 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Например я.</a:t>
            </a:r>
            <a:endParaRPr b="1" lang="en-US" sz="2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940280" cy="3416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>
            <a:lum contrast="12000"/>
          </a:blip>
          <a:srcRect l="0" t="0" r="1260" b="0"/>
          <a:stretch/>
        </p:blipFill>
        <p:spPr>
          <a:xfrm>
            <a:off x="176364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189000"/>
            <a:ext cx="4249800" cy="336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427640" y="3165480"/>
            <a:ext cx="4546440" cy="3525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255760" y="0"/>
            <a:ext cx="46324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11600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333360"/>
            <a:ext cx="6336000" cy="6303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96360" y="476280"/>
            <a:ext cx="15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кв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72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189000"/>
            <a:ext cx="5024520" cy="6335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640720" cy="648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Музыка, высекающая огонь из людских сердец: Л. Бетховен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40000" y="2205000"/>
            <a:ext cx="5003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ды жизни (1771-1827), Австрия, В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уть от классицизма к новому стилю (романтизм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 симфоний, 32 сонаты, симфонические увертюры, 16 струнных квартетов, 5 концертов, кантаты, опера «Фиделио», романсы, обработки народных пес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contrast="12000"/>
          </a:blip>
          <a:srcRect l="6385" t="0" r="6261" b="0"/>
          <a:stretch/>
        </p:blipFill>
        <p:spPr>
          <a:xfrm>
            <a:off x="468360" y="2060640"/>
            <a:ext cx="3436920" cy="4464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95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89000"/>
            <a:ext cx="3294000" cy="4392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76720" y="285264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476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51280" y="189000"/>
            <a:ext cx="529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836640"/>
            <a:ext cx="3411360" cy="4968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19720" y="189000"/>
            <a:ext cx="4532040" cy="6408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780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 rot="20935200">
            <a:off x="474840" y="1844280"/>
            <a:ext cx="8669160" cy="28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ЛЬНА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ИН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0246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dd7df"/>
                </a:solidFill>
                <a:latin typeface="Tahoma"/>
              </a:rPr>
              <a:t>Музыка эпохи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Классицизма</a:t>
            </a:r>
            <a:br>
              <a:rPr sz="6600"/>
            </a:br>
            <a:endParaRPr b="1" lang="en-US" sz="6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495680" y="6248520"/>
            <a:ext cx="33530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0"/>
            <a:ext cx="835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лассицизм 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лово это произошло от латинского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classicus - образцовый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 основе классицизма лежало убеждение в разумности бытия, в том, что человеческая натура гармонич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вой идеал классики видели в античном искусстве, которое считали высшей формой совершен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16360" y="2379600"/>
            <a:ext cx="3546360" cy="447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794200" y="0"/>
            <a:ext cx="3349800" cy="472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404640"/>
            <a:ext cx="3591000" cy="38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7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лассицизм, характерные чер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лассический симфонизм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Й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айд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узыкальный мир В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. Моцар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узыка, высекающая огонь из людских сердец: Л. Бетхов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40000" y="4076640"/>
            <a:ext cx="6659640" cy="256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Черты классицизма: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викторина)</a:t>
            </a:r>
            <a:endParaRPr b="1" lang="en-US" sz="28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388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Классицизм переводится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бракованная раков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образцо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вычур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Основная задача художников-классик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удивить, вызвать изу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произведение должно нравиться, развлек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понять мир как разумно устроенный механизм, где человеку отведена организующая ро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Основная черта классицизм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преувеличенная пышность, масштабность фор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пристрастие к изысканным сложным формам, причудливым лин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идеализация героических образцов, гуманистическим идеал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2276640"/>
            <a:ext cx="936360" cy="865080"/>
          </a:xfrm>
          <a:prstGeom prst="diamond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6720" y="3429000"/>
            <a:ext cx="936360" cy="9367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12000" y="4869000"/>
            <a:ext cx="935280" cy="9349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лассический симфонизм Й. Гайдн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ды жизни (1732-1809), Австрия, В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ец классических симфоний (10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Музыка радости и досуга» - светлая и естественная, лирична и изыскан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5734080"/>
            <a:ext cx="7058160" cy="1123920"/>
          </a:xfrm>
          <a:prstGeom prst="horizontalScroll">
            <a:avLst>
              <a:gd name="adj" fmla="val 125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мфония – (созвучие) произведение д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мфонического оркестра, состоящее из 4 ча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2738160" cy="39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796000" y="1197000"/>
            <a:ext cx="2305080" cy="1152360"/>
          </a:xfrm>
          <a:prstGeom prst="downArrowCallout">
            <a:avLst>
              <a:gd name="adj1" fmla="val 50012"/>
              <a:gd name="adj2" fmla="val 50008"/>
              <a:gd name="adj3" fmla="val 16667"/>
              <a:gd name="adj4" fmla="val 66667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рипичный квар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80000" cy="3119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67280" y="2421000"/>
            <a:ext cx="4895640" cy="4279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91636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0" r="0" b="5734"/>
          <a:stretch/>
        </p:blipFill>
        <p:spPr>
          <a:xfrm>
            <a:off x="4211640" y="2060640"/>
            <a:ext cx="4759200" cy="4240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0920" y="18900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826920" y="3716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093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07:45Z</dcterms:created>
  <dc:creator>USR</dc:creator>
  <dc:description/>
  <dc:language>en-US</dc:language>
  <cp:lastModifiedBy>Николай</cp:lastModifiedBy>
  <dcterms:modified xsi:type="dcterms:W3CDTF">2011-02-08T08:55:16Z</dcterms:modified>
  <cp:revision>15</cp:revision>
  <dc:subject/>
  <dc:title>Композиторы Венской     классической школы</dc:title>
</cp:coreProperties>
</file>