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7.png" ContentType="image/png"/>
  <Override PartName="/ppt/media/image26.jpeg" ContentType="image/jpeg"/>
  <Override PartName="/ppt/media/image1.png" ContentType="image/png"/>
  <Override PartName="/ppt/media/image19.jpeg" ContentType="image/jpeg"/>
  <Override PartName="/ppt/media/image15.png" ContentType="image/pn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B4A0-A374-4ADF-9F3C-BEAD05A09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8DAC-B708-45FF-BBB2-BF9F3C05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42CE-7A26-4E77-9E8C-71A9A1D89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733F-4EEE-47F8-BC8E-5C4F36FB2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FCDA-6114-400D-A886-B8A26A14C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B03F9-18B0-4226-847A-2482C328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67DF-1BAD-4336-A67C-432FE422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555E-7BEB-4CA5-B401-9DF0E035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DAFF0-09C2-4911-A0D2-2951D80C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775E-3785-4AD8-88C7-C6B5F4AA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C397-CB3B-4F86-8DDA-5D88E48A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2C6D-BB9B-4460-B97C-2DCFDC1D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E73A-172D-402F-9D4D-88514728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CE8D-46FA-4571-9A76-A9140EAB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9B7A-A74C-47DA-9B6E-C8F012FF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19D1-EFB2-4410-B517-2C38CB03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4127-6F2A-410E-AC43-4C482BC2A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6A19-0B8B-4876-9E93-5781453D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529A-D79E-486B-9C6A-36A62DA2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8DDC-7C8C-4914-A96E-BFC3B538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FE77-1691-4F07-B1A6-C8AF78BC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8C81-9A7D-4288-9B8B-46CFABA8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0968-94EE-4BC2-8AAD-9D976914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F3FD-364F-4EDD-A295-A27A65B9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4b00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b0096"/>
                </a:gs>
                <a:gs pos="100000">
                  <a:srgbClr val="66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96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4b00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96"/>
                  </a:gs>
                  <a:gs pos="100000">
                    <a:srgbClr val="66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E3FE-AE55-43FD-9FB1-72F2633E55F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4b009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96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850ba"/>
                </a:gs>
                <a:gs pos="50000">
                  <a:srgbClr val="00ccff"/>
                </a:gs>
                <a:gs pos="100000">
                  <a:srgbClr val="7850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7850b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850ba"/>
                </a:gs>
                <a:gs pos="100000">
                  <a:srgbClr val="66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96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4b00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96"/>
                  </a:gs>
                  <a:gs pos="100000">
                    <a:srgbClr val="66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5390-BB23-4008-8C20-19C821D78F7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88508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Композиторы Венской     классической школы</a:t>
            </a:r>
            <a:endParaRPr b="1" lang="en-US" sz="5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492360" y="3338640"/>
            <a:ext cx="5364360" cy="351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560" y="304920"/>
            <a:ext cx="756756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Музыкальный мир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В.А. Моцарта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427280" y="2133720"/>
            <a:ext cx="4716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Годы жизни (1756-1791) Австрия, Зальцбур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первые соединил в опере драматическое и комическ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имфоническая музы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уховная музыка («Реквием»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2968560" cy="431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5640" y="274320"/>
            <a:ext cx="7343640" cy="64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ahoma"/>
              </a:rPr>
              <a:t>Занимательно:</a:t>
            </a:r>
            <a:br>
              <a:rPr sz="3200"/>
            </a:br>
            <a:r>
              <a:rPr b="1" lang="en-US" sz="2400" spc="-1" strike="noStrike">
                <a:solidFill>
                  <a:srgbClr val="cdd7df"/>
                </a:solidFill>
                <a:latin typeface="Tahoma"/>
              </a:rPr>
              <a:t>Моцарт, как известно, был вундеркиндом: </a:t>
            </a:r>
            <a:br>
              <a:rPr sz="2400"/>
            </a:br>
            <a:r>
              <a:rPr b="1" lang="en-US" sz="2400" spc="-1" strike="noStrike">
                <a:solidFill>
                  <a:srgbClr val="cdd7df"/>
                </a:solidFill>
                <a:latin typeface="Tahoma"/>
              </a:rPr>
              <a:t>в четыре года малыш написал свой первый концерт для клавира, причем такой сложный, что вряд ли кто-либо из европейских виртуозов мог бы его исполнить. </a:t>
            </a:r>
            <a:br>
              <a:rPr sz="2400"/>
            </a:br>
            <a:r>
              <a:rPr b="1" lang="en-US" sz="2400" spc="-1" strike="noStrike">
                <a:solidFill>
                  <a:srgbClr val="cdd7df"/>
                </a:solidFill>
                <a:latin typeface="Tahoma"/>
              </a:rPr>
              <a:t>Когда любящий отец отнял у малыша неоконченную нотную запись, он изумленно воскликнул:</a:t>
            </a:r>
            <a:br>
              <a:rPr sz="2400"/>
            </a:br>
            <a:r>
              <a:rPr b="1" lang="en-US" sz="2400" spc="-1" strike="noStrike">
                <a:solidFill>
                  <a:srgbClr val="cdd7df"/>
                </a:solidFill>
                <a:latin typeface="Tahoma"/>
              </a:rPr>
              <a:t>- Но этот концерт так труден, что его никто не сможет сыграть!</a:t>
            </a:r>
            <a:br>
              <a:rPr sz="2400"/>
            </a:br>
            <a:r>
              <a:rPr b="1" lang="en-US" sz="2400" spc="-1" strike="noStrike">
                <a:solidFill>
                  <a:srgbClr val="cdd7df"/>
                </a:solidFill>
                <a:latin typeface="Tahoma"/>
              </a:rPr>
              <a:t>- Какие глупости, папа! - возразил Моцарт,- его может сыграть даже ребенок. </a:t>
            </a:r>
            <a:br>
              <a:rPr sz="2400"/>
            </a:br>
            <a:r>
              <a:rPr b="1" lang="en-US" sz="2400" spc="-1" strike="noStrike">
                <a:solidFill>
                  <a:srgbClr val="cdd7df"/>
                </a:solidFill>
                <a:latin typeface="Tahoma"/>
              </a:rPr>
              <a:t>Например я.</a:t>
            </a:r>
            <a:endParaRPr b="1" lang="en-US" sz="2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6453000"/>
            <a:ext cx="777528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995640" y="3213000"/>
            <a:ext cx="4940280" cy="34164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>
            <a:lum contrast="12000"/>
          </a:blip>
          <a:srcRect l="0" t="0" r="1260" b="0"/>
          <a:stretch/>
        </p:blipFill>
        <p:spPr>
          <a:xfrm>
            <a:off x="1763640" y="0"/>
            <a:ext cx="547236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50920" y="189000"/>
            <a:ext cx="4249800" cy="3365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427640" y="3165480"/>
            <a:ext cx="4546440" cy="35258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2255760" y="0"/>
            <a:ext cx="463248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1116000" y="522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187280" y="333360"/>
            <a:ext cx="6336000" cy="63039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7596360" y="476280"/>
            <a:ext cx="154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Рекви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8172360" y="551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95280" y="189000"/>
            <a:ext cx="5024520" cy="6335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8640720" cy="6481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Музыка, высекающая огонь из людских сердец: Л. Бетховен</a:t>
            </a:r>
            <a:endParaRPr b="1" lang="en-US" sz="40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140000" y="2205000"/>
            <a:ext cx="5003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Годы жизни (1771-1827), Австрия, Ве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уть от классицизма к новому стилю (романтизму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9 симфоний, 32 сонаты, симфонические увертюры, 16 струнных квартетов, 5 концертов, кантаты, опера «Фиделио», романсы, обработки народных песе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>
            <a:lum contrast="12000"/>
          </a:blip>
          <a:srcRect l="6385" t="0" r="6261" b="0"/>
          <a:stretch/>
        </p:blipFill>
        <p:spPr>
          <a:xfrm>
            <a:off x="468360" y="2060640"/>
            <a:ext cx="3436920" cy="4464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99564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24000" y="189000"/>
            <a:ext cx="3294000" cy="43923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76720" y="2852640"/>
            <a:ext cx="5715000" cy="38102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1547640" y="5661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51280" y="189000"/>
            <a:ext cx="5292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емецкий композитор, которого нередко считают величайшим творцом всех време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Его творчество относят как к классицизму, так и к романтизм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очинения Бетховена - прежде всего выражение его гениальной лич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68360" y="836640"/>
            <a:ext cx="3411360" cy="4968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419720" y="189000"/>
            <a:ext cx="4532040" cy="64087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3780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1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 rot="20935200">
            <a:off x="474840" y="1844280"/>
            <a:ext cx="8669160" cy="28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ЗЫКАЛЬНАЯ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КТОРИН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02920" y="692280"/>
            <a:ext cx="702468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dd7df"/>
                </a:solidFill>
                <a:latin typeface="Tahoma"/>
              </a:rPr>
              <a:t>Музыка эпохи</a:t>
            </a:r>
            <a:br>
              <a:rPr sz="6600"/>
            </a:br>
            <a:r>
              <a:rPr b="1" lang="ru-RU" sz="6600" spc="-1" strike="noStrike">
                <a:solidFill>
                  <a:srgbClr val="ffffff"/>
                </a:solidFill>
                <a:latin typeface="Tahoma"/>
              </a:rPr>
              <a:t>Классицизма</a:t>
            </a:r>
            <a:br>
              <a:rPr sz="6600"/>
            </a:br>
            <a:endParaRPr b="1" lang="en-US" sz="66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495680" y="6248520"/>
            <a:ext cx="335304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95280" y="0"/>
            <a:ext cx="8352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Классицизм –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тиль и направление в искусстве XVII - начала XIX вв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лово это произошло от латинского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classicus - образцовый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 основе классицизма лежало убеждение в разумности бытия, в том, что человеческая натура гармоничн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вой идеал классики видели в античном искусстве, которое считали высшей формой совершенств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916360" y="2379600"/>
            <a:ext cx="3546360" cy="447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5794200" y="0"/>
            <a:ext cx="3349800" cy="4724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0" y="404640"/>
            <a:ext cx="3591000" cy="385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066320" y="0"/>
            <a:ext cx="80773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План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лассицизм, характерные чер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лассический симфонизм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Й.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Гайд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узыкальный мир В.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. Моцар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узыка, высекающая огонь из людских сердец: Л. Бетхове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340000" y="4076640"/>
            <a:ext cx="6659640" cy="2560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Черты классицизма:</a:t>
            </a:r>
            <a:br>
              <a:rPr sz="44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викторина)</a:t>
            </a:r>
            <a:endParaRPr b="1" lang="en-US" sz="28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763884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 Классицизм переводится как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) бракованная раков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б) образцов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) вычур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Основная задача художников-классиков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) удивить, вызвать изумл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б) произведение должно нравиться, развлека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) понять мир как разумно устроенный механизм, где человеку отведена организующая рол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. Основная черта классицизм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) преувеличенная пышность, масштабность фор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б) пристрастие к изысканным сложным формам, причудливым линия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) идеализация героических образцов, гуманистическим идеала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2276640"/>
            <a:ext cx="936360" cy="865080"/>
          </a:xfrm>
          <a:prstGeom prst="diamond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956720" y="3429000"/>
            <a:ext cx="936360" cy="936720"/>
          </a:xfrm>
          <a:prstGeom prst="diamond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812000" y="4869000"/>
            <a:ext cx="935280" cy="934920"/>
          </a:xfrm>
          <a:prstGeom prst="diamond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Классический симфонизм Й. Гайдна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410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Годы жизни (1732-1809), Австрия, Ве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ец классических симфоний (10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«Музыка радости и досуга» - светлая и естественная, лирична и изыскан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1042920" y="5734080"/>
            <a:ext cx="7058160" cy="1123920"/>
          </a:xfrm>
          <a:prstGeom prst="horizontalScroll">
            <a:avLst>
              <a:gd name="adj" fmla="val 12500"/>
            </a:avLst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имфония – (созвучие) произведение дл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имфонического оркестра, состоящее из 4 част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651640" y="1700280"/>
            <a:ext cx="2738160" cy="396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796000" y="1197000"/>
            <a:ext cx="2305080" cy="1152360"/>
          </a:xfrm>
          <a:prstGeom prst="downArrowCallout">
            <a:avLst>
              <a:gd name="adj1" fmla="val 50012"/>
              <a:gd name="adj2" fmla="val 50008"/>
              <a:gd name="adj3" fmla="val 16667"/>
              <a:gd name="adj4" fmla="val 66667"/>
            </a:avLst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крипичный кварт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680000" cy="31194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067280" y="2421000"/>
            <a:ext cx="4895640" cy="4279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916360" y="4797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rcRect l="0" t="0" r="0" b="5734"/>
          <a:stretch/>
        </p:blipFill>
        <p:spPr>
          <a:xfrm>
            <a:off x="4211640" y="2060640"/>
            <a:ext cx="4759200" cy="4240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250920" y="189000"/>
            <a:ext cx="3809880" cy="3352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826920" y="371628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709308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3:07:45Z</dcterms:created>
  <dc:creator>USR</dc:creator>
  <dc:description/>
  <dc:language>en-US</dc:language>
  <cp:lastModifiedBy>Николай</cp:lastModifiedBy>
  <dcterms:modified xsi:type="dcterms:W3CDTF">2011-02-08T08:55:16Z</dcterms:modified>
  <cp:revision>15</cp:revision>
  <dc:subject/>
  <dc:title>Композиторы Венской     классической школы</dc:title>
</cp:coreProperties>
</file>