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19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29F-48ED-4F97-9EC9-1DE6DA84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1FE-1A05-4A95-9C63-3063A7DB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126-AFB3-4D91-8D20-024C71D4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F43-4F2B-4831-A9FB-9725151E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0E7F-A4EE-4C24-9C82-14F8ADE6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26D6-5ED6-4E15-8C2D-6970D98C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1B65-8BE6-43A7-A478-E7EBD6D3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9FAA-BA34-45F1-B039-DEA51A5F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4157-D3DE-4B90-843C-5248569B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4099-DEF1-4A13-B395-F79FA6A1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5140-BC8B-450E-B12F-92DC2110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87D-6714-4030-800C-D192A1DD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9E93-5D62-406E-A1DF-75FD2C03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07E1-7146-44DB-A3AE-BA18F024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DF48-71FA-4F45-BCB6-4D7E1BC0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9446-EBC0-4ED5-86E8-9CCA650D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EFFA-BD06-415A-9C10-7AA7A9F7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6CE-B783-48D5-B7FE-33EE5AD8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2A4-EA63-40B6-8D84-7B2EBAC5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B2B-D91A-4CFC-8010-242FBAA5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2DD-8720-4BC4-89E9-6B91AB25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6EA-216F-4AED-BA29-87980AD5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FD9-264B-4280-9CCE-E952B63B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512-7C89-4D41-9019-C68DF0B6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4b00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b0096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7C92-546E-498F-BB9B-6F2A4DD0A4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50000">
                  <a:srgbClr val="00ccff"/>
                </a:gs>
                <a:gs pos="100000">
                  <a:srgbClr val="7850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7850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50ba"/>
                </a:gs>
                <a:gs pos="100000">
                  <a:srgbClr val="66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4b00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0096"/>
                  </a:gs>
                  <a:gs pos="100000">
                    <a:srgbClr val="66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DBB1-FB3B-4BF4-A913-8C5306D0D02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885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Композиторы Венской     классической школы</a:t>
            </a:r>
            <a:endParaRPr b="1" lang="en-US" sz="5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360" y="3338640"/>
            <a:ext cx="5364360" cy="351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304920"/>
            <a:ext cx="75675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Музыкальный мир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.А. Моцарта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7280" y="2133720"/>
            <a:ext cx="4716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оды жизни (1756-1791) Австрия, Зальцбур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первые соединил в опере драматическое и ком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имфоническая музы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уховная музыка («Реквием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2968560" cy="431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274320"/>
            <a:ext cx="7343640" cy="64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ahoma"/>
              </a:rPr>
              <a:t>Занимательно:</a:t>
            </a:r>
            <a:br>
              <a:rPr sz="32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Моцарт, как известно, был вундеркиндом: </a:t>
            </a:r>
            <a:br>
              <a:rPr sz="24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24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Когда любящий отец отнял у малыша неоконченную нотную запись, он изумленно воскликнул:</a:t>
            </a:r>
            <a:br>
              <a:rPr sz="24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- Но этот концерт так труден, что его никто не сможет сыграть!</a:t>
            </a:r>
            <a:br>
              <a:rPr sz="24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- Какие глупости, папа! - возразил Моцарт,- его может сыграть даже ребенок. </a:t>
            </a:r>
            <a:br>
              <a:rPr sz="2400"/>
            </a:br>
            <a:r>
              <a:rPr b="1" lang="en-US" sz="2400" spc="-1" strike="noStrike">
                <a:solidFill>
                  <a:srgbClr val="cdd7df"/>
                </a:solidFill>
                <a:latin typeface="Tahoma"/>
              </a:rPr>
              <a:t>Например я.</a:t>
            </a:r>
            <a:endParaRPr b="1" lang="en-US" sz="2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940280" cy="3416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>
            <a:lum contrast="12000"/>
          </a:blip>
          <a:srcRect l="0" t="0" r="1260" b="0"/>
          <a:stretch/>
        </p:blipFill>
        <p:spPr>
          <a:xfrm>
            <a:off x="176364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189000"/>
            <a:ext cx="4249800" cy="3365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427640" y="3165480"/>
            <a:ext cx="4546440" cy="3525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255760" y="0"/>
            <a:ext cx="463248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11600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87280" y="333360"/>
            <a:ext cx="6336000" cy="6303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596360" y="476280"/>
            <a:ext cx="15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екв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17236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5280" y="189000"/>
            <a:ext cx="5024520" cy="6335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640720" cy="648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Музыка, высекающая огонь из людских сердец: Л. Бетховен</a:t>
            </a: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40000" y="2205000"/>
            <a:ext cx="5003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оды жизни (1771-1827), Австрия, В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уть от классицизма к новому стилю (романтизм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 симфоний, 32 сонаты, симфонические увертюры, 16 струнных квартетов, 5 концертов, кантаты, опера «Фиделио», романсы, обработки народных пес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contrast="12000"/>
          </a:blip>
          <a:srcRect l="6385" t="0" r="6261" b="0"/>
          <a:stretch/>
        </p:blipFill>
        <p:spPr>
          <a:xfrm>
            <a:off x="468360" y="2060640"/>
            <a:ext cx="3436920" cy="4464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95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189000"/>
            <a:ext cx="3294000" cy="4392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76720" y="285264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54764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51280" y="189000"/>
            <a:ext cx="529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мецкий композитор, которого нередко считают величайшим творцом всех време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Его творчество относят как к классицизму, так и к романтиз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чинения Бетховена - прежде всего выражение его гениальной ли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836640"/>
            <a:ext cx="3411360" cy="4968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419720" y="189000"/>
            <a:ext cx="4532040" cy="6408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780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 rot="20935200">
            <a:off x="474840" y="1844280"/>
            <a:ext cx="8669160" cy="28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ЫКАЛЬНА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ТОРИН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2920" y="692280"/>
            <a:ext cx="70246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dd7df"/>
                </a:solidFill>
                <a:latin typeface="Tahoma"/>
              </a:rPr>
              <a:t>Музыка эпохи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Классицизма</a:t>
            </a:r>
            <a:br>
              <a:rPr sz="6600"/>
            </a:br>
            <a:endParaRPr b="1" lang="en-US" sz="66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495680" y="6248520"/>
            <a:ext cx="33530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0"/>
            <a:ext cx="8352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лассицизм 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лово это произошло от латинского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classicus - образцовый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 основе классицизма лежало убеждение в разумности бытия, в том, что человеческая натура гармоничн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вой идеал классики видели в античном искусстве, которое считали высшей формой совершен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916360" y="2379600"/>
            <a:ext cx="3546360" cy="447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794200" y="0"/>
            <a:ext cx="3349800" cy="4724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0" y="404640"/>
            <a:ext cx="3591000" cy="38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80773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лассицизм, характерные чер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лассический симфонизм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Й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айд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узыкальный мир В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. Моцар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узыка, высекающая огонь из людских сердец: Л. Бетхов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40000" y="4076640"/>
            <a:ext cx="6659640" cy="256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Черты классицизма:</a:t>
            </a:r>
            <a:br>
              <a:rPr sz="44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викторина)</a:t>
            </a:r>
            <a:endParaRPr b="1" lang="en-US" sz="28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6388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Классицизм переводится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) бракованная раков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) образцо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) вычур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Основная задача художников-классиков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) удивить, вызвать изум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) произведение должно нравиться, развлека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) понять мир как разумно устроенный механизм, где человеку отведена организующая ро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Основная черта классицизм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) преувеличенная пышность, масштабность фор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) пристрастие к изысканным сложным формам, причудливым линия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) идеализация героических образцов, гуманистическим идеал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2276640"/>
            <a:ext cx="936360" cy="865080"/>
          </a:xfrm>
          <a:prstGeom prst="diamond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56720" y="3429000"/>
            <a:ext cx="936360" cy="936720"/>
          </a:xfrm>
          <a:prstGeom prst="diamond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12000" y="4869000"/>
            <a:ext cx="935280" cy="934920"/>
          </a:xfrm>
          <a:prstGeom prst="diamond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лассический симфонизм Й. Гайдна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оды жизни (1732-1809), Австрия, В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тец классических симфоний (10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Музыка радости и досуга» - светлая и естественная, лирична и изыскан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5734080"/>
            <a:ext cx="7058160" cy="1123920"/>
          </a:xfrm>
          <a:prstGeom prst="horizontalScroll">
            <a:avLst>
              <a:gd name="adj" fmla="val 12500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имфония – (созвучие) произведение д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имфонического оркестра, состоящее из 4 ча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2738160" cy="39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796000" y="1197000"/>
            <a:ext cx="2305080" cy="1152360"/>
          </a:xfrm>
          <a:prstGeom prst="downArrowCallout">
            <a:avLst>
              <a:gd name="adj1" fmla="val 50012"/>
              <a:gd name="adj2" fmla="val 50008"/>
              <a:gd name="adj3" fmla="val 16667"/>
              <a:gd name="adj4" fmla="val 66667"/>
            </a:avLst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рипичный квар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80000" cy="3119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67280" y="2421000"/>
            <a:ext cx="4895640" cy="4279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916360" y="479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00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0" t="0" r="0" b="5734"/>
          <a:stretch/>
        </p:blipFill>
        <p:spPr>
          <a:xfrm>
            <a:off x="4211640" y="2060640"/>
            <a:ext cx="4759200" cy="4240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250920" y="189000"/>
            <a:ext cx="3809880" cy="3352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826920" y="3716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0930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07:45Z</dcterms:created>
  <dc:creator>USR</dc:creator>
  <dc:description/>
  <dc:language>en-US</dc:language>
  <cp:lastModifiedBy>Николай</cp:lastModifiedBy>
  <dcterms:modified xsi:type="dcterms:W3CDTF">2011-02-08T08:55:16Z</dcterms:modified>
  <cp:revision>15</cp:revision>
  <dc:subject/>
  <dc:title>Композиторы Венской     классической школы</dc:title>
</cp:coreProperties>
</file>