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5.png" ContentType="image/png"/>
  <Override PartName="/ppt/media/image28.png" ContentType="image/png"/>
  <Override PartName="/ppt/media/image23.png" ContentType="image/png"/>
  <Override PartName="/ppt/media/image18.gif" ContentType="image/gif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D3C-4A5C-40B0-BE81-5324F969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E2F-3301-4D75-A5FB-C01A832E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E81-ED75-451A-B94F-F09BF82C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1FF-3BEE-4299-B66E-BA0CF4C8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CB93-FC9A-4B4B-B9D6-9FAF0476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A249-1272-4AED-9C6E-8E6F0292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94A4-C2D4-460C-A9AA-95C28F58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862E-C8F3-46C0-A9A5-1C4B71CE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C7D3-4480-4E6E-A1E2-9479658D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E7B6-03C1-4D6F-B32F-476678C2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C27E-EBE8-4A89-8C62-B17E695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0C1-4565-4204-BF06-8EF924FE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69E7-9E09-4308-A530-C991ACC7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6344-DA7C-46E0-B081-16CAEEB0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AB96-5575-4B1D-A09A-BC809B19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1B15-9A35-4F38-86D4-A865F764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0B21-9229-4EE1-B9E6-50520031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882-7275-4AF3-BBA1-8FB7A2FB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C36-E633-4FD0-B24E-283B147F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ABE-631A-4016-B1DA-C11393E4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AC5-F597-45EB-B1A8-275CCCC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5C5-7F8E-4F2D-8A0F-35B022BC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B4D-35BB-473F-85C7-DDB137BB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70D-49D6-4E9D-BAC0-42BD8AFD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F337-83AF-4BE5-B61B-41AF97FC9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3594-6780-4A05-8258-27498D145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Исследовательский проект </a:t>
            </a:r>
            <a:br>
              <a:rPr sz="40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«Твоё здоровье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0040" y="185724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«Сколько весит здоровье ученика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429000" y="2428920"/>
            <a:ext cx="2382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кабинете лечебной физкультуры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2" name="Picture 3" descr="D:\школа-фото\портфель\DSCF3630.jpg"/>
          <p:cNvPicPr/>
          <p:nvPr/>
        </p:nvPicPr>
        <p:blipFill>
          <a:blip r:embed="rId1"/>
          <a:stretch/>
        </p:blipFill>
        <p:spPr>
          <a:xfrm>
            <a:off x="642960" y="121428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школа-фото\портфель\DSCF3632.jpg"/>
          <p:cNvPicPr/>
          <p:nvPr/>
        </p:nvPicPr>
        <p:blipFill>
          <a:blip r:embed="rId2"/>
          <a:stretch/>
        </p:blipFill>
        <p:spPr>
          <a:xfrm>
            <a:off x="4071960" y="364320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:\ШКОЛА\_246.gif"/>
          <p:cNvPicPr/>
          <p:nvPr/>
        </p:nvPicPr>
        <p:blipFill>
          <a:blip r:embed="rId3"/>
          <a:stretch/>
        </p:blipFill>
        <p:spPr>
          <a:xfrm>
            <a:off x="5500800" y="1500120"/>
            <a:ext cx="1390680" cy="1643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D:\ШКОЛА\_246.gif"/>
          <p:cNvPicPr/>
          <p:nvPr/>
        </p:nvPicPr>
        <p:blipFill>
          <a:blip r:embed="rId4"/>
          <a:stretch/>
        </p:blipFill>
        <p:spPr>
          <a:xfrm>
            <a:off x="1785960" y="4572000"/>
            <a:ext cx="11430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лучше носить: ранец или портфель?</a:t>
            </a:r>
            <a:endParaRPr b="0" lang="en-US" sz="36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7" name="Picture 3" descr="D:\школа-фото\твоё здоровье\DSCF3566a.jpg"/>
          <p:cNvPicPr/>
          <p:nvPr/>
        </p:nvPicPr>
        <p:blipFill>
          <a:blip r:embed="rId1"/>
          <a:stretch/>
        </p:blipFill>
        <p:spPr>
          <a:xfrm>
            <a:off x="1143000" y="207180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школа-фото\портфель\DSCF3634.jpg"/>
          <p:cNvPicPr/>
          <p:nvPr/>
        </p:nvPicPr>
        <p:blipFill>
          <a:blip r:embed="rId2"/>
          <a:stretch/>
        </p:blipFill>
        <p:spPr>
          <a:xfrm>
            <a:off x="4214880" y="1214280"/>
            <a:ext cx="29844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бираем     ранец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71320" y="1143000"/>
            <a:ext cx="8001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нка должна быть твёрд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кань должна быть прочной и водонепроницаем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юкзак должен быть с двумя лямк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стой рюкзак должен весить не более 500 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чки ранца должны быть гладкими, без вырезов и острых дета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D:\школа-фото\твоё здоровье\DSCF3567.jpg"/>
          <p:cNvPicPr/>
          <p:nvPr/>
        </p:nvPicPr>
        <p:blipFill>
          <a:blip r:embed="rId1"/>
          <a:stretch/>
        </p:blipFill>
        <p:spPr>
          <a:xfrm>
            <a:off x="2143080" y="3500280"/>
            <a:ext cx="41306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Гигиенические требования к учебникам</a:t>
            </a:r>
            <a:endParaRPr b="0" lang="en-US" sz="3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132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 – 4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лассы – 3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5 – 6 классы – 4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7 – 8 классы – 5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0-11 классы – 600 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Литературное чтение» - 220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Математика» - 270 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етрадь с печатной основой – 80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Русский язык» - 290 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оверочные работы по русскому языку -1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Окружающий мир» - 200 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етрадь на печатной основе – 22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невник – 150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6786720" y="1285920"/>
            <a:ext cx="1047600" cy="13143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1028520" cy="13618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3"/>
          <a:stretch/>
        </p:blipFill>
        <p:spPr>
          <a:xfrm>
            <a:off x="6000840" y="2714760"/>
            <a:ext cx="9619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ш     эксперимент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71720" y="1063800"/>
          <a:ext cx="7143480" cy="5019480"/>
        </p:xfrm>
        <a:graphic>
          <a:graphicData uri="http://schemas.openxmlformats.org/drawingml/2006/table">
            <a:tbl>
              <a:tblPr/>
              <a:tblGrid>
                <a:gridCol w="446040"/>
                <a:gridCol w="1609560"/>
                <a:gridCol w="760320"/>
                <a:gridCol w="660600"/>
                <a:gridCol w="760320"/>
                <a:gridCol w="851040"/>
                <a:gridCol w="1038240"/>
                <a:gridCol w="1017360"/>
              </a:tblGrid>
              <a:tr h="701640"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Ф.И. уче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Год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рож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ес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уче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ес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пустого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ран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ес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полного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ран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Оптимальный вес ран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         </a:t>
                      </a: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ыв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Анзельм Я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Березин Ники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Горчиневская Св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9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9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Грачёв Ди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5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Ильин Ники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8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алачёв Ди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7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озина И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7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8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окленков Кирил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8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9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оняхин Ники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0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улясов Влад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4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Левченко Дании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Логинова Пол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Мясников Андр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етрова Веро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9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0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5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ереяславцева Та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6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омыкалова И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4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7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афронов Влад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2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8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ерова Кат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9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мирнов Данил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8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7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ухов Серг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Тарасова Та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9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8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9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Тевряков Серг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Фадин Ди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7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4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Шишкин Алё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ши    рекомендации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Рекомендации родителям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окупайте тяжёлые ранцы. Врачи рекомендуют средний вес пустого ранца для учеников начальной школы – 300 г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 ваших детей от тяжёлых нагрузок портится осанк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аши дети быстрее устают, таская за своей спиной тяжеловес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жалуйста, позаботьтесь о ваших детях и об их здоровь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928960" y="4500720"/>
            <a:ext cx="28749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Рекомендации учителям и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 работникам школы</a:t>
            </a:r>
            <a:endParaRPr b="0" lang="en-US" sz="3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1320" y="1428840"/>
            <a:ext cx="8001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низить вес школьных ранцев  учащихся можно несколькими путям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использовать только те учебники и пособия, которые прошли гигиеническую экспертизу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 составлении школьного расписания учитывать гигиенические требования к весу ежедневных учебных комплектов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организовать хранение сменной обуви, спортивного инвентаря, принадлежностей для уроков труда, изобразительного искусства в помещении школы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организовать в классе библиотеку необходимых книг для дополнительного чт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358040" y="357120"/>
            <a:ext cx="142884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Рекомендации ученикам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1320" y="1599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е носите лишнего в ранца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веряйте ранец ежедневно и не забывайте вытащить из него ненужные учебни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анка вырабатывается в детстве. Чтобы выработать хорошую осанку, быть здоровым, нужно выполнять правила, многие из которых вы уже знае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429000" y="4214880"/>
            <a:ext cx="213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полняя эти рекомендации, мы, ваши дети, будем здоровы!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 здоровье сберегу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ам себе я помогу!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429000" y="3143160"/>
            <a:ext cx="209700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частушки3 .avi" descr=""/>
          <p:cNvPicPr/>
          <p:nvPr/>
        </p:nvPicPr>
        <p:blipFill>
          <a:blip r:embed="rId2"/>
          <a:stretch/>
        </p:blipFill>
        <p:spPr>
          <a:xfrm>
            <a:off x="3429000" y="6143760"/>
            <a:ext cx="5716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Благодарим за внимание!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714760" y="2571840"/>
            <a:ext cx="315252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Цель проекта: </a:t>
            </a:r>
            <a:r>
              <a:rPr b="0" i="1" lang="ru-RU" sz="3100" spc="-1" strike="noStrike">
                <a:solidFill>
                  <a:srgbClr val="7030a0"/>
                </a:solidFill>
                <a:latin typeface="Calibri"/>
              </a:rPr>
              <a:t>обратить внимание на сбережение своего здоровья путем ежедневного контроля тяжестей за спиной.</a:t>
            </a:r>
            <a:endParaRPr b="0" lang="en-US" sz="31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1320" y="2356920"/>
            <a:ext cx="8001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Задачи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Активизировать познавательную деятельность ученико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Описать, как влияют тяжелые ранцы на растущий организм ребёнка, к каким последствиям это приводит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Доказать, что тяжёлый портфель вредит здоровью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редложить свои способы решения проблем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78588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Этапы  работы над проектом: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1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Погружение в проект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2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Планирование деятельности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3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Реализация плана: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Загадки мудрого портфеля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Осанка человека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Выбираем ранец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Наши исследования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Наши рекомендации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4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Оформление проектной работы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5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Презентация результатов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6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Оценка результатов и процесса проектной деятельности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71320" y="1600200"/>
            <a:ext cx="80010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гружение в проект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320" y="1214280"/>
            <a:ext cx="8001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ая осанка формируется в первые годы жизни. Но наиболее важный период - с 4 до 10 лет, когда быстро развиваются механизмы, обеспечивающие вертикальную позу. Осанку школьникам портят тяжелые ранцы и особенно - портфели. Регулярная асимметричная нагрузка на неокрепший позвоночник чревата неприятностями на всю дальнейшую жизнь. Год от года школьные ранцы становятся тяжелее. Исследования, проведенные в ряде школ, показали, что вес ранца с учебниками у учеников начальной школы, как правило, достигает 5-6 кг, что в 2,5-3 раза превышает допустимые гигиенические норм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Гипотеза  исследования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ы предполагаем, что тяжелый ранец вредит здоровью.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ланирование деятельности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214308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1. Загадки Мудрого портф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2. Что такое осанка? Отчего портится осан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3. Выбираем ранец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4. Гигиенические требования к учебник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5.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Как же сохранить здоровье ученика и не усугубить эту проблему, нося ежедневно тяжёлую поклажу за спино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0a0"/>
                </a:solidFill>
                <a:latin typeface="Calibri"/>
              </a:rPr>
              <a:t>6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. Рекомендации родителям и ученик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6286680" y="1214280"/>
            <a:ext cx="1952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1320" y="128556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тфель - слово французского происхождения. Состоит из двух частей. «Порт» - несу, «фель» - листы. Дословно переводится – ношу лист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Когда на Земле появился портфель? Совершая раскопки в Альпийских горах, учёные-археологи нашли тело древнего человека, рядом с которым лежал портфель. Хозяину портфеля было около 5 тысяч лет. Портфель был сделан из кожи и  досок.    Его можно было носить как на спине, так и в рук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30240" y="182520"/>
            <a:ext cx="9064440" cy="1500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3214800" y="4786200"/>
            <a:ext cx="2214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320" y="356760"/>
            <a:ext cx="8001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привыкли считать ранец чисто школьным предметом, а его вместе с названием занесли к нам как «заплечный походный мешок» - Ranzen наемные немецкие солдаты московских царей в XVII веке. Лет через 150—200 слово перешло на ученическую сумку (раньше их делали из тюленьей кожи), также носимую на спи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000240" y="3500280"/>
            <a:ext cx="28861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Жители наших ранцев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1714680" cy="2214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"/>
          <p:cNvPicPr/>
          <p:nvPr/>
        </p:nvPicPr>
        <p:blipFill>
          <a:blip r:embed="rId2"/>
          <a:stretch/>
        </p:blipFill>
        <p:spPr>
          <a:xfrm>
            <a:off x="2357280" y="3714840"/>
            <a:ext cx="1757520" cy="15714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"/>
          <p:cNvPicPr/>
          <p:nvPr/>
        </p:nvPicPr>
        <p:blipFill>
          <a:blip r:embed="rId3"/>
          <a:stretch/>
        </p:blipFill>
        <p:spPr>
          <a:xfrm>
            <a:off x="3857760" y="2786040"/>
            <a:ext cx="2000160" cy="1127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"/>
          <p:cNvPicPr/>
          <p:nvPr/>
        </p:nvPicPr>
        <p:blipFill>
          <a:blip r:embed="rId4"/>
          <a:stretch/>
        </p:blipFill>
        <p:spPr>
          <a:xfrm>
            <a:off x="5429160" y="3571920"/>
            <a:ext cx="1500120" cy="1785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"/>
          <p:cNvPicPr/>
          <p:nvPr/>
        </p:nvPicPr>
        <p:blipFill>
          <a:blip r:embed="rId5"/>
          <a:stretch/>
        </p:blipFill>
        <p:spPr>
          <a:xfrm>
            <a:off x="6500880" y="1643040"/>
            <a:ext cx="15001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Что такое осанка?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3840" y="1142640"/>
            <a:ext cx="85726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Эксперимент: </a:t>
            </a:r>
            <a:br>
              <a:rPr sz="2800"/>
            </a:b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проверяем правильность осанки у школьника.</a:t>
            </a:r>
            <a:br>
              <a:rPr sz="3000"/>
            </a:br>
            <a:r>
              <a:rPr b="1" lang="ru-RU" sz="30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D:\школа-фото\портфель\DSCF3625.jpg"/>
          <p:cNvPicPr/>
          <p:nvPr/>
        </p:nvPicPr>
        <p:blipFill>
          <a:blip r:embed="rId1"/>
          <a:stretch/>
        </p:blipFill>
        <p:spPr>
          <a:xfrm>
            <a:off x="928800" y="2214720"/>
            <a:ext cx="2892240" cy="38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:\школа-фото\портфель\DSCF3626.jpg"/>
          <p:cNvPicPr/>
          <p:nvPr/>
        </p:nvPicPr>
        <p:blipFill>
          <a:blip r:embed="rId2"/>
          <a:stretch/>
        </p:blipFill>
        <p:spPr>
          <a:xfrm>
            <a:off x="4714920" y="2214720"/>
            <a:ext cx="28573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2:21:36Z</dcterms:created>
  <dc:creator>Admin</dc:creator>
  <dc:description/>
  <dc:language>en-US</dc:language>
  <cp:lastModifiedBy>Галина</cp:lastModifiedBy>
  <dcterms:modified xsi:type="dcterms:W3CDTF">2012-01-07T14:14:25Z</dcterms:modified>
  <cp:revision>16</cp:revision>
  <dc:subject/>
  <dc:title>Исследовательский проект  «Твоё здоровь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