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23.png" ContentType="image/png"/>
  <Override PartName="/ppt/media/image18.gif" ContentType="image/gif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A7A-DD03-4326-879A-1BB31AF4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7FF-27F6-4D34-BFBD-D86BC81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EEA-5AC8-44DF-85F0-B2A66946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76D-F4D4-406F-856B-7ADA536A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D657-F2A1-4BF2-83E8-B5225F59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96FD-6B1E-4684-A701-B37374A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8162-E52C-444B-9F76-1F88255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2ED9-13AC-40F2-B2FC-608F03FF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01B5-70FD-4848-85CB-9E200AAC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CDA7-BC1F-4694-9BED-0B94AD85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4FDA-6889-4AEE-9C8B-F0FD808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E7B-348C-4C47-A16A-2CE947C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CC4F-5452-4A2C-95DD-38ED1B1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FFE-1102-4261-939D-47144EE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8915-3F04-4540-B22A-CF918E3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5F26-64BB-4559-BCA7-241B729E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A09C-C9FC-4043-B560-07936333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3D3-F50C-43D2-A7D9-FA5499D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4C9-7E59-4C80-945B-A9417F21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26A-3E7D-4A31-8117-5441B3E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B9D-DB95-4C42-A651-7E5ED23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93A-8B7C-4ECC-ADEC-B4AD491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B1D-5843-4049-B272-A2BFAB24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A45-B28E-4AF5-96D3-8F7E90FD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AF7B-8F00-4570-92DB-3DA26E61E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C402-7652-4148-961D-F8A7C052F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Исследовательский проект </a:t>
            </a: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«Твоё здоровье»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«Сколько весит здоровье ученика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429000" y="2428920"/>
            <a:ext cx="2382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кабинете лечебной физкультуры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2" name="Picture 3" descr="D:\школа-фото\портфель\DSCF3630.jpg"/>
          <p:cNvPicPr/>
          <p:nvPr/>
        </p:nvPicPr>
        <p:blipFill>
          <a:blip r:embed="rId1"/>
          <a:stretch/>
        </p:blipFill>
        <p:spPr>
          <a:xfrm>
            <a:off x="642960" y="121428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школа-фото\портфель\DSCF3632.jpg"/>
          <p:cNvPicPr/>
          <p:nvPr/>
        </p:nvPicPr>
        <p:blipFill>
          <a:blip r:embed="rId2"/>
          <a:stretch/>
        </p:blipFill>
        <p:spPr>
          <a:xfrm>
            <a:off x="4071960" y="36432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ШКОЛА\_246.gif"/>
          <p:cNvPicPr/>
          <p:nvPr/>
        </p:nvPicPr>
        <p:blipFill>
          <a:blip r:embed="rId3"/>
          <a:stretch/>
        </p:blipFill>
        <p:spPr>
          <a:xfrm>
            <a:off x="5500800" y="150012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:\ШКОЛА\_246.gif"/>
          <p:cNvPicPr/>
          <p:nvPr/>
        </p:nvPicPr>
        <p:blipFill>
          <a:blip r:embed="rId4"/>
          <a:stretch/>
        </p:blipFill>
        <p:spPr>
          <a:xfrm>
            <a:off x="1785960" y="4572000"/>
            <a:ext cx="1143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лучше носить: ранец или портфель?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17" name="Picture 3" descr="D:\школа-фото\твоё здоровье\DSCF3566a.jpg"/>
          <p:cNvPicPr/>
          <p:nvPr/>
        </p:nvPicPr>
        <p:blipFill>
          <a:blip r:embed="rId1"/>
          <a:stretch/>
        </p:blipFill>
        <p:spPr>
          <a:xfrm>
            <a:off x="1143000" y="207180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школа-фото\портфель\DSCF3634.jpg"/>
          <p:cNvPicPr/>
          <p:nvPr/>
        </p:nvPicPr>
        <p:blipFill>
          <a:blip r:embed="rId2"/>
          <a:stretch/>
        </p:blipFill>
        <p:spPr>
          <a:xfrm>
            <a:off x="4214880" y="1214280"/>
            <a:ext cx="29844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бираем     ранец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71320" y="1143000"/>
            <a:ext cx="8001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нка должна быть твёрд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кань должна быть прочной и водонепроницаем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юкзак должен быть с двумя лям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ой рюкзак должен весить не более 500 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чки ранца должны быть гладкими, без вырезов и острых дета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D:\школа-фото\твоё здоровье\DSCF3567.jpg"/>
          <p:cNvPicPr/>
          <p:nvPr/>
        </p:nvPicPr>
        <p:blipFill>
          <a:blip r:embed="rId1"/>
          <a:stretch/>
        </p:blipFill>
        <p:spPr>
          <a:xfrm>
            <a:off x="2143080" y="3500280"/>
            <a:ext cx="4130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игиенические требования к учебникам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1320" y="1143000"/>
            <a:ext cx="8001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1 – 4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лассы – 3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5 – 6 классы – 4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7 – 8 классы – 5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0-11 классы – 600 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Литературное чтение» - 220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Математика» - 27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традь с печатной основой – 80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Русский язык» - 29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оверочные работы по русскому языку -10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Окружающий мир» - 200 г 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етрадь на печатной основе – 220 г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невник – 150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6786720" y="1285920"/>
            <a:ext cx="1047600" cy="1314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1028520" cy="1361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9619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     эксперимент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71720" y="1063800"/>
          <a:ext cx="7143480" cy="5019480"/>
        </p:xfrm>
        <a:graphic>
          <a:graphicData uri="http://schemas.openxmlformats.org/drawingml/2006/table">
            <a:tbl>
              <a:tblPr/>
              <a:tblGrid>
                <a:gridCol w="446040"/>
                <a:gridCol w="1609560"/>
                <a:gridCol w="760320"/>
                <a:gridCol w="660600"/>
                <a:gridCol w="760320"/>
                <a:gridCol w="851040"/>
                <a:gridCol w="1038240"/>
                <a:gridCol w="1017360"/>
              </a:tblGrid>
              <a:tr h="701640"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Ф.И. 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Год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ож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уче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устого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ес 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полного</a:t>
                      </a:r>
                      <a:br>
                        <a:rPr sz="900"/>
                      </a:b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Оптимальный вес ран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         </a:t>
                      </a:r>
                      <a:r>
                        <a:rPr b="1" lang="ru-RU" sz="900" spc="-1" strike="noStrike">
                          <a:solidFill>
                            <a:srgbClr val="0070c0"/>
                          </a:solidFill>
                          <a:latin typeface="Georgia"/>
                          <a:ea typeface="Georgia"/>
                        </a:rPr>
                        <a:t>Выв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Анзельм Я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Берез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Горчиневская Све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9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Грачёв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Иль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алачёв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зина И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7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кленков Кирил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8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9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оняхин Ники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0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Кулясов Влад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Левченко Дании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Логинова Пол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Мясников Андр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трова Веро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0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5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ереяславцева Та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6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Помыкалова И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афронов Влад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2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ерова Кат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3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9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мирнов Дани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8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7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8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Сухов Серг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6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6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Тарасова Та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9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8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9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2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Тевряков Серг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1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5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3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Фадин Ди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7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0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4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Шишкин Алё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5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4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 кг 1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 кг 500 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ши    рекомендации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1320" y="1071720"/>
            <a:ext cx="8001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Рекомендации родителям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покупайте тяжёлые ранцы. Врачи рекомендуют средний вес пустого ранца для учеников начальной школы – 300 г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 ваших детей от тяжёлых нагрузок портится осанк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аши дети быстрее устают, таская за своей спиной тяжеловесы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ожалуйста, позаботьтесь о ваших детях и об их здоровь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28960" y="4500720"/>
            <a:ext cx="28749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Рекомендации учителям и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 работникам школы</a:t>
            </a:r>
            <a:endParaRPr b="0" lang="en-US" sz="36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320" y="1428840"/>
            <a:ext cx="8001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низить вес школьных ранцев  учащихся можно несколькими путям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спользовать только те учебники и пособия, которые прошли гигиеническую экспертизу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 составлении школьного расписания учитывать гигиенические требования к весу ежедневных учебных комплектов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рганизовать хранение сменной обуви, спортивного инвентаря, принадлежностей для уроков труда, изобразительного искусства в помещении школы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рганизовать в классе библиотеку необходимых книг для дополнительного чт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358040" y="357120"/>
            <a:ext cx="142884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Рекомендации ученикам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1320" y="15998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е носите лишнего в ранц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оверяйте ранец ежедневно и не забывайте вытащить из него ненужные учеб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анка вырабатывается в детстве. Чтобы выработать хорошую осанку, быть здоровым, нужно выполнять правила, многие из которых вы уже знае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429000" y="4214880"/>
            <a:ext cx="213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полняя эти рекомендации, мы, ваши дети, будем здоровы!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Я здоровье сберегу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ам себе я помогу!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429000" y="3143160"/>
            <a:ext cx="209700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частушки3 .avi" descr=""/>
          <p:cNvPicPr/>
          <p:nvPr/>
        </p:nvPicPr>
        <p:blipFill>
          <a:blip r:embed="rId2"/>
          <a:stretch/>
        </p:blipFill>
        <p:spPr>
          <a:xfrm>
            <a:off x="3429000" y="6143760"/>
            <a:ext cx="5716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274680"/>
            <a:ext cx="80010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Благодарим за внимание!</a:t>
            </a:r>
            <a:br>
              <a:rPr sz="4800"/>
            </a:b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14760" y="2571840"/>
            <a:ext cx="31525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Цель проекта: </a:t>
            </a:r>
            <a:r>
              <a:rPr b="0" i="1" lang="ru-RU" sz="3100" spc="-1" strike="noStrike">
                <a:solidFill>
                  <a:srgbClr val="7030a0"/>
                </a:solidFill>
                <a:latin typeface="Calibri"/>
              </a:rPr>
              <a:t>обратить внимание на сбережение своего здоровья путем ежедневного контроля тяжестей за спиной.</a:t>
            </a:r>
            <a:endParaRPr b="0" lang="en-US" sz="31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320" y="2356920"/>
            <a:ext cx="80010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Задачи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Активизировать познавательную деятельность ученико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Описать, как влияют тяжелые ранцы на растущий организм ребёнка, к каким последствиям это приводи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Доказать, что тяжёлый портфель вредит здоровь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редложить свои способы решения проблем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Этапы  работы над проектом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1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огружение в проект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2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ланирование деятельности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3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Реализация плана: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Загадки мудрого портфеля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Осанка человека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Выбираем ранец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Наши исследования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        - Наши рекомендаци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4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Оформление проектной работы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5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Презентация результатов.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тап 6.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Оценка результатов и процесса проектной деятельности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1320" y="1600200"/>
            <a:ext cx="80010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гружение в проект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320" y="1214280"/>
            <a:ext cx="80010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ьная осанка формируется в первые годы жизни. Но наиболее важный период - с 4 до 10 лет, когда быстро развиваются механизмы, обеспечивающие вертикальную позу. Осанку школьникам портят тяжелые ранцы и особенно - портфели. Регулярная асимметричная нагрузка на неокрепший позвоночник чревата неприятностями на всю дальнейшую жизнь. Год от года школьные ранцы становятся тяжелее. Исследования, проведенные в ряде школ, показали, что вес ранца с учебниками у учеников начальной школы, как правило, достигает 5-6 кг, что в 2,5-3 раза превышает допустимые гигиенические норм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Гипотеза  исследования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ы предполагаем, что тяжелый ранец вредит здоровью.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ланирование деятельности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214308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1. Загадки Мудрого портф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2. Что такое осанка? Отчего портится осан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3. Выбираем ранец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4. Гигиенические требования к учебни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5.</a:t>
            </a:r>
            <a:r>
              <a:rPr b="0" lang="ru-RU" sz="3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Как же сохранить здоровье ученика и не усугубить эту проблему, нося ежедневно тяжёлую поклажу за спино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0a0"/>
                </a:solidFill>
                <a:latin typeface="Calibri"/>
              </a:rPr>
              <a:t>6</a:t>
            </a: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. Рекомендации родителям и ученика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6286680" y="1214280"/>
            <a:ext cx="1952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28556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тфель - слово французского происхождения. Состоит из двух частей. «Порт» - несу, «фель» - листы. Дословно переводится – ношу лист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Когда на Земле появился портфель? Совершая раскопки в Альпийских горах, учёные-археологи нашли тело древнего человека, рядом с которым лежал портфель. Хозяину портфеля было около 5 тысяч лет. Портфель был сделан из кожи и  досок.    Его можно было носить как на спине, так и в рука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30240" y="182520"/>
            <a:ext cx="906444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3214800" y="4786200"/>
            <a:ext cx="2214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320" y="356760"/>
            <a:ext cx="8001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привыкли считать ранец чисто школьным предметом, а его вместе с названием занесли к нам как «заплечный походный мешок» - Ranzen наемные немецкие солдаты московских царей в XVII веке. Лет через 150—200 слово перешло на ученическую сумку (раньше их делали из тюленьей кожи), также носимую на сп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3000240" y="3500280"/>
            <a:ext cx="28861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Жители наших ранцев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171468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2357280" y="3714840"/>
            <a:ext cx="175752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"/>
          <p:cNvPicPr/>
          <p:nvPr/>
        </p:nvPicPr>
        <p:blipFill>
          <a:blip r:embed="rId3"/>
          <a:stretch/>
        </p:blipFill>
        <p:spPr>
          <a:xfrm>
            <a:off x="3857760" y="2786040"/>
            <a:ext cx="2000160" cy="1127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4"/>
          <a:stretch/>
        </p:blipFill>
        <p:spPr>
          <a:xfrm>
            <a:off x="5429160" y="357192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"/>
          <p:cNvPicPr/>
          <p:nvPr/>
        </p:nvPicPr>
        <p:blipFill>
          <a:blip r:embed="rId5"/>
          <a:stretch/>
        </p:blipFill>
        <p:spPr>
          <a:xfrm>
            <a:off x="6500880" y="1643040"/>
            <a:ext cx="15001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Что такое осанка?</a:t>
            </a:r>
            <a:endParaRPr b="0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840" y="1142640"/>
            <a:ext cx="8572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Эксперимент: </a:t>
            </a:r>
            <a:br>
              <a:rPr sz="2800"/>
            </a:br>
            <a:r>
              <a:rPr b="1" lang="ru-RU" sz="2800" spc="-1" strike="noStrike" u="sng">
                <a:solidFill>
                  <a:srgbClr val="0070c0"/>
                </a:solidFill>
                <a:uFillTx/>
                <a:latin typeface="Calibri"/>
              </a:rPr>
              <a:t>проверяем правильность осанки у школьника.</a:t>
            </a:r>
            <a:br>
              <a:rPr sz="3000"/>
            </a:br>
            <a:r>
              <a:rPr b="1" lang="ru-RU" sz="30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D:\школа-фото\портфель\DSCF3625.jpg"/>
          <p:cNvPicPr/>
          <p:nvPr/>
        </p:nvPicPr>
        <p:blipFill>
          <a:blip r:embed="rId1"/>
          <a:stretch/>
        </p:blipFill>
        <p:spPr>
          <a:xfrm>
            <a:off x="928800" y="2214720"/>
            <a:ext cx="2892240" cy="38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:\школа-фото\портфель\DSCF3626.jpg"/>
          <p:cNvPicPr/>
          <p:nvPr/>
        </p:nvPicPr>
        <p:blipFill>
          <a:blip r:embed="rId2"/>
          <a:stretch/>
        </p:blipFill>
        <p:spPr>
          <a:xfrm>
            <a:off x="4714920" y="2214720"/>
            <a:ext cx="28573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2:21:36Z</dcterms:created>
  <dc:creator>Admin</dc:creator>
  <dc:description/>
  <dc:language>en-US</dc:language>
  <cp:lastModifiedBy>Галина</cp:lastModifiedBy>
  <dcterms:modified xsi:type="dcterms:W3CDTF">2012-01-07T14:14:25Z</dcterms:modified>
  <cp:revision>16</cp:revision>
  <dc:subject/>
  <dc:title>Исследовательский проект  «Твоё здоровь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49991</vt:lpwstr>
  </property>
</Properties>
</file>