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31E-24C6-4A23-BAFE-0E7BBE03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1CC-7ADB-46AF-8AF5-62B1F8BC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A8E-61CD-4FF9-BB8A-B721B3B0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803-6F71-4CC1-88B4-3127E612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A40-A881-462E-A765-2DA20F07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DA1-E403-4601-B601-3C8AABBE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CAC-AC44-4779-A8FA-29910968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F63-C7F8-44D8-BC5B-0E1BD6B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D85-AFAB-4277-B49E-5396CF9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A41-BC09-4B1E-B714-2D479F8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60D-BCB4-4178-A84B-53C16B8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2D4-EE1E-46CB-9CE8-2BB45774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CFE-C3D8-4222-BC5A-7DBC7FD89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ru.wikipedia.org/wiki/&#1060;&#1091;&#1090;&#1073;&#1086;&#1083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06200" y="691920"/>
            <a:ext cx="35290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Футб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0920" y="4508640"/>
            <a:ext cx="8281800" cy="20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у выполнили: учащиеся 9«А» класса ГБОУ СОШ №29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Центральн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цков А., Борзаков Д., Кулигин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chto_nuzhno_izmenit_v_rossiiskom_futbole_2.jpg"/>
          <p:cNvPicPr/>
          <p:nvPr/>
        </p:nvPicPr>
        <p:blipFill>
          <a:blip r:embed="rId1"/>
          <a:stretch/>
        </p:blipFill>
        <p:spPr>
          <a:xfrm>
            <a:off x="-181080" y="18900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Мяч.jpg"/>
          <p:cNvPicPr/>
          <p:nvPr/>
        </p:nvPicPr>
        <p:blipFill>
          <a:blip r:embed="rId2"/>
          <a:stretch/>
        </p:blipFill>
        <p:spPr>
          <a:xfrm>
            <a:off x="5059440" y="260280"/>
            <a:ext cx="40845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учащегося 10 «б» класса Клёнова Евг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учителя физической культуры Ульдановой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Футбол</a:t>
            </a:r>
            <a:r>
              <a:rPr b="0" lang="ru-RU" sz="20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3840" y="2282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3712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4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 (англ. football, от foot - нога и ball - мяч) - 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 Футбольное поле - 90-120x45-90 м. Продолжительность игры - 90 мин (2 тайма по 45 мин с перерывом 15 мин)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8566212-sport-silhouette--soccer-goalie-dive-defending-goal.png"/>
          <p:cNvPicPr/>
          <p:nvPr/>
        </p:nvPicPr>
        <p:blipFill>
          <a:blip r:embed="rId1"/>
          <a:stretch/>
        </p:blipFill>
        <p:spPr>
          <a:xfrm>
            <a:off x="1219320" y="3581280"/>
            <a:ext cx="18000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futbolnoe_pole-1920x1200.jpg"/>
          <p:cNvPicPr/>
          <p:nvPr/>
        </p:nvPicPr>
        <p:blipFill>
          <a:blip r:embed="rId2"/>
          <a:stretch/>
        </p:blipFill>
        <p:spPr>
          <a:xfrm>
            <a:off x="4140360" y="3573360"/>
            <a:ext cx="4724280" cy="295272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10"/>
          <p:cNvCxnSpPr/>
          <p:nvPr/>
        </p:nvCxnSpPr>
        <p:spPr>
          <a:xfrm>
            <a:off x="4356000" y="3715920"/>
            <a:ext cx="426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TextBox 11"/>
          <p:cNvSpPr/>
          <p:nvPr/>
        </p:nvSpPr>
        <p:spPr>
          <a:xfrm>
            <a:off x="6084720" y="3716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0-1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13"/>
          <p:cNvCxnSpPr/>
          <p:nvPr/>
        </p:nvCxnSpPr>
        <p:spPr>
          <a:xfrm>
            <a:off x="5940000" y="3573360"/>
            <a:ext cx="10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TextBox 14"/>
          <p:cNvSpPr/>
          <p:nvPr/>
        </p:nvSpPr>
        <p:spPr>
          <a:xfrm rot="16200000">
            <a:off x="5629320" y="4676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-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7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5" descr="Vorota-futbolnye-s-setkoiy.pn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51528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7"/>
          <p:cNvCxnSpPr/>
          <p:nvPr/>
        </p:nvCxnSpPr>
        <p:spPr>
          <a:xfrm flipV="1">
            <a:off x="2362320" y="4799880"/>
            <a:ext cx="5410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5" name="TextBox 8"/>
          <p:cNvSpPr/>
          <p:nvPr/>
        </p:nvSpPr>
        <p:spPr>
          <a:xfrm rot="20834400">
            <a:off x="4511520" y="4938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0"/>
          <p:cNvCxnSpPr/>
          <p:nvPr/>
        </p:nvCxnSpPr>
        <p:spPr>
          <a:xfrm flipH="1">
            <a:off x="8076600" y="2438280"/>
            <a:ext cx="766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 rot="16435200">
            <a:off x="7645320" y="320652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1749600" y="219240"/>
            <a:ext cx="7199280" cy="131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похожие на современный футбол, существовали давно у разных народов. В Египте, Германии и Китае были игры похожие на футбол. Самая удачная игра называлась Харпастум и придумали ее итальянцы. Но когда появился современный футбол, харпастум затмил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записанные правила футбола датированы 1848 г. Родина футбола – Великобр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организация первой Ассоциация футбола. Правила, принятые Ассоциацией похожи на современны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во всем мире, включая Россию. Из российских команд самая удачливая была Питерский кружок рукодел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утболе в России впервые было сказано в книге «игры с мячом на воздухе» одного из док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Заголовок 2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менитые стади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 rot="21042000">
            <a:off x="-19080" y="1490400"/>
            <a:ext cx="4397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Уэмбли" в Лондоне (ок. 100 тыс. м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45573.jpg"/>
          <p:cNvPicPr/>
          <p:nvPr/>
        </p:nvPicPr>
        <p:blipFill>
          <a:blip r:embed="rId1"/>
          <a:stretch/>
        </p:blipFill>
        <p:spPr>
          <a:xfrm rot="20974200">
            <a:off x="1279080" y="1928520"/>
            <a:ext cx="1830600" cy="1184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 rot="471600">
            <a:off x="5178600" y="1514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тьяго Бернабеу" в Мадриде (ок. 9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06 - Santiago Bernabeu.jpg"/>
          <p:cNvPicPr/>
          <p:nvPr/>
        </p:nvPicPr>
        <p:blipFill>
          <a:blip r:embed="rId2"/>
          <a:stretch/>
        </p:blipFill>
        <p:spPr>
          <a:xfrm rot="547800">
            <a:off x="6027480" y="1726920"/>
            <a:ext cx="1685880" cy="118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3209760" y="25146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Ноу Камп" в Барселоне (84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CFC_Stamford_Bridge.jpg"/>
          <p:cNvPicPr/>
          <p:nvPr/>
        </p:nvPicPr>
        <p:blipFill>
          <a:blip r:embed="rId3"/>
          <a:stretch/>
        </p:blipFill>
        <p:spPr>
          <a:xfrm>
            <a:off x="3886200" y="2819520"/>
            <a:ext cx="1557360" cy="153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8"/>
          <p:cNvSpPr/>
          <p:nvPr/>
        </p:nvSpPr>
        <p:spPr>
          <a:xfrm rot="760200">
            <a:off x="1486800" y="34178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-Сиро" в Милане (79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9" descr="milan_san_siro_s.jpg"/>
          <p:cNvPicPr/>
          <p:nvPr/>
        </p:nvPicPr>
        <p:blipFill>
          <a:blip r:embed="rId4"/>
          <a:stretch/>
        </p:blipFill>
        <p:spPr>
          <a:xfrm rot="671400">
            <a:off x="1371240" y="3589200"/>
            <a:ext cx="1778040" cy="133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 rot="648600">
            <a:off x="6067440" y="30243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"Ацтека" в Мехико (11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1" descr="026-2im6z.jpg"/>
          <p:cNvPicPr/>
          <p:nvPr/>
        </p:nvPicPr>
        <p:blipFill>
          <a:blip r:embed="rId5"/>
          <a:stretch/>
        </p:blipFill>
        <p:spPr>
          <a:xfrm rot="610200">
            <a:off x="6056280" y="3284640"/>
            <a:ext cx="1944720" cy="145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2"/>
          <p:cNvSpPr/>
          <p:nvPr/>
        </p:nvSpPr>
        <p:spPr>
          <a:xfrm>
            <a:off x="3431520" y="47973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Лужники" в России (ок. 10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3" descr="800px-Luzhniki_Inside_View_B_Stand.jpg"/>
          <p:cNvPicPr/>
          <p:nvPr/>
        </p:nvPicPr>
        <p:blipFill>
          <a:blip r:embed="rId6"/>
          <a:stretch/>
        </p:blipFill>
        <p:spPr>
          <a:xfrm>
            <a:off x="3995640" y="508464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4"/>
          <p:cNvSpPr/>
          <p:nvPr/>
        </p:nvSpPr>
        <p:spPr>
          <a:xfrm rot="415200">
            <a:off x="304920" y="4982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ентенарио" в Монтевидео (ок. 75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5" descr="gallery_9342_8244_11965.jpg"/>
          <p:cNvPicPr/>
          <p:nvPr/>
        </p:nvPicPr>
        <p:blipFill>
          <a:blip r:embed="rId7"/>
          <a:stretch/>
        </p:blipFill>
        <p:spPr>
          <a:xfrm rot="402000">
            <a:off x="326880" y="5229360"/>
            <a:ext cx="2293920" cy="14270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6"/>
          <p:cNvSpPr/>
          <p:nvPr/>
        </p:nvSpPr>
        <p:spPr>
          <a:xfrm rot="655800">
            <a:off x="5855760" y="50115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Парк де Франс" в Париже (ок. 70 тыс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7" descr="stade_de_france.jpg"/>
          <p:cNvPicPr/>
          <p:nvPr/>
        </p:nvPicPr>
        <p:blipFill>
          <a:blip r:embed="rId8"/>
          <a:stretch/>
        </p:blipFill>
        <p:spPr>
          <a:xfrm rot="633000">
            <a:off x="6770160" y="5280120"/>
            <a:ext cx="20815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8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800"/>
                            </p:stCondLst>
                            <p:childTnLst>
                              <p:par>
                                <p:cTn id="1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8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1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Заголовок 2" descr=""/>
          <p:cNvPicPr/>
          <p:nvPr/>
        </p:nvPicPr>
        <p:blipFill>
          <a:blip r:embed="rId2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av-29759.jpg"/>
          <p:cNvPicPr/>
          <p:nvPr/>
        </p:nvPicPr>
        <p:blipFill>
          <a:blip r:embed="rId3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94905.jpg"/>
          <p:cNvPicPr/>
          <p:nvPr/>
        </p:nvPicPr>
        <p:blipFill>
          <a:blip r:embed="rId4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234713906_images.jpeg"/>
          <p:cNvPicPr/>
          <p:nvPr/>
        </p:nvPicPr>
        <p:blipFill>
          <a:blip r:embed="rId5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user4189_pic5915_1214818591_thumb.jpg"/>
          <p:cNvPicPr/>
          <p:nvPr/>
        </p:nvPicPr>
        <p:blipFill>
          <a:blip r:embed="rId6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real_madrid_cf_brief.png"/>
          <p:cNvPicPr/>
          <p:nvPr/>
        </p:nvPicPr>
        <p:blipFill>
          <a:blip r:embed="rId7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3840" y="4568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мпионат ми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34100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́т ми́ра по футбо́лу (часто называемый также Ку́бок ми́ра по футбо́лу, Чемпиона́т ми́ра ФИФА, мундиа́ль (от исп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 Mundial de Fútbo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фициальное название — Ку́бок ми́ра ФИФА ) — международное соревнование по футболу. Чемпионат мира проводится управляющим органом мирового футбола ФИФА, и участвовать в нём могут мужские национальные сборные всех стран-членов ФИ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141" descr="worldcup_gifBig.png"/>
          <p:cNvPicPr/>
          <p:nvPr/>
        </p:nvPicPr>
        <p:blipFill>
          <a:blip r:embed="rId1"/>
          <a:stretch/>
        </p:blipFill>
        <p:spPr>
          <a:xfrm>
            <a:off x="2666880" y="3276720"/>
            <a:ext cx="3733920" cy="33336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45"/>
          <p:cNvCxnSpPr/>
          <p:nvPr/>
        </p:nvCxnSpPr>
        <p:spPr>
          <a:xfrm flipH="1">
            <a:off x="5028840" y="3962520"/>
            <a:ext cx="1753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148"/>
          <p:cNvSpPr/>
          <p:nvPr/>
        </p:nvSpPr>
        <p:spPr>
          <a:xfrm rot="20781600">
            <a:off x="6738120" y="32828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убок Чемпионата мира по футб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3840" y="53316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Кубок УЕФ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12536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бок УЕФА (для призеров национальных чемпионатов) разыгрывался с 1958 г. (до 1971 носил название Кубок Ярмарок). "Барселона" (Испания) побеждала в 1958, 1960, 1966, "Ювентус" (Турин, Италия) - в 1977, 1990, 1993, "Интер" (Милан, Италия) - в 1991, 1994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purs-uefa-cup-1972.jpg"/>
          <p:cNvPicPr/>
          <p:nvPr/>
        </p:nvPicPr>
        <p:blipFill>
          <a:blip r:embed="rId1"/>
          <a:stretch/>
        </p:blipFill>
        <p:spPr>
          <a:xfrm>
            <a:off x="4038480" y="3487680"/>
            <a:ext cx="5105520" cy="3370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324000" y="580536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оттенхэм» стал первым в истории обладателем 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б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ЕФ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"Золотой мяч"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765000"/>
            <a:ext cx="4473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956 был учрежден популярный личный приз лучшему футболисту Европы - "Золотой мяч". Его получали и футболисты других континентов, выступающие за европейские клубы (либериец Дж. Веав в 1995, бразилец Роналдо в 1996 и 1997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067280" y="3811680"/>
            <a:ext cx="5257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выми обладателями "Золотого мяча" были: С. Мэтьюз (Англия, "Блэкпул", 1956); А. ди Стефано (Испания, "Реал",1957, 1959); Р. Копа (Франция, "Реал", 1958); Л. Суарес (Испания, "Барселона", 1960); О. Сивори (Италия, "Ювентус", 1961); Й. Масопуст (Чехословакия, "Дукла", 1962); Л. Яшин (СССР, "Динамо" Москва, 1963); Д. Лоу (Шотландия, "Манчестер Юнайтед", 1964); Эйсебио (Португалия, "Бенфика", 1965); Б. Чарлтон (Англия, "Манчестер Юнайтед", 1966). Среди других советских футболистов обладателями "Золотого мяча" были также О. Блохин (СССР, "Динамо", Киев, 1975) и И. Беланов (СССР, "Динамо", Киев, 1986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67887.jpg"/>
          <p:cNvPicPr/>
          <p:nvPr/>
        </p:nvPicPr>
        <p:blipFill>
          <a:blip r:embed="rId1"/>
          <a:stretch/>
        </p:blipFill>
        <p:spPr>
          <a:xfrm>
            <a:off x="1763640" y="2852640"/>
            <a:ext cx="2268720" cy="1717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25841736_1789.gif"/>
          <p:cNvPicPr/>
          <p:nvPr/>
        </p:nvPicPr>
        <p:blipFill>
          <a:blip r:embed="rId2"/>
          <a:stretch/>
        </p:blipFill>
        <p:spPr>
          <a:xfrm>
            <a:off x="0" y="285264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233499821_goldball003.jpg"/>
          <p:cNvPicPr/>
          <p:nvPr/>
        </p:nvPicPr>
        <p:blipFill>
          <a:blip r:embed="rId3"/>
          <a:stretch/>
        </p:blipFill>
        <p:spPr>
          <a:xfrm>
            <a:off x="5334120" y="981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allon-dOr.jpg"/>
          <p:cNvPicPr/>
          <p:nvPr/>
        </p:nvPicPr>
        <p:blipFill>
          <a:blip r:embed="rId4"/>
          <a:stretch/>
        </p:blipFill>
        <p:spPr>
          <a:xfrm>
            <a:off x="1979640" y="4941720"/>
            <a:ext cx="1649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2:24:23Z</dcterms:created>
  <dc:creator>Артём</dc:creator>
  <dc:description/>
  <dc:language>en-US</dc:language>
  <cp:lastModifiedBy>1</cp:lastModifiedBy>
  <dcterms:modified xsi:type="dcterms:W3CDTF">2012-04-05T15:41:33Z</dcterms:modified>
  <cp:revision>6</cp:revision>
  <dc:subject/>
  <dc:title>Материал взят из:</dc:title>
</cp:coreProperties>
</file>