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0.jpeg" ContentType="image/jpeg"/>
  <Override PartName="/ppt/media/image5.png" ContentType="image/png"/>
  <Override PartName="/ppt/media/image29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27.png" ContentType="image/png"/>
  <Override PartName="/ppt/media/image26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.png" ContentType="image/png"/>
  <Override PartName="/ppt/media/image24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0FF1-D190-42EF-BA37-7A8742159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2690-9A4C-40A5-9A60-CB4E72258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7AE7-4FA4-4CC0-9A8A-43508E4B0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F3C3-646D-4145-9AAA-9D5403A6A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0447-9BAC-484F-949E-26248973D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75A4-BDF0-4010-9D95-E44F88A73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FC44-374E-46FD-BD0F-9BB2ED28C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9D41-3207-4066-849B-B0CCA6E37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AA5B-C9FF-437C-8121-A9B79255B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EAAB-1AF4-47AA-9D42-E6BEB6CE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BB08-570E-4844-A956-87FACF622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C42C-190E-47C4-B228-94F9C8C57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0994D-835E-4605-88C5-617C48C898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" TargetMode="External"/><Relationship Id="rId2" Type="http://schemas.openxmlformats.org/officeDocument/2006/relationships/hyperlink" Target="http://ru.wikipedia.org/wiki/&#1060;&#1091;&#1090;&#1073;&#1086;&#1083;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06200" y="691920"/>
            <a:ext cx="3529080" cy="59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«Футбол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10920" y="4508640"/>
            <a:ext cx="8281800" cy="203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боту выполнили: учащиеся 9«А» класса ГБОУ СОШ №294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Центрального района Санкт-Петербург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Яцков А., Борзаков Д., Кулигин С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3" descr="chto_nuzhno_izmenit_v_rossiiskom_futbole_2.jpg"/>
          <p:cNvPicPr/>
          <p:nvPr/>
        </p:nvPicPr>
        <p:blipFill>
          <a:blip r:embed="rId1"/>
          <a:stretch/>
        </p:blipFill>
        <p:spPr>
          <a:xfrm>
            <a:off x="-181080" y="189000"/>
            <a:ext cx="4308480" cy="405900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4" descr="Мяч.jpg"/>
          <p:cNvPicPr/>
          <p:nvPr/>
        </p:nvPicPr>
        <p:blipFill>
          <a:blip r:embed="rId2"/>
          <a:stretch/>
        </p:blipFill>
        <p:spPr>
          <a:xfrm>
            <a:off x="5059440" y="260280"/>
            <a:ext cx="4084560" cy="39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и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250560" y="1268280"/>
            <a:ext cx="87138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зентация учащегося 10 «б» класса Клёнова Евген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 учителя физической культуры Ульдановой Н.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"/>
              </a:rPr>
              <a:t>http://ru.wikipedia.org/wiki/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2"/>
              </a:rPr>
              <a:t>Футбол</a:t>
            </a:r>
            <a:r>
              <a:rPr b="0" lang="ru-RU" sz="2000" spc="-1" strike="noStrike">
                <a:solidFill>
                  <a:srgbClr val="898989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53840" y="228240"/>
            <a:ext cx="74898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Правила футбо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04920" y="1371240"/>
            <a:ext cx="8642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047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ТБОЛ (англ. football, от foot - нога и ball - мяч) - спортивная игра на травяном поле, в которой две противоборствующие команды (по 11 человек в каждой), используя ведение и передачи мяча ногами или другой частью тела (кроме рук), стремятся забить его в ворота соперника и не пропустить в свои. Футбольное поле - 90-120x45-90 м. Продолжительность игры - 90 мин (2 тайма по 45 мин с перерывом 15 мин).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Рисунок 4" descr="8566212-sport-silhouette--soccer-goalie-dive-defending-goal.png"/>
          <p:cNvPicPr/>
          <p:nvPr/>
        </p:nvPicPr>
        <p:blipFill>
          <a:blip r:embed="rId1"/>
          <a:stretch/>
        </p:blipFill>
        <p:spPr>
          <a:xfrm>
            <a:off x="1219320" y="3581280"/>
            <a:ext cx="1800000" cy="13716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6" descr="futbolnoe_pole-1920x1200.jpg"/>
          <p:cNvPicPr/>
          <p:nvPr/>
        </p:nvPicPr>
        <p:blipFill>
          <a:blip r:embed="rId2"/>
          <a:stretch/>
        </p:blipFill>
        <p:spPr>
          <a:xfrm>
            <a:off x="4140360" y="3573360"/>
            <a:ext cx="4724280" cy="2952720"/>
          </a:xfrm>
          <a:prstGeom prst="rect">
            <a:avLst/>
          </a:prstGeom>
          <a:ln w="0">
            <a:noFill/>
          </a:ln>
        </p:spPr>
      </p:pic>
      <p:cxnSp>
        <p:nvCxnSpPr>
          <p:cNvPr id="49" name="Прямая со стрелкой 10"/>
          <p:cNvCxnSpPr/>
          <p:nvPr/>
        </p:nvCxnSpPr>
        <p:spPr>
          <a:xfrm>
            <a:off x="4356000" y="3715920"/>
            <a:ext cx="4268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50" name="TextBox 11"/>
          <p:cNvSpPr/>
          <p:nvPr/>
        </p:nvSpPr>
        <p:spPr>
          <a:xfrm>
            <a:off x="6084720" y="3716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90-1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Прямая со стрелкой 13"/>
          <p:cNvCxnSpPr/>
          <p:nvPr/>
        </p:nvCxnSpPr>
        <p:spPr>
          <a:xfrm>
            <a:off x="5940000" y="3573360"/>
            <a:ext cx="1080" cy="289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52" name="TextBox 14"/>
          <p:cNvSpPr/>
          <p:nvPr/>
        </p:nvSpPr>
        <p:spPr>
          <a:xfrm rot="16200000">
            <a:off x="5629320" y="4676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5-9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500"/>
                            </p:stCondLst>
                            <p:childTnLst>
                              <p:par>
                                <p:cTn id="2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500"/>
                            </p:stCondLst>
                            <p:childTnLst>
                              <p:par>
                                <p:cTn id="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700"/>
                            </p:stCondLst>
                            <p:childTnLst>
                              <p:par>
                                <p:cTn id="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200"/>
                            </p:stCondLst>
                            <p:childTnLst>
                              <p:par>
                                <p:cTn id="6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6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Содержимое 5" descr="Vorota-futbolnye-s-setkoiy.png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6515280"/>
          </a:xfrm>
          <a:prstGeom prst="rect">
            <a:avLst/>
          </a:prstGeom>
          <a:ln w="0">
            <a:noFill/>
          </a:ln>
        </p:spPr>
      </p:pic>
      <p:cxnSp>
        <p:nvCxnSpPr>
          <p:cNvPr id="54" name="Прямая со стрелкой 7"/>
          <p:cNvCxnSpPr/>
          <p:nvPr/>
        </p:nvCxnSpPr>
        <p:spPr>
          <a:xfrm flipV="1">
            <a:off x="2362320" y="4799880"/>
            <a:ext cx="5410800" cy="122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55" name="TextBox 8"/>
          <p:cNvSpPr/>
          <p:nvPr/>
        </p:nvSpPr>
        <p:spPr>
          <a:xfrm rot="20834400">
            <a:off x="4511520" y="493848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,3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6" name="Прямая со стрелкой 10"/>
          <p:cNvCxnSpPr/>
          <p:nvPr/>
        </p:nvCxnSpPr>
        <p:spPr>
          <a:xfrm flipH="1">
            <a:off x="8076600" y="2438280"/>
            <a:ext cx="76680" cy="2363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57" name="TextBox 14"/>
          <p:cNvSpPr/>
          <p:nvPr/>
        </p:nvSpPr>
        <p:spPr>
          <a:xfrm rot="16435200">
            <a:off x="7645320" y="3206520"/>
            <a:ext cx="14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,4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Прямоугольник 16" descr=""/>
          <p:cNvPicPr/>
          <p:nvPr/>
        </p:nvPicPr>
        <p:blipFill>
          <a:blip r:embed="rId2"/>
          <a:stretch/>
        </p:blipFill>
        <p:spPr>
          <a:xfrm>
            <a:off x="1749600" y="219240"/>
            <a:ext cx="7199280" cy="13176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500"/>
                            </p:stCondLst>
                            <p:childTnLst>
                              <p:par>
                                <p:cTn id="8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3" descr="e14055e9bf52e3dadfe0959e74993a1e-1.jpg"/>
          <p:cNvPicPr/>
          <p:nvPr/>
        </p:nvPicPr>
        <p:blipFill>
          <a:blip r:embed="rId1"/>
          <a:stretch/>
        </p:blipFill>
        <p:spPr>
          <a:xfrm>
            <a:off x="4475160" y="-6480"/>
            <a:ext cx="4529160" cy="37562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0" y="1928880"/>
            <a:ext cx="91440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550"/>
              </a:spcBef>
              <a:buClr>
                <a:srgbClr val="4bacc6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, похожие на современный футбол, существовали давно у разных народов. В Египте, Германии и Китае были игры похожие на футбол. Самая удачная игра называлась Харпастум и придумали ее итальянцы. Но когда появился современный футбол, харпастум затмился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100000"/>
              </a:lnSpc>
              <a:spcBef>
                <a:spcPts val="550"/>
              </a:spcBef>
              <a:buClr>
                <a:srgbClr val="4bacc6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е записанные правила футбола датированы 1848 г. Родина футбола – Великобритан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100000"/>
              </a:lnSpc>
              <a:spcBef>
                <a:spcPts val="550"/>
              </a:spcBef>
              <a:buClr>
                <a:srgbClr val="4bacc6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63 г. – организация первой Ассоциация футбола. Правила, принятые Ассоциацией похожи на современные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100000"/>
              </a:lnSpc>
              <a:spcBef>
                <a:spcPts val="550"/>
              </a:spcBef>
              <a:buClr>
                <a:srgbClr val="4bacc6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окое распространение во всем мире, включая Россию. Из российских команд самая удачливая была Питерский кружок рукоделия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100000"/>
              </a:lnSpc>
              <a:spcBef>
                <a:spcPts val="550"/>
              </a:spcBef>
              <a:buClr>
                <a:srgbClr val="4bacc6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футболе в России впервые было сказано в книге «игры с мячом на воздухе» одного из докторо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Заголовок 2" descr=""/>
          <p:cNvPicPr/>
          <p:nvPr/>
        </p:nvPicPr>
        <p:blipFill>
          <a:blip r:embed="rId2"/>
          <a:stretch/>
        </p:blipFill>
        <p:spPr>
          <a:xfrm>
            <a:off x="195120" y="-6480"/>
            <a:ext cx="8955360" cy="115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500"/>
                            </p:stCondLst>
                            <p:childTnLst>
                              <p:par>
                                <p:cTn id="1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Знаменитые стадион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 rot="21042000">
            <a:off x="-19080" y="1490400"/>
            <a:ext cx="43974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"Уэмбли" в Лондоне (ок. 100 тыс. мест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3" descr="45573.jpg"/>
          <p:cNvPicPr/>
          <p:nvPr/>
        </p:nvPicPr>
        <p:blipFill>
          <a:blip r:embed="rId1"/>
          <a:stretch/>
        </p:blipFill>
        <p:spPr>
          <a:xfrm rot="20974200">
            <a:off x="1279080" y="1928520"/>
            <a:ext cx="1830600" cy="118404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4"/>
          <p:cNvSpPr/>
          <p:nvPr/>
        </p:nvSpPr>
        <p:spPr>
          <a:xfrm rot="471600">
            <a:off x="5178600" y="151452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"Сантьяго Бернабеу" в Мадриде (ок. 90 тыс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5" descr="06 - Santiago Bernabeu.jpg"/>
          <p:cNvPicPr/>
          <p:nvPr/>
        </p:nvPicPr>
        <p:blipFill>
          <a:blip r:embed="rId2"/>
          <a:stretch/>
        </p:blipFill>
        <p:spPr>
          <a:xfrm rot="547800">
            <a:off x="6027480" y="1726920"/>
            <a:ext cx="1685880" cy="118728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6"/>
          <p:cNvSpPr/>
          <p:nvPr/>
        </p:nvSpPr>
        <p:spPr>
          <a:xfrm>
            <a:off x="3209760" y="2514600"/>
            <a:ext cx="275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"Ноу Камп" в Барселоне (84 тыс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Рисунок 7" descr="CFC_Stamford_Bridge.jpg"/>
          <p:cNvPicPr/>
          <p:nvPr/>
        </p:nvPicPr>
        <p:blipFill>
          <a:blip r:embed="rId3"/>
          <a:stretch/>
        </p:blipFill>
        <p:spPr>
          <a:xfrm>
            <a:off x="3886200" y="2819520"/>
            <a:ext cx="1557360" cy="153180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8"/>
          <p:cNvSpPr/>
          <p:nvPr/>
        </p:nvSpPr>
        <p:spPr>
          <a:xfrm rot="760200">
            <a:off x="1486800" y="3417840"/>
            <a:ext cx="253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"Сан-Сиро" в Милане (79 тыс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Рисунок 9" descr="milan_san_siro_s.jpg"/>
          <p:cNvPicPr/>
          <p:nvPr/>
        </p:nvPicPr>
        <p:blipFill>
          <a:blip r:embed="rId4"/>
          <a:stretch/>
        </p:blipFill>
        <p:spPr>
          <a:xfrm rot="671400">
            <a:off x="1371240" y="3589200"/>
            <a:ext cx="1778040" cy="133380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10"/>
          <p:cNvSpPr/>
          <p:nvPr/>
        </p:nvSpPr>
        <p:spPr>
          <a:xfrm rot="648600">
            <a:off x="6067440" y="3024360"/>
            <a:ext cx="243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"Ацтека" в Мехико (110 тыс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Рисунок 11" descr="026-2im6z.jpg"/>
          <p:cNvPicPr/>
          <p:nvPr/>
        </p:nvPicPr>
        <p:blipFill>
          <a:blip r:embed="rId5"/>
          <a:stretch/>
        </p:blipFill>
        <p:spPr>
          <a:xfrm rot="610200">
            <a:off x="6056280" y="3284640"/>
            <a:ext cx="1944720" cy="145728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12"/>
          <p:cNvSpPr/>
          <p:nvPr/>
        </p:nvSpPr>
        <p:spPr>
          <a:xfrm>
            <a:off x="3431520" y="4797360"/>
            <a:ext cx="280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"Лужники" в России (ок. 100 тыс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Рисунок 13" descr="800px-Luzhniki_Inside_View_B_Stand.jpg"/>
          <p:cNvPicPr/>
          <p:nvPr/>
        </p:nvPicPr>
        <p:blipFill>
          <a:blip r:embed="rId6"/>
          <a:stretch/>
        </p:blipFill>
        <p:spPr>
          <a:xfrm>
            <a:off x="3995640" y="5084640"/>
            <a:ext cx="2133720" cy="160020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14"/>
          <p:cNvSpPr/>
          <p:nvPr/>
        </p:nvSpPr>
        <p:spPr>
          <a:xfrm rot="415200">
            <a:off x="304920" y="498276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"Сентенарио" в Монтевидео (ок. 75 тыс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15" descr="gallery_9342_8244_11965.jpg"/>
          <p:cNvPicPr/>
          <p:nvPr/>
        </p:nvPicPr>
        <p:blipFill>
          <a:blip r:embed="rId7"/>
          <a:stretch/>
        </p:blipFill>
        <p:spPr>
          <a:xfrm rot="402000">
            <a:off x="326880" y="5229360"/>
            <a:ext cx="2293920" cy="142704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16"/>
          <p:cNvSpPr/>
          <p:nvPr/>
        </p:nvSpPr>
        <p:spPr>
          <a:xfrm rot="655800">
            <a:off x="5855760" y="501156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"Парк де Франс" в Париже (ок. 70 тыс.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17" descr="stade_de_france.jpg"/>
          <p:cNvPicPr/>
          <p:nvPr/>
        </p:nvPicPr>
        <p:blipFill>
          <a:blip r:embed="rId8"/>
          <a:stretch/>
        </p:blipFill>
        <p:spPr>
          <a:xfrm rot="633000">
            <a:off x="6770160" y="5280120"/>
            <a:ext cx="2081520" cy="13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4800"/>
                            </p:stCondLst>
                            <p:childTnLst>
                              <p:par>
                                <p:cTn id="1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800"/>
                            </p:stCondLst>
                            <p:childTnLst>
                              <p:par>
                                <p:cTn id="17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6800"/>
                            </p:stCondLst>
                            <p:childTnLst>
                              <p:par>
                                <p:cTn id="19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1100"/>
                            </p:stCondLst>
                            <p:childTnLst>
                              <p:par>
                                <p:cTn id="20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2100"/>
                            </p:stCondLst>
                            <p:childTnLst>
                              <p:par>
                                <p:cTn id="2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5" descr="326469.JPEG"/>
          <p:cNvPicPr/>
          <p:nvPr/>
        </p:nvPicPr>
        <p:blipFill>
          <a:blip r:embed="rId1"/>
          <a:stretch/>
        </p:blipFill>
        <p:spPr>
          <a:xfrm>
            <a:off x="7176960" y="4572000"/>
            <a:ext cx="1967040" cy="18813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0" y="1801440"/>
            <a:ext cx="6858000" cy="50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51"/>
              </a:spcBef>
              <a:buClr>
                <a:srgbClr val="4bacc6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451"/>
              </a:spcBef>
              <a:buClr>
                <a:srgbClr val="4bacc6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ествует ряд организаций, осуществляющих контроль, управление и распространение футбола. Основной является ФИФА, расположенная в Цюрихе, Швейцария. Она занимается организацией международных соревнований мирового масштаба, в частности чемпионата мира. Далее идут континентальные организации и организации по странам, областям и городам и т. д. У каждой имеются обязанности по организации соответствующих футбольных соревнований, контролю за деятельностью входящих в них клубов, распространением и популяризацией футбола в регион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451"/>
              </a:spcBef>
              <a:buClr>
                <a:srgbClr val="4bacc6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уб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451"/>
              </a:spcBef>
              <a:buClr>
                <a:srgbClr val="4bacc6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тбольный клуб — базовая ячейка всей футбольной структуры. Он является связующим звеном между футболистами, персоналом и организациями. По сути это команда футболистов, входящая в одну из организаций, имеющая определённую инфраструктуру и обслуживающий персона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451"/>
              </a:spcBef>
              <a:buClr>
                <a:srgbClr val="4bacc6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Заголовок 2" descr=""/>
          <p:cNvPicPr/>
          <p:nvPr/>
        </p:nvPicPr>
        <p:blipFill>
          <a:blip r:embed="rId2"/>
          <a:stretch/>
        </p:blipFill>
        <p:spPr>
          <a:xfrm>
            <a:off x="1023840" y="-60480"/>
            <a:ext cx="7669440" cy="92556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4" descr="av-29759.jpg"/>
          <p:cNvPicPr/>
          <p:nvPr/>
        </p:nvPicPr>
        <p:blipFill>
          <a:blip r:embed="rId3"/>
          <a:stretch/>
        </p:blipFill>
        <p:spPr>
          <a:xfrm>
            <a:off x="7215120" y="2428920"/>
            <a:ext cx="1928880" cy="164304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6" descr="94905.jpg"/>
          <p:cNvPicPr/>
          <p:nvPr/>
        </p:nvPicPr>
        <p:blipFill>
          <a:blip r:embed="rId4"/>
          <a:stretch/>
        </p:blipFill>
        <p:spPr>
          <a:xfrm>
            <a:off x="8101080" y="-6480"/>
            <a:ext cx="1066680" cy="207324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9" descr="1234713906_images.jpeg"/>
          <p:cNvPicPr/>
          <p:nvPr/>
        </p:nvPicPr>
        <p:blipFill>
          <a:blip r:embed="rId5"/>
          <a:stretch/>
        </p:blipFill>
        <p:spPr>
          <a:xfrm>
            <a:off x="2262240" y="853920"/>
            <a:ext cx="1187280" cy="227988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10" descr="user4189_pic5915_1214818591_thumb.jpg"/>
          <p:cNvPicPr/>
          <p:nvPr/>
        </p:nvPicPr>
        <p:blipFill>
          <a:blip r:embed="rId6"/>
          <a:stretch/>
        </p:blipFill>
        <p:spPr>
          <a:xfrm>
            <a:off x="-122400" y="-66600"/>
            <a:ext cx="1543320" cy="160956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8" descr="real_madrid_cf_brief.png"/>
          <p:cNvPicPr/>
          <p:nvPr/>
        </p:nvPicPr>
        <p:blipFill>
          <a:blip r:embed="rId7"/>
          <a:stretch/>
        </p:blipFill>
        <p:spPr>
          <a:xfrm>
            <a:off x="6572160" y="642960"/>
            <a:ext cx="1214640" cy="1214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6000"/>
                            </p:stCondLst>
                            <p:childTnLst>
                              <p:par>
                                <p:cTn id="23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8000"/>
                            </p:stCondLst>
                            <p:childTnLst>
                              <p:par>
                                <p:cTn id="25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4000"/>
                            </p:stCondLst>
                            <p:childTnLst>
                              <p:par>
                                <p:cTn id="30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53840" y="456840"/>
            <a:ext cx="74898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Чемпионат мира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50920" y="1341000"/>
            <a:ext cx="8642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пиона́т ми́ра по футбо́лу (часто называемый также Ку́бок ми́ра по футбо́лу, Чемпиона́т ми́ра ФИФА, мундиа́ль (от исп. 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a Mundial de Fútbo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официальное название — Ку́бок ми́ра ФИФА ) — международное соревнование по футболу. Чемпионат мира проводится управляющим органом мирового футбола ФИФА, и участвовать в нём могут мужские национальные сборные всех стран-членов ФИФ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Рисунок 141" descr="worldcup_gifBig.png"/>
          <p:cNvPicPr/>
          <p:nvPr/>
        </p:nvPicPr>
        <p:blipFill>
          <a:blip r:embed="rId1"/>
          <a:stretch/>
        </p:blipFill>
        <p:spPr>
          <a:xfrm>
            <a:off x="2666880" y="3276720"/>
            <a:ext cx="3733920" cy="3333600"/>
          </a:xfrm>
          <a:prstGeom prst="rect">
            <a:avLst/>
          </a:prstGeom>
          <a:ln w="0">
            <a:noFill/>
          </a:ln>
        </p:spPr>
      </p:pic>
      <p:cxnSp>
        <p:nvCxnSpPr>
          <p:cNvPr id="90" name="Прямая со стрелкой 145"/>
          <p:cNvCxnSpPr/>
          <p:nvPr/>
        </p:nvCxnSpPr>
        <p:spPr>
          <a:xfrm flipH="1">
            <a:off x="5028840" y="3962520"/>
            <a:ext cx="175320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1" name="TextBox 148"/>
          <p:cNvSpPr/>
          <p:nvPr/>
        </p:nvSpPr>
        <p:spPr>
          <a:xfrm rot="20781600">
            <a:off x="6738120" y="328284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Кубок Чемпионата мира по футбол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53840" y="533160"/>
            <a:ext cx="74898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Кубок УЕФА.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39640" y="1125360"/>
            <a:ext cx="693432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убок УЕФА (для призеров национальных чемпионатов) разыгрывался с 1958 г. (до 1971 носил название Кубок Ярмарок). "Барселона" (Испания) побеждала в 1958, 1960, 1966, "Ювентус" (Турин, Италия) - в 1977, 1990, 1993, "Интер" (Милан, Италия) - в 1991, 1994, 1998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Рисунок 3" descr="spurs-uefa-cup-1972.jpg"/>
          <p:cNvPicPr/>
          <p:nvPr/>
        </p:nvPicPr>
        <p:blipFill>
          <a:blip r:embed="rId1"/>
          <a:stretch/>
        </p:blipFill>
        <p:spPr>
          <a:xfrm>
            <a:off x="4038480" y="3487680"/>
            <a:ext cx="5105520" cy="3370320"/>
          </a:xfrm>
          <a:prstGeom prst="rect">
            <a:avLst/>
          </a:prstGeom>
          <a:ln w="0">
            <a:noFill/>
          </a:ln>
        </p:spPr>
      </p:pic>
      <p:sp>
        <p:nvSpPr>
          <p:cNvPr id="95" name="TextBox 4"/>
          <p:cNvSpPr/>
          <p:nvPr/>
        </p:nvSpPr>
        <p:spPr>
          <a:xfrm>
            <a:off x="324000" y="580536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Тоттенхэм» стал первым в истории обладателем  «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убк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ЕФ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6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2500"/>
                            </p:stCondLst>
                            <p:childTnLst>
                              <p:par>
                                <p:cTn id="3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74898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"Золотой мяч"</a:t>
            </a:r>
            <a:br>
              <a:rPr sz="4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765000"/>
            <a:ext cx="4473720" cy="103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 1956 был учрежден популярный личный приз лучшему футболисту Европы - "Золотой мяч". Его получали и футболисты других континентов, выступающие за европейские клубы (либериец Дж. Веав в 1995, бразилец Роналдо в 1996 и 1997)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оугольник 3"/>
          <p:cNvSpPr/>
          <p:nvPr/>
        </p:nvSpPr>
        <p:spPr>
          <a:xfrm>
            <a:off x="4067280" y="3811680"/>
            <a:ext cx="52578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ервыми обладателями "Золотого мяча" были: С. Мэтьюз (Англия, "Блэкпул", 1956); А. ди Стефано (Испания, "Реал",1957, 1959); Р. Копа (Франция, "Реал", 1958); Л. Суарес (Испания, "Барселона", 1960); О. Сивори (Италия, "Ювентус", 1961); Й. Масопуст (Чехословакия, "Дукла", 1962); Л. Яшин (СССР, "Динамо" Москва, 1963); Д. Лоу (Шотландия, "Манчестер Юнайтед", 1964); Эйсебио (Португалия, "Бенфика", 1965); Б. Чарлтон (Англия, "Манчестер Юнайтед", 1966). Среди других советских футболистов обладателями "Золотого мяча" были также О. Блохин (СССР, "Динамо", Киев, 1975) и И. Беланов (СССР, "Динамо", Киев, 1986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Рисунок 4" descr="167887.jpg"/>
          <p:cNvPicPr/>
          <p:nvPr/>
        </p:nvPicPr>
        <p:blipFill>
          <a:blip r:embed="rId1"/>
          <a:stretch/>
        </p:blipFill>
        <p:spPr>
          <a:xfrm>
            <a:off x="1763640" y="2852640"/>
            <a:ext cx="2268720" cy="171792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5" descr="25841736_1789.gif"/>
          <p:cNvPicPr/>
          <p:nvPr/>
        </p:nvPicPr>
        <p:blipFill>
          <a:blip r:embed="rId2"/>
          <a:stretch/>
        </p:blipFill>
        <p:spPr>
          <a:xfrm>
            <a:off x="0" y="2852640"/>
            <a:ext cx="1635120" cy="259092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6" descr="1233499821_goldball003.jpg"/>
          <p:cNvPicPr/>
          <p:nvPr/>
        </p:nvPicPr>
        <p:blipFill>
          <a:blip r:embed="rId3"/>
          <a:stretch/>
        </p:blipFill>
        <p:spPr>
          <a:xfrm>
            <a:off x="5334120" y="98100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7" descr="Ballon-dOr.jpg"/>
          <p:cNvPicPr/>
          <p:nvPr/>
        </p:nvPicPr>
        <p:blipFill>
          <a:blip r:embed="rId4"/>
          <a:stretch/>
        </p:blipFill>
        <p:spPr>
          <a:xfrm>
            <a:off x="1979640" y="4941720"/>
            <a:ext cx="1649520" cy="17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000"/>
                            </p:stCondLst>
                            <p:childTnLst>
                              <p:par>
                                <p:cTn id="41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4000"/>
                            </p:stCondLst>
                            <p:childTnLst>
                              <p:par>
                                <p:cTn id="4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9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0"/>
                            </p:stCondLst>
                            <p:childTnLst>
                              <p:par>
                                <p:cTn id="42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7000"/>
                            </p:stCondLst>
                            <p:childTnLst>
                              <p:par>
                                <p:cTn id="44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6T12:24:23Z</dcterms:created>
  <dc:creator>Артём</dc:creator>
  <dc:description/>
  <dc:language>en-US</dc:language>
  <cp:lastModifiedBy>1</cp:lastModifiedBy>
  <dcterms:modified xsi:type="dcterms:W3CDTF">2012-04-05T15:41:33Z</dcterms:modified>
  <cp:revision>6</cp:revision>
  <dc:subject/>
  <dc:title>Материал взят из:</dc:title>
</cp:coreProperties>
</file>