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F51-0031-4903-854A-0C182E6D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F8A-B507-4B85-B4A2-38E755C5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EDD-3D11-44AD-8131-9951C9F9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A66-19EB-4649-99B6-1302EF3D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9AB-2870-4742-B55C-F84D9F27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B66-E298-4C9F-8974-1844D865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D0E-2034-42DA-9FD5-2240A97C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A18-159F-4845-BE9B-930E9AC0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A52-9C91-4BBC-9CF4-CAA0F584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39A-3AEA-4528-850F-EFAB2693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6E6-E9E8-4DD7-A88A-0F696CF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941-76FE-440F-83A5-A5AF70A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0BE7-F715-4F95-AED9-FE3B7C432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hyperlink" Target="http://ru.wikipedia.org/wiki/&#1060;&#1091;&#1090;&#1073;&#1086;&#1083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06200" y="691920"/>
            <a:ext cx="352908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«Футбо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0920" y="4508640"/>
            <a:ext cx="8281800" cy="20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у выполнили: учащиеся 9«А» класса ГБОУ СОШ №29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Центральн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цков А., Борзаков Д., Кулигин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chto_nuzhno_izmenit_v_rossiiskom_futbole_2.jpg"/>
          <p:cNvPicPr/>
          <p:nvPr/>
        </p:nvPicPr>
        <p:blipFill>
          <a:blip r:embed="rId1"/>
          <a:stretch/>
        </p:blipFill>
        <p:spPr>
          <a:xfrm>
            <a:off x="-181080" y="189000"/>
            <a:ext cx="4308480" cy="4059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Мяч.jpg"/>
          <p:cNvPicPr/>
          <p:nvPr/>
        </p:nvPicPr>
        <p:blipFill>
          <a:blip r:embed="rId2"/>
          <a:stretch/>
        </p:blipFill>
        <p:spPr>
          <a:xfrm>
            <a:off x="5059440" y="260280"/>
            <a:ext cx="408456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я учащегося 10 «б» класса Клёнова Евг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учителя физической культуры Ульдановой Н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://ru.wikipedia.org/wiki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Футбол</a:t>
            </a:r>
            <a:r>
              <a:rPr b="0" lang="ru-RU" sz="2000" spc="-1" strike="noStrike">
                <a:solidFill>
                  <a:srgbClr val="89898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53840" y="22824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авила футб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13712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4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 (англ. football, от foot - нога и ball - мяч) - спортивная игра на травяном поле, в которой две противоборствующие команды (по 11 человек в каждой), используя ведение и передачи мяча ногами или другой частью тела (кроме рук), стремятся забить его в ворота соперника и не пропустить в свои. Футбольное поле - 90-120x45-90 м. Продолжительность игры - 90 мин (2 тайма по 45 мин с перерывом 15 мин)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8566212-sport-silhouette--soccer-goalie-dive-defending-goal.png"/>
          <p:cNvPicPr/>
          <p:nvPr/>
        </p:nvPicPr>
        <p:blipFill>
          <a:blip r:embed="rId1"/>
          <a:stretch/>
        </p:blipFill>
        <p:spPr>
          <a:xfrm>
            <a:off x="1219320" y="3581280"/>
            <a:ext cx="180000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futbolnoe_pole-1920x1200.jpg"/>
          <p:cNvPicPr/>
          <p:nvPr/>
        </p:nvPicPr>
        <p:blipFill>
          <a:blip r:embed="rId2"/>
          <a:stretch/>
        </p:blipFill>
        <p:spPr>
          <a:xfrm>
            <a:off x="4140360" y="3573360"/>
            <a:ext cx="4724280" cy="295272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10"/>
          <p:cNvCxnSpPr/>
          <p:nvPr/>
        </p:nvCxnSpPr>
        <p:spPr>
          <a:xfrm>
            <a:off x="4356000" y="3715920"/>
            <a:ext cx="426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TextBox 11"/>
          <p:cNvSpPr/>
          <p:nvPr/>
        </p:nvSpPr>
        <p:spPr>
          <a:xfrm>
            <a:off x="6084720" y="3716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0-1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Прямая со стрелкой 13"/>
          <p:cNvCxnSpPr/>
          <p:nvPr/>
        </p:nvCxnSpPr>
        <p:spPr>
          <a:xfrm>
            <a:off x="5940000" y="3573360"/>
            <a:ext cx="1080" cy="289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2" name="TextBox 14"/>
          <p:cNvSpPr/>
          <p:nvPr/>
        </p:nvSpPr>
        <p:spPr>
          <a:xfrm rot="16200000">
            <a:off x="5629320" y="4676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5-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2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5" descr="Vorota-futbolnye-s-setkoiy.pn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515280"/>
          </a:xfrm>
          <a:prstGeom prst="rect">
            <a:avLst/>
          </a:prstGeom>
          <a:ln w="0">
            <a:noFill/>
          </a:ln>
        </p:spPr>
      </p:pic>
      <p:cxnSp>
        <p:nvCxnSpPr>
          <p:cNvPr id="54" name="Прямая со стрелкой 7"/>
          <p:cNvCxnSpPr/>
          <p:nvPr/>
        </p:nvCxnSpPr>
        <p:spPr>
          <a:xfrm flipV="1">
            <a:off x="2362320" y="4799880"/>
            <a:ext cx="54108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5" name="TextBox 8"/>
          <p:cNvSpPr/>
          <p:nvPr/>
        </p:nvSpPr>
        <p:spPr>
          <a:xfrm rot="20834400">
            <a:off x="4511520" y="49384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,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Прямая со стрелкой 10"/>
          <p:cNvCxnSpPr/>
          <p:nvPr/>
        </p:nvCxnSpPr>
        <p:spPr>
          <a:xfrm flipH="1">
            <a:off x="8076600" y="2438280"/>
            <a:ext cx="76680" cy="236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TextBox 14"/>
          <p:cNvSpPr/>
          <p:nvPr/>
        </p:nvSpPr>
        <p:spPr>
          <a:xfrm rot="16435200">
            <a:off x="7645320" y="3206520"/>
            <a:ext cx="14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,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Прямоугольник 16" descr=""/>
          <p:cNvPicPr/>
          <p:nvPr/>
        </p:nvPicPr>
        <p:blipFill>
          <a:blip r:embed="rId2"/>
          <a:stretch/>
        </p:blipFill>
        <p:spPr>
          <a:xfrm>
            <a:off x="1749600" y="219240"/>
            <a:ext cx="7199280" cy="131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e14055e9bf52e3dadfe0959e74993a1e-1.jpg"/>
          <p:cNvPicPr/>
          <p:nvPr/>
        </p:nvPicPr>
        <p:blipFill>
          <a:blip r:embed="rId1"/>
          <a:stretch/>
        </p:blipFill>
        <p:spPr>
          <a:xfrm>
            <a:off x="4475160" y="-6480"/>
            <a:ext cx="4529160" cy="375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похожие на современный футбол, существовали давно у разных народов. В Египте, Германии и Китае были игры похожие на футбол. Самая удачная игра называлась Харпастум и придумали ее итальянцы. Но когда появился современный футбол, харпастум затмилс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записанные правила футбола датированы 1848 г. Родина футбола – Великобр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 г. – организация первой Ассоциация футбола. Правила, принятые Ассоциацией похожи на современны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распространение во всем мире, включая Россию. Из российских команд самая удачливая была Питерский кружок рукодел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футболе в России впервые было сказано в книге «игры с мячом на воздухе» одного из докто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Заголовок 2" descr=""/>
          <p:cNvPicPr/>
          <p:nvPr/>
        </p:nvPicPr>
        <p:blipFill>
          <a:blip r:embed="rId2"/>
          <a:stretch/>
        </p:blipFill>
        <p:spPr>
          <a:xfrm>
            <a:off x="195120" y="-6480"/>
            <a:ext cx="89553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менитые стадио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 rot="21042000">
            <a:off x="-19080" y="1490400"/>
            <a:ext cx="4397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Уэмбли" в Лондоне (ок. 100 тыс. мес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45573.jpg"/>
          <p:cNvPicPr/>
          <p:nvPr/>
        </p:nvPicPr>
        <p:blipFill>
          <a:blip r:embed="rId1"/>
          <a:stretch/>
        </p:blipFill>
        <p:spPr>
          <a:xfrm rot="20974200">
            <a:off x="1279080" y="1928520"/>
            <a:ext cx="1830600" cy="11840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 rot="471600">
            <a:off x="5178600" y="1514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Сантьяго Бернабеу" в Мадриде (ок. 90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5" descr="06 - Santiago Bernabeu.jpg"/>
          <p:cNvPicPr/>
          <p:nvPr/>
        </p:nvPicPr>
        <p:blipFill>
          <a:blip r:embed="rId2"/>
          <a:stretch/>
        </p:blipFill>
        <p:spPr>
          <a:xfrm rot="547800">
            <a:off x="6027480" y="1726920"/>
            <a:ext cx="1685880" cy="11872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3209760" y="251460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Ноу Камп" в Барселоне (84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7" descr="CFC_Stamford_Bridge.jpg"/>
          <p:cNvPicPr/>
          <p:nvPr/>
        </p:nvPicPr>
        <p:blipFill>
          <a:blip r:embed="rId3"/>
          <a:stretch/>
        </p:blipFill>
        <p:spPr>
          <a:xfrm>
            <a:off x="3886200" y="2819520"/>
            <a:ext cx="1557360" cy="1531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8"/>
          <p:cNvSpPr/>
          <p:nvPr/>
        </p:nvSpPr>
        <p:spPr>
          <a:xfrm rot="760200">
            <a:off x="1486800" y="341784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Сан-Сиро" в Милане (79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9" descr="milan_san_siro_s.jpg"/>
          <p:cNvPicPr/>
          <p:nvPr/>
        </p:nvPicPr>
        <p:blipFill>
          <a:blip r:embed="rId4"/>
          <a:stretch/>
        </p:blipFill>
        <p:spPr>
          <a:xfrm rot="671400">
            <a:off x="1371240" y="3589200"/>
            <a:ext cx="1778040" cy="1333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 rot="648600">
            <a:off x="6067440" y="30243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"Ацтека" в Мехико (110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1" descr="026-2im6z.jpg"/>
          <p:cNvPicPr/>
          <p:nvPr/>
        </p:nvPicPr>
        <p:blipFill>
          <a:blip r:embed="rId5"/>
          <a:stretch/>
        </p:blipFill>
        <p:spPr>
          <a:xfrm rot="610200">
            <a:off x="6056280" y="3284640"/>
            <a:ext cx="1944720" cy="14572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2"/>
          <p:cNvSpPr/>
          <p:nvPr/>
        </p:nvSpPr>
        <p:spPr>
          <a:xfrm>
            <a:off x="3431520" y="479736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Лужники" в России (ок. 100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3" descr="800px-Luzhniki_Inside_View_B_Stand.jpg"/>
          <p:cNvPicPr/>
          <p:nvPr/>
        </p:nvPicPr>
        <p:blipFill>
          <a:blip r:embed="rId6"/>
          <a:stretch/>
        </p:blipFill>
        <p:spPr>
          <a:xfrm>
            <a:off x="3995640" y="508464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4"/>
          <p:cNvSpPr/>
          <p:nvPr/>
        </p:nvSpPr>
        <p:spPr>
          <a:xfrm rot="415200">
            <a:off x="304920" y="49827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Сентенарио" в Монтевидео (ок. 75 ты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5" descr="gallery_9342_8244_11965.jpg"/>
          <p:cNvPicPr/>
          <p:nvPr/>
        </p:nvPicPr>
        <p:blipFill>
          <a:blip r:embed="rId7"/>
          <a:stretch/>
        </p:blipFill>
        <p:spPr>
          <a:xfrm rot="402000">
            <a:off x="326880" y="5229360"/>
            <a:ext cx="2293920" cy="14270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6"/>
          <p:cNvSpPr/>
          <p:nvPr/>
        </p:nvSpPr>
        <p:spPr>
          <a:xfrm rot="655800">
            <a:off x="5855760" y="50115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"Парк де Франс" в Париже (ок. 70 тыс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7" descr="stade_de_france.jpg"/>
          <p:cNvPicPr/>
          <p:nvPr/>
        </p:nvPicPr>
        <p:blipFill>
          <a:blip r:embed="rId8"/>
          <a:stretch/>
        </p:blipFill>
        <p:spPr>
          <a:xfrm rot="633000">
            <a:off x="6770160" y="5280120"/>
            <a:ext cx="20815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8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800"/>
                            </p:stCondLst>
                            <p:childTnLst>
                              <p:par>
                                <p:cTn id="1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800"/>
                            </p:stCondLst>
                            <p:childTnLst>
                              <p:par>
                                <p:cTn id="1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1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5" descr="326469.JPEG"/>
          <p:cNvPicPr/>
          <p:nvPr/>
        </p:nvPicPr>
        <p:blipFill>
          <a:blip r:embed="rId1"/>
          <a:stretch/>
        </p:blipFill>
        <p:spPr>
          <a:xfrm>
            <a:off x="7176960" y="4572000"/>
            <a:ext cx="1967040" cy="1881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0" y="1801440"/>
            <a:ext cx="6858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 т. 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ьный клуб 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4bacc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Заголовок 2" descr=""/>
          <p:cNvPicPr/>
          <p:nvPr/>
        </p:nvPicPr>
        <p:blipFill>
          <a:blip r:embed="rId2"/>
          <a:stretch/>
        </p:blipFill>
        <p:spPr>
          <a:xfrm>
            <a:off x="1023840" y="-60480"/>
            <a:ext cx="76694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av-29759.jpg"/>
          <p:cNvPicPr/>
          <p:nvPr/>
        </p:nvPicPr>
        <p:blipFill>
          <a:blip r:embed="rId3"/>
          <a:stretch/>
        </p:blipFill>
        <p:spPr>
          <a:xfrm>
            <a:off x="7215120" y="242892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94905.jpg"/>
          <p:cNvPicPr/>
          <p:nvPr/>
        </p:nvPicPr>
        <p:blipFill>
          <a:blip r:embed="rId4"/>
          <a:stretch/>
        </p:blipFill>
        <p:spPr>
          <a:xfrm>
            <a:off x="8101080" y="-6480"/>
            <a:ext cx="1066680" cy="20732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1234713906_images.jpeg"/>
          <p:cNvPicPr/>
          <p:nvPr/>
        </p:nvPicPr>
        <p:blipFill>
          <a:blip r:embed="rId5"/>
          <a:stretch/>
        </p:blipFill>
        <p:spPr>
          <a:xfrm>
            <a:off x="2262240" y="853920"/>
            <a:ext cx="1187280" cy="227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user4189_pic5915_1214818591_thumb.jpg"/>
          <p:cNvPicPr/>
          <p:nvPr/>
        </p:nvPicPr>
        <p:blipFill>
          <a:blip r:embed="rId6"/>
          <a:stretch/>
        </p:blipFill>
        <p:spPr>
          <a:xfrm>
            <a:off x="-122400" y="-66600"/>
            <a:ext cx="1543320" cy="1609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real_madrid_cf_brief.png"/>
          <p:cNvPicPr/>
          <p:nvPr/>
        </p:nvPicPr>
        <p:blipFill>
          <a:blip r:embed="rId7"/>
          <a:stretch/>
        </p:blipFill>
        <p:spPr>
          <a:xfrm>
            <a:off x="6572160" y="642960"/>
            <a:ext cx="1214640" cy="121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3840" y="45684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емпионат мир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134100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́т ми́ра по футбо́лу (часто называемый также Ку́бок ми́ра по футбо́лу, Чемпиона́т ми́ра ФИФА, мундиа́ль (от исп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a Mundial de Fútbo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фициальное название — Ку́бок ми́ра ФИФА ) — международное соревнование по футболу. Чемпионат мира проводится управляющим органом мирового футбола ФИФА, и участвовать в нём могут мужские национальные сборные всех стран-членов ФИФ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141" descr="worldcup_gifBig.png"/>
          <p:cNvPicPr/>
          <p:nvPr/>
        </p:nvPicPr>
        <p:blipFill>
          <a:blip r:embed="rId1"/>
          <a:stretch/>
        </p:blipFill>
        <p:spPr>
          <a:xfrm>
            <a:off x="2666880" y="3276720"/>
            <a:ext cx="3733920" cy="3333600"/>
          </a:xfrm>
          <a:prstGeom prst="rect">
            <a:avLst/>
          </a:prstGeom>
          <a:ln w="0">
            <a:noFill/>
          </a:ln>
        </p:spPr>
      </p:pic>
      <p:cxnSp>
        <p:nvCxnSpPr>
          <p:cNvPr id="90" name="Прямая со стрелкой 145"/>
          <p:cNvCxnSpPr/>
          <p:nvPr/>
        </p:nvCxnSpPr>
        <p:spPr>
          <a:xfrm flipH="1">
            <a:off x="5028840" y="3962520"/>
            <a:ext cx="1753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148"/>
          <p:cNvSpPr/>
          <p:nvPr/>
        </p:nvSpPr>
        <p:spPr>
          <a:xfrm rot="20781600">
            <a:off x="6738120" y="32828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убок Чемпионата мира по футбо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3840" y="53316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Кубок УЕФ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112536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бок УЕФА (для призеров национальных чемпионатов) разыгрывался с 1958 г. (до 1971 носил название Кубок Ярмарок). "Барселона" (Испания) побеждала в 1958, 1960, 1966, "Ювентус" (Турин, Италия) - в 1977, 1990, 1993, "Интер" (Милан, Италия) - в 1991, 1994,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spurs-uefa-cup-1972.jpg"/>
          <p:cNvPicPr/>
          <p:nvPr/>
        </p:nvPicPr>
        <p:blipFill>
          <a:blip r:embed="rId1"/>
          <a:stretch/>
        </p:blipFill>
        <p:spPr>
          <a:xfrm>
            <a:off x="4038480" y="3487680"/>
            <a:ext cx="5105520" cy="33703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324000" y="580536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Тоттенхэм» стал первым в истории обладателем  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б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ЕФ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89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"Золотой мяч"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765000"/>
            <a:ext cx="447372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1956 был учрежден популярный личный приз лучшему футболисту Европы - "Золотой мяч". Его получали и футболисты других континентов, выступающие за европейские клубы (либериец Дж. Веав в 1995, бразилец Роналдо в 1996 и 1997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067280" y="3811680"/>
            <a:ext cx="5257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выми обладателями "Золотого мяча" были: С. Мэтьюз (Англия, "Блэкпул", 1956); А. ди Стефано (Испания, "Реал",1957, 1959); Р. Копа (Франция, "Реал", 1958); Л. Суарес (Испания, "Барселона", 1960); О. Сивори (Италия, "Ювентус", 1961); Й. Масопуст (Чехословакия, "Дукла", 1962); Л. Яшин (СССР, "Динамо" Москва, 1963); Д. Лоу (Шотландия, "Манчестер Юнайтед", 1964); Эйсебио (Португалия, "Бенфика", 1965); Б. Чарлтон (Англия, "Манчестер Юнайтед", 1966). Среди других советских футболистов обладателями "Золотого мяча" были также О. Блохин (СССР, "Динамо", Киев, 1975) и И. Беланов (СССР, "Динамо", Киев, 1986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167887.jpg"/>
          <p:cNvPicPr/>
          <p:nvPr/>
        </p:nvPicPr>
        <p:blipFill>
          <a:blip r:embed="rId1"/>
          <a:stretch/>
        </p:blipFill>
        <p:spPr>
          <a:xfrm>
            <a:off x="1763640" y="2852640"/>
            <a:ext cx="2268720" cy="1717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25841736_1789.gif"/>
          <p:cNvPicPr/>
          <p:nvPr/>
        </p:nvPicPr>
        <p:blipFill>
          <a:blip r:embed="rId2"/>
          <a:stretch/>
        </p:blipFill>
        <p:spPr>
          <a:xfrm>
            <a:off x="0" y="2852640"/>
            <a:ext cx="163512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1233499821_goldball003.jpg"/>
          <p:cNvPicPr/>
          <p:nvPr/>
        </p:nvPicPr>
        <p:blipFill>
          <a:blip r:embed="rId3"/>
          <a:stretch/>
        </p:blipFill>
        <p:spPr>
          <a:xfrm>
            <a:off x="5334120" y="981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Ballon-dOr.jpg"/>
          <p:cNvPicPr/>
          <p:nvPr/>
        </p:nvPicPr>
        <p:blipFill>
          <a:blip r:embed="rId4"/>
          <a:stretch/>
        </p:blipFill>
        <p:spPr>
          <a:xfrm>
            <a:off x="1979640" y="4941720"/>
            <a:ext cx="164952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2:24:23Z</dcterms:created>
  <dc:creator>Артём</dc:creator>
  <dc:description/>
  <dc:language>en-US</dc:language>
  <cp:lastModifiedBy>1</cp:lastModifiedBy>
  <dcterms:modified xsi:type="dcterms:W3CDTF">2012-04-05T15:41:33Z</dcterms:modified>
  <cp:revision>6</cp:revision>
  <dc:subject/>
  <dc:title>Материал взят из:</dc:title>
</cp:coreProperties>
</file>