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A1A1-7131-447B-8A66-5F036E95F2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4D05-8E54-4AE7-A4F8-484EACD5CA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69B4-E427-4C4E-A2E3-36415CBA66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C5EC-4F5A-4415-9E0F-798E71A977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B156-B7E1-4865-B20E-C7E927FD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49D-3026-4164-BFD0-41A1238B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DFE-30CB-46BD-8ACD-F507CCA9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85D4-3E97-4493-86B2-12D0949D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548D-D8BC-419D-951C-D814187A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FC2C-87DD-4871-A753-0CE89460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C11B-5D4B-4C39-833E-3BB747B8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3DE-857A-42A0-A78A-19975EDE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1FD7-9D3F-4AE7-91F0-3FCCE420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8B59-170B-4430-81F6-6B02A45C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F81C-5C82-4259-A302-45F90EA0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B4AA-7562-4DF3-9B83-3C53B235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6AE1-22CB-408D-98A0-119DE2677D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333360"/>
            <a:ext cx="81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УНК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ЛАСТЬ 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 ОБЛАСТЬ ЗНАЧЕНИЙ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424836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11280" y="1628640"/>
            <a:ext cx="8136000" cy="4076640"/>
            <a:chOff x="611280" y="1628640"/>
            <a:chExt cx="8136000" cy="4076640"/>
          </a:xfrm>
        </p:grpSpPr>
        <p:sp>
          <p:nvSpPr>
            <p:cNvPr id="52" name=""/>
            <p:cNvSpPr/>
            <p:nvPr/>
          </p:nvSpPr>
          <p:spPr>
            <a:xfrm>
              <a:off x="611280" y="1628640"/>
              <a:ext cx="331164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ЕЗАВИСИМАЯ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ПЕРЕМЕН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АРГУМЕН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35640" y="1628640"/>
              <a:ext cx="331164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ЗАВИСИМАЯ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ПЕРЕМЕН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Arial"/>
                </a:rPr>
                <a:t>ФУНК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32360" y="2781000"/>
              <a:ext cx="3025800" cy="107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ФУНКЦИОНАЛЬН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ЗАВИСИМ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24000" y="2563560"/>
              <a:ext cx="1008360" cy="720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156360" y="2563560"/>
              <a:ext cx="935280" cy="720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11640" y="4363920"/>
              <a:ext cx="4751280" cy="13413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КАЖДОМУ ЗНАЧЕНИЮ АРГУМЕН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СООТВЕТСТВУ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ЕДИНСТВЕННОЕ ЗНА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ФУН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14920" y="38606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04600" y="826920"/>
            <a:ext cx="68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ПОСОБЫ ЗАДАНИЯ ФУНКЦИИ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720" y="1628640"/>
            <a:ext cx="6474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ЕСНЫЙ (с помощью тек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ТИЧЕСКИЙ (с помощью форму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ФИЧЕСКИЙ (с помощью граф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ЧНЫЙ (с помощью табли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981000"/>
            <a:ext cx="86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ЛАСТЬ ОПРЕДЕЛЕНИЯ 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значения независимой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0360" y="272736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ЛАСТЬ ЗНАЧЕНИЙ 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значения зависимой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58920" y="1484280"/>
          <a:ext cx="6939000" cy="50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84280"/>
                    <a:ext cx="6939000" cy="50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484360" y="2200320"/>
            <a:ext cx="4751640" cy="3892680"/>
          </a:xfrm>
          <a:custGeom>
            <a:avLst/>
            <a:gdLst/>
            <a:ahLst/>
            <a:rect l="l" t="t" r="r" b="b"/>
            <a:pathLst>
              <a:path w="2993" h="2452">
                <a:moveTo>
                  <a:pt x="0" y="2452"/>
                </a:moveTo>
                <a:cubicBezTo>
                  <a:pt x="120" y="2002"/>
                  <a:pt x="243" y="1552"/>
                  <a:pt x="362" y="1228"/>
                </a:cubicBezTo>
                <a:cubicBezTo>
                  <a:pt x="481" y="904"/>
                  <a:pt x="597" y="509"/>
                  <a:pt x="715" y="510"/>
                </a:cubicBezTo>
                <a:cubicBezTo>
                  <a:pt x="833" y="511"/>
                  <a:pt x="954" y="1002"/>
                  <a:pt x="1069" y="1236"/>
                </a:cubicBezTo>
                <a:cubicBezTo>
                  <a:pt x="1184" y="1470"/>
                  <a:pt x="1288" y="1915"/>
                  <a:pt x="1405" y="1914"/>
                </a:cubicBezTo>
                <a:cubicBezTo>
                  <a:pt x="1522" y="1913"/>
                  <a:pt x="1623" y="1547"/>
                  <a:pt x="1769" y="1228"/>
                </a:cubicBezTo>
                <a:cubicBezTo>
                  <a:pt x="1915" y="909"/>
                  <a:pt x="2107" y="0"/>
                  <a:pt x="2281" y="0"/>
                </a:cubicBezTo>
                <a:cubicBezTo>
                  <a:pt x="2455" y="0"/>
                  <a:pt x="2693" y="963"/>
                  <a:pt x="2812" y="1228"/>
                </a:cubicBezTo>
                <a:cubicBezTo>
                  <a:pt x="2931" y="1493"/>
                  <a:pt x="2963" y="1541"/>
                  <a:pt x="2993" y="159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76360" y="18900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Rounded MT Bold"/>
              </a:rPr>
              <a:t>Область определения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595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11280" y="595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4360" y="4191120"/>
            <a:ext cx="14400" cy="1844640"/>
          </a:xfrm>
          <a:custGeom>
            <a:avLst/>
            <a:gdLst/>
            <a:ahLst/>
            <a:rect l="l" t="t" r="r" b="b"/>
            <a:pathLst>
              <a:path w="9" h="1162">
                <a:moveTo>
                  <a:pt x="0" y="1162"/>
                </a:moveTo>
                <a:lnTo>
                  <a:pt x="9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236000" y="4149720"/>
            <a:ext cx="0" cy="57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84360" y="4149720"/>
            <a:ext cx="4751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580000" y="5661000"/>
                <a:ext cx="29656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6 C 0.02153 -0.10139 0.04306 -0.20254 0.06337 -0.27546 C 0.08368 -0.34838 0.10174 -0.43819 0.1217 -0.43773 C 0.14167 -0.43727 0.16302 -0.32801 0.18333 -0.27315 C 0.20365 -0.21828 0.22274 -0.10833 0.24323 -0.10879 C 0.26372 -0.10926 0.28125 -0.20092 0.3066 -0.27546 C 0.33195 -0.35 0.36493 -0.55602 0.39497 -0.55555 C 0.425 -0.55509 0.46632 -0.33379 0.48663 -0.27315 C 0.50695 -0.2125 0.51163 -0.20463 0.51667 -0.19097 E">
                                      <p:cBhvr>
                                        <p:cTn id="6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258920" y="1484280"/>
          <a:ext cx="6939000" cy="50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84280"/>
                    <a:ext cx="6939000" cy="50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484360" y="2200320"/>
            <a:ext cx="4751640" cy="3892680"/>
          </a:xfrm>
          <a:custGeom>
            <a:avLst/>
            <a:gdLst/>
            <a:ahLst/>
            <a:rect l="l" t="t" r="r" b="b"/>
            <a:pathLst>
              <a:path w="2993" h="2452">
                <a:moveTo>
                  <a:pt x="0" y="2452"/>
                </a:moveTo>
                <a:cubicBezTo>
                  <a:pt x="120" y="2002"/>
                  <a:pt x="243" y="1552"/>
                  <a:pt x="362" y="1228"/>
                </a:cubicBezTo>
                <a:cubicBezTo>
                  <a:pt x="481" y="904"/>
                  <a:pt x="597" y="509"/>
                  <a:pt x="715" y="510"/>
                </a:cubicBezTo>
                <a:cubicBezTo>
                  <a:pt x="833" y="511"/>
                  <a:pt x="954" y="1002"/>
                  <a:pt x="1069" y="1236"/>
                </a:cubicBezTo>
                <a:cubicBezTo>
                  <a:pt x="1184" y="1470"/>
                  <a:pt x="1288" y="1915"/>
                  <a:pt x="1405" y="1914"/>
                </a:cubicBezTo>
                <a:cubicBezTo>
                  <a:pt x="1522" y="1913"/>
                  <a:pt x="1623" y="1547"/>
                  <a:pt x="1769" y="1228"/>
                </a:cubicBezTo>
                <a:cubicBezTo>
                  <a:pt x="1915" y="909"/>
                  <a:pt x="2107" y="0"/>
                  <a:pt x="2281" y="0"/>
                </a:cubicBezTo>
                <a:cubicBezTo>
                  <a:pt x="2455" y="0"/>
                  <a:pt x="2693" y="963"/>
                  <a:pt x="2812" y="1228"/>
                </a:cubicBezTo>
                <a:cubicBezTo>
                  <a:pt x="2931" y="1493"/>
                  <a:pt x="2963" y="1541"/>
                  <a:pt x="2993" y="159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18900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Rounded MT Bold"/>
              </a:rPr>
              <a:t>Область значений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595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595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484360" y="6093000"/>
            <a:ext cx="223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716000" y="2205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716360" y="2205000"/>
            <a:ext cx="0" cy="3888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219640" y="5661000"/>
                <a:ext cx="29656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6 C 0.02153 -0.10139 0.04306 -0.20254 0.06337 -0.27546 C 0.08368 -0.34838 0.10174 -0.43819 0.1217 -0.43773 C 0.14167 -0.43727 0.16302 -0.32801 0.18333 -0.27315 C 0.20365 -0.21828 0.22274 -0.10833 0.24323 -0.10879 C 0.26372 -0.10926 0.28125 -0.20092 0.3066 -0.27546 C 0.33195 -0.35 0.36493 -0.55602 0.39497 -0.55555 C 0.425 -0.55509 0.46632 -0.33379 0.48663 -0.27315 C 0.50695 -0.2125 0.51163 -0.20463 0.51667 -0.19097 E">
                                      <p:cBhvr>
                                        <p:cTn id="28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295280" y="228600"/>
            <a:ext cx="7021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 Для каждого графика укажите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1952640" cy="2867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3276720" y="1371600"/>
            <a:ext cx="2338200" cy="2971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6019920" y="2819520"/>
            <a:ext cx="2819160" cy="225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" name="Object 10"/>
              <p:cNvSpPr txBox="1"/>
              <p:nvPr/>
            </p:nvSpPr>
            <p:spPr>
              <a:xfrm>
                <a:off x="533520" y="4419720"/>
                <a:ext cx="19810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1"/>
              <p:cNvSpPr txBox="1"/>
              <p:nvPr/>
            </p:nvSpPr>
            <p:spPr>
              <a:xfrm>
                <a:off x="3200400" y="4952880"/>
                <a:ext cx="19810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2"/>
              <p:cNvSpPr txBox="1"/>
              <p:nvPr/>
            </p:nvSpPr>
            <p:spPr>
              <a:xfrm>
                <a:off x="5791320" y="5630760"/>
                <a:ext cx="30765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3"/>
              <p:cNvSpPr txBox="1"/>
              <p:nvPr/>
            </p:nvSpPr>
            <p:spPr>
              <a:xfrm>
                <a:off x="5791320" y="6095880"/>
                <a:ext cx="1798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752480" y="304920"/>
            <a:ext cx="3733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 Верно ли, что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D(f)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(f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914400" y="4952880"/>
            <a:ext cx="2438280" cy="844560"/>
            <a:chOff x="914400" y="4952880"/>
            <a:chExt cx="2438280" cy="844560"/>
          </a:xfrm>
        </p:grpSpPr>
        <p:sp>
          <p:nvSpPr>
            <p:cNvPr id="95" name="AutoShape 8"/>
            <p:cNvSpPr/>
            <p:nvPr/>
          </p:nvSpPr>
          <p:spPr>
            <a:xfrm>
              <a:off x="914400" y="4952880"/>
              <a:ext cx="2438280" cy="8380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6"/>
                <p:cNvSpPr txBox="1"/>
                <p:nvPr/>
              </p:nvSpPr>
              <p:spPr>
                <a:xfrm>
                  <a:off x="914400" y="4952880"/>
                  <a:ext cx="24382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 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E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" name="Group 23"/>
          <p:cNvGrpSpPr/>
          <p:nvPr/>
        </p:nvGrpSpPr>
        <p:grpSpPr>
          <a:xfrm>
            <a:off x="838080" y="990720"/>
            <a:ext cx="2649600" cy="3581280"/>
            <a:chOff x="838080" y="990720"/>
            <a:chExt cx="2649600" cy="3581280"/>
          </a:xfrm>
        </p:grpSpPr>
        <p:graphicFrame>
          <p:nvGraphicFramePr>
            <p:cNvPr id="98" name="Object 4"/>
            <p:cNvGraphicFramePr/>
            <p:nvPr/>
          </p:nvGraphicFramePr>
          <p:xfrm>
            <a:off x="838080" y="1828800"/>
            <a:ext cx="2649600" cy="274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828800"/>
                      <a:ext cx="2649600" cy="27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0" name="Group 12"/>
            <p:cNvGrpSpPr/>
            <p:nvPr/>
          </p:nvGrpSpPr>
          <p:grpSpPr>
            <a:xfrm>
              <a:off x="838440" y="990720"/>
              <a:ext cx="1447560" cy="568080"/>
              <a:chOff x="838440" y="990720"/>
              <a:chExt cx="1447560" cy="568080"/>
            </a:xfrm>
          </p:grpSpPr>
          <mc:AlternateContent>
            <mc:Choice xmlns:a14="http://schemas.microsoft.com/office/drawing/2010/main" Requires="a14">
              <p:sp>
                <p:nvSpPr>
                  <p:cNvPr id="101" name="Object 5"/>
                  <p:cNvSpPr txBox="1"/>
                  <p:nvPr/>
                </p:nvSpPr>
                <p:spPr>
                  <a:xfrm>
                    <a:off x="1447920" y="990720"/>
                    <a:ext cx="838080" cy="568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у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2" name="Rectangle 11"/>
              <p:cNvSpPr/>
              <p:nvPr/>
            </p:nvSpPr>
            <p:spPr>
              <a:xfrm>
                <a:off x="838440" y="990720"/>
                <a:ext cx="45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1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Group 24"/>
          <p:cNvGrpSpPr/>
          <p:nvPr/>
        </p:nvGrpSpPr>
        <p:grpSpPr>
          <a:xfrm>
            <a:off x="5105520" y="714240"/>
            <a:ext cx="2743200" cy="3695760"/>
            <a:chOff x="5105520" y="714240"/>
            <a:chExt cx="2743200" cy="3695760"/>
          </a:xfrm>
        </p:grpSpPr>
        <p:sp>
          <p:nvSpPr>
            <p:cNvPr id="104" name="Rectangle 13"/>
            <p:cNvSpPr/>
            <p:nvPr/>
          </p:nvSpPr>
          <p:spPr>
            <a:xfrm>
              <a:off x="5334120" y="990720"/>
              <a:ext cx="4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5" name="Object 1"/>
            <p:cNvGraphicFramePr/>
            <p:nvPr/>
          </p:nvGraphicFramePr>
          <p:xfrm>
            <a:off x="5105520" y="2057400"/>
            <a:ext cx="2743200" cy="2352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05520" y="2057400"/>
                      <a:ext cx="2743200" cy="23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7" name="Group 19"/>
            <p:cNvGrpSpPr/>
            <p:nvPr/>
          </p:nvGrpSpPr>
          <p:grpSpPr>
            <a:xfrm>
              <a:off x="5334120" y="714240"/>
              <a:ext cx="1551960" cy="990720"/>
              <a:chOff x="5334120" y="714240"/>
              <a:chExt cx="1551960" cy="990720"/>
            </a:xfrm>
          </p:grpSpPr>
          <p:sp>
            <p:nvSpPr>
              <p:cNvPr id="108" name="Rectangle 20"/>
              <p:cNvSpPr/>
              <p:nvPr/>
            </p:nvSpPr>
            <p:spPr>
              <a:xfrm>
                <a:off x="5334120" y="990720"/>
                <a:ext cx="45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2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" name="Object 2"/>
                  <p:cNvSpPr txBox="1"/>
                  <p:nvPr/>
                </p:nvSpPr>
                <p:spPr>
                  <a:xfrm>
                    <a:off x="5929200" y="714240"/>
                    <a:ext cx="956880" cy="990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10" name="Object 0"/>
              <p:cNvSpPr txBox="1"/>
              <p:nvPr/>
            </p:nvSpPr>
            <p:spPr>
              <a:xfrm>
                <a:off x="4876920" y="4729320"/>
                <a:ext cx="33526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∪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∪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7"/>
          <p:cNvGrpSpPr/>
          <p:nvPr/>
        </p:nvGrpSpPr>
        <p:grpSpPr>
          <a:xfrm>
            <a:off x="4724280" y="1066680"/>
            <a:ext cx="3848400" cy="3629160"/>
            <a:chOff x="4724280" y="1066680"/>
            <a:chExt cx="3848400" cy="3629160"/>
          </a:xfrm>
        </p:grpSpPr>
        <p:graphicFrame>
          <p:nvGraphicFramePr>
            <p:cNvPr id="112" name="Object 3"/>
            <p:cNvGraphicFramePr/>
            <p:nvPr/>
          </p:nvGraphicFramePr>
          <p:xfrm>
            <a:off x="4724280" y="2819520"/>
            <a:ext cx="3848400" cy="187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24280" y="2819520"/>
                      <a:ext cx="3848400" cy="187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Rectangle 4"/>
            <p:cNvSpPr/>
            <p:nvPr/>
          </p:nvSpPr>
          <p:spPr>
            <a:xfrm>
              <a:off x="5562720" y="121932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Object 6"/>
                <p:cNvSpPr txBox="1"/>
                <p:nvPr/>
              </p:nvSpPr>
              <p:spPr>
                <a:xfrm>
                  <a:off x="6095880" y="1066680"/>
                  <a:ext cx="1447920" cy="76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" name="Group 16"/>
          <p:cNvGrpSpPr/>
          <p:nvPr/>
        </p:nvGrpSpPr>
        <p:grpSpPr>
          <a:xfrm>
            <a:off x="762120" y="1066680"/>
            <a:ext cx="3504960" cy="3708360"/>
            <a:chOff x="762120" y="1066680"/>
            <a:chExt cx="3504960" cy="3708360"/>
          </a:xfrm>
        </p:grpSpPr>
        <p:graphicFrame>
          <p:nvGraphicFramePr>
            <p:cNvPr id="117" name="Object 2"/>
            <p:cNvGraphicFramePr/>
            <p:nvPr/>
          </p:nvGraphicFramePr>
          <p:xfrm>
            <a:off x="762120" y="2666880"/>
            <a:ext cx="3504960" cy="2108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8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120" y="2666880"/>
                      <a:ext cx="3504960" cy="21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Rectangle 5"/>
            <p:cNvSpPr/>
            <p:nvPr/>
          </p:nvSpPr>
          <p:spPr>
            <a:xfrm>
              <a:off x="838080" y="129528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Object 7"/>
                <p:cNvSpPr txBox="1"/>
                <p:nvPr/>
              </p:nvSpPr>
              <p:spPr>
                <a:xfrm>
                  <a:off x="1295280" y="1066680"/>
                  <a:ext cx="137160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х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1" name="Rectangle 8"/>
          <p:cNvSpPr/>
          <p:nvPr/>
        </p:nvSpPr>
        <p:spPr>
          <a:xfrm>
            <a:off x="2874600" y="457200"/>
            <a:ext cx="2641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рно ли, что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D(f)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(f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1219320" y="4952880"/>
            <a:ext cx="2438280" cy="844560"/>
            <a:chOff x="1219320" y="4952880"/>
            <a:chExt cx="2438280" cy="844560"/>
          </a:xfrm>
        </p:grpSpPr>
        <p:sp>
          <p:nvSpPr>
            <p:cNvPr id="123" name="AutoShape 11"/>
            <p:cNvSpPr/>
            <p:nvPr/>
          </p:nvSpPr>
          <p:spPr>
            <a:xfrm>
              <a:off x="1219320" y="4952880"/>
              <a:ext cx="2438280" cy="8380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Object 12"/>
                <p:cNvSpPr txBox="1"/>
                <p:nvPr/>
              </p:nvSpPr>
              <p:spPr>
                <a:xfrm>
                  <a:off x="1219320" y="4952880"/>
                  <a:ext cx="24382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 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E</m:t>
                          </m:r>
                          <m:r>
                            <m:t xml:space="preserve">(</m:t>
                          </m:r>
                          <m:r>
                            <m:t xml:space="preserve">f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5" name="Object 19"/>
              <p:cNvSpPr txBox="1"/>
              <p:nvPr/>
            </p:nvSpPr>
            <p:spPr>
              <a:xfrm>
                <a:off x="5715000" y="4962600"/>
                <a:ext cx="21337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30:45Z</dcterms:created>
  <dc:creator>Admin</dc:creator>
  <dc:description/>
  <dc:language>en-US</dc:language>
  <cp:lastModifiedBy>Admin</cp:lastModifiedBy>
  <dcterms:modified xsi:type="dcterms:W3CDTF">2010-09-09T15:22:10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