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88B4-5577-4585-A8CC-AEA52D3E5C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47E2-C553-46E1-AC0D-685CF74035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A603-4835-4C45-AD43-AE37A438D8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A799-AB49-4356-9D25-F07D0676A8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A4B9-4963-475E-90C9-6D6673E12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767B-789B-4190-8750-EEA72966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AEB9-044B-4248-B230-B361A9D62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0B4C-FBF3-4D10-AC7C-167A13112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A164-DFB1-4817-900E-04263B08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6076-3D82-48BE-9338-22249183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3FC9-5391-4B61-9269-657F13C6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40F7-F49A-4F0B-8F82-0573674C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D6AF-644A-4575-A61E-0A08B88B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F93A-F9B0-416F-A719-A4EA1232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5D20-7706-4B81-87D5-35EC5378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D8A2-5006-467D-AE7E-54E0ADC9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D6C6-2868-4EA8-A9A7-D89D86C87A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333360"/>
            <a:ext cx="813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ФУНК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БЛАСТЬ ОПРЕД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 ОБЛАСТЬ ЗНАЧЕНИЙ Ф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3280" y="3284640"/>
            <a:ext cx="424836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11280" y="1628640"/>
            <a:ext cx="8136000" cy="4076640"/>
            <a:chOff x="611280" y="1628640"/>
            <a:chExt cx="8136000" cy="4076640"/>
          </a:xfrm>
        </p:grpSpPr>
        <p:sp>
          <p:nvSpPr>
            <p:cNvPr id="52" name=""/>
            <p:cNvSpPr/>
            <p:nvPr/>
          </p:nvSpPr>
          <p:spPr>
            <a:xfrm>
              <a:off x="611280" y="1628640"/>
              <a:ext cx="331164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НЕЗАВИСИМАЯ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ПЕРЕМЕНН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ffff"/>
                  </a:solidFill>
                  <a:latin typeface="Arial"/>
                </a:rPr>
                <a:t>АРГУМЕН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435640" y="1628640"/>
              <a:ext cx="331164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ЗАВИСИМАЯ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ПЕРЕМЕНН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ffff"/>
                  </a:solidFill>
                  <a:latin typeface="Arial"/>
                </a:rPr>
                <a:t>ФУНК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132360" y="2781000"/>
              <a:ext cx="3025800" cy="1079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ФУНКЦИОНАЛЬН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ЗАВИСИМ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24000" y="2563560"/>
              <a:ext cx="1008360" cy="720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156360" y="2563560"/>
              <a:ext cx="935280" cy="720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411640" y="4363920"/>
              <a:ext cx="4751280" cy="134136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КАЖДОМУ ЗНАЧЕНИЮ АРГУМЕНТ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СООТВЕТСТВУ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ЕДИНСТВЕННОЕ ЗНАЧ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ФУНК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14920" y="386064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04600" y="826920"/>
            <a:ext cx="68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ПОСОБЫ ЗАДАНИЯ ФУНКЦИИ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720" y="1628640"/>
            <a:ext cx="6474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ВЕСНЫЙ (с помощью текс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ЛИТИЧЕСКИЙ (с помощью форму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ФИЧЕСКИЙ (с помощью графи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ЧНЫЙ (с помощью таблиц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981000"/>
            <a:ext cx="86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БЛАСТЬ ОПРЕДЕЛЕНИЯ ФУНК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значения независимой перем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0360" y="2727360"/>
            <a:ext cx="80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БЛАСТЬ ЗНАЧЕНИЙ ФУНК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значения зависимой перем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258920" y="1484280"/>
          <a:ext cx="6939000" cy="503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484280"/>
                    <a:ext cx="6939000" cy="50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2484360" y="2200320"/>
            <a:ext cx="4751640" cy="3892680"/>
          </a:xfrm>
          <a:custGeom>
            <a:avLst/>
            <a:gdLst/>
            <a:ahLst/>
            <a:rect l="l" t="t" r="r" b="b"/>
            <a:pathLst>
              <a:path w="2993" h="2452">
                <a:moveTo>
                  <a:pt x="0" y="2452"/>
                </a:moveTo>
                <a:cubicBezTo>
                  <a:pt x="120" y="2002"/>
                  <a:pt x="243" y="1552"/>
                  <a:pt x="362" y="1228"/>
                </a:cubicBezTo>
                <a:cubicBezTo>
                  <a:pt x="481" y="904"/>
                  <a:pt x="597" y="509"/>
                  <a:pt x="715" y="510"/>
                </a:cubicBezTo>
                <a:cubicBezTo>
                  <a:pt x="833" y="511"/>
                  <a:pt x="954" y="1002"/>
                  <a:pt x="1069" y="1236"/>
                </a:cubicBezTo>
                <a:cubicBezTo>
                  <a:pt x="1184" y="1470"/>
                  <a:pt x="1288" y="1915"/>
                  <a:pt x="1405" y="1914"/>
                </a:cubicBezTo>
                <a:cubicBezTo>
                  <a:pt x="1522" y="1913"/>
                  <a:pt x="1623" y="1547"/>
                  <a:pt x="1769" y="1228"/>
                </a:cubicBezTo>
                <a:cubicBezTo>
                  <a:pt x="1915" y="909"/>
                  <a:pt x="2107" y="0"/>
                  <a:pt x="2281" y="0"/>
                </a:cubicBezTo>
                <a:cubicBezTo>
                  <a:pt x="2455" y="0"/>
                  <a:pt x="2693" y="963"/>
                  <a:pt x="2812" y="1228"/>
                </a:cubicBezTo>
                <a:cubicBezTo>
                  <a:pt x="2931" y="1493"/>
                  <a:pt x="2963" y="1541"/>
                  <a:pt x="2993" y="159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76360" y="18900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 Rounded MT Bold"/>
              </a:rPr>
              <a:t>Область определения 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11280" y="59500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11280" y="59500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84360" y="4191120"/>
            <a:ext cx="14400" cy="1844640"/>
          </a:xfrm>
          <a:custGeom>
            <a:avLst/>
            <a:gdLst/>
            <a:ahLst/>
            <a:rect l="l" t="t" r="r" b="b"/>
            <a:pathLst>
              <a:path w="9" h="1162">
                <a:moveTo>
                  <a:pt x="0" y="1162"/>
                </a:moveTo>
                <a:lnTo>
                  <a:pt x="9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7236000" y="4149720"/>
            <a:ext cx="0" cy="57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84360" y="4149720"/>
            <a:ext cx="4751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580000" y="5661000"/>
                <a:ext cx="29656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7037E-006 C 0.02153 -0.10139 0.04306 -0.20254 0.06337 -0.27546 C 0.08368 -0.34838 0.10174 -0.43819 0.1217 -0.43773 C 0.14167 -0.43727 0.16302 -0.32801 0.18333 -0.27315 C 0.20365 -0.21828 0.22274 -0.10833 0.24323 -0.10879 C 0.26372 -0.10926 0.28125 -0.20092 0.3066 -0.27546 C 0.33195 -0.35 0.36493 -0.55602 0.39497 -0.55555 C 0.425 -0.55509 0.46632 -0.33379 0.48663 -0.27315 C 0.50695 -0.2125 0.51163 -0.20463 0.51667 -0.19097 E">
                                      <p:cBhvr>
                                        <p:cTn id="6" dur="5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9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258920" y="1484280"/>
          <a:ext cx="6939000" cy="503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484280"/>
                    <a:ext cx="6939000" cy="50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2484360" y="2200320"/>
            <a:ext cx="4751640" cy="3892680"/>
          </a:xfrm>
          <a:custGeom>
            <a:avLst/>
            <a:gdLst/>
            <a:ahLst/>
            <a:rect l="l" t="t" r="r" b="b"/>
            <a:pathLst>
              <a:path w="2993" h="2452">
                <a:moveTo>
                  <a:pt x="0" y="2452"/>
                </a:moveTo>
                <a:cubicBezTo>
                  <a:pt x="120" y="2002"/>
                  <a:pt x="243" y="1552"/>
                  <a:pt x="362" y="1228"/>
                </a:cubicBezTo>
                <a:cubicBezTo>
                  <a:pt x="481" y="904"/>
                  <a:pt x="597" y="509"/>
                  <a:pt x="715" y="510"/>
                </a:cubicBezTo>
                <a:cubicBezTo>
                  <a:pt x="833" y="511"/>
                  <a:pt x="954" y="1002"/>
                  <a:pt x="1069" y="1236"/>
                </a:cubicBezTo>
                <a:cubicBezTo>
                  <a:pt x="1184" y="1470"/>
                  <a:pt x="1288" y="1915"/>
                  <a:pt x="1405" y="1914"/>
                </a:cubicBezTo>
                <a:cubicBezTo>
                  <a:pt x="1522" y="1913"/>
                  <a:pt x="1623" y="1547"/>
                  <a:pt x="1769" y="1228"/>
                </a:cubicBezTo>
                <a:cubicBezTo>
                  <a:pt x="1915" y="909"/>
                  <a:pt x="2107" y="0"/>
                  <a:pt x="2281" y="0"/>
                </a:cubicBezTo>
                <a:cubicBezTo>
                  <a:pt x="2455" y="0"/>
                  <a:pt x="2693" y="963"/>
                  <a:pt x="2812" y="1228"/>
                </a:cubicBezTo>
                <a:cubicBezTo>
                  <a:pt x="2931" y="1493"/>
                  <a:pt x="2963" y="1541"/>
                  <a:pt x="2993" y="159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76360" y="18900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 Rounded MT Bold"/>
              </a:rPr>
              <a:t>Область значений 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59500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11280" y="59500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484360" y="6093000"/>
            <a:ext cx="223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716000" y="220500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716360" y="2205000"/>
            <a:ext cx="0" cy="3888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5219640" y="5661000"/>
                <a:ext cx="29656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7037E-006 C 0.02153 -0.10139 0.04306 -0.20254 0.06337 -0.27546 C 0.08368 -0.34838 0.10174 -0.43819 0.1217 -0.43773 C 0.14167 -0.43727 0.16302 -0.32801 0.18333 -0.27315 C 0.20365 -0.21828 0.22274 -0.10833 0.24323 -0.10879 C 0.26372 -0.10926 0.28125 -0.20092 0.3066 -0.27546 C 0.33195 -0.35 0.36493 -0.55602 0.39497 -0.55555 C 0.425 -0.55509 0.46632 -0.33379 0.48663 -0.27315 C 0.50695 -0.2125 0.51163 -0.20463 0.51667 -0.19097 E">
                                      <p:cBhvr>
                                        <p:cTn id="28" dur="5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000"/>
                            </p:stCondLst>
                            <p:childTnLst>
                              <p:par>
                                <p:cTn id="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1295280" y="228600"/>
            <a:ext cx="7021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 Для каждого графика укажите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1952640" cy="2867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2"/>
          <a:stretch/>
        </p:blipFill>
        <p:spPr>
          <a:xfrm>
            <a:off x="3276720" y="1371600"/>
            <a:ext cx="2338200" cy="2971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3"/>
          <a:stretch/>
        </p:blipFill>
        <p:spPr>
          <a:xfrm>
            <a:off x="6019920" y="2819520"/>
            <a:ext cx="2819160" cy="225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" name="Object 10"/>
              <p:cNvSpPr txBox="1"/>
              <p:nvPr/>
            </p:nvSpPr>
            <p:spPr>
              <a:xfrm>
                <a:off x="533520" y="4419720"/>
                <a:ext cx="198108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11"/>
              <p:cNvSpPr txBox="1"/>
              <p:nvPr/>
            </p:nvSpPr>
            <p:spPr>
              <a:xfrm>
                <a:off x="3200400" y="4952880"/>
                <a:ext cx="198108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12"/>
              <p:cNvSpPr txBox="1"/>
              <p:nvPr/>
            </p:nvSpPr>
            <p:spPr>
              <a:xfrm>
                <a:off x="5791320" y="5630760"/>
                <a:ext cx="30765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13"/>
              <p:cNvSpPr txBox="1"/>
              <p:nvPr/>
            </p:nvSpPr>
            <p:spPr>
              <a:xfrm>
                <a:off x="5791320" y="6095880"/>
                <a:ext cx="1798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1752480" y="304920"/>
            <a:ext cx="3733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 Верно ли, что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D(f)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E(f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9"/>
          <p:cNvGrpSpPr/>
          <p:nvPr/>
        </p:nvGrpSpPr>
        <p:grpSpPr>
          <a:xfrm>
            <a:off x="914400" y="4952880"/>
            <a:ext cx="2438280" cy="844560"/>
            <a:chOff x="914400" y="4952880"/>
            <a:chExt cx="2438280" cy="844560"/>
          </a:xfrm>
        </p:grpSpPr>
        <p:sp>
          <p:nvSpPr>
            <p:cNvPr id="95" name="AutoShape 8"/>
            <p:cNvSpPr/>
            <p:nvPr/>
          </p:nvSpPr>
          <p:spPr>
            <a:xfrm>
              <a:off x="914400" y="4952880"/>
              <a:ext cx="2438280" cy="83808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Object 6"/>
                <p:cNvSpPr txBox="1"/>
                <p:nvPr/>
              </p:nvSpPr>
              <p:spPr>
                <a:xfrm>
                  <a:off x="914400" y="4952880"/>
                  <a:ext cx="243828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D</m:t>
                          </m:r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 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E</m:t>
                          </m:r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[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r>
                            <m:t xml:space="preserve">∞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7" name="Group 23"/>
          <p:cNvGrpSpPr/>
          <p:nvPr/>
        </p:nvGrpSpPr>
        <p:grpSpPr>
          <a:xfrm>
            <a:off x="838080" y="990720"/>
            <a:ext cx="2649600" cy="3581280"/>
            <a:chOff x="838080" y="990720"/>
            <a:chExt cx="2649600" cy="3581280"/>
          </a:xfrm>
        </p:grpSpPr>
        <p:graphicFrame>
          <p:nvGraphicFramePr>
            <p:cNvPr id="98" name="Object 4"/>
            <p:cNvGraphicFramePr/>
            <p:nvPr/>
          </p:nvGraphicFramePr>
          <p:xfrm>
            <a:off x="838080" y="1828800"/>
            <a:ext cx="2649600" cy="274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9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1828800"/>
                      <a:ext cx="2649600" cy="274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0" name="Group 12"/>
            <p:cNvGrpSpPr/>
            <p:nvPr/>
          </p:nvGrpSpPr>
          <p:grpSpPr>
            <a:xfrm>
              <a:off x="838440" y="990720"/>
              <a:ext cx="1447560" cy="568080"/>
              <a:chOff x="838440" y="990720"/>
              <a:chExt cx="1447560" cy="568080"/>
            </a:xfrm>
          </p:grpSpPr>
          <mc:AlternateContent>
            <mc:Choice xmlns:a14="http://schemas.microsoft.com/office/drawing/2010/main" Requires="a14">
              <p:sp>
                <p:nvSpPr>
                  <p:cNvPr id="101" name="Object 5"/>
                  <p:cNvSpPr txBox="1"/>
                  <p:nvPr/>
                </p:nvSpPr>
                <p:spPr>
                  <a:xfrm>
                    <a:off x="1447920" y="990720"/>
                    <a:ext cx="838080" cy="568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у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2" name="Rectangle 11"/>
              <p:cNvSpPr/>
              <p:nvPr/>
            </p:nvSpPr>
            <p:spPr>
              <a:xfrm>
                <a:off x="838440" y="990720"/>
                <a:ext cx="45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libri"/>
                  </a:rPr>
                  <a:t>1.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Group 24"/>
          <p:cNvGrpSpPr/>
          <p:nvPr/>
        </p:nvGrpSpPr>
        <p:grpSpPr>
          <a:xfrm>
            <a:off x="5105520" y="714240"/>
            <a:ext cx="2743200" cy="3695760"/>
            <a:chOff x="5105520" y="714240"/>
            <a:chExt cx="2743200" cy="3695760"/>
          </a:xfrm>
        </p:grpSpPr>
        <p:sp>
          <p:nvSpPr>
            <p:cNvPr id="104" name="Rectangle 13"/>
            <p:cNvSpPr/>
            <p:nvPr/>
          </p:nvSpPr>
          <p:spPr>
            <a:xfrm>
              <a:off x="5334120" y="990720"/>
              <a:ext cx="45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5" name="Object 1"/>
            <p:cNvGraphicFramePr/>
            <p:nvPr/>
          </p:nvGraphicFramePr>
          <p:xfrm>
            <a:off x="5105520" y="2057400"/>
            <a:ext cx="2743200" cy="2352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6" name="Object 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05520" y="2057400"/>
                      <a:ext cx="2743200" cy="235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7" name="Group 19"/>
            <p:cNvGrpSpPr/>
            <p:nvPr/>
          </p:nvGrpSpPr>
          <p:grpSpPr>
            <a:xfrm>
              <a:off x="5334120" y="714240"/>
              <a:ext cx="1551960" cy="990720"/>
              <a:chOff x="5334120" y="714240"/>
              <a:chExt cx="1551960" cy="990720"/>
            </a:xfrm>
          </p:grpSpPr>
          <p:sp>
            <p:nvSpPr>
              <p:cNvPr id="108" name="Rectangle 20"/>
              <p:cNvSpPr/>
              <p:nvPr/>
            </p:nvSpPr>
            <p:spPr>
              <a:xfrm>
                <a:off x="5334120" y="990720"/>
                <a:ext cx="45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libri"/>
                  </a:rPr>
                  <a:t>2.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9" name="Object 2"/>
                  <p:cNvSpPr txBox="1"/>
                  <p:nvPr/>
                </p:nvSpPr>
                <p:spPr>
                  <a:xfrm>
                    <a:off x="5929200" y="714240"/>
                    <a:ext cx="956880" cy="990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10" name="Object 0"/>
              <p:cNvSpPr txBox="1"/>
              <p:nvPr/>
            </p:nvSpPr>
            <p:spPr>
              <a:xfrm>
                <a:off x="4876920" y="4729320"/>
                <a:ext cx="33526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∪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∪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17"/>
          <p:cNvGrpSpPr/>
          <p:nvPr/>
        </p:nvGrpSpPr>
        <p:grpSpPr>
          <a:xfrm>
            <a:off x="4724280" y="1066680"/>
            <a:ext cx="3848400" cy="3629160"/>
            <a:chOff x="4724280" y="1066680"/>
            <a:chExt cx="3848400" cy="3629160"/>
          </a:xfrm>
        </p:grpSpPr>
        <p:graphicFrame>
          <p:nvGraphicFramePr>
            <p:cNvPr id="112" name="Object 3"/>
            <p:cNvGraphicFramePr/>
            <p:nvPr/>
          </p:nvGraphicFramePr>
          <p:xfrm>
            <a:off x="4724280" y="2819520"/>
            <a:ext cx="3848400" cy="1876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24280" y="2819520"/>
                      <a:ext cx="3848400" cy="187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Rectangle 4"/>
            <p:cNvSpPr/>
            <p:nvPr/>
          </p:nvSpPr>
          <p:spPr>
            <a:xfrm>
              <a:off x="5562720" y="1219320"/>
              <a:ext cx="45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" name="Object 6"/>
                <p:cNvSpPr txBox="1"/>
                <p:nvPr/>
              </p:nvSpPr>
              <p:spPr>
                <a:xfrm>
                  <a:off x="6095880" y="1066680"/>
                  <a:ext cx="1447920" cy="76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х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6" name="Group 16"/>
          <p:cNvGrpSpPr/>
          <p:nvPr/>
        </p:nvGrpSpPr>
        <p:grpSpPr>
          <a:xfrm>
            <a:off x="762120" y="1066680"/>
            <a:ext cx="3504960" cy="3708360"/>
            <a:chOff x="762120" y="1066680"/>
            <a:chExt cx="3504960" cy="3708360"/>
          </a:xfrm>
        </p:grpSpPr>
        <p:graphicFrame>
          <p:nvGraphicFramePr>
            <p:cNvPr id="117" name="Object 2"/>
            <p:cNvGraphicFramePr/>
            <p:nvPr/>
          </p:nvGraphicFramePr>
          <p:xfrm>
            <a:off x="762120" y="2666880"/>
            <a:ext cx="3504960" cy="2108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8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2120" y="2666880"/>
                      <a:ext cx="3504960" cy="210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" name="Rectangle 5"/>
            <p:cNvSpPr/>
            <p:nvPr/>
          </p:nvSpPr>
          <p:spPr>
            <a:xfrm>
              <a:off x="838080" y="1295280"/>
              <a:ext cx="45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Object 7"/>
                <p:cNvSpPr txBox="1"/>
                <p:nvPr/>
              </p:nvSpPr>
              <p:spPr>
                <a:xfrm>
                  <a:off x="1295280" y="1066680"/>
                  <a:ext cx="137160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х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1" name="Rectangle 8"/>
          <p:cNvSpPr/>
          <p:nvPr/>
        </p:nvSpPr>
        <p:spPr>
          <a:xfrm>
            <a:off x="2874600" y="457200"/>
            <a:ext cx="26416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ерно ли, что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D(f)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E(f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0"/>
          <p:cNvGrpSpPr/>
          <p:nvPr/>
        </p:nvGrpSpPr>
        <p:grpSpPr>
          <a:xfrm>
            <a:off x="1219320" y="4952880"/>
            <a:ext cx="2438280" cy="844560"/>
            <a:chOff x="1219320" y="4952880"/>
            <a:chExt cx="2438280" cy="844560"/>
          </a:xfrm>
        </p:grpSpPr>
        <p:sp>
          <p:nvSpPr>
            <p:cNvPr id="123" name="AutoShape 11"/>
            <p:cNvSpPr/>
            <p:nvPr/>
          </p:nvSpPr>
          <p:spPr>
            <a:xfrm>
              <a:off x="1219320" y="4952880"/>
              <a:ext cx="2438280" cy="83808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" name="Object 12"/>
                <p:cNvSpPr txBox="1"/>
                <p:nvPr/>
              </p:nvSpPr>
              <p:spPr>
                <a:xfrm>
                  <a:off x="1219320" y="4952880"/>
                  <a:ext cx="243828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D</m:t>
                          </m:r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 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E</m:t>
                          </m:r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[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r>
                            <m:t xml:space="preserve">∞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5" name="Object 19"/>
              <p:cNvSpPr txBox="1"/>
              <p:nvPr/>
            </p:nvSpPr>
            <p:spPr>
              <a:xfrm>
                <a:off x="5715000" y="4962600"/>
                <a:ext cx="21337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4:30:45Z</dcterms:created>
  <dc:creator>Admin</dc:creator>
  <dc:description/>
  <dc:language>en-US</dc:language>
  <cp:lastModifiedBy>Admin</cp:lastModifiedBy>
  <dcterms:modified xsi:type="dcterms:W3CDTF">2010-09-09T15:22:10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