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294-E183-484F-8619-BFBA37FB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5A3-1A3E-4836-8FB7-EC120AE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845-6E76-40F6-AC59-75D25007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8A8-425F-44EB-B7E2-49993EBC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611-16A3-4267-AB7D-D5746D9A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3BA1-60EA-47C0-BCFE-349A7949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483-A7B6-4889-810F-8A5C85BC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0BC9-AF43-4B20-9935-9ADEA62B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9712-CE08-4EE3-B25D-664C2C33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B77C-CD41-4E73-85FE-B09ABAD2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D9A3-3E21-4118-AB49-3FA7A42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5FB-BF8A-455E-945C-6599EFAA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BCCE-6F03-44B4-A80C-EE14187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BA3C-94A8-49F2-A242-2C1473C9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7252-BB47-4EC2-87C6-E010DB7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49C6-C7E8-453D-A196-FBB10243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755B-4EC2-42C0-A3F2-517572E6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181-4ACC-4CFF-9522-46AB1537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C8C-5904-4EA0-93D4-64119C4C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3F0-F794-4F41-BD26-E5633855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8BE-6987-491D-8071-B0597DF5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E49-14A2-4DEB-9596-58314859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5FD-A476-4CDD-94B5-594B8901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5B6-B173-4A39-AEE4-68A4B11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BE67-AC09-47F0-AD27-34DBA58CEA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9F2B-460F-423A-9A43-EB90E7A9F27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тюхин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етлана Николаев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Рисунок 4" descr="DSCN4978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Рисунок 6" descr="PH01046J.JPG"/>
          <p:cNvPicPr/>
          <p:nvPr/>
        </p:nvPicPr>
        <p:blipFill>
          <a:blip r:embed="rId3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11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3480" y="27288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селение и хозяйственное осво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787400"/>
            <a:ext cx="916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ова плотность населения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2. Где располагаются очаги его концент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3. Почему для района характерна высокая дол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насел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 Докажите, что район отличается от друг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тническим разнообраз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 Основные религии, которые исповеду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селени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 Межнациональные проблемы райо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прич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7. Народы гор и предгорий: традиции, культур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ромыс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35120" y="220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Хозяйство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40080" y="128124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Агропромышленный комплекс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177336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на основе работы с текстом учебн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  <a:ea typeface="Tahoma"/>
              </a:rPr>
              <a:t> 37 стр.160 и картой атласа, заполните таблиц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2852640"/>
          <a:ext cx="8898120" cy="2651400"/>
        </p:xfrm>
        <a:graphic>
          <a:graphicData uri="http://schemas.openxmlformats.org/drawingml/2006/table">
            <a:tbl>
              <a:tblPr/>
              <a:tblGrid>
                <a:gridCol w="2376720"/>
                <a:gridCol w="2211120"/>
                <a:gridCol w="2292480"/>
                <a:gridCol w="20178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тение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вотно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щ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5"/>
          <p:cNvSpPr/>
          <p:nvPr/>
        </p:nvSpPr>
        <p:spPr>
          <a:xfrm>
            <a:off x="204480" y="5529240"/>
            <a:ext cx="77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сельского хозяйства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826920" y="1928880"/>
            <a:ext cx="836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очему в районе необходима интенсификац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хозяйства и перерабатывающ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траслей АПК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 чем состоит проблема развития мор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ыбного хозяйств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239840" y="4046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азвитие промышл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9960" y="9208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 основе работы с текстом учебника стр. 162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ртами атласа, заполните табли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2492280"/>
          <a:ext cx="8424720" cy="30704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урсы рай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сли специа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34"/>
          <p:cNvSpPr/>
          <p:nvPr/>
        </p:nvSpPr>
        <p:spPr>
          <a:xfrm>
            <a:off x="376200" y="56023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промышленности в  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45680" y="581040"/>
            <a:ext cx="716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Машиностро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а) сельскохозяйствен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б) транспорт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) энергетическ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Цветная металлург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Топливно-энергетический комплек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ова роль черноморских портов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азвитии хозяйства стран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421280" y="65232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креационное хозяйств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55640" y="2060640"/>
            <a:ext cx="968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вы сотрудник турагент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ие маршруты путешествий по Север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у вы предложили бы с цель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) отдыха и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Б) горнолыжного спор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) познавательного туризма и знаком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памятниками прир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оставьте примерные схемы маршрутов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опис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4435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5472360" cy="3648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0" t="0" r="21" b="20"/>
          <a:stretch/>
        </p:blipFill>
        <p:spPr>
          <a:xfrm>
            <a:off x="179280" y="189000"/>
            <a:ext cx="4824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619520" y="260280"/>
            <a:ext cx="4205520" cy="630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20516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55640" y="1084320"/>
            <a:ext cx="886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тветьте на вопро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ие отрасли являются главными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хозяйстве рай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 чем проявляются сложности в реше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оциально-экономических проблем республик Северного Кавказ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сновные экономические, социальные и экологические проблемы реги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1071720" y="1785960"/>
            <a:ext cx="69548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вропейский Ю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375920" y="652320"/>
            <a:ext cx="73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цените свою деятельность на уро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000" y="2205000"/>
            <a:ext cx="7704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Вспомните задачи сегодняшн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на уроке мне было 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нания, полученные на уроке, мне пригодятся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я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легк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сложн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О том, что я узнал (а), я расскажу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16000" y="1281240"/>
            <a:ext cx="787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. Прочитать текст учебника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3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2. Подготовиться к тесту по изученной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08000" y="333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Визитная карточка» 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0" t="0" r="-25" b="-19"/>
          <a:stretch/>
        </p:blipFill>
        <p:spPr>
          <a:xfrm>
            <a:off x="2214720" y="928800"/>
            <a:ext cx="4475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88800" y="333360"/>
            <a:ext cx="70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став экономического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74320" y="1357200"/>
            <a:ext cx="796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Задание: на основе работы с картой атла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установите какие субъекты РФ входят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Информацию сверните в схе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Organization Chart 7"/>
          <p:cNvGrpSpPr/>
          <p:nvPr/>
        </p:nvGrpSpPr>
        <p:grpSpPr>
          <a:xfrm>
            <a:off x="468360" y="3284640"/>
            <a:ext cx="8280000" cy="1872360"/>
            <a:chOff x="468360" y="3284640"/>
            <a:chExt cx="8280000" cy="187236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869800" y="277092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2"/>
            </p:cNvCxnSpPr>
            <p:nvPr/>
          </p:nvCxnSpPr>
          <p:spPr>
            <a:xfrm flipV="1">
              <a:off x="4608000" y="4033080"/>
              <a:ext cx="3240" cy="37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2971800" y="277128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366360" y="328464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Европейский ЮГ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68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бласт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366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Края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6264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Республик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" name="Text Box 16"/>
          <p:cNvSpPr/>
          <p:nvPr/>
        </p:nvSpPr>
        <p:spPr>
          <a:xfrm>
            <a:off x="471960" y="5533920"/>
            <a:ext cx="80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делайте вывод об особенностях соста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0" t="0" r="-43" b="102"/>
          <a:stretch/>
        </p:blipFill>
        <p:spPr>
          <a:xfrm>
            <a:off x="1258920" y="549360"/>
            <a:ext cx="74167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7240" y="963720"/>
            <a:ext cx="72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2200" y="2421000"/>
            <a:ext cx="837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амый Южный район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трех сторон ограничен природными рубеж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лияние морей на природу и хозяйстве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собенности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Наиболее существенное влияние Черного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Геополитические интересы РФ на Северн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Природный амфитеат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64560" y="260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рода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141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Дайте характеристику особенностей природы Европейского Юга для жизни и хозяйственной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98960" y="8366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Organization Chart 8"/>
          <p:cNvGrpSpPr/>
          <p:nvPr/>
        </p:nvGrpSpPr>
        <p:grpSpPr>
          <a:xfrm>
            <a:off x="179280" y="3068640"/>
            <a:ext cx="8785080" cy="1655280"/>
            <a:chOff x="179280" y="3068640"/>
            <a:chExt cx="8785080" cy="1655280"/>
          </a:xfrm>
        </p:grpSpPr>
        <p:cxnSp>
          <p:nvCxnSpPr>
            <p:cNvPr id="127" name="_s2052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13880" y="2187000"/>
              <a:ext cx="331560" cy="341712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3"/>
            <p:cNvCxnSpPr>
              <a:stCxn id="131" idx="0"/>
              <a:endCxn id="129" idx="2"/>
            </p:cNvCxnSpPr>
            <p:nvPr/>
          </p:nvCxnSpPr>
          <p:spPr>
            <a:xfrm flipV="1" rot="16200000">
              <a:off x="4975200" y="3325680"/>
              <a:ext cx="331560" cy="1139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4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3837600" y="3327120"/>
              <a:ext cx="331560" cy="113724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5"/>
            <p:cNvCxnSpPr>
              <a:stCxn id="135" idx="0"/>
              <a:endCxn id="129" idx="2"/>
            </p:cNvCxnSpPr>
            <p:nvPr/>
          </p:nvCxnSpPr>
          <p:spPr>
            <a:xfrm flipH="1" flipV="1" rot="5400000">
              <a:off x="2697480" y="2187360"/>
              <a:ext cx="331560" cy="3416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056"/>
            <p:cNvSpPr/>
            <p:nvPr/>
          </p:nvSpPr>
          <p:spPr>
            <a:xfrm>
              <a:off x="3595320" y="306864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рирод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17928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льеф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2058"/>
            <p:cNvSpPr/>
            <p:nvPr/>
          </p:nvSpPr>
          <p:spPr>
            <a:xfrm>
              <a:off x="245664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лима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2059"/>
            <p:cNvSpPr/>
            <p:nvPr/>
          </p:nvSpPr>
          <p:spPr>
            <a:xfrm>
              <a:off x="473436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ки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7012080" y="4061880"/>
              <a:ext cx="1952280" cy="6598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ысотная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оясность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Text Box 23"/>
          <p:cNvSpPr/>
          <p:nvPr/>
        </p:nvSpPr>
        <p:spPr>
          <a:xfrm>
            <a:off x="179280" y="5025960"/>
            <a:ext cx="947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Каковы различия по рельефу, климату, гидрографи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ландшафтам и набору природных ресурсов равнинно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предгорной и горной частей район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rcRect l="0" t="0" r="32" b="32"/>
          <a:stretch/>
        </p:blipFill>
        <p:spPr>
          <a:xfrm>
            <a:off x="755640" y="333360"/>
            <a:ext cx="7777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0" t="0" r="38" b="63"/>
          <a:stretch/>
        </p:blipFill>
        <p:spPr>
          <a:xfrm>
            <a:off x="25092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9:20:00Z</dcterms:created>
  <dc:creator>user</dc:creator>
  <dc:description/>
  <dc:language>en-US</dc:language>
  <cp:lastModifiedBy>User</cp:lastModifiedBy>
  <dcterms:modified xsi:type="dcterms:W3CDTF">2011-09-25T16:45:3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d0000000000010250300207f7000400038000</vt:lpwstr>
  </property>
</Properties>
</file>