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DA9-3248-46B4-9AA4-8B5719C8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6E74-A4C4-48EF-AC93-865842BE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14E-127A-485F-AACC-4AC1F7D2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1B55-F347-4CC0-82CA-D33664AE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0013-D05F-431D-A7D3-36675C10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8BA9-6713-4E40-B99D-FB1CBE1B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81D5-BA39-4C02-81F3-C6EB6578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0086-8EE2-4E03-A1FA-CCAABBE2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5104-3AC4-45BB-B5FD-E8B04263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DAEE-0F77-4284-9A57-F74C9326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D14B-ED2B-4CB9-8D80-AF38C98B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7F0B-59B1-48A3-A444-E1F18422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A513-94E8-4E3B-B99A-54EC5468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595F-6612-416C-A886-57AF01D9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FEB6-40C7-4043-A81A-39E45D44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2C29-3026-4B17-A36E-17041B14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0BCE-E89F-457C-B6CF-6EAD9B5E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226-F9FA-49EC-A09C-63EDDD77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F60-921A-4786-8110-3D91C536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820-4901-46D1-A03E-2A2F0D3B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080-20B0-4211-A7CB-FB325403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DF6-6EC3-4EFF-93C3-76CBBAD5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A38-1770-4CC7-9A04-0A584308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15D-ACDC-4298-BE33-DCC2B3C4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5BE7-C1CE-4CE5-A7D8-55709ED6C96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0403-B8A8-4F07-8CBC-EFF97490E14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28960" y="185688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Гостюхина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ветлана Николаевн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Рисунок 4" descr="DSCN4978.jpg"/>
          <p:cNvPicPr/>
          <p:nvPr/>
        </p:nvPicPr>
        <p:blipFill>
          <a:blip r:embed="rId2"/>
          <a:stretch/>
        </p:blipFill>
        <p:spPr>
          <a:xfrm>
            <a:off x="214200" y="214200"/>
            <a:ext cx="2357640" cy="27860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3143160" y="214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КОУ СОШ с УИОП г. Кирс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ровской област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4286160" y="35719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итель конкурса лучших учителей Кировской области и Российской Федерации ПНП  «Образование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ж педагогической работы  34 г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Рисунок 6" descr="PH01046J.JPG"/>
          <p:cNvPicPr/>
          <p:nvPr/>
        </p:nvPicPr>
        <p:blipFill>
          <a:blip r:embed="rId3"/>
          <a:stretch/>
        </p:blipFill>
        <p:spPr>
          <a:xfrm>
            <a:off x="714240" y="4357800"/>
            <a:ext cx="1428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61128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63480" y="272880"/>
            <a:ext cx="786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Население и хозяйственное осво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Европейского Ю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1787400"/>
            <a:ext cx="9169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кова плотность населения рай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2. Где располагаются очаги его концентр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3. Почему для района характерна высокая дол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ельского населени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4. Докажите, что район отличается от други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этническим разнообраз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5. Основные религии, которые исповедуе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население Европейского Ю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6. Межнациональные проблемы район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их причи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7. Народы гор и предгорий: традиции, культур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промысл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735120" y="220680"/>
            <a:ext cx="76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Хозяйство Европейского Ю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540080" y="1281240"/>
            <a:ext cx="61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Агропромышленный комплекс рай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55640" y="1773360"/>
            <a:ext cx="86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Задание: на основе работы с текстом учебник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§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  <a:ea typeface="Tahoma"/>
              </a:rPr>
              <a:t> 37 стр.160 и картой атласа, заполните таблиц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2852640"/>
          <a:ext cx="8898120" cy="2651400"/>
        </p:xfrm>
        <a:graphic>
          <a:graphicData uri="http://schemas.openxmlformats.org/drawingml/2006/table">
            <a:tbl>
              <a:tblPr/>
              <a:tblGrid>
                <a:gridCol w="2376720"/>
                <a:gridCol w="2211120"/>
                <a:gridCol w="2292480"/>
                <a:gridCol w="20178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тение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ивотно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ищ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45"/>
          <p:cNvSpPr/>
          <p:nvPr/>
        </p:nvSpPr>
        <p:spPr>
          <a:xfrm>
            <a:off x="204480" y="5529240"/>
            <a:ext cx="77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делайте вывод о месте сельского хозяйства 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экономике Европейского Ю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826920" y="1928880"/>
            <a:ext cx="836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Почему в районе необходима интенсификац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ельского хозяйства и перерабатывающи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отраслей АПК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 чем состоит проблема развития морск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рыбного хозяйств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239840" y="40464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азвитие промышлен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479960" y="920880"/>
            <a:ext cx="774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На основе работы с текстом учебника стр. 162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ртами атласа, заполните таблиц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5280" y="2492280"/>
          <a:ext cx="8424720" cy="30704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род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сурсы райо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расли специализ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т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34"/>
          <p:cNvSpPr/>
          <p:nvPr/>
        </p:nvSpPr>
        <p:spPr>
          <a:xfrm>
            <a:off x="376200" y="5602320"/>
            <a:ext cx="84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Сделайте вывод о месте промышленности в  экономике Европейского Ю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345680" y="581040"/>
            <a:ext cx="7160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Машиностро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а) сельскохозяйственно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б) транспортно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в) энергетическо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Цветная металлург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Топливно-энергетический комплек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Какова роль черноморских портов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развитии хозяйства страны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421280" y="652320"/>
            <a:ext cx="66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екреационное хозяйство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55640" y="2060640"/>
            <a:ext cx="9680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Задание: вы сотрудник турагент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кие маршруты путешествий по Северном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вказу вы предложили бы с целью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А) отдыха и леч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Б) горнолыжного спор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) познавательного туризма и знакомст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 памятниками природ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оставьте примерные схемы маршрутов 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их опис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5184720" cy="345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544356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5472360" cy="3648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rcRect l="0" t="0" r="21" b="20"/>
          <a:stretch/>
        </p:blipFill>
        <p:spPr>
          <a:xfrm>
            <a:off x="179280" y="189000"/>
            <a:ext cx="4824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4619520" y="260280"/>
            <a:ext cx="4205520" cy="630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20516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755640" y="1084320"/>
            <a:ext cx="8863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тветьте на вопрос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Какие отрасли являются главными 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хозяйстве район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В чем проявляются сложности в решен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социально-экономических проблем республик Северного Кавказ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Основные экономические, социальные и экологические проблемы реги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6"/>
          <p:cNvSpPr txBox="1"/>
          <p:nvPr/>
        </p:nvSpPr>
        <p:spPr>
          <a:xfrm>
            <a:off x="1071720" y="1785960"/>
            <a:ext cx="69548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вропейский Ю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375920" y="652320"/>
            <a:ext cx="73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цените свою деятельность на урок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900000" y="2205000"/>
            <a:ext cx="77043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Вспомните задачи сегодняшне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                              </a:t>
            </a: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заня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Сегодня на уроке мне было 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Знания, полученные на уроке, мне пригодятся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Сегодня я…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Мне было легко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Мне было сложно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О том, что я узнал (а), я расскажу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1116000" y="1281240"/>
            <a:ext cx="7872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1. Прочитать текст учебника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§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 37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2. Подготовиться к тесту по изученной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тем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08000" y="33336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«Визитная карточка» экономического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rcRect l="0" t="0" r="-25" b="-19"/>
          <a:stretch/>
        </p:blipFill>
        <p:spPr>
          <a:xfrm>
            <a:off x="2214720" y="928800"/>
            <a:ext cx="4475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288800" y="333360"/>
            <a:ext cx="70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остав экономического рай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174320" y="1357200"/>
            <a:ext cx="796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Задание: на основе работы с картой атлас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установите какие субъекты РФ входят 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состав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Информацию сверните в схем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Organization Chart 7"/>
          <p:cNvGrpSpPr/>
          <p:nvPr/>
        </p:nvGrpSpPr>
        <p:grpSpPr>
          <a:xfrm>
            <a:off x="468360" y="3284640"/>
            <a:ext cx="8280000" cy="1872360"/>
            <a:chOff x="468360" y="3284640"/>
            <a:chExt cx="8280000" cy="1872360"/>
          </a:xfrm>
        </p:grpSpPr>
        <p:cxnSp>
          <p:nvCxnSpPr>
            <p:cNvPr id="112" name="_s1028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5869800" y="2770920"/>
              <a:ext cx="375120" cy="2898720"/>
            </a:xfrm>
            <a:prstGeom prst="bentConnector3">
              <a:avLst>
                <a:gd name="adj1" fmla="val 208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2"/>
            </p:cNvCxnSpPr>
            <p:nvPr/>
          </p:nvCxnSpPr>
          <p:spPr>
            <a:xfrm flipV="1">
              <a:off x="4608000" y="4033080"/>
              <a:ext cx="3240" cy="37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2"/>
            </p:cNvCxnSpPr>
            <p:nvPr/>
          </p:nvCxnSpPr>
          <p:spPr>
            <a:xfrm flipH="1" flipV="1" rot="5400000">
              <a:off x="2971800" y="2771280"/>
              <a:ext cx="375120" cy="2898720"/>
            </a:xfrm>
            <a:prstGeom prst="bentConnector3">
              <a:avLst>
                <a:gd name="adj1" fmla="val 208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4" name="_s1031"/>
            <p:cNvSpPr/>
            <p:nvPr/>
          </p:nvSpPr>
          <p:spPr>
            <a:xfrm>
              <a:off x="3366360" y="328464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Европейский ЮГ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>
              <a:off x="468360" y="440820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Области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1033"/>
            <p:cNvSpPr/>
            <p:nvPr/>
          </p:nvSpPr>
          <p:spPr>
            <a:xfrm>
              <a:off x="3366360" y="440820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Края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_s1034"/>
            <p:cNvSpPr/>
            <p:nvPr/>
          </p:nvSpPr>
          <p:spPr>
            <a:xfrm>
              <a:off x="6264360" y="440820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Республики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" name="Text Box 16"/>
          <p:cNvSpPr/>
          <p:nvPr/>
        </p:nvSpPr>
        <p:spPr>
          <a:xfrm>
            <a:off x="471960" y="5533920"/>
            <a:ext cx="80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Сделайте вывод об особенностях состав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экономического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rcRect l="0" t="0" r="-43" b="102"/>
          <a:stretch/>
        </p:blipFill>
        <p:spPr>
          <a:xfrm>
            <a:off x="1258920" y="549360"/>
            <a:ext cx="741672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407240" y="963720"/>
            <a:ext cx="72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акторы формирования рай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92200" y="2421000"/>
            <a:ext cx="837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амый Южный район Рос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 трех сторон ограничен природными рубеж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лияние морей на природу и хозяйствен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особенности рай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4.Наиболее существенное влияние Черного мор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5.Геополитические интересы РФ на Северно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вказ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6.Природный амфитеат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564560" y="260280"/>
            <a:ext cx="54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ирода Европейского Ю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16000" y="1413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Дайте характеристику особенностей природы Европейского Юга для жизни и хозяйственной деятельности челове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398960" y="83664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" name="Organization Chart 8"/>
          <p:cNvGrpSpPr/>
          <p:nvPr/>
        </p:nvGrpSpPr>
        <p:grpSpPr>
          <a:xfrm>
            <a:off x="179280" y="3068640"/>
            <a:ext cx="8785080" cy="1655280"/>
            <a:chOff x="179280" y="3068640"/>
            <a:chExt cx="8785080" cy="1655280"/>
          </a:xfrm>
        </p:grpSpPr>
        <p:cxnSp>
          <p:nvCxnSpPr>
            <p:cNvPr id="127" name="_s2052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6113880" y="2187000"/>
              <a:ext cx="331560" cy="341712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053"/>
            <p:cNvCxnSpPr>
              <a:stCxn id="131" idx="0"/>
              <a:endCxn id="129" idx="2"/>
            </p:cNvCxnSpPr>
            <p:nvPr/>
          </p:nvCxnSpPr>
          <p:spPr>
            <a:xfrm flipV="1" rot="16200000">
              <a:off x="4975200" y="3325680"/>
              <a:ext cx="331560" cy="113976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4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3837600" y="3327120"/>
              <a:ext cx="331560" cy="113724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55"/>
            <p:cNvCxnSpPr>
              <a:stCxn id="135" idx="0"/>
              <a:endCxn id="129" idx="2"/>
            </p:cNvCxnSpPr>
            <p:nvPr/>
          </p:nvCxnSpPr>
          <p:spPr>
            <a:xfrm flipH="1" flipV="1" rot="5400000">
              <a:off x="2697480" y="2187360"/>
              <a:ext cx="331560" cy="341676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2056"/>
            <p:cNvSpPr/>
            <p:nvPr/>
          </p:nvSpPr>
          <p:spPr>
            <a:xfrm>
              <a:off x="3595320" y="306864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Природ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_s2057"/>
            <p:cNvSpPr/>
            <p:nvPr/>
          </p:nvSpPr>
          <p:spPr>
            <a:xfrm>
              <a:off x="179280" y="406188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Рельеф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_s2058"/>
            <p:cNvSpPr/>
            <p:nvPr/>
          </p:nvSpPr>
          <p:spPr>
            <a:xfrm>
              <a:off x="2456640" y="406188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Климат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_s2059"/>
            <p:cNvSpPr/>
            <p:nvPr/>
          </p:nvSpPr>
          <p:spPr>
            <a:xfrm>
              <a:off x="4734360" y="406188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Реки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_s2060"/>
            <p:cNvSpPr/>
            <p:nvPr/>
          </p:nvSpPr>
          <p:spPr>
            <a:xfrm>
              <a:off x="7012080" y="4061880"/>
              <a:ext cx="1952280" cy="6598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Высотная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поясность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" name="Text Box 23"/>
          <p:cNvSpPr/>
          <p:nvPr/>
        </p:nvSpPr>
        <p:spPr>
          <a:xfrm>
            <a:off x="179280" y="5025960"/>
            <a:ext cx="947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Каковы различия по рельефу, климату, гидрографии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ландшафтам и набору природных ресурсов равнинно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предгорной и горной частей район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rcRect l="0" t="0" r="32" b="32"/>
          <a:stretch/>
        </p:blipFill>
        <p:spPr>
          <a:xfrm>
            <a:off x="755640" y="333360"/>
            <a:ext cx="7777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rcRect l="0" t="0" r="38" b="63"/>
          <a:stretch/>
        </p:blipFill>
        <p:spPr>
          <a:xfrm>
            <a:off x="250920" y="981000"/>
            <a:ext cx="8569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9:20:00Z</dcterms:created>
  <dc:creator>user</dc:creator>
  <dc:description/>
  <dc:language>en-US</dc:language>
  <cp:lastModifiedBy>User</cp:lastModifiedBy>
  <dcterms:modified xsi:type="dcterms:W3CDTF">2011-09-25T16:45:34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c0d0000000000010250300207f7000400038000</vt:lpwstr>
  </property>
</Properties>
</file>