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72E6-DDB7-4E97-B368-31782726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3DB5-3A74-49EA-973C-AF26F547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0148-9715-4535-8446-8327EC67E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54F0-59C6-48CF-B8A8-9D11C7E0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35C3-0358-46FF-9CC4-32885003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9AC-E5C5-4B0A-A7D1-23C7EE7A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C185-DCA2-4825-AE19-A8779D55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AFC0-7AE1-47D9-8C76-47C49FB3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1F02-5AF6-4D16-B0DD-B4F4A37F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12BA-2F2C-4817-A0FC-1FB04128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F1C-AA29-4DF0-B6C6-ADBD3C24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ADA1-6D23-4074-98C0-EC2EBA48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7A64-24EB-4E64-B5FE-E3E86D51A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0.liveinternet.ru/images/attach/b/3/27/445/27445613_voyna_mirov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rtdosug.ru/wp-content/uploads/2008/10/122-1g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urysoul.narod.ru/gloomy_day1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rtdosug.ru/wp-content/uploads/2008/11/rose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lad-art.ru/img_pictures/med_42390165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044.radikal.ru/0710/fa/d6c3a1d8b09f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hydojnik.cn/Vasnetsov/vasnetsov65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van.evart.ru/upload/big/sea_1864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zvi.home.ge/pictures/hubble_gallery/V838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2724c"/>
              </a:gs>
              <a:gs pos="50000">
                <a:srgbClr val="f8f8a6"/>
              </a:gs>
              <a:gs pos="100000">
                <a:srgbClr val="72724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333399"/>
                </a:solidFill>
                <a:latin typeface="Arial"/>
              </a:rPr>
              <a:t>ЭМОЦИОНАЛЬНО-ОБРАЗНОЕ</a:t>
            </a:r>
            <a:r>
              <a:rPr b="0" lang="en-US" sz="7800" spc="-1" strike="noStrike">
                <a:solidFill>
                  <a:srgbClr val="333399"/>
                </a:solidFill>
                <a:latin typeface="Arial"/>
              </a:rPr>
              <a:t> СОДЕРЖАНИЕ МУЗЫКИ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d4043"/>
              </a:gs>
              <a:gs pos="50000">
                <a:srgbClr val="3f8b93"/>
              </a:gs>
              <a:gs pos="100000">
                <a:srgbClr val="1d404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i="1" lang="en-US" sz="6000" spc="-1" strike="noStrike">
                <a:solidFill>
                  <a:srgbClr val="333300"/>
                </a:solidFill>
                <a:latin typeface="Arial"/>
              </a:rPr>
              <a:t>СТРАШНАЯ</a:t>
            </a:r>
            <a:br>
              <a:rPr sz="6000"/>
            </a:br>
            <a:br>
              <a:rPr sz="6000"/>
            </a:b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ЗЛАЯ, ГРУБАЯ, ТЯЖЁЛАЯ, СЕРДИТАЯ, НЕДОВОЛЬНАЯ, ТЁМ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85 из 229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2627280" cy="175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97570"/>
              </a:gs>
              <a:gs pos="50000">
                <a:srgbClr val="a0fef5"/>
              </a:gs>
              <a:gs pos="100000">
                <a:srgbClr val="49757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ff"/>
                </a:solidFill>
                <a:latin typeface="Arial"/>
              </a:rPr>
              <a:t>ВЕСЁЛАЯ</a:t>
            </a: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en-US" sz="3900" spc="-1" strike="noStrike">
                <a:solidFill>
                  <a:srgbClr val="ff3399"/>
                </a:solidFill>
                <a:latin typeface="Arial"/>
              </a:rPr>
              <a:t>РАДОСТНАЯ, ИГРИВАЯ,ЗАДОРНАЯ,</a:t>
            </a:r>
            <a:br>
              <a:rPr sz="3900"/>
            </a:br>
            <a:r>
              <a:rPr b="0" lang="en-US" sz="3900" spc="-1" strike="noStrike">
                <a:solidFill>
                  <a:srgbClr val="ff3399"/>
                </a:solidFill>
                <a:latin typeface="Arial"/>
              </a:rPr>
              <a:t>ЗВОНКАЯ, ОЗОРНАЯ, ШУТЛИВАЯ, БОЙКАЯ, СМЕШНАЯ, ЗАБАВНАЯ, РЕЗВАЯ, ПРЫГУЧАЯ, СКАЧУЩАЯ, СОЛНЕЧНАЯ, СВЕРКАЮЩАЯ, ТАНЦЕВАЛЬНАЯ, ПЛЯСОВАЯ, УЛЫБАЮЩАЯСЯ 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18 из 217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65668"/>
              </a:gs>
              <a:gs pos="50000">
                <a:srgbClr val="bbbbe3"/>
              </a:gs>
              <a:gs pos="100000">
                <a:srgbClr val="565668"/>
              </a:gs>
            </a:gsLst>
            <a:lin ang="8100000"/>
          </a:gradFill>
          <a:ln w="936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i="1" lang="en-US" sz="6000" spc="-1" strike="noStrike">
                <a:solidFill>
                  <a:srgbClr val="660066"/>
                </a:solidFill>
                <a:latin typeface="Arial"/>
              </a:rPr>
              <a:t>ГРУСТНАЯ</a:t>
            </a:r>
            <a:br>
              <a:rPr sz="6000"/>
            </a:br>
            <a:br>
              <a:rPr sz="6000"/>
            </a:b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ПЕЧАЛЬНАЯ, ЖАЛОБНАЯ, ТОСКЛИВАЯ, СКОРБНАЯ, ХМУРАЯ, ОБИЖЕННАЯ, ПЛАЧУЩАЯ, ПРОСЯЩ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артинка 114 из 9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282760" cy="192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534"/>
              </a:gs>
              <a:gs pos="50000">
                <a:srgbClr val="fbfe72"/>
              </a:gs>
              <a:gs pos="100000">
                <a:srgbClr val="737534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ccff"/>
                </a:solidFill>
                <a:latin typeface="Arial"/>
              </a:rPr>
              <a:t>НЕЖНАЯ</a:t>
            </a:r>
            <a:br>
              <a:rPr sz="6000"/>
            </a:br>
            <a:br>
              <a:rPr sz="6000"/>
            </a:br>
            <a:r>
              <a:rPr b="0" lang="en-US" sz="4000" spc="-1" strike="noStrike">
                <a:solidFill>
                  <a:srgbClr val="33ccff"/>
                </a:solidFill>
                <a:latin typeface="Arial"/>
              </a:rPr>
              <a:t>ЛАСКОВАЯ, ЗАДУМЧИВАЯ, МЕЧТАТЕЛЬНАЯ, ЛЁГКАЯ, СВЕТЛАЯ, ПРОЗРАЧ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Картинка 1 из 99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2019240" cy="25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1f2fd"/>
              </a:gs>
              <a:gs pos="100000">
                <a:srgbClr val="4a6f74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ff"/>
                </a:solidFill>
                <a:latin typeface="Arial"/>
              </a:rPr>
              <a:t>      </a:t>
            </a:r>
            <a:r>
              <a:rPr b="1" i="1" lang="en-US" sz="6000" spc="-1" strike="noStrike">
                <a:solidFill>
                  <a:srgbClr val="ff66ff"/>
                </a:solidFill>
                <a:latin typeface="Arial"/>
              </a:rPr>
              <a:t>СПОКОЙНАЯ</a:t>
            </a:r>
            <a:br>
              <a:rPr sz="6000"/>
            </a:br>
            <a:br>
              <a:rPr sz="6000"/>
            </a:b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ДОБРАЯ, ПРИВЕТЛИВАЯ, НЕТОРОПЛИВАЯ, УБАЮКИВАЮЩАЯ, КОЛЫБЕЛЬНАЯ, МЯГКАЯ, ПЛАВНАЯ, ГЛАДКАЯ, НАПЕВНАЯ, ПРОТЯЖНАЯ, ХОРОВОД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10 из 9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195640" cy="215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24c6d"/>
              </a:gs>
              <a:gs pos="50000">
                <a:srgbClr val="f8a6ee"/>
              </a:gs>
              <a:gs pos="100000">
                <a:srgbClr val="724c6d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i="1" lang="en-US" sz="6000" spc="-1" strike="noStrike">
                <a:solidFill>
                  <a:srgbClr val="cc0000"/>
                </a:solidFill>
                <a:latin typeface="Arial"/>
              </a:rPr>
              <a:t>ТОРЖЕСТВЕННАЯ</a:t>
            </a:r>
            <a:br>
              <a:rPr sz="6000"/>
            </a:br>
            <a:br>
              <a:rPr sz="6000"/>
            </a:b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ПРАЗДНИЧНАЯ, БОДРАЯ, ВАЖНАЯ, МАРШЕВАЯ, ЧЁТКАЯ, ОТЧЁТЛИВАЯ, ГОРДАЯ, МОГУЧАЯ, ПОБЕД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Картинка 13 из 82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89000"/>
            <a:ext cx="2484720" cy="186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1554c"/>
              </a:gs>
              <a:gs pos="50000">
                <a:srgbClr val="f7baa7"/>
              </a:gs>
              <a:gs pos="100000">
                <a:srgbClr val="71554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i="1" lang="en-US" sz="6000" spc="-1" strike="noStrike">
                <a:solidFill>
                  <a:srgbClr val="a50021"/>
                </a:solidFill>
                <a:latin typeface="Arial"/>
              </a:rPr>
              <a:t>МУЖЕСТВЕННАЯ</a:t>
            </a:r>
            <a:br>
              <a:rPr sz="6000"/>
            </a:b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БЕССТРАШНАЯ, БОЕВАЯ, СМЕЛАЯ, ОТВАЖНАЯ, РЕШИТЕЛЬНАЯ, СИЛЬНАЯ, БОГАТЫРСКАЯ, ГРОЗНАЯ, СОЛДАТСКАЯ, СУРОВАЯ, СТРОГАЯ, УВЕРЕННАЯ, ХРАБРАЯ, ТВЁРД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Картинка 21 из 15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2484360" cy="161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0605e"/>
              </a:gs>
              <a:gs pos="50000">
                <a:srgbClr val="d2d2cc"/>
              </a:gs>
              <a:gs pos="100000">
                <a:srgbClr val="60605e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i="1" lang="en-US" sz="6000" spc="-1" strike="noStrike">
                <a:solidFill>
                  <a:srgbClr val="993300"/>
                </a:solidFill>
                <a:latin typeface="Arial"/>
              </a:rPr>
              <a:t>ВЗВОЛНОВАННАЯ</a:t>
            </a:r>
            <a:br>
              <a:rPr sz="6000"/>
            </a:b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ВСТРЕВОЖЕННАЯ, СТРЕМИТЕЛЬНАЯ, ВЬЮЖНАЯ, МЕТЕЛЬНАЯ, НЕНАСТНАЯ, ТРЕВОЖНАЯ, БЕСПОКОЙНАЯ, ТОРОПЛИ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Картинка 41 из 82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2520720" cy="1778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e5269"/>
              </a:gs>
              <a:gs pos="50000">
                <a:srgbClr val="efb3e4"/>
              </a:gs>
              <a:gs pos="100000">
                <a:srgbClr val="6e5269"/>
              </a:gs>
            </a:gsLst>
            <a:lin ang="8100000"/>
          </a:gradFill>
          <a:ln w="936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i="1" lang="en-US" sz="6000" spc="-1" strike="noStrike">
                <a:solidFill>
                  <a:srgbClr val="9900cc"/>
                </a:solidFill>
                <a:latin typeface="Arial"/>
              </a:rPr>
              <a:t>ТАИНСТВЕННАЯ</a:t>
            </a:r>
            <a:br>
              <a:rPr sz="6000"/>
            </a:b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СКАЗОЧНАЯ, ВОЛШЕБНАЯ, КОЛЮЧАЯ, ПУГЛИВАЯ, ОПАСЛИВАЯ, ОСТОРОЖНАЯ, НАСТОРОЖЕННАЯ, ЗАГАДОЧНАЯ, ОТРЫВИСТАЯ, ОСТРАЯ, ПОДКРАДЫВАЮЩАЯ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Картинка 6 из 88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0"/>
            <a:ext cx="194436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7:06:21Z</dcterms:created>
  <dc:creator>Дом</dc:creator>
  <dc:description/>
  <dc:language>en-US</dc:language>
  <cp:lastModifiedBy>Cabinet29</cp:lastModifiedBy>
  <dcterms:modified xsi:type="dcterms:W3CDTF">2009-02-03T10:22:49Z</dcterms:modified>
  <cp:revision>9</cp:revision>
  <dc:subject/>
  <dc:title>ЭМОЦИОНАЛЬНО-ОБРАЗНОЕ СОДЕРЖАНИЕ МУЗЫКИ</dc:title>
</cp:coreProperties>
</file>