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2EB-A1A3-4F9E-A028-E3B3FD0B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01B-F264-48CB-86A4-896C3E2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357-03D1-4C82-A72B-BD29C35D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C18-8537-4F99-B7F5-0476862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BC3-5DEE-435F-B8A9-88BA659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6E9-0141-48DF-958D-83044FEA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5D5-C365-4A4B-A59E-0751C2B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789-7338-4CEC-816E-7D7E529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C35-BC77-4A13-B8AE-D4542852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341-62E6-4F5A-86D4-E8420A2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424-773A-49F0-8E69-79EAD115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08A-A09D-4882-A515-CC47E2F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A51-BA49-4A98-ACEE-E36D311E6F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83664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сня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58920" y="2924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утренняя зар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640" y="404640"/>
            <a:ext cx="8481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все, что должн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ыло у нас бы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907920"/>
            <a:ext cx="604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дожд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835280" y="907920"/>
            <a:ext cx="590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Есть ли у нас еще врем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11280" y="981000"/>
            <a:ext cx="7921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 же все то, что было общи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465300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хоть раз остановилс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взгляну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эту плачущую Землю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63640" y="47628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ыдающие бере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0:16:39Z</dcterms:created>
  <dc:creator>пользователь</dc:creator>
  <dc:description/>
  <dc:language>en-US</dc:language>
  <cp:lastModifiedBy>пользователь</cp:lastModifiedBy>
  <dcterms:modified xsi:type="dcterms:W3CDTF">2014-01-03T12:33:33Z</dcterms:modified>
  <cp:revision>17</cp:revision>
  <dc:subject/>
  <dc:title>Слайд 1</dc:title>
</cp:coreProperties>
</file>