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FB7-B518-4C64-AF25-3C5BBE39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9D5-F6FE-4A63-8029-71FD5855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D1C-2114-4AEF-A7AD-601E412E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0B8-5F16-42A8-883D-D757A4CB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617-7895-478F-8908-49E9A3C1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4C4-D7CA-4889-A049-5043A690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EA7-7352-4220-9E73-1F34FA91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F97-48D8-4865-92D8-C33EA6E4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F9B-AA43-437E-9DD8-0C60CC36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AF8-9514-44D5-8853-5129FAB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6F5-E78E-43FC-A70C-E94A267B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E1F-8C29-458B-80A5-25E04AC6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04B8-1CDA-4A71-BB7E-ABB6A905B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836640"/>
            <a:ext cx="61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сня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58920" y="2924280"/>
            <a:ext cx="676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утренняя зар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9640" y="404640"/>
            <a:ext cx="84819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все, что должн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ыло у нас быт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907920"/>
            <a:ext cx="604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дожд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835280" y="907920"/>
            <a:ext cx="590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Есть ли у нас еще врем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11280" y="981000"/>
            <a:ext cx="79214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ак же все то, что было общи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4653000"/>
            <a:ext cx="7561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ы хоть раз остановился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ы взгляну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эту плачущую Землю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763640" y="476280"/>
            <a:ext cx="532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рыдающие бере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10:16:39Z</dcterms:created>
  <dc:creator>пользователь</dc:creator>
  <dc:description/>
  <dc:language>en-US</dc:language>
  <cp:lastModifiedBy>пользователь</cp:lastModifiedBy>
  <dcterms:modified xsi:type="dcterms:W3CDTF">2014-01-03T12:33:33Z</dcterms:modified>
  <cp:revision>17</cp:revision>
  <dc:subject/>
  <dc:title>Слайд 1</dc:title>
</cp:coreProperties>
</file>