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636-DD98-431A-A6C7-6F835600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EBE-2FBD-4BF3-8100-C7665D16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6D5-749D-4B5C-A139-2A379A71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63D-B2E8-443D-8D82-ADF9DA3F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519-8287-4976-A574-A1205F8D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CFA-B59E-4EC1-89A9-0231AD1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947-7FDB-4B9A-8055-931E38FA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C3C-E9D9-4737-A3C6-C61AF239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B7F-1354-4A8D-AFB2-A6C8EE72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A97-F7A0-4A1F-96BC-D7B8F6AE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B46-6787-4B92-8F5F-F659ED6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E79-AE72-44A7-AC89-273CD77B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B0BD-E3F8-4F05-86A6-6FC8F4D08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11280" y="836640"/>
            <a:ext cx="61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сня Зем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58920" y="2924280"/>
            <a:ext cx="676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утренняя зар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9640" y="404640"/>
            <a:ext cx="84819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все, что должн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ыло у нас бы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692360" y="907920"/>
            <a:ext cx="6048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же дожд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835280" y="907920"/>
            <a:ext cx="5905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Есть ли у нас еще врем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11280" y="981000"/>
            <a:ext cx="79214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ак же все то, что было общим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4653000"/>
            <a:ext cx="756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ы хоть раз остановился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ы взгляну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эту плачущую Землю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763640" y="476280"/>
            <a:ext cx="532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рыдающие бере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10:16:39Z</dcterms:created>
  <dc:creator>пользователь</dc:creator>
  <dc:description/>
  <dc:language>en-US</dc:language>
  <cp:lastModifiedBy>пользователь</cp:lastModifiedBy>
  <dcterms:modified xsi:type="dcterms:W3CDTF">2014-01-03T12:33:33Z</dcterms:modified>
  <cp:revision>17</cp:revision>
  <dc:subject/>
  <dc:title>Слайд 1</dc:title>
</cp:coreProperties>
</file>