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24.jpeg" ContentType="image/jpeg"/>
  <Override PartName="/ppt/media/image23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33.png" ContentType="image/png"/>
  <Override PartName="/ppt/media/image34.jpeg" ContentType="image/jpeg"/>
  <Override PartName="/ppt/media/image28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37.jpeg" ContentType="image/jpeg"/>
  <Override PartName="/ppt/media/image12.jpeg" ContentType="image/jpeg"/>
  <Override PartName="/ppt/media/image43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8.jpeg" ContentType="image/jpeg"/>
  <Override PartName="/ppt/media/image39.jpeg" ContentType="image/jpeg"/>
  <Override PartName="/ppt/media/image46.jpeg" ContentType="image/jpeg"/>
  <Override PartName="/ppt/media/image30.jpeg" ContentType="image/jpeg"/>
  <Override PartName="/ppt/media/image47.jpeg" ContentType="image/jpeg"/>
  <Override PartName="/ppt/media/image31.jpeg" ContentType="image/jpeg"/>
  <Override PartName="/ppt/media/image4.jpeg" ContentType="image/jpeg"/>
  <Override PartName="/ppt/media/image48.jpeg" ContentType="image/jpeg"/>
  <Override PartName="/ppt/media/image40.jpeg" ContentType="image/jpeg"/>
  <Override PartName="/ppt/media/image13.jpeg" ContentType="image/jpeg"/>
  <Override PartName="/ppt/media/image6.png" ContentType="image/png"/>
  <Override PartName="/ppt/media/image5.jpeg" ContentType="image/jpeg"/>
  <Override PartName="/ppt/media/image26.jpeg" ContentType="image/jpeg"/>
  <Override PartName="/ppt/media/image25.jpeg" ContentType="image/jpeg"/>
  <Override PartName="/ppt/media/image2.png" ContentType="image/png"/>
  <Override PartName="/ppt/media/image3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9C22E-696E-4F05-9C4A-76BAF1CCB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4D3C4-5894-4A09-B1B5-510B0F12D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8DCEE-3BC1-45B6-87FD-C2311A328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979CB-7426-49F6-B04C-5B2FDD594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4A622-68EA-4E91-AC78-3813256CD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EB713-8C25-4D58-B19A-A09ED8E97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E9BC0-D893-4F78-B777-89CC540B6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2F785-62A7-4904-ABBC-CEEE66458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A7CDA-0E1C-4406-A39D-EC2C45192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7F855-A28E-4BB3-9780-214E98A8E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8D783-18FF-419F-BFBE-490643AEE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420DB-A433-48E1-B402-FA6FC7CC8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281C5-A65D-4B16-A500-45B4727D2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5E2FF-015A-45C9-87EF-26412113F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077C7-DC0E-4522-ACCD-A527FC727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4A387-46F4-410F-BB11-0A2E70CB4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DEB46-5CB2-4C11-AD8F-B1AD97BC7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21626-C051-4310-B540-5B261210A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926AB-23EA-4E10-8E55-CD30E9406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DEC5F-39F0-45E7-9B2E-C924EC5E8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86E16-7E5B-4495-9318-DA628A570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2C5CE-E016-409A-9C1F-BD9AF02A4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9B373-ED15-4944-83F1-64C9F060C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7EA2F-8C38-4DAD-8F6B-0FCF04853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B379C-925F-403E-98EC-73CB9036424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1CB81-0B8E-4781-819A-C49424FE757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3.png"/><Relationship Id="rId3" Type="http://schemas.openxmlformats.org/officeDocument/2006/relationships/image" Target="../media/image33.png"/><Relationship Id="rId4" Type="http://schemas.openxmlformats.org/officeDocument/2006/relationships/image" Target="../media/image34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3.png"/><Relationship Id="rId3" Type="http://schemas.openxmlformats.org/officeDocument/2006/relationships/image" Target="../media/image43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50920" y="475920"/>
            <a:ext cx="8424720" cy="85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eorgia"/>
              </a:rPr>
              <a:t>Место духовной музыки в мировой художественной культур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15640" y="4508280"/>
            <a:ext cx="720108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af1f0"/>
                </a:solidFill>
                <a:latin typeface="Arial"/>
              </a:rPr>
              <a:t>Творческая презентац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af1f0"/>
                </a:solidFill>
                <a:latin typeface="Arial"/>
              </a:rPr>
              <a:t>Балыбердиной Ирины Викторовн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af1f0"/>
                </a:solidFill>
                <a:latin typeface="Arial"/>
              </a:rPr>
              <a:t>Учителя музыки МОАУ «Вятская православная гимнази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af1f0"/>
                </a:solidFill>
                <a:latin typeface="Arial"/>
              </a:rPr>
              <a:t>во имя преподобного Трифона Вятского» г.Киров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Picture 28" descr="Ангел трубящий"/>
          <p:cNvPicPr/>
          <p:nvPr/>
        </p:nvPicPr>
        <p:blipFill>
          <a:blip r:embed="rId1"/>
          <a:stretch/>
        </p:blipFill>
        <p:spPr>
          <a:xfrm>
            <a:off x="3059280" y="1700280"/>
            <a:ext cx="2952720" cy="259056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Почему это важно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0" y="1699920"/>
            <a:ext cx="54100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Во-первых, важно, чтобы духовная музыка не осталась для учеников только интересным дополнительным, а значит - необязательным материалом по МХК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но помогла понять более общие и важные закономерности развития всей мировой художественной культуры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6" name="Picture 14" descr="Девочка"/>
          <p:cNvPicPr/>
          <p:nvPr/>
        </p:nvPicPr>
        <p:blipFill>
          <a:blip r:embed="rId1"/>
          <a:stretch/>
        </p:blipFill>
        <p:spPr>
          <a:xfrm>
            <a:off x="5580000" y="2276640"/>
            <a:ext cx="309564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А также потому, чт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68360" y="1699920"/>
            <a:ext cx="40384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Любая музыка –           и классическая,       и народная,               и эстрадная –  оказывает сильное влияние на воспитание детей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а воспитательное влияние духовной музыки особенно велико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Picture 7" descr="4 слайд_Молитва"/>
          <p:cNvPicPr/>
          <p:nvPr/>
        </p:nvPicPr>
        <p:blipFill>
          <a:blip r:embed="rId1"/>
          <a:stretch/>
        </p:blipFill>
        <p:spPr>
          <a:xfrm>
            <a:off x="5148360" y="1700280"/>
            <a:ext cx="350028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Вывод 1: В школе нет несерьезных предметов, потому что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788000" y="1844280"/>
            <a:ext cx="3898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последующее развитие знаний и навыков, которые ученик получает в школе, неразрывно связано с тем, научили ли семья и школа его выстраивать отношения с другими людьми, чему учат, как правило, музыка и другие предметы, которые почему-то называют «несерьезными»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2" name="Picture 10" descr="Общение"/>
          <p:cNvPicPr/>
          <p:nvPr/>
        </p:nvPicPr>
        <p:blipFill>
          <a:blip r:embed="rId1"/>
          <a:stretch/>
        </p:blipFill>
        <p:spPr>
          <a:xfrm>
            <a:off x="468360" y="2492280"/>
            <a:ext cx="4248000" cy="286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Музыка учит слушать и слышать людей </a:t>
            </a:r>
            <a:br>
              <a:rPr sz="2800"/>
            </a:b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и окружающий мир во всем их  интонационном многообрази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4" name="Picture 16" descr="дирижер"/>
          <p:cNvPicPr/>
          <p:nvPr/>
        </p:nvPicPr>
        <p:blipFill>
          <a:blip r:embed="rId1"/>
          <a:stretch/>
        </p:blipFill>
        <p:spPr>
          <a:xfrm>
            <a:off x="826920" y="1773360"/>
            <a:ext cx="4017960" cy="269064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17" descr="Скрипач"/>
          <p:cNvPicPr/>
          <p:nvPr/>
        </p:nvPicPr>
        <p:blipFill>
          <a:blip r:embed="rId2"/>
          <a:stretch/>
        </p:blipFill>
        <p:spPr>
          <a:xfrm>
            <a:off x="5292720" y="1773360"/>
            <a:ext cx="2763720" cy="218916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18" descr="Слушание музыки"/>
          <p:cNvPicPr/>
          <p:nvPr/>
        </p:nvPicPr>
        <p:blipFill>
          <a:blip r:embed="rId3"/>
          <a:stretch/>
        </p:blipFill>
        <p:spPr>
          <a:xfrm>
            <a:off x="4427640" y="4149720"/>
            <a:ext cx="3673440" cy="244800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9" descr="Слушание"/>
          <p:cNvPicPr/>
          <p:nvPr/>
        </p:nvPicPr>
        <p:blipFill>
          <a:blip r:embed="rId4"/>
          <a:stretch/>
        </p:blipFill>
        <p:spPr>
          <a:xfrm>
            <a:off x="900000" y="4653000"/>
            <a:ext cx="2880000" cy="190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Вывод 2: Абсолютно светской культуры не существует, так ка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355640" y="1915920"/>
            <a:ext cx="45370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ffffff"/>
                </a:solidFill>
                <a:latin typeface="Arial"/>
              </a:rPr>
              <a:t>нет «абсолютно верующих» или «абсолютно неверующих» людей,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ffffff"/>
                </a:solidFill>
                <a:latin typeface="Arial"/>
              </a:rPr>
              <a:t>с начала существования человеческого общества религия присутствует в мире и оказывает влияние на людей, их жизнь и культуру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0" name="Picture 8" descr="Девочка у иконы"/>
          <p:cNvPicPr/>
          <p:nvPr/>
        </p:nvPicPr>
        <p:blipFill>
          <a:blip r:embed="rId1"/>
          <a:stretch/>
        </p:blipFill>
        <p:spPr>
          <a:xfrm>
            <a:off x="324000" y="2492280"/>
            <a:ext cx="3744720" cy="24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«Религия» означает «связь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635280" y="1412640"/>
            <a:ext cx="50515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Само слово «религия» означает «связь», то есть то, что связывает между собой на идейном уровне различные стороны жизни обществ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Нельзя «быть верующим только в храме». Протопресвитер Александр Шмеман писал, что сказать человеку «крестись, но живи, как прежде» - это все равно, что закрыть художника в комнате полной холстов, кистей и красок и выключить свет. Вера, должна прорасти в делах и творчестве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Picture 8" descr="Шмеман"/>
          <p:cNvPicPr/>
          <p:nvPr/>
        </p:nvPicPr>
        <p:blipFill>
          <a:blip r:embed="rId1"/>
          <a:stretch/>
        </p:blipFill>
        <p:spPr>
          <a:xfrm>
            <a:off x="468360" y="1484280"/>
            <a:ext cx="300996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Как определить место культуры </a:t>
            </a:r>
            <a:br>
              <a:rPr sz="3200"/>
            </a:b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Церкви в мировой культуре?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059280" y="1915920"/>
            <a:ext cx="5627520" cy="421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Справедливо ли считать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церковные песнопения только дополнением к коллекции обычной музыки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Евангелие – только дополнением к коллекции романов и детективов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а посещение Церкви в воскресный день – только дополнением к обычной рабочей неделе, своего рода «клубом выходного дня»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6" name="Picture 6" descr="Вопрос"/>
          <p:cNvPicPr/>
          <p:nvPr/>
        </p:nvPicPr>
        <p:blipFill>
          <a:blip r:embed="rId4"/>
          <a:stretch/>
        </p:blipFill>
        <p:spPr>
          <a:xfrm>
            <a:off x="684360" y="2060640"/>
            <a:ext cx="2097000" cy="25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Куда Вы поставите </a:t>
            </a:r>
            <a:br>
              <a:rPr sz="3200"/>
            </a:b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церковные книги, диски или иконы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8" name="Picture 13" descr="Книги на полке"/>
          <p:cNvPicPr/>
          <p:nvPr/>
        </p:nvPicPr>
        <p:blipFill>
          <a:blip r:embed="rId1"/>
          <a:stretch/>
        </p:blipFill>
        <p:spPr>
          <a:xfrm>
            <a:off x="395280" y="1628640"/>
            <a:ext cx="3672000" cy="275616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4" descr="Пластинки"/>
          <p:cNvPicPr/>
          <p:nvPr/>
        </p:nvPicPr>
        <p:blipFill>
          <a:blip r:embed="rId2"/>
          <a:stretch/>
        </p:blipFill>
        <p:spPr>
          <a:xfrm>
            <a:off x="2268360" y="3933720"/>
            <a:ext cx="2592720" cy="259236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16" descr="Картины на стене"/>
          <p:cNvPicPr/>
          <p:nvPr/>
        </p:nvPicPr>
        <p:blipFill>
          <a:blip r:embed="rId3"/>
          <a:stretch/>
        </p:blipFill>
        <p:spPr>
          <a:xfrm>
            <a:off x="5076720" y="1700280"/>
            <a:ext cx="3746520" cy="48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На самом деле все не так сложн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68360" y="508464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Если бы на стенах Вашей комнаты уже были  картины и фотографии родных и близких, то куда Вы повесили бы икону Христа Спасителя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3" name="Picture 7" descr="Христос-Вседержитель"/>
          <p:cNvPicPr/>
          <p:nvPr/>
        </p:nvPicPr>
        <p:blipFill>
          <a:blip r:embed="rId2"/>
          <a:stretch/>
        </p:blipFill>
        <p:spPr>
          <a:xfrm>
            <a:off x="2987640" y="1413000"/>
            <a:ext cx="3441600" cy="3456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Конечно, в «красный угол», </a:t>
            </a:r>
            <a:br>
              <a:rPr sz="2800"/>
            </a:b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то есть самое красивое и видное </a:t>
            </a:r>
            <a:br>
              <a:rPr sz="2800"/>
            </a:b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место в дом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5" name="Picture 9" descr="Красный угол - 1"/>
          <p:cNvPicPr/>
          <p:nvPr/>
        </p:nvPicPr>
        <p:blipFill>
          <a:blip r:embed="rId1"/>
          <a:stretch/>
        </p:blipFill>
        <p:spPr>
          <a:xfrm>
            <a:off x="900000" y="1773360"/>
            <a:ext cx="3330720" cy="482436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11" descr="Красный угол - 4"/>
          <p:cNvPicPr/>
          <p:nvPr/>
        </p:nvPicPr>
        <p:blipFill>
          <a:blip r:embed="rId2"/>
          <a:stretch/>
        </p:blipFill>
        <p:spPr>
          <a:xfrm>
            <a:off x="4716360" y="1773360"/>
            <a:ext cx="3640320" cy="48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Давайте познакомимся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642920" y="1483920"/>
            <a:ext cx="40388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af1f0"/>
                </a:solidFill>
                <a:latin typeface="Arial"/>
              </a:rPr>
              <a:t>Балыбердин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af1f0"/>
                </a:solidFill>
                <a:latin typeface="Arial"/>
              </a:rPr>
              <a:t>Ирина Викторов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af1f0"/>
                </a:solidFill>
                <a:latin typeface="Arial"/>
              </a:rPr>
              <a:t>Учитель музык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af1f0"/>
                </a:solidFill>
                <a:latin typeface="Arial"/>
              </a:rPr>
              <a:t>	</a:t>
            </a:r>
            <a:r>
              <a:rPr b="0" i="1" lang="ru-RU" sz="1400" spc="-1" strike="noStrike">
                <a:solidFill>
                  <a:srgbClr val="faf1f0"/>
                </a:solidFill>
                <a:latin typeface="Arial"/>
              </a:rPr>
              <a:t>МОУ «Вятская православная гимназия во имя преподобного Трифона Вятского»  г.Кирова (Вятки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af1f0"/>
                </a:solidFill>
                <a:latin typeface="Arial"/>
              </a:rPr>
              <a:t>Педагогический стаж</a:t>
            </a:r>
            <a:r>
              <a:rPr b="0" i="1" lang="ru-RU" sz="1400" spc="-1" strike="noStrike">
                <a:solidFill>
                  <a:srgbClr val="faf1f0"/>
                </a:solidFill>
                <a:latin typeface="Arial"/>
              </a:rPr>
              <a:t> – 21 год,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af1f0"/>
                </a:solidFill>
                <a:latin typeface="Arial"/>
              </a:rPr>
              <a:t>	</a:t>
            </a:r>
            <a:r>
              <a:rPr b="0" i="1" lang="ru-RU" sz="1400" spc="-1" strike="noStrike">
                <a:solidFill>
                  <a:srgbClr val="faf1f0"/>
                </a:solidFill>
                <a:latin typeface="Arial"/>
              </a:rPr>
              <a:t>в том числе в Вятской православной гимназии – 10 лет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af1f0"/>
                </a:solidFill>
                <a:latin typeface="Arial"/>
              </a:rPr>
              <a:t>Образование – высшее.</a:t>
            </a:r>
            <a:r>
              <a:rPr b="0" i="1" lang="ru-RU" sz="1800" spc="-1" strike="noStrike">
                <a:solidFill>
                  <a:srgbClr val="faf1f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af1f0"/>
                </a:solidFill>
                <a:latin typeface="Arial"/>
              </a:rPr>
              <a:t>            </a:t>
            </a:r>
            <a:r>
              <a:rPr b="0" i="1" lang="ru-RU" sz="1400" spc="-1" strike="noStrike">
                <a:solidFill>
                  <a:srgbClr val="faf1f0"/>
                </a:solidFill>
                <a:latin typeface="Arial"/>
              </a:rPr>
              <a:t>Кировский государственный педагогический институт имени В.И.Ленина, 1990 г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af1f0"/>
                </a:solidFill>
                <a:latin typeface="Arial"/>
              </a:rPr>
              <a:t>Высшая</a:t>
            </a:r>
            <a:r>
              <a:rPr b="0" i="1" lang="ru-RU" sz="1400" spc="-1" strike="noStrike">
                <a:solidFill>
                  <a:srgbClr val="faf1f0"/>
                </a:solidFill>
                <a:latin typeface="Arial"/>
              </a:rPr>
              <a:t> квалификационная категория, 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af1f0"/>
                </a:solidFill>
                <a:latin typeface="Arial"/>
              </a:rPr>
              <a:t>Победитель </a:t>
            </a:r>
            <a:r>
              <a:rPr b="0" i="1" lang="ru-RU" sz="1400" spc="-1" strike="noStrike">
                <a:solidFill>
                  <a:srgbClr val="faf1f0"/>
                </a:solidFill>
                <a:latin typeface="Arial"/>
              </a:rPr>
              <a:t>Всероссийского конкурса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af1f0"/>
                </a:solidFill>
                <a:latin typeface="Arial"/>
              </a:rPr>
              <a:t>             </a:t>
            </a:r>
            <a:r>
              <a:rPr b="0" i="1" lang="ru-RU" sz="1400" spc="-1" strike="noStrike">
                <a:solidFill>
                  <a:srgbClr val="faf1f0"/>
                </a:solidFill>
                <a:latin typeface="Arial"/>
              </a:rPr>
              <a:t>«За нравственный подвиг учителя» в Приволжском Федеральном округе 2007 г. в номинации «Лучшее педагогическое исследование за работу «Воспитание музыкой»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7" name="Picture 17" descr="DSCF6987"/>
          <p:cNvPicPr/>
          <p:nvPr/>
        </p:nvPicPr>
        <p:blipFill>
          <a:blip r:embed="rId1"/>
          <a:stretch/>
        </p:blipFill>
        <p:spPr>
          <a:xfrm>
            <a:off x="755640" y="1484280"/>
            <a:ext cx="3641760" cy="4853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«Красный угол» – символ правильного понимания места духовной культуры </a:t>
            </a:r>
            <a:br>
              <a:rPr sz="2800"/>
            </a:b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в мировой культур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8" name="Picture 7" descr="Красный угол - изба"/>
          <p:cNvPicPr/>
          <p:nvPr/>
        </p:nvPicPr>
        <p:blipFill>
          <a:blip r:embed="rId1"/>
          <a:stretch/>
        </p:blipFill>
        <p:spPr>
          <a:xfrm>
            <a:off x="900000" y="1771560"/>
            <a:ext cx="7344000" cy="48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Вывод 3: Духовная культура – сердцевина всей мировой культур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Входя в новый дом, хозяева сначала определяли в избе «красный угол», помещали в него иконы и другие святыни и уже затем, относительно «красного угла» начинали обустраивать весь дом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Как это глубоко символично и верно передает простую мысль – культура Церкви является сердцевиной все остальной культуры. Она одновременно и обособлена от нее и неразрывно связана с ней миллионами связей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1" name="Picture 9" descr="Красный угол - 5"/>
          <p:cNvPicPr/>
          <p:nvPr/>
        </p:nvPicPr>
        <p:blipFill>
          <a:blip r:embed="rId1"/>
          <a:stretch/>
        </p:blipFill>
        <p:spPr>
          <a:xfrm>
            <a:off x="5003640" y="1628640"/>
            <a:ext cx="3532320" cy="470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Вывод 4: Духовную музыку можно назвать «камертоном» всей музыкальной культур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347640" y="2924280"/>
            <a:ext cx="5334120" cy="34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Причем для каждого народа таким камертоном служит музыка, сложившаяся в лоне присущей ему религиозной традици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Музыка Русского Православия «задает тон» музыкальной культуре России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4" name="Picture 11" descr="Камертон"/>
          <p:cNvPicPr/>
          <p:nvPr/>
        </p:nvPicPr>
        <p:blipFill>
          <a:blip r:embed="rId3"/>
          <a:stretch/>
        </p:blipFill>
        <p:spPr>
          <a:xfrm>
            <a:off x="250920" y="2060640"/>
            <a:ext cx="3025800" cy="22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А также «закваской» всей культур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6" name="Picture 6" descr="Закваска"/>
          <p:cNvPicPr/>
          <p:nvPr/>
        </p:nvPicPr>
        <p:blipFill>
          <a:blip r:embed="rId1"/>
          <a:stretch/>
        </p:blipFill>
        <p:spPr>
          <a:xfrm>
            <a:off x="684360" y="1484280"/>
            <a:ext cx="1584000" cy="1187640"/>
          </a:xfrm>
          <a:prstGeom prst="rect">
            <a:avLst/>
          </a:prstGeom>
          <a:ln w="0">
            <a:noFill/>
          </a:ln>
        </p:spPr>
      </p:pic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203280" y="1413000"/>
            <a:ext cx="561636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В Священном Писании есть понятие «закваски», с которой Христос в притче сравнил Царство Небесное, сказав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«Царство Небесное подобно закваске, которую женщина, взяв, положила в три меры муки, доколе не вскисло все» (Евангелие от Матфея, глава 13, стих 33)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При этом «три меры муки» символизируют три душевные силы: ум, волю и чувства, которые преображает благодать Божия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А с ними – и всю культуру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8" name="Picture 9" descr="Хлеб"/>
          <p:cNvPicPr/>
          <p:nvPr/>
        </p:nvPicPr>
        <p:blipFill>
          <a:blip r:embed="rId2"/>
          <a:stretch/>
        </p:blipFill>
        <p:spPr>
          <a:xfrm>
            <a:off x="539640" y="3068640"/>
            <a:ext cx="246708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Православная духовная музыка учит слышать и понимать других людей </a:t>
            </a:r>
            <a:br>
              <a:rPr sz="2800"/>
            </a:b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по-христианск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43653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Этому способствуют как высокие, светлые и чистые понятия об истине,  добре, настоящей любви и красоте, отцовстве и материнстве, сыновстве, которые воспевает православная духовная музыка, так и весь ее строй – спокойный, гармоничный, внимательный к слову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1" name="Picture 9" descr="Дети"/>
          <p:cNvPicPr/>
          <p:nvPr/>
        </p:nvPicPr>
        <p:blipFill>
          <a:blip r:embed="rId1"/>
          <a:stretch/>
        </p:blipFill>
        <p:spPr>
          <a:xfrm>
            <a:off x="2627280" y="1700280"/>
            <a:ext cx="3873600" cy="25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Вывод 5: Духовная музыка воспитывае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2916000" y="1599840"/>
            <a:ext cx="577044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В древние времена пение в церковном хоре считалось не просто «средством к развитию музыкального слуха», но действенным средством воспитания дете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Преображает, воспитывает не только пение, но и слушание детьми церковных песнопений на уроках музыки. Об этом свидетельствует весь мой опыт. Вот почему в преподавании Музыки или Мировой художественной культуры нельзя пройти мимо музыкального наследия Русского Православ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4" name="Picture 7" descr="Церковный хор"/>
          <p:cNvPicPr/>
          <p:nvPr/>
        </p:nvPicPr>
        <p:blipFill>
          <a:blip r:embed="rId1"/>
          <a:stretch/>
        </p:blipFill>
        <p:spPr>
          <a:xfrm>
            <a:off x="468360" y="1557360"/>
            <a:ext cx="223668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Благодарю за внимание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6" name="Picture 6" descr="DSCF7009-1"/>
          <p:cNvPicPr/>
          <p:nvPr/>
        </p:nvPicPr>
        <p:blipFill>
          <a:blip r:embed="rId1"/>
          <a:stretch/>
        </p:blipFill>
        <p:spPr>
          <a:xfrm>
            <a:off x="1476360" y="1557360"/>
            <a:ext cx="6337440" cy="3564000"/>
          </a:xfrm>
          <a:prstGeom prst="rect">
            <a:avLst/>
          </a:prstGeom>
          <a:ln w="38160">
            <a:solidFill>
              <a:srgbClr val="ff9900"/>
            </a:solidFill>
            <a:miter/>
          </a:ln>
        </p:spPr>
      </p:pic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26920" y="5589360"/>
            <a:ext cx="7942320" cy="93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Ирина Викторовна Балыберди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www.balyb.narod.r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Живу и работаю в г.Кирове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63520" y="2060280"/>
            <a:ext cx="30132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af1f0"/>
                </a:solidFill>
                <a:latin typeface="Arial"/>
              </a:rPr>
              <a:t>Наша Кировская область находится на самом севере Приволжского федерального округ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af1f0"/>
                </a:solidFill>
                <a:latin typeface="Arial"/>
              </a:rPr>
              <a:t>В ней проживает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af1f0"/>
                </a:solidFill>
                <a:latin typeface="Arial"/>
              </a:rPr>
              <a:t>1 млн. 300 тысяч жителей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Picture 4" descr="Презентация_Карта ПФО"/>
          <p:cNvPicPr/>
          <p:nvPr/>
        </p:nvPicPr>
        <p:blipFill>
          <a:blip r:embed="rId1"/>
          <a:stretch/>
        </p:blipFill>
        <p:spPr>
          <a:xfrm>
            <a:off x="3635280" y="1773360"/>
            <a:ext cx="4303800" cy="46800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5" descr="Презентация_Герб Кировской области"/>
          <p:cNvPicPr/>
          <p:nvPr/>
        </p:nvPicPr>
        <p:blipFill>
          <a:blip r:embed="rId2"/>
          <a:stretch/>
        </p:blipFill>
        <p:spPr>
          <a:xfrm>
            <a:off x="7524720" y="1268280"/>
            <a:ext cx="1314360" cy="16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Центр области – г.Киров, который </a:t>
            </a:r>
            <a:br>
              <a:rPr sz="2800"/>
            </a:b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до 1934 г. назывался Вятко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Picture 6" descr="Киров с высоты"/>
          <p:cNvPicPr/>
          <p:nvPr/>
        </p:nvPicPr>
        <p:blipFill>
          <a:blip r:embed="rId1"/>
          <a:stretch/>
        </p:blipFill>
        <p:spPr>
          <a:xfrm>
            <a:off x="1187280" y="1557360"/>
            <a:ext cx="6985080" cy="47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В архитектуре города сочетаются старина и современность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Picture 4" descr="Презентция_Особняк Булычева"/>
          <p:cNvPicPr/>
          <p:nvPr/>
        </p:nvPicPr>
        <p:blipFill>
          <a:blip r:embed="rId1"/>
          <a:stretch/>
        </p:blipFill>
        <p:spPr>
          <a:xfrm>
            <a:off x="2195640" y="1628640"/>
            <a:ext cx="3168360" cy="237672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5" descr="Презентация_Театр кукол"/>
          <p:cNvPicPr/>
          <p:nvPr/>
        </p:nvPicPr>
        <p:blipFill>
          <a:blip r:embed="rId2"/>
          <a:stretch/>
        </p:blipFill>
        <p:spPr>
          <a:xfrm>
            <a:off x="4500720" y="4221000"/>
            <a:ext cx="3671640" cy="239904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6" descr="Презентация_Васнецовы"/>
          <p:cNvPicPr/>
          <p:nvPr/>
        </p:nvPicPr>
        <p:blipFill>
          <a:blip r:embed="rId3"/>
          <a:stretch/>
        </p:blipFill>
        <p:spPr>
          <a:xfrm>
            <a:off x="287280" y="1628640"/>
            <a:ext cx="1735200" cy="230508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7" descr="0001-001-Gorod-Kirov"/>
          <p:cNvPicPr/>
          <p:nvPr/>
        </p:nvPicPr>
        <p:blipFill>
          <a:blip r:embed="rId4"/>
          <a:stretch/>
        </p:blipFill>
        <p:spPr>
          <a:xfrm>
            <a:off x="900000" y="4221000"/>
            <a:ext cx="3167280" cy="237672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0" descr="Феодоровская"/>
          <p:cNvPicPr/>
          <p:nvPr/>
        </p:nvPicPr>
        <p:blipFill>
          <a:blip r:embed="rId5"/>
          <a:srcRect l="7559" t="0" r="0" b="0"/>
          <a:stretch/>
        </p:blipFill>
        <p:spPr>
          <a:xfrm>
            <a:off x="5580000" y="1628640"/>
            <a:ext cx="3216240" cy="23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Неповторимый облик городу придают храмы и монастыр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1" name="Picture 9" descr="Успенский собор"/>
          <p:cNvPicPr/>
          <p:nvPr/>
        </p:nvPicPr>
        <p:blipFill>
          <a:blip r:embed="rId1"/>
          <a:stretch/>
        </p:blipFill>
        <p:spPr>
          <a:xfrm>
            <a:off x="1042920" y="1484280"/>
            <a:ext cx="3452760" cy="22986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1" descr="Серафимовская церковь"/>
          <p:cNvPicPr/>
          <p:nvPr/>
        </p:nvPicPr>
        <p:blipFill>
          <a:blip r:embed="rId2"/>
          <a:srcRect l="0" t="12598" r="0" b="3150"/>
          <a:stretch/>
        </p:blipFill>
        <p:spPr>
          <a:xfrm>
            <a:off x="1116000" y="3933720"/>
            <a:ext cx="3411720" cy="255744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5" descr="Макарье"/>
          <p:cNvPicPr/>
          <p:nvPr/>
        </p:nvPicPr>
        <p:blipFill>
          <a:blip r:embed="rId3"/>
          <a:stretch/>
        </p:blipFill>
        <p:spPr>
          <a:xfrm>
            <a:off x="5099040" y="1484280"/>
            <a:ext cx="3313080" cy="49690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24000" y="277560"/>
            <a:ext cx="8362800" cy="214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Наша Вятская православная гимназия является муниципальным учреждением носит имя имя преподобного Трифона Вятског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Picture 16" descr="Презентация_ВПГ_Здание"/>
          <p:cNvPicPr/>
          <p:nvPr/>
        </p:nvPicPr>
        <p:blipFill>
          <a:blip r:embed="rId1"/>
          <a:stretch/>
        </p:blipFill>
        <p:spPr>
          <a:xfrm>
            <a:off x="3924360" y="2852640"/>
            <a:ext cx="4541760" cy="34070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86" name="Picture 27" descr="Презентация_Трифон Вятский"/>
          <p:cNvPicPr/>
          <p:nvPr/>
        </p:nvPicPr>
        <p:blipFill>
          <a:blip r:embed="rId2"/>
          <a:stretch/>
        </p:blipFill>
        <p:spPr>
          <a:xfrm>
            <a:off x="684360" y="2781360"/>
            <a:ext cx="291276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95280" y="404640"/>
            <a:ext cx="7950240" cy="124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Вместе с учениками мы изучаем музыку, поем, танцуем, ставим спектакли и концерты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8" name="Picture 13" descr="Дети на празднике"/>
          <p:cNvPicPr/>
          <p:nvPr/>
        </p:nvPicPr>
        <p:blipFill>
          <a:blip r:embed="rId1"/>
          <a:srcRect l="0" t="2361" r="0" b="0"/>
          <a:stretch/>
        </p:blipFill>
        <p:spPr>
          <a:xfrm>
            <a:off x="826920" y="4221000"/>
            <a:ext cx="2951280" cy="216072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4" descr="Кружок"/>
          <p:cNvPicPr/>
          <p:nvPr/>
        </p:nvPicPr>
        <p:blipFill>
          <a:blip r:embed="rId2"/>
          <a:stretch/>
        </p:blipFill>
        <p:spPr>
          <a:xfrm>
            <a:off x="826920" y="1817640"/>
            <a:ext cx="3097440" cy="210024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15" descr="Праздник"/>
          <p:cNvPicPr/>
          <p:nvPr/>
        </p:nvPicPr>
        <p:blipFill>
          <a:blip r:embed="rId3"/>
          <a:stretch/>
        </p:blipFill>
        <p:spPr>
          <a:xfrm>
            <a:off x="4500720" y="1773360"/>
            <a:ext cx="3386160" cy="229212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8" descr="Ирина с педагогами на Рождество"/>
          <p:cNvPicPr/>
          <p:nvPr/>
        </p:nvPicPr>
        <p:blipFill>
          <a:blip r:embed="rId4"/>
          <a:srcRect l="0" t="11809" r="0" b="0"/>
          <a:stretch/>
        </p:blipFill>
        <p:spPr>
          <a:xfrm>
            <a:off x="4500720" y="4221000"/>
            <a:ext cx="3313080" cy="21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68000" y="277560"/>
            <a:ext cx="8218440" cy="185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И, конечно, на уроках мы знакомимся с духовной музыкой, которая занимает важное место в мировой музыкальной </a:t>
            </a:r>
            <a:br>
              <a:rPr sz="2800"/>
            </a:b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и художественной культуре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3" name="Picture 22" descr="1 слайд_Церковный хор с лучом света  "/>
          <p:cNvPicPr/>
          <p:nvPr/>
        </p:nvPicPr>
        <p:blipFill>
          <a:blip r:embed="rId1"/>
          <a:stretch/>
        </p:blipFill>
        <p:spPr>
          <a:xfrm>
            <a:off x="1476360" y="2349360"/>
            <a:ext cx="6408720" cy="413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4T17:00:18Z</dcterms:created>
  <dc:creator>Отец Александр</dc:creator>
  <dc:description/>
  <dc:language>en-US</dc:language>
  <cp:lastModifiedBy>Коля</cp:lastModifiedBy>
  <dcterms:modified xsi:type="dcterms:W3CDTF">2013-03-20T19:10:39Z</dcterms:modified>
  <cp:revision>76</cp:revision>
  <dc:subject/>
  <dc:title>Слайд 1</dc:title>
</cp:coreProperties>
</file>