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34.jpeg" ContentType="image/jpeg"/>
  <Override PartName="/ppt/media/image28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12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48.jpeg" ContentType="image/jpeg"/>
  <Override PartName="/ppt/media/image40.jpeg" ContentType="image/jpeg"/>
  <Override PartName="/ppt/media/image13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25.jpeg" ContentType="image/jpeg"/>
  <Override PartName="/ppt/media/image2.png" ContentType="image/png"/>
  <Override PartName="/ppt/media/image3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EA4E-97DB-4D44-BDB1-1F7FDBD3D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7FDF-271A-466A-A045-1B2216DB6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688E-2F44-4722-B90D-CFFC09F78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B75E-6B8B-4FF1-A399-E96F51936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A18C1-9524-409B-BB1D-4EA82AB13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4E292-6048-4BA1-8058-E8D3259B3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A7DA0-5BAE-42D7-8153-CB2B8B3C7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B057C-8B8A-4814-A6B4-7CAE357E1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3F373-287D-4DE4-99D8-6C49FB844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16FA4-613D-4A56-BAF4-E3A5EFCF4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5E9F3-FD2C-4D37-80B3-097CA7089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18E1-BFAF-4FE7-B6D4-FF4BA4B48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39C56-C5BA-434F-8A71-12B1ECB77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67EC4-3379-41FA-8A6D-AF06C213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5F264-A836-44CD-86B0-7CBB0D7FC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EB211-C492-4F1D-BCE2-DEC5057FE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7B794-183E-461C-A60F-39D2F926F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4FE1-944D-4890-805B-AFE8F724E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63C1-B6D3-42A9-9F7C-030834883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D1D9-2661-4D21-B6C1-BC5B038A0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46E1-6B9D-4943-84F9-092FB550A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98B4-DD9F-4E39-A8A9-7E0C16BB2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8251-FC36-4067-BFB6-2889E3900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E50C-0E7E-4F56-8101-FC73F504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7F679-3238-43BC-97A2-D038726AD0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41C0B-25B5-42E9-84BF-76FC0862E40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42472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Место духовной музыки в мировой художественной культур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15640" y="4508280"/>
            <a:ext cx="720108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af1f0"/>
                </a:solidFill>
                <a:latin typeface="Arial"/>
              </a:rPr>
              <a:t>Творческая презента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af1f0"/>
                </a:solidFill>
                <a:latin typeface="Arial"/>
              </a:rPr>
              <a:t>Балыбердиной Ирины Викторовн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af1f0"/>
                </a:solidFill>
                <a:latin typeface="Arial"/>
              </a:rPr>
              <a:t>Учителя музыки МОАУ «Вятская православная гимназ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af1f0"/>
                </a:solidFill>
                <a:latin typeface="Arial"/>
              </a:rPr>
              <a:t>во имя преподобного Трифона Вятского» г.Киро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28" descr="Ангел трубящий"/>
          <p:cNvPicPr/>
          <p:nvPr/>
        </p:nvPicPr>
        <p:blipFill>
          <a:blip r:embed="rId1"/>
          <a:stretch/>
        </p:blipFill>
        <p:spPr>
          <a:xfrm>
            <a:off x="3059280" y="1700280"/>
            <a:ext cx="2952720" cy="25905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очему это важно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5410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Во-первых, важно, чтобы духовная музыка не осталась для учеников только интересным дополнительным, а значит - необязательным материалом по МХК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но помогла понять более общие и важные закономерности развития всей мировой художественной культур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14" descr="Девочка"/>
          <p:cNvPicPr/>
          <p:nvPr/>
        </p:nvPicPr>
        <p:blipFill>
          <a:blip r:embed="rId1"/>
          <a:stretch/>
        </p:blipFill>
        <p:spPr>
          <a:xfrm>
            <a:off x="5580000" y="2276640"/>
            <a:ext cx="3095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А также потому, чт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40384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Любая музыка –           и классическая,       и народная,               и эстрадная –  оказывает сильное влияние на воспитание детей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а воспитательное влияние духовной музыки особенно велико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Picture 7" descr="4 слайд_Молитва"/>
          <p:cNvPicPr/>
          <p:nvPr/>
        </p:nvPicPr>
        <p:blipFill>
          <a:blip r:embed="rId1"/>
          <a:stretch/>
        </p:blipFill>
        <p:spPr>
          <a:xfrm>
            <a:off x="5148360" y="1700280"/>
            <a:ext cx="35002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Вывод 1: В школе нет несерьезных предметов, потому что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788000" y="1844280"/>
            <a:ext cx="3898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оследующее развитие знаний и навыков, которые ученик получает в школе, неразрывно связано с тем, научили ли семья и школа его выстраивать отношения с другими людьми, чему учат, как правило, музыка и другие предметы, которые почему-то называют «несерьезными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10" descr="Общение"/>
          <p:cNvPicPr/>
          <p:nvPr/>
        </p:nvPicPr>
        <p:blipFill>
          <a:blip r:embed="rId1"/>
          <a:stretch/>
        </p:blipFill>
        <p:spPr>
          <a:xfrm>
            <a:off x="468360" y="2492280"/>
            <a:ext cx="4248000" cy="28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Музыка учит слушать и слышать людей 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и окружающий мир во всем их  интонационном многообраз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Picture 16" descr="дирижер"/>
          <p:cNvPicPr/>
          <p:nvPr/>
        </p:nvPicPr>
        <p:blipFill>
          <a:blip r:embed="rId1"/>
          <a:stretch/>
        </p:blipFill>
        <p:spPr>
          <a:xfrm>
            <a:off x="826920" y="1773360"/>
            <a:ext cx="4017960" cy="26906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7" descr="Скрипач"/>
          <p:cNvPicPr/>
          <p:nvPr/>
        </p:nvPicPr>
        <p:blipFill>
          <a:blip r:embed="rId2"/>
          <a:stretch/>
        </p:blipFill>
        <p:spPr>
          <a:xfrm>
            <a:off x="5292720" y="1773360"/>
            <a:ext cx="2763720" cy="21891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8" descr="Слушание музыки"/>
          <p:cNvPicPr/>
          <p:nvPr/>
        </p:nvPicPr>
        <p:blipFill>
          <a:blip r:embed="rId3"/>
          <a:stretch/>
        </p:blipFill>
        <p:spPr>
          <a:xfrm>
            <a:off x="4427640" y="4149720"/>
            <a:ext cx="3673440" cy="24480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9" descr="Слушание"/>
          <p:cNvPicPr/>
          <p:nvPr/>
        </p:nvPicPr>
        <p:blipFill>
          <a:blip r:embed="rId4"/>
          <a:stretch/>
        </p:blipFill>
        <p:spPr>
          <a:xfrm>
            <a:off x="900000" y="4653000"/>
            <a:ext cx="2880000" cy="19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Вывод 2: Абсолютно светской культуры не существует, так ка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355640" y="1915920"/>
            <a:ext cx="4537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нет «абсолютно верующих» или «абсолютно неверующих» людей,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с начала существования человеческого общества религия присутствует в мире и оказывает влияние на людей, их жизнь и культуру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8" descr="Девочка у иконы"/>
          <p:cNvPicPr/>
          <p:nvPr/>
        </p:nvPicPr>
        <p:blipFill>
          <a:blip r:embed="rId1"/>
          <a:stretch/>
        </p:blipFill>
        <p:spPr>
          <a:xfrm>
            <a:off x="324000" y="2492280"/>
            <a:ext cx="374472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«Религия» означает «связь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635280" y="1412640"/>
            <a:ext cx="50515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амо слово «религия» означает «связь», то есть то, что связывает между собой на идейном уровне различные стороны жизни обществ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Нельзя «быть верующим только в храме». Протопресвитер Александр Шмеман писал, что сказать человеку «крестись, но живи, как прежде» - это все равно, что закрыть художника в комнате полной холстов, кистей и красок и выключить свет. Вера, должна прорасти в делах и творчеств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8" descr="Шмеман"/>
          <p:cNvPicPr/>
          <p:nvPr/>
        </p:nvPicPr>
        <p:blipFill>
          <a:blip r:embed="rId1"/>
          <a:stretch/>
        </p:blipFill>
        <p:spPr>
          <a:xfrm>
            <a:off x="468360" y="1484280"/>
            <a:ext cx="30099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Как определить место культуры </a:t>
            </a:r>
            <a:br>
              <a:rPr sz="3200"/>
            </a:b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Церкви в мировой культуре?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59280" y="1915920"/>
            <a:ext cx="562752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праведливо ли считать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церковные песнопения только дополнением к коллекции обычной музык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Евангелие – только дополнением к коллекции романов и детективов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а посещение Церкви в воскресный день – только дополнением к обычной рабочей неделе, своего рода «клубом выходного дня»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6" descr="Вопрос"/>
          <p:cNvPicPr/>
          <p:nvPr/>
        </p:nvPicPr>
        <p:blipFill>
          <a:blip r:embed="rId4"/>
          <a:stretch/>
        </p:blipFill>
        <p:spPr>
          <a:xfrm>
            <a:off x="684360" y="2060640"/>
            <a:ext cx="2097000" cy="25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Куда Вы поставите </a:t>
            </a:r>
            <a:br>
              <a:rPr sz="3200"/>
            </a:b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церковные книги, диски или иконы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13" descr="Книги на полке"/>
          <p:cNvPicPr/>
          <p:nvPr/>
        </p:nvPicPr>
        <p:blipFill>
          <a:blip r:embed="rId1"/>
          <a:stretch/>
        </p:blipFill>
        <p:spPr>
          <a:xfrm>
            <a:off x="395280" y="1628640"/>
            <a:ext cx="3672000" cy="27561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4" descr="Пластинки"/>
          <p:cNvPicPr/>
          <p:nvPr/>
        </p:nvPicPr>
        <p:blipFill>
          <a:blip r:embed="rId2"/>
          <a:stretch/>
        </p:blipFill>
        <p:spPr>
          <a:xfrm>
            <a:off x="2268360" y="3933720"/>
            <a:ext cx="2592720" cy="25923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6" descr="Картины на стене"/>
          <p:cNvPicPr/>
          <p:nvPr/>
        </p:nvPicPr>
        <p:blipFill>
          <a:blip r:embed="rId3"/>
          <a:stretch/>
        </p:blipFill>
        <p:spPr>
          <a:xfrm>
            <a:off x="5076720" y="1700280"/>
            <a:ext cx="3746520" cy="48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На самом деле все не так слож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360" y="5084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сли бы на стенах Вашей комнаты уже были  картины и фотографии родных и близких, то куда Вы повесили бы икону Христа Спасителя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7" descr="Христос-Вседержитель"/>
          <p:cNvPicPr/>
          <p:nvPr/>
        </p:nvPicPr>
        <p:blipFill>
          <a:blip r:embed="rId2"/>
          <a:stretch/>
        </p:blipFill>
        <p:spPr>
          <a:xfrm>
            <a:off x="2987640" y="1413000"/>
            <a:ext cx="3441600" cy="3456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Конечно, в «красный угол», 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то есть самое красивое и видное 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место в дом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9" descr="Красный угол - 1"/>
          <p:cNvPicPr/>
          <p:nvPr/>
        </p:nvPicPr>
        <p:blipFill>
          <a:blip r:embed="rId1"/>
          <a:stretch/>
        </p:blipFill>
        <p:spPr>
          <a:xfrm>
            <a:off x="900000" y="1773360"/>
            <a:ext cx="3330720" cy="4824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1" descr="Красный угол - 4"/>
          <p:cNvPicPr/>
          <p:nvPr/>
        </p:nvPicPr>
        <p:blipFill>
          <a:blip r:embed="rId2"/>
          <a:stretch/>
        </p:blipFill>
        <p:spPr>
          <a:xfrm>
            <a:off x="4716360" y="1773360"/>
            <a:ext cx="3640320" cy="48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Давайте познакомимс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42920" y="148392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af1f0"/>
                </a:solidFill>
                <a:latin typeface="Arial"/>
              </a:rPr>
              <a:t>Балыберди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af1f0"/>
                </a:solidFill>
                <a:latin typeface="Arial"/>
              </a:rPr>
              <a:t>Ирина Викторо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af1f0"/>
                </a:solidFill>
                <a:latin typeface="Arial"/>
              </a:rPr>
              <a:t>Учитель музык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af1f0"/>
                </a:solidFill>
                <a:latin typeface="Arial"/>
              </a:rPr>
              <a:t>	</a:t>
            </a:r>
            <a:r>
              <a:rPr b="0" i="1" lang="ru-RU" sz="1400" spc="-1" strike="noStrike">
                <a:solidFill>
                  <a:srgbClr val="faf1f0"/>
                </a:solidFill>
                <a:latin typeface="Arial"/>
              </a:rPr>
              <a:t>МОУ «Вятская православная гимназия во имя преподобного Трифона Вятского»  г.Кирова (Вятки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af1f0"/>
                </a:solidFill>
                <a:latin typeface="Arial"/>
              </a:rPr>
              <a:t>Педагогический стаж</a:t>
            </a:r>
            <a:r>
              <a:rPr b="0" i="1" lang="ru-RU" sz="1400" spc="-1" strike="noStrike">
                <a:solidFill>
                  <a:srgbClr val="faf1f0"/>
                </a:solidFill>
                <a:latin typeface="Arial"/>
              </a:rPr>
              <a:t> – 21 год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af1f0"/>
                </a:solidFill>
                <a:latin typeface="Arial"/>
              </a:rPr>
              <a:t>	</a:t>
            </a:r>
            <a:r>
              <a:rPr b="0" i="1" lang="ru-RU" sz="1400" spc="-1" strike="noStrike">
                <a:solidFill>
                  <a:srgbClr val="faf1f0"/>
                </a:solidFill>
                <a:latin typeface="Arial"/>
              </a:rPr>
              <a:t>в том числе в Вятской православной гимназии – 10 лет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af1f0"/>
                </a:solidFill>
                <a:latin typeface="Arial"/>
              </a:rPr>
              <a:t>Образование – высшее.</a:t>
            </a:r>
            <a:r>
              <a:rPr b="0" i="1" lang="ru-RU" sz="1800" spc="-1" strike="noStrike">
                <a:solidFill>
                  <a:srgbClr val="faf1f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af1f0"/>
                </a:solidFill>
                <a:latin typeface="Arial"/>
              </a:rPr>
              <a:t>            </a:t>
            </a:r>
            <a:r>
              <a:rPr b="0" i="1" lang="ru-RU" sz="1400" spc="-1" strike="noStrike">
                <a:solidFill>
                  <a:srgbClr val="faf1f0"/>
                </a:solidFill>
                <a:latin typeface="Arial"/>
              </a:rPr>
              <a:t>Кировский государственный педагогический институт имени В.И.Ленина, 1990 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af1f0"/>
                </a:solidFill>
                <a:latin typeface="Arial"/>
              </a:rPr>
              <a:t>Высшая</a:t>
            </a:r>
            <a:r>
              <a:rPr b="0" i="1" lang="ru-RU" sz="1400" spc="-1" strike="noStrike">
                <a:solidFill>
                  <a:srgbClr val="faf1f0"/>
                </a:solidFill>
                <a:latin typeface="Arial"/>
              </a:rPr>
              <a:t> квалификационная категория, 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af1f0"/>
                </a:solidFill>
                <a:latin typeface="Arial"/>
              </a:rPr>
              <a:t>Победитель </a:t>
            </a:r>
            <a:r>
              <a:rPr b="0" i="1" lang="ru-RU" sz="1400" spc="-1" strike="noStrike">
                <a:solidFill>
                  <a:srgbClr val="faf1f0"/>
                </a:solidFill>
                <a:latin typeface="Arial"/>
              </a:rPr>
              <a:t>Всероссийского конкурса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af1f0"/>
                </a:solidFill>
                <a:latin typeface="Arial"/>
              </a:rPr>
              <a:t>             </a:t>
            </a:r>
            <a:r>
              <a:rPr b="0" i="1" lang="ru-RU" sz="1400" spc="-1" strike="noStrike">
                <a:solidFill>
                  <a:srgbClr val="faf1f0"/>
                </a:solidFill>
                <a:latin typeface="Arial"/>
              </a:rPr>
              <a:t>«За нравственный подвиг учителя» в Приволжском Федеральном округе 2007 г. в номинации «Лучшее педагогическое исследование за работу «Воспитание музыкой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17" descr="DSCF6987"/>
          <p:cNvPicPr/>
          <p:nvPr/>
        </p:nvPicPr>
        <p:blipFill>
          <a:blip r:embed="rId1"/>
          <a:stretch/>
        </p:blipFill>
        <p:spPr>
          <a:xfrm>
            <a:off x="755640" y="1484280"/>
            <a:ext cx="3641760" cy="4853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«Красный угол» – символ правильного понимания места духовной культуры 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 мировой культур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7" descr="Красный угол - изба"/>
          <p:cNvPicPr/>
          <p:nvPr/>
        </p:nvPicPr>
        <p:blipFill>
          <a:blip r:embed="rId1"/>
          <a:stretch/>
        </p:blipFill>
        <p:spPr>
          <a:xfrm>
            <a:off x="900000" y="1771560"/>
            <a:ext cx="734400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Вывод 3: Духовная культура – сердцевина всей мировой культу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Входя в новый дом, хозяева сначала определяли в избе «красный угол», помещали в него иконы и другие святыни и уже затем, относительно «красного угла» начинали обустраивать весь дом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Как это глубоко символично и верно передает простую мысль – культура Церкви является сердцевиной все остальной культуры. Она одновременно и обособлена от нее и неразрывно связана с ней миллионами связе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9" descr="Красный угол - 5"/>
          <p:cNvPicPr/>
          <p:nvPr/>
        </p:nvPicPr>
        <p:blipFill>
          <a:blip r:embed="rId1"/>
          <a:stretch/>
        </p:blipFill>
        <p:spPr>
          <a:xfrm>
            <a:off x="5003640" y="1628640"/>
            <a:ext cx="353232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Вывод 4: Духовную музыку можно назвать «камертоном» всей музыкальной культу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347640" y="2924280"/>
            <a:ext cx="533412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ричем для каждого народа таким камертоном служит музыка, сложившаяся в лоне присущей ему религиозной традиц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Музыка Русского Православия «задает тон» музыкальной культуре Росси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11" descr="Камертон"/>
          <p:cNvPicPr/>
          <p:nvPr/>
        </p:nvPicPr>
        <p:blipFill>
          <a:blip r:embed="rId3"/>
          <a:stretch/>
        </p:blipFill>
        <p:spPr>
          <a:xfrm>
            <a:off x="250920" y="2060640"/>
            <a:ext cx="302580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А также «закваской» всей культу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6" descr="Закваска"/>
          <p:cNvPicPr/>
          <p:nvPr/>
        </p:nvPicPr>
        <p:blipFill>
          <a:blip r:embed="rId1"/>
          <a:stretch/>
        </p:blipFill>
        <p:spPr>
          <a:xfrm>
            <a:off x="684360" y="1484280"/>
            <a:ext cx="1584000" cy="118764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203280" y="1413000"/>
            <a:ext cx="56163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 Священном Писании есть понятие «закваски», с которой Христос в притче сравнил Царство Небесное, сказав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«Царство Небесное подобно закваске, которую женщина, взяв, положила в три меры муки, доколе не вскисло все» (Евангелие от Матфея, глава 13, стих 33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ри этом «три меры муки» символизируют три душевные силы: ум, волю и чувства, которые преображает благодать Бож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А с ними – и всю культуру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9" descr="Хлеб"/>
          <p:cNvPicPr/>
          <p:nvPr/>
        </p:nvPicPr>
        <p:blipFill>
          <a:blip r:embed="rId2"/>
          <a:stretch/>
        </p:blipFill>
        <p:spPr>
          <a:xfrm>
            <a:off x="539640" y="3068640"/>
            <a:ext cx="24670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равославная духовная музыка учит слышать и понимать других людей 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о-христианс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43653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Этому способствуют как высокие, светлые и чистые понятия об истине,  добре, настоящей любви и красоте, отцовстве и материнстве, сыновстве, которые воспевает православная духовная музыка, так и весь ее строй – спокойный, гармоничный, внимательный к слову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Picture 9" descr="Дети"/>
          <p:cNvPicPr/>
          <p:nvPr/>
        </p:nvPicPr>
        <p:blipFill>
          <a:blip r:embed="rId1"/>
          <a:stretch/>
        </p:blipFill>
        <p:spPr>
          <a:xfrm>
            <a:off x="2627280" y="1700280"/>
            <a:ext cx="3873600" cy="25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Вывод 5: Духовная музыка воспитыва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916000" y="1599840"/>
            <a:ext cx="577044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В древние времена пение в церковном хоре считалось не просто «средством к развитию музыкального слуха», но действенным средством воспитания дет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реображает, воспитывает не только пение, но и слушание детьми церковных песнопений на уроках музыки. Об этом свидетельствует весь мой опыт. Вот почему в преподавании Музыки или Мировой художественной культуры нельзя пройти мимо музыкального наследия Русского Православ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7" descr="Церковный хор"/>
          <p:cNvPicPr/>
          <p:nvPr/>
        </p:nvPicPr>
        <p:blipFill>
          <a:blip r:embed="rId1"/>
          <a:stretch/>
        </p:blipFill>
        <p:spPr>
          <a:xfrm>
            <a:off x="468360" y="1557360"/>
            <a:ext cx="22366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Благодарю за внимание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Picture 6" descr="DSCF7009-1"/>
          <p:cNvPicPr/>
          <p:nvPr/>
        </p:nvPicPr>
        <p:blipFill>
          <a:blip r:embed="rId1"/>
          <a:stretch/>
        </p:blipFill>
        <p:spPr>
          <a:xfrm>
            <a:off x="1476360" y="1557360"/>
            <a:ext cx="6337440" cy="356400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6920" y="5589360"/>
            <a:ext cx="794232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Ирина Викторовна Балыберди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www.balyb.narod.r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Живу и работаю в г.Кирове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2060280"/>
            <a:ext cx="30132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af1f0"/>
                </a:solidFill>
                <a:latin typeface="Arial"/>
              </a:rPr>
              <a:t>Наша Кировская область находится на самом севере Приволжского федерального округ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af1f0"/>
                </a:solidFill>
                <a:latin typeface="Arial"/>
              </a:rPr>
              <a:t>В ней проживае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af1f0"/>
                </a:solidFill>
                <a:latin typeface="Arial"/>
              </a:rPr>
              <a:t>1 млн. 300 тысяч жителе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4" descr="Презентация_Карта ПФО"/>
          <p:cNvPicPr/>
          <p:nvPr/>
        </p:nvPicPr>
        <p:blipFill>
          <a:blip r:embed="rId1"/>
          <a:stretch/>
        </p:blipFill>
        <p:spPr>
          <a:xfrm>
            <a:off x="3635280" y="1773360"/>
            <a:ext cx="4303800" cy="4680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Презентация_Герб Кировской области"/>
          <p:cNvPicPr/>
          <p:nvPr/>
        </p:nvPicPr>
        <p:blipFill>
          <a:blip r:embed="rId2"/>
          <a:stretch/>
        </p:blipFill>
        <p:spPr>
          <a:xfrm>
            <a:off x="7524720" y="1268280"/>
            <a:ext cx="131436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Центр области – г.Киров, который 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до 1934 г. назывался Вятк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6" descr="Киров с высоты"/>
          <p:cNvPicPr/>
          <p:nvPr/>
        </p:nvPicPr>
        <p:blipFill>
          <a:blip r:embed="rId1"/>
          <a:stretch/>
        </p:blipFill>
        <p:spPr>
          <a:xfrm>
            <a:off x="1187280" y="1557360"/>
            <a:ext cx="6985080" cy="47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В архитектуре города сочетаются старина и современност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4" descr="Презентция_Особняк Булычева"/>
          <p:cNvPicPr/>
          <p:nvPr/>
        </p:nvPicPr>
        <p:blipFill>
          <a:blip r:embed="rId1"/>
          <a:stretch/>
        </p:blipFill>
        <p:spPr>
          <a:xfrm>
            <a:off x="2195640" y="1628640"/>
            <a:ext cx="3168360" cy="23767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Презентация_Театр кукол"/>
          <p:cNvPicPr/>
          <p:nvPr/>
        </p:nvPicPr>
        <p:blipFill>
          <a:blip r:embed="rId2"/>
          <a:stretch/>
        </p:blipFill>
        <p:spPr>
          <a:xfrm>
            <a:off x="4500720" y="4221000"/>
            <a:ext cx="3671640" cy="23990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Презентация_Васнецовы"/>
          <p:cNvPicPr/>
          <p:nvPr/>
        </p:nvPicPr>
        <p:blipFill>
          <a:blip r:embed="rId3"/>
          <a:stretch/>
        </p:blipFill>
        <p:spPr>
          <a:xfrm>
            <a:off x="287280" y="1628640"/>
            <a:ext cx="1735200" cy="23050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0001-001-Gorod-Kirov"/>
          <p:cNvPicPr/>
          <p:nvPr/>
        </p:nvPicPr>
        <p:blipFill>
          <a:blip r:embed="rId4"/>
          <a:stretch/>
        </p:blipFill>
        <p:spPr>
          <a:xfrm>
            <a:off x="900000" y="4221000"/>
            <a:ext cx="3167280" cy="23767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" descr="Феодоровская"/>
          <p:cNvPicPr/>
          <p:nvPr/>
        </p:nvPicPr>
        <p:blipFill>
          <a:blip r:embed="rId5"/>
          <a:srcRect l="7559" t="0" r="0" b="0"/>
          <a:stretch/>
        </p:blipFill>
        <p:spPr>
          <a:xfrm>
            <a:off x="5580000" y="1628640"/>
            <a:ext cx="3216240" cy="23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Неповторимый облик городу придают храмы и монастыр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9" descr="Успенский собор"/>
          <p:cNvPicPr/>
          <p:nvPr/>
        </p:nvPicPr>
        <p:blipFill>
          <a:blip r:embed="rId1"/>
          <a:stretch/>
        </p:blipFill>
        <p:spPr>
          <a:xfrm>
            <a:off x="1042920" y="1484280"/>
            <a:ext cx="3452760" cy="22986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1" descr="Серафимовская церковь"/>
          <p:cNvPicPr/>
          <p:nvPr/>
        </p:nvPicPr>
        <p:blipFill>
          <a:blip r:embed="rId2"/>
          <a:srcRect l="0" t="12598" r="0" b="3150"/>
          <a:stretch/>
        </p:blipFill>
        <p:spPr>
          <a:xfrm>
            <a:off x="1116000" y="3933720"/>
            <a:ext cx="3411720" cy="25574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5" descr="Макарье"/>
          <p:cNvPicPr/>
          <p:nvPr/>
        </p:nvPicPr>
        <p:blipFill>
          <a:blip r:embed="rId3"/>
          <a:stretch/>
        </p:blipFill>
        <p:spPr>
          <a:xfrm>
            <a:off x="5099040" y="1484280"/>
            <a:ext cx="3313080" cy="4969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24000" y="277560"/>
            <a:ext cx="836280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Наша Вятская православная гимназия является муниципальным учреждением носит имя имя преподобного Трифона Вятског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16" descr="Презентация_ВПГ_Здание"/>
          <p:cNvPicPr/>
          <p:nvPr/>
        </p:nvPicPr>
        <p:blipFill>
          <a:blip r:embed="rId1"/>
          <a:stretch/>
        </p:blipFill>
        <p:spPr>
          <a:xfrm>
            <a:off x="3924360" y="2852640"/>
            <a:ext cx="4541760" cy="3407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86" name="Picture 27" descr="Презентация_Трифон Вятский"/>
          <p:cNvPicPr/>
          <p:nvPr/>
        </p:nvPicPr>
        <p:blipFill>
          <a:blip r:embed="rId2"/>
          <a:stretch/>
        </p:blipFill>
        <p:spPr>
          <a:xfrm>
            <a:off x="684360" y="2781360"/>
            <a:ext cx="29127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7950240" cy="124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месте с учениками мы изучаем музыку, поем, танцуем, ставим спектакли и концерты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13" descr="Дети на празднике"/>
          <p:cNvPicPr/>
          <p:nvPr/>
        </p:nvPicPr>
        <p:blipFill>
          <a:blip r:embed="rId1"/>
          <a:srcRect l="0" t="2361" r="0" b="0"/>
          <a:stretch/>
        </p:blipFill>
        <p:spPr>
          <a:xfrm>
            <a:off x="826920" y="4221000"/>
            <a:ext cx="2951280" cy="21607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4" descr="Кружок"/>
          <p:cNvPicPr/>
          <p:nvPr/>
        </p:nvPicPr>
        <p:blipFill>
          <a:blip r:embed="rId2"/>
          <a:stretch/>
        </p:blipFill>
        <p:spPr>
          <a:xfrm>
            <a:off x="826920" y="1817640"/>
            <a:ext cx="3097440" cy="21002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5" descr="Праздник"/>
          <p:cNvPicPr/>
          <p:nvPr/>
        </p:nvPicPr>
        <p:blipFill>
          <a:blip r:embed="rId3"/>
          <a:stretch/>
        </p:blipFill>
        <p:spPr>
          <a:xfrm>
            <a:off x="4500720" y="1773360"/>
            <a:ext cx="3386160" cy="22921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8" descr="Ирина с педагогами на Рождество"/>
          <p:cNvPicPr/>
          <p:nvPr/>
        </p:nvPicPr>
        <p:blipFill>
          <a:blip r:embed="rId4"/>
          <a:srcRect l="0" t="11809" r="0" b="0"/>
          <a:stretch/>
        </p:blipFill>
        <p:spPr>
          <a:xfrm>
            <a:off x="4500720" y="4221000"/>
            <a:ext cx="3313080" cy="21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18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И, конечно, на уроках мы знакомимся с духовной музыкой, которая занимает важное место в мировой музыкальной 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и художественной культуре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22" descr="1 слайд_Церковный хор с лучом света  "/>
          <p:cNvPicPr/>
          <p:nvPr/>
        </p:nvPicPr>
        <p:blipFill>
          <a:blip r:embed="rId1"/>
          <a:stretch/>
        </p:blipFill>
        <p:spPr>
          <a:xfrm>
            <a:off x="1476360" y="2349360"/>
            <a:ext cx="6408720" cy="41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4T17:00:18Z</dcterms:created>
  <dc:creator>Отец Александр</dc:creator>
  <dc:description/>
  <dc:language>en-US</dc:language>
  <cp:lastModifiedBy>Коля</cp:lastModifiedBy>
  <dcterms:modified xsi:type="dcterms:W3CDTF">2013-03-20T19:10:39Z</dcterms:modified>
  <cp:revision>76</cp:revision>
  <dc:subject/>
  <dc:title>Слайд 1</dc:title>
</cp:coreProperties>
</file>