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041-DFB0-4AED-9E15-249EE48A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383-83A1-4914-A75D-A32F3F1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150-0D10-4217-B665-84559341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C42-0658-42C2-A66F-2D71F34F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2CA3-DFD8-4D44-84F4-32D97BD6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A55A-4C42-44BA-A0E5-6A3D77BA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A0A-05C5-4BAD-89FC-72B67E1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12BE-D9E8-4853-9805-75E2F5E7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75F-4276-4A26-BA11-17550CB0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03A6-4F65-45BB-B177-D3E22DB9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6EA9-C098-4A18-B51B-5CE76095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03A-3A64-404E-8736-C25968A2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53E9-B0FE-440B-849C-19313E7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F244-C775-4DD9-A56D-791500F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F4A6-AFB2-4E05-9E04-1A8FEB5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519A-4EF0-4326-915E-A4569796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133F-F711-4A14-8AC6-7743467A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F2E-1B6E-442B-94D8-A54CA2F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226-F794-4D52-AD1D-B87FC5F4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5F3-2722-4FDD-9E46-99B8DD5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D25-F73C-4340-A751-3B5A8A3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245-4D20-4AD1-81F5-008F8F4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054-330C-4B02-AF7B-47AC265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B9A-32EA-4B5D-A165-FF7E59F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F9E-0DA9-4031-91E2-F3BFE338F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07A-EAD5-4811-B794-F249520B65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есто духовной музыки в мировой художественной куль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4508280"/>
            <a:ext cx="7201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1f0"/>
                </a:solidFill>
                <a:latin typeface="Arial"/>
              </a:rPr>
              <a:t>Творческая 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Балыбердиной Ирины Викторо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я музыки МОАУ «Вятская православная гимназ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о имя преподобного Трифона Вятского» г.Ки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8" descr="Ангел трубящий"/>
          <p:cNvPicPr/>
          <p:nvPr/>
        </p:nvPicPr>
        <p:blipFill>
          <a:blip r:embed="rId1"/>
          <a:stretch/>
        </p:blipFill>
        <p:spPr>
          <a:xfrm>
            <a:off x="3059280" y="1700280"/>
            <a:ext cx="295272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ему это ва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-первых, важно, чтобы духовная музыка не осталась для учеников только интересным дополнительным, а значит - необязательным материалом по МХ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 помогла понять более общие и важные закономерности развития всей мировой художественн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4" descr="Девочка"/>
          <p:cNvPicPr/>
          <p:nvPr/>
        </p:nvPicPr>
        <p:blipFill>
          <a:blip r:embed="rId1"/>
          <a:stretch/>
        </p:blipFill>
        <p:spPr>
          <a:xfrm>
            <a:off x="5580000" y="2276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юбая музыка –           и классическая,       и народная,               и эстрадная –  оказывает сильное влияние на воспитание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 воспитательное влияние духовной музыки особенно велик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4 слайд_Молитва"/>
          <p:cNvPicPr/>
          <p:nvPr/>
        </p:nvPicPr>
        <p:blipFill>
          <a:blip r:embed="rId1"/>
          <a:stretch/>
        </p:blipFill>
        <p:spPr>
          <a:xfrm>
            <a:off x="5148360" y="1700280"/>
            <a:ext cx="350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1: В школе нет несерьезных предметов, потому чт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ующее развитие знаний и навыков, которые ученик получает в школе, неразрывно связано с тем, научили ли семья и школа его выстраивать отношения с другими людьми, чему учат, как правило, музыка и другие предметы, которые почему-то называют «несерьезными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Общение"/>
          <p:cNvPicPr/>
          <p:nvPr/>
        </p:nvPicPr>
        <p:blipFill>
          <a:blip r:embed="rId1"/>
          <a:stretch/>
        </p:blipFill>
        <p:spPr>
          <a:xfrm>
            <a:off x="468360" y="2492280"/>
            <a:ext cx="42480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зыка учит слушать и слышать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окружающий мир во всем их  интонационном многообра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6" descr="дирижер"/>
          <p:cNvPicPr/>
          <p:nvPr/>
        </p:nvPicPr>
        <p:blipFill>
          <a:blip r:embed="rId1"/>
          <a:stretch/>
        </p:blipFill>
        <p:spPr>
          <a:xfrm>
            <a:off x="826920" y="1773360"/>
            <a:ext cx="4017960" cy="269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Скрипач"/>
          <p:cNvPicPr/>
          <p:nvPr/>
        </p:nvPicPr>
        <p:blipFill>
          <a:blip r:embed="rId2"/>
          <a:stretch/>
        </p:blipFill>
        <p:spPr>
          <a:xfrm>
            <a:off x="5292720" y="1773360"/>
            <a:ext cx="2763720" cy="2189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Слушание музыки"/>
          <p:cNvPicPr/>
          <p:nvPr/>
        </p:nvPicPr>
        <p:blipFill>
          <a:blip r:embed="rId3"/>
          <a:stretch/>
        </p:blipFill>
        <p:spPr>
          <a:xfrm>
            <a:off x="4427640" y="414972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Слушание"/>
          <p:cNvPicPr/>
          <p:nvPr/>
        </p:nvPicPr>
        <p:blipFill>
          <a:blip r:embed="rId4"/>
          <a:stretch/>
        </p:blipFill>
        <p:spPr>
          <a:xfrm>
            <a:off x="900000" y="4653000"/>
            <a:ext cx="2880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2: Абсолютно светской культуры не существует, так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55640" y="191592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нет «абсолютно верующих» или «абсолютно неверующих» люде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с начала существования человеческого общества религия присутствует в мире и оказывает влияние на людей, их жизнь и культуру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Девочка у иконы"/>
          <p:cNvPicPr/>
          <p:nvPr/>
        </p:nvPicPr>
        <p:blipFill>
          <a:blip r:embed="rId1"/>
          <a:stretch/>
        </p:blipFill>
        <p:spPr>
          <a:xfrm>
            <a:off x="324000" y="2492280"/>
            <a:ext cx="3744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Религия» означает «связ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35280" y="1412640"/>
            <a:ext cx="505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мо слово «религия» означает «связь», то есть то, что связывает между собой на идейном уровне различные стороны жизни об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льзя «быть верующим только в храме». Протопресвитер Александр Шмеман писал, что сказать человеку «крестись, но живи, как прежде» - это все равно, что закрыть художника в комнате полной холстов, кистей и красок и выключить свет. Вера, должна прорасти в делах и творчеств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Шмеман"/>
          <p:cNvPicPr/>
          <p:nvPr/>
        </p:nvPicPr>
        <p:blipFill>
          <a:blip r:embed="rId1"/>
          <a:stretch/>
        </p:blipFill>
        <p:spPr>
          <a:xfrm>
            <a:off x="468360" y="1484280"/>
            <a:ext cx="3009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определить место культуры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Церкви в мировой культуре?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59280" y="1915920"/>
            <a:ext cx="5627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раведливо ли счит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церковные песнопения только дополнением к коллекции обычной музы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ангелие – только дополнением к коллекции романов и детектив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посещение Церкви в воскресный день – только дополнением к обычной рабочей неделе, своего рода «клубом выходного дн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Вопрос"/>
          <p:cNvPicPr/>
          <p:nvPr/>
        </p:nvPicPr>
        <p:blipFill>
          <a:blip r:embed="rId4"/>
          <a:stretch/>
        </p:blipFill>
        <p:spPr>
          <a:xfrm>
            <a:off x="684360" y="2060640"/>
            <a:ext cx="2097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уда Вы поставите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ерковные книги, диски или ико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Книги на полке"/>
          <p:cNvPicPr/>
          <p:nvPr/>
        </p:nvPicPr>
        <p:blipFill>
          <a:blip r:embed="rId1"/>
          <a:stretch/>
        </p:blipFill>
        <p:spPr>
          <a:xfrm>
            <a:off x="395280" y="1628640"/>
            <a:ext cx="3672000" cy="275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Пластинки"/>
          <p:cNvPicPr/>
          <p:nvPr/>
        </p:nvPicPr>
        <p:blipFill>
          <a:blip r:embed="rId2"/>
          <a:stretch/>
        </p:blipFill>
        <p:spPr>
          <a:xfrm>
            <a:off x="2268360" y="393372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Картины на стене"/>
          <p:cNvPicPr/>
          <p:nvPr/>
        </p:nvPicPr>
        <p:blipFill>
          <a:blip r:embed="rId3"/>
          <a:stretch/>
        </p:blipFill>
        <p:spPr>
          <a:xfrm>
            <a:off x="5076720" y="1700280"/>
            <a:ext cx="37465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самом деле все не так слож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бы на стенах Вашей комнаты уже были  картины и фотографии родных и близких, то куда Вы повесили бы икону Христа Спасител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Христос-Вседержитель"/>
          <p:cNvPicPr/>
          <p:nvPr/>
        </p:nvPicPr>
        <p:blipFill>
          <a:blip r:embed="rId2"/>
          <a:stretch/>
        </p:blipFill>
        <p:spPr>
          <a:xfrm>
            <a:off x="2987640" y="1413000"/>
            <a:ext cx="344160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нечно, в «красный угол»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есть самое красивое и видное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сто в до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Красный угол - 1"/>
          <p:cNvPicPr/>
          <p:nvPr/>
        </p:nvPicPr>
        <p:blipFill>
          <a:blip r:embed="rId1"/>
          <a:stretch/>
        </p:blipFill>
        <p:spPr>
          <a:xfrm>
            <a:off x="900000" y="1773360"/>
            <a:ext cx="3330720" cy="482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Красный угол - 4"/>
          <p:cNvPicPr/>
          <p:nvPr/>
        </p:nvPicPr>
        <p:blipFill>
          <a:blip r:embed="rId2"/>
          <a:stretch/>
        </p:blipFill>
        <p:spPr>
          <a:xfrm>
            <a:off x="4716360" y="1773360"/>
            <a:ext cx="36403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авайте познакоми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Балыберд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Ирин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ь муз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МОУ «Вятская православная гимназия во имя преподобного Трифона Вятского»  г.Кирова (Вятк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Педагогический стаж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– 21 год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 том числе в Вятской православной гимназии – 10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Образование – высшее.</a:t>
            </a:r>
            <a:r>
              <a:rPr b="0" i="1" lang="ru-RU" sz="1800" spc="-1" strike="noStrike">
                <a:solidFill>
                  <a:srgbClr val="faf1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Кировский государственный педагогический институт имени В.И.Ленина, 1990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ысшая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квалификационная категория,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Победитель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сероссийского конкурс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«За нравственный подвиг учителя» в Приволжском Федеральном округе 2007 г. в номинации «Лучшее педагогическое исследование за работу «Воспитание музыко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7" descr="DSCF6987"/>
          <p:cNvPicPr/>
          <p:nvPr/>
        </p:nvPicPr>
        <p:blipFill>
          <a:blip r:embed="rId1"/>
          <a:stretch/>
        </p:blipFill>
        <p:spPr>
          <a:xfrm>
            <a:off x="755640" y="1484280"/>
            <a:ext cx="364176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Красный угол» – символ правильного понимания места духовной культур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мировой культу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Красный угол - изба"/>
          <p:cNvPicPr/>
          <p:nvPr/>
        </p:nvPicPr>
        <p:blipFill>
          <a:blip r:embed="rId1"/>
          <a:stretch/>
        </p:blipFill>
        <p:spPr>
          <a:xfrm>
            <a:off x="900000" y="177156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3: Духовная культура – сердцевина всей миров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ходя в новый дом, хозяева сначала определяли в избе «красный угол», помещали в него иконы и другие святыни и уже затем, относительно «красного угла» начинали обустраивать весь д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это глубоко символично и верно передает простую мысль – культура Церкви является сердцевиной все остальной культуры. Она одновременно и обособлена от нее и неразрывно связана с ней миллионами связ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Красный угол - 5"/>
          <p:cNvPicPr/>
          <p:nvPr/>
        </p:nvPicPr>
        <p:blipFill>
          <a:blip r:embed="rId1"/>
          <a:stretch/>
        </p:blipFill>
        <p:spPr>
          <a:xfrm>
            <a:off x="5003640" y="1628640"/>
            <a:ext cx="35323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4: Духовную музыку можно назвать «камертоном» всей музыкаль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47640" y="2924280"/>
            <a:ext cx="53341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чем для каждого народа таким камертоном служит музыка, сложившаяся в лоне присущей ему религиозной тради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зыка Русского Православия «задает тон» музыкальной культуре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Камертон"/>
          <p:cNvPicPr/>
          <p:nvPr/>
        </p:nvPicPr>
        <p:blipFill>
          <a:blip r:embed="rId3"/>
          <a:stretch/>
        </p:blipFill>
        <p:spPr>
          <a:xfrm>
            <a:off x="250920" y="20606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«закваской» все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Закваска"/>
          <p:cNvPicPr/>
          <p:nvPr/>
        </p:nvPicPr>
        <p:blipFill>
          <a:blip r:embed="rId1"/>
          <a:stretch/>
        </p:blipFill>
        <p:spPr>
          <a:xfrm>
            <a:off x="684360" y="1484280"/>
            <a:ext cx="1584000" cy="1187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6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Священном Писании есть понятие «закваски», с которой Христос в притче сравнил Царство Небесное, сказа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Царство Небесное подобно закваске, которую женщина, взяв, положила в три меры муки, доколе не вскисло все» (Евангелие от Матфея, глава 13, стих 3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 этом «три меры муки» символизируют три душевные силы: ум, волю и чувства, которые преображает благодать Бож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с ними – и всю культур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Хлеб"/>
          <p:cNvPicPr/>
          <p:nvPr/>
        </p:nvPicPr>
        <p:blipFill>
          <a:blip r:embed="rId2"/>
          <a:stretch/>
        </p:blipFill>
        <p:spPr>
          <a:xfrm>
            <a:off x="539640" y="3068640"/>
            <a:ext cx="246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ославная духовная музыка учит слышать и понимать других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-христиа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тому способствуют как высокие, светлые и чистые понятия об истине,  добре, настоящей любви и красоте, отцовстве и материнстве, сыновстве, которые воспевает православная духовная музыка, так и весь ее строй – спокойный, гармоничный, внимательный к слов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Дети"/>
          <p:cNvPicPr/>
          <p:nvPr/>
        </p:nvPicPr>
        <p:blipFill>
          <a:blip r:embed="rId1"/>
          <a:stretch/>
        </p:blipFill>
        <p:spPr>
          <a:xfrm>
            <a:off x="2627280" y="1700280"/>
            <a:ext cx="38736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5: Духовная музыка воспиты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древние времена пение в церковном хоре считалось не просто «средством к развитию музыкального слуха», но действенным средством воспитани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ображает, воспитывает не только пение, но и слушание детьми церковных песнопений на уроках музыки. Об этом свидетельствует весь мой опыт. Вот почему в преподавании Музыки или Мировой художественной культуры нельзя пройти мимо музыкального наследия Русского Правосла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Церковный хор"/>
          <p:cNvPicPr/>
          <p:nvPr/>
        </p:nvPicPr>
        <p:blipFill>
          <a:blip r:embed="rId1"/>
          <a:stretch/>
        </p:blipFill>
        <p:spPr>
          <a:xfrm>
            <a:off x="468360" y="1557360"/>
            <a:ext cx="2236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DSCF7009-1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3564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5589360"/>
            <a:ext cx="79423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рина Викторовна Балыбер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ww.balyb.naro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иву и работаю в г.Кирове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3013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Наша Кировская область находится на самом севере Приволжского федерального ок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В ней прож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1 млн. 300 тысяч жите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Презентация_Карта ПФО"/>
          <p:cNvPicPr/>
          <p:nvPr/>
        </p:nvPicPr>
        <p:blipFill>
          <a:blip r:embed="rId1"/>
          <a:stretch/>
        </p:blipFill>
        <p:spPr>
          <a:xfrm>
            <a:off x="3635280" y="1773360"/>
            <a:ext cx="4303800" cy="468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Презентация_Герб Кировской области"/>
          <p:cNvPicPr/>
          <p:nvPr/>
        </p:nvPicPr>
        <p:blipFill>
          <a:blip r:embed="rId2"/>
          <a:stretch/>
        </p:blipFill>
        <p:spPr>
          <a:xfrm>
            <a:off x="7524720" y="1268280"/>
            <a:ext cx="1314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нтр области – г.Киров, которы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 1934 г. назывался Вят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Киров с высоты"/>
          <p:cNvPicPr/>
          <p:nvPr/>
        </p:nvPicPr>
        <p:blipFill>
          <a:blip r:embed="rId1"/>
          <a:stretch/>
        </p:blipFill>
        <p:spPr>
          <a:xfrm>
            <a:off x="1187280" y="1557360"/>
            <a:ext cx="69850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 города сочетаются старина и соврем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Презентция_Особняк Булычева"/>
          <p:cNvPicPr/>
          <p:nvPr/>
        </p:nvPicPr>
        <p:blipFill>
          <a:blip r:embed="rId1"/>
          <a:stretch/>
        </p:blipFill>
        <p:spPr>
          <a:xfrm>
            <a:off x="2195640" y="1628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Презентация_Театр кукол"/>
          <p:cNvPicPr/>
          <p:nvPr/>
        </p:nvPicPr>
        <p:blipFill>
          <a:blip r:embed="rId2"/>
          <a:stretch/>
        </p:blipFill>
        <p:spPr>
          <a:xfrm>
            <a:off x="4500720" y="4221000"/>
            <a:ext cx="3671640" cy="2399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Презентация_Васнецовы"/>
          <p:cNvPicPr/>
          <p:nvPr/>
        </p:nvPicPr>
        <p:blipFill>
          <a:blip r:embed="rId3"/>
          <a:stretch/>
        </p:blipFill>
        <p:spPr>
          <a:xfrm>
            <a:off x="287280" y="1628640"/>
            <a:ext cx="173520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001-001-Gorod-Kirov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еодоровская"/>
          <p:cNvPicPr/>
          <p:nvPr/>
        </p:nvPicPr>
        <p:blipFill>
          <a:blip r:embed="rId5"/>
          <a:srcRect l="7559" t="0" r="0" b="0"/>
          <a:stretch/>
        </p:blipFill>
        <p:spPr>
          <a:xfrm>
            <a:off x="5580000" y="1628640"/>
            <a:ext cx="321624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овторимый облик городу придают храмы и монасты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Успенский собор"/>
          <p:cNvPicPr/>
          <p:nvPr/>
        </p:nvPicPr>
        <p:blipFill>
          <a:blip r:embed="rId1"/>
          <a:stretch/>
        </p:blipFill>
        <p:spPr>
          <a:xfrm>
            <a:off x="1042920" y="1484280"/>
            <a:ext cx="3452760" cy="2298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ерафимовская церковь"/>
          <p:cNvPicPr/>
          <p:nvPr/>
        </p:nvPicPr>
        <p:blipFill>
          <a:blip r:embed="rId2"/>
          <a:srcRect l="0" t="12598" r="0" b="3150"/>
          <a:stretch/>
        </p:blipFill>
        <p:spPr>
          <a:xfrm>
            <a:off x="1116000" y="3933720"/>
            <a:ext cx="3411720" cy="255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Макарье"/>
          <p:cNvPicPr/>
          <p:nvPr/>
        </p:nvPicPr>
        <p:blipFill>
          <a:blip r:embed="rId3"/>
          <a:stretch/>
        </p:blipFill>
        <p:spPr>
          <a:xfrm>
            <a:off x="5099040" y="1484280"/>
            <a:ext cx="331308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ша Вятская православная гимназия является муниципальным учреждением носит имя имя преподобного Трифона Вят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Презентация_ВПГ_Здание"/>
          <p:cNvPicPr/>
          <p:nvPr/>
        </p:nvPicPr>
        <p:blipFill>
          <a:blip r:embed="rId1"/>
          <a:stretch/>
        </p:blipFill>
        <p:spPr>
          <a:xfrm>
            <a:off x="3924360" y="2852640"/>
            <a:ext cx="4541760" cy="340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27" descr="Презентация_Трифон Вятский"/>
          <p:cNvPicPr/>
          <p:nvPr/>
        </p:nvPicPr>
        <p:blipFill>
          <a:blip r:embed="rId2"/>
          <a:stretch/>
        </p:blipFill>
        <p:spPr>
          <a:xfrm>
            <a:off x="684360" y="2781360"/>
            <a:ext cx="2912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950240" cy="12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месте с учениками мы изучаем музыку, поем, танцуем, ставим спектакли и концерт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3" descr="Дети на празднике"/>
          <p:cNvPicPr/>
          <p:nvPr/>
        </p:nvPicPr>
        <p:blipFill>
          <a:blip r:embed="rId1"/>
          <a:srcRect l="0" t="2361" r="0" b="0"/>
          <a:stretch/>
        </p:blipFill>
        <p:spPr>
          <a:xfrm>
            <a:off x="826920" y="4221000"/>
            <a:ext cx="295128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Кружок"/>
          <p:cNvPicPr/>
          <p:nvPr/>
        </p:nvPicPr>
        <p:blipFill>
          <a:blip r:embed="rId2"/>
          <a:stretch/>
        </p:blipFill>
        <p:spPr>
          <a:xfrm>
            <a:off x="826920" y="1817640"/>
            <a:ext cx="3097440" cy="2100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Праздник"/>
          <p:cNvPicPr/>
          <p:nvPr/>
        </p:nvPicPr>
        <p:blipFill>
          <a:blip r:embed="rId3"/>
          <a:stretch/>
        </p:blipFill>
        <p:spPr>
          <a:xfrm>
            <a:off x="4500720" y="1773360"/>
            <a:ext cx="3386160" cy="229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Ирина с педагогами на Рождество"/>
          <p:cNvPicPr/>
          <p:nvPr/>
        </p:nvPicPr>
        <p:blipFill>
          <a:blip r:embed="rId4"/>
          <a:srcRect l="0" t="11809" r="0" b="0"/>
          <a:stretch/>
        </p:blipFill>
        <p:spPr>
          <a:xfrm>
            <a:off x="4500720" y="422100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, конечно, на уроках мы знакомимся с духовной музыкой, которая занимает важное место в мировой музыкально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художественной культу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2" descr="1 слайд_Церковный хор с лучом света  "/>
          <p:cNvPicPr/>
          <p:nvPr/>
        </p:nvPicPr>
        <p:blipFill>
          <a:blip r:embed="rId1"/>
          <a:stretch/>
        </p:blipFill>
        <p:spPr>
          <a:xfrm>
            <a:off x="1476360" y="2349360"/>
            <a:ext cx="640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00:18Z</dcterms:created>
  <dc:creator>Отец Александр</dc:creator>
  <dc:description/>
  <dc:language>en-US</dc:language>
  <cp:lastModifiedBy>Коля</cp:lastModifiedBy>
  <dcterms:modified xsi:type="dcterms:W3CDTF">2013-03-20T19:10:39Z</dcterms:modified>
  <cp:revision>76</cp:revision>
  <dc:subject/>
  <dc:title>Слайд 1</dc:title>
</cp:coreProperties>
</file>