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231D-0AEE-4949-83E4-462E7E4B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989-BF1E-4B72-8659-10ECE461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358-9B96-4452-9904-C9C81649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3D5-3783-4FDC-9DC1-CABEA0B5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07A-03D2-4862-AA95-985EEB0E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EDDC-3746-4AE0-85EE-45708ECC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8877-40DE-4459-A636-F4E92146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E306-28CC-4AF4-9D69-D8AFA9BF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501-93FD-49C1-90EB-65982BA7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95B9-70E8-473B-B75F-53717F53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0C6-F1D6-41F2-92D0-51AEA0B3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6DCE-98B1-4E90-AC03-9C771BFE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4776"/>
            </a:gs>
            <a:gs pos="50000">
              <a:srgbClr val="3399ff"/>
            </a:gs>
            <a:gs pos="100000">
              <a:srgbClr val="18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F7DD-D063-490A-BEA1-F7C0063C7A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тчет о КСИ</a:t>
            </a:r>
            <a:br>
              <a:rPr sz="40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ема: «Проблема развития детского спорта в РФ (на примере избранного вида спорта - баскетбол)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708280"/>
            <a:ext cx="70880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л: Студент 4 кур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ы 4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изация - баскетб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гтярёв Леони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лаховка 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«Какие пути вывода детского спорта (баскетбола) из нестабильной ситуации вам представляются более рациональными?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: А)11  Б)4  В)5 Г) 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708200" y="1600200"/>
          <a:ext cx="5727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1600200"/>
                    <a:ext cx="572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 «Если бы вас назначили на пост президента РФБ, что бы сделали в первую очередь для детского баскетбола?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: А)10  Б)2  В)7 Г) 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1708200" y="1600200"/>
          <a:ext cx="5727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1600200"/>
                    <a:ext cx="572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) «Как вы относитесь к тому, что в составе главной мужской сборной команды по баскетболу выступает иностранный игрок (Джон Роберт Холден)?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: А)8  Б)9  В)1 Г) 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1708200" y="1600200"/>
          <a:ext cx="5727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1600200"/>
                    <a:ext cx="572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воды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сегодняшний день, в некоторых ДЮСШ находящихся преимущественно в отдаленных регионах, есть определенные проблемы в финансировании, что в свою очередь пагубно влияет на развитие детского баскетбола (вопрос №1). Большинство опрошенных тренеров считает, что данная ситуация возникла из-за развала Советской системы ДЮСШ (вопрос №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ие из опрошенных тренеров считают, что данную ситуацию можно исправить за счёт равномерного распределения финансирования во всех регионах РФ и за счёт строительства современных оборудованных спортивных сооружений (вопросы №5,№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зультате опроса выяснилось, что так же многие тренеры сталкиваются с проблемой привлечения и удержания детей в ДЮСШ из-за переориентирования интересов сегодняшних детей (вопросы №3,№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римерно ровное количество опрошенных тренеров относится положительно и отрицательно к тому, что в составе нашей главной мужской команды выступает иностранный игрок получивший гражданство. И только два тренера убеждены, что это игровое время должно распределяться между нашими молодыми игроками (вопрос №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ль работы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явить проблемы в развитии детского баскетбола  в РФ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 опро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Раздаточное анкетир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оки проведения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20.03.08 по 15.04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грамма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-й этап (февраль – март) – Формулировка проблемы исследования. Выбор методики проведения исследования. Подготовка к исследованию – составление анкетного лис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-й этап (март – апрель) – Проведение анкетирования среди тренеров по баскетболу работающих в ДЮСШ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-й этап (май) – Обработка полученной информации и составление презентаци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тоды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кетирование тренеров по баскетболу работающих в ДЮС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личество опрошенных 20 человек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орма анкетного лис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) Какие проблемы на ваш взгляд существуют в развитии детского баскетбола в РФ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Недостаточность финанс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Отсутствие достаточной мотивации у трене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Нехватка квалифицированных кад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) Как вы считаете, каковы причины возникновения сложной ситуации сложившейся вокруг детского баскетбо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Развал советской системы ДЮС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Не участие Государства в развитии детского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Сокращение ВУЗов спортивной ори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) Каковы, по вашему мнению, причины отсутствия мотивации у детей к занятиям спортом (баскетболом) в РФ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Широкий выбор увлечений для детей (компьютер, музыка, пристрастие к вредным привычкам и т.д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Бесперспективность развития спортивной карьеры в игровых видах спорта в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Отсутствие морально-волевых кач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) С какими проблемами и сложностями сталкивается детский тренер в тренировочном  процесс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Привлечение и удержание детей в ДЮС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Нехватка инвентаря и оборуд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Недостаточно длительный период соревн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) Какие пути вывода детского спорта (баскетбола) из нестабильной ситуации вам представляются более рациональны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Строительство современных оборудованных спортивных соору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Активное участие государства в развитии детского спорта (баскетбол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Организация мероприятий по повышению квалификации тренерского состава (тренерские семинар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) Если бы вас назначили на пост президента РФБ, что бы сделали в первую очередь для детского баскетбо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Равномерное распределение финансирования во всех регионах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Перевод ДЮСШ на коммерческую осно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Создание системы для выпускников ДЮСШ позволяющей продолжить карьерный рост (создание “среднего звена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) Как вы относитесь к тому, что в составе главной мужской сборной команды по баскетболу выступает иностранный игрок (Джон Роберт Холден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Положите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Отрицате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Нейтра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зультаты ответов на вопросы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«Какие проблемы на ваш взгляд существуют в развитии дет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скетбола в РФ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: А)10  Б)4  В)6 Г)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12"/>
          <p:cNvGraphicFramePr/>
          <p:nvPr/>
        </p:nvGraphicFramePr>
        <p:xfrm>
          <a:off x="2124000" y="2579760"/>
          <a:ext cx="4896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579760"/>
                    <a:ext cx="4896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«Как вы считаете, каковы причины возникновения сложной ситуации сложившейся вокруг детского баскетбола?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: А)9  Б)3  В)8 Г) 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1708200" y="1600200"/>
          <a:ext cx="5727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1600200"/>
                    <a:ext cx="572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«Каковы, по вашему мнению, причины отсутствия мотивации у детей к занятиям спортом (баскетболом) в РФ?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: А)11  Б)5  В)4 Г) 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1708200" y="1600200"/>
          <a:ext cx="5727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1600200"/>
                    <a:ext cx="572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«С какими проблемами и сложностями сталкивается детский тренер в тренировочном  процессе?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: А)12  Б)6  В)2 Г) 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1708200" y="1600200"/>
          <a:ext cx="5727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1600200"/>
                    <a:ext cx="572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9:39:37Z</dcterms:created>
  <dc:creator>COMPAQ</dc:creator>
  <dc:description/>
  <dc:language>en-US</dc:language>
  <cp:lastModifiedBy>ZooM</cp:lastModifiedBy>
  <dcterms:modified xsi:type="dcterms:W3CDTF">2013-12-03T20:22:39Z</dcterms:modified>
  <cp:revision>7</cp:revision>
  <dc:subject/>
  <dc:title>                  Отчет о КСИ Тема: «Проблема развития детского спорта в РФ (на примере избранного вида спорта - баскетбол). Проор </dc:title>
</cp:coreProperties>
</file>