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72C-A854-451E-B12E-AF2BA4A9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36C-F5BC-4FBA-94C7-1793D9CA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DFE-FA9C-4F72-9AB0-817D9A51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B9E-7C65-49B2-9854-8798D478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2842-1073-4141-A522-1842B0D9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808-B203-4D93-A78C-1118510E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399-5824-45A3-8A2C-F0381D88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B41-D794-4721-A28A-22F690BB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26D-FC54-4101-877C-13108C5E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EB6-E911-4502-A8B4-D9B8297F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516-167A-4B53-8FCB-6FD835F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9C2-7095-4108-B318-BD9AED7E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4776"/>
            </a:gs>
            <a:gs pos="50000">
              <a:srgbClr val="3399ff"/>
            </a:gs>
            <a:gs pos="100000">
              <a:srgbClr val="18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EFCB-EE96-412F-B896-B40A8766AA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чет о КСИ</a:t>
            </a:r>
            <a:br>
              <a:rPr sz="40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Тема: «Проблема развития детского спорта в РФ (на примере избранного вида спорта - баскетбол)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708280"/>
            <a:ext cx="7088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л: Студент 4 кур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ы 4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зация - баскетбо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гтярёв Леон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лаховка 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«Какие пути вывода детского спорта (баскетбола) из нестабильной ситуации вам представляются более рациональными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1  Б)4  В)5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«Если бы вас назначили на пост президента РФБ, что бы сделали в первую очередь для детского баскетбола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0  Б)2  В)7 Г) 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) «Как вы относитесь к тому, что в составе главной мужской сборной команды по баскетболу выступает иностранный игрок (Джон Роберт Холден)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8  Б)9  В)1 Г) 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, в некоторых ДЮСШ находящихся преимущественно в отдаленных регионах, есть определенные проблемы в финансировании, что в свою очередь пагубно влияет на развитие детского баскетбола (вопрос №1). Большинство опрошенных тренеров считает, что данная ситуация возникла из-за развала Советской системы ДЮСШ (вопрос №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ие из опрошенных тренеров считают, что данную ситуацию можно исправить за счёт равномерного распределения финансирования во всех регионах РФ и за счёт строительства современных оборудованных спортивных сооружений (вопросы №5,№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проса выяснилось, что так же многие тренеры сталкиваются с проблемой привлечения и удержания детей в ДЮСШ из-за переориентирования интересов сегодняшних детей (вопросы №3,№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имерно ровное количество опрошенных тренеров относится положительно и отрицательно к тому, что в составе нашей главной мужской команды выступает иностранный игрок получивший гражданство. И только два тренера убеждены, что это игровое время должно распределяться между нашими молодыми игроками (вопрос №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 работы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явить проблемы в развитии детского баскетбола  в РФ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опр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даточное анкет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оки проведения исследо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20.03.08 по 15.04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грамм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-й этап (февраль – март) – Формулировка проблемы исследования. Выбор методики проведения исследования. Подготовка к исследованию – составление анкетного ли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-й этап (март – апрель) – Проведение анкетирования среди тренеров по баскетболу работающих в ДЮСШ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-й этап (май) – Обработка полученной информации и составление презентаци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кетирование тренеров по баскетболу работающих в ДЮС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опрошенных 20 челове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орма анкетного лис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) Какие проблемы на ваш взгляд существуют в развитии детского баскетбола в РФ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Недостаточность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Отсутствие достаточной мотивации у тре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Нехватка квалифицированных кад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Как вы считаете, каковы причины возникновения сложной ситуации сложившейся вокруг детского баскетб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Развал советской системы ДЮ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Не участие Государства в развитии детско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окращение ВУЗов спортивной ори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) Каковы, по вашему мнению, причины отсутствия мотивации у детей к занятиям спортом (баскетболом) в РФ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Широкий выбор увлечений для детей (компьютер, музыка, пристрастие к вредным привычкам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Бесперспективность развития спортивной карьеры в игровых видах спорта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Отсутствие морально-волевых кач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) С какими проблемами и сложностями сталкивается детский тренер в тренировочном  процесс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Привлечение и удержание детей в ДЮС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Нехватка инвентаря и обору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Недостаточно длительный период соревн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) Какие пути вывода детского спорта (баскетбола) из нестабильной ситуации вам представляются более рациональны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Строительство современных оборудованных спортивных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Активное участие государства в развитии детского спорта (баскетбол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Организация мероприятий по повышению квалификации тренерского состава (тренерские семина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) Если бы вас назначили на пост президента РФБ, что бы сделали в первую очередь для детского баскетбо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Равномерное распределение финансирования во всех регионах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Перевод ДЮСШ на коммерческую осно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Создание системы для выпускников ДЮСШ позволяющей продолжить карьерный рост (создание “среднего звена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) Как вы относитесь к тому, что в составе главной мужской сборной команды по баскетболу выступает иностранный игрок (Джон Роберт Холден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) Полож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) Отрица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) Нейтр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)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зультаты ответов на вопрос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«Какие проблемы на ваш взгляд существуют в развитии дет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а в РФ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0  Б)4  В)6 Г)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12"/>
          <p:cNvGraphicFramePr/>
          <p:nvPr/>
        </p:nvGraphicFramePr>
        <p:xfrm>
          <a:off x="2124000" y="2579760"/>
          <a:ext cx="4896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579760"/>
                    <a:ext cx="4896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«Как вы считаете, каковы причины возникновения сложной ситуации сложившейся вокруг детского баскетбола?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9  Б)3  В)8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«Каковы, по вашему мнению, причины отсутствия мотивации у детей к занятиям спортом (баскетболом) в РФ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1  Б)5  В)4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«С какими проблемами и сложностями сталкивается детский тренер в тренировочном  процессе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: А)12  Б)6  В)2 Г) 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1708200" y="1600200"/>
          <a:ext cx="5727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1600200"/>
                    <a:ext cx="5727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9:39:37Z</dcterms:created>
  <dc:creator>COMPAQ</dc:creator>
  <dc:description/>
  <dc:language>en-US</dc:language>
  <cp:lastModifiedBy>ZooM</cp:lastModifiedBy>
  <dcterms:modified xsi:type="dcterms:W3CDTF">2013-12-03T20:22:39Z</dcterms:modified>
  <cp:revision>7</cp:revision>
  <dc:subject/>
  <dc:title>                  Отчет о КСИ Тема: «Проблема развития детского спорта в РФ (на примере избранного вида спорта - баскетбол). Проор </dc:title>
</cp:coreProperties>
</file>