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E98-F311-4FE6-823F-7B6B4F0F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B61-E1A3-4633-B1D4-52B775C0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51B-BBE4-4FEB-A4B6-4486ED1B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37C-11DF-4EA9-BDD0-5932A200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6CF-D9F6-4284-BC50-1F59E661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BFF-3EFE-4DB5-B341-017BF9E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363-2133-4E4D-8B51-D10EC65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CCF-2155-416C-878E-BCB439B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4B8-5778-484C-8E5F-ECA614BC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B0E-6FF9-4F76-A1CF-6F17CFC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639-3A82-45CF-8A8C-6DD8B3A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0AF-D9F7-47C8-820C-8552FD0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2A08-B4A3-437A-8936-073E5C297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чет о КСИ</a:t>
            </a:r>
            <a:br>
              <a:rPr sz="40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: «Проблема развития детского спорта в РФ (на примере избранного вида спорта - баскетбол)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708280"/>
            <a:ext cx="7088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л: Студент 4 кур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ы 4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зация - баскетб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гтярёв Леон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аховка 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«Какие пути вывода детского спорта (баскетбола) из нестабильной ситуации вам представляются более рациональными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1  Б)4  В)5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«Если бы вас назначили на пост президента РФБ, что бы сделали в первую очередь для детского баскетбола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0  Б)2  В)7 Г) 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«Как вы относитесь к тому, что в составе главной мужской сборной команды по баскетболу выступает иностранный игрок (Джон Роберт Холден)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8  Б)9  В)1 Г)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, в некоторых ДЮСШ находящихся преимущественно в отдаленных регионах, есть определенные проблемы в финансировании, что в свою очередь пагубно влияет на развитие детского баскетбола (вопрос №1). Большинство опрошенных тренеров считает, что данная ситуация возникла из-за развала Советской системы ДЮСШ (вопрос №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ие из опрошенных тренеров считают, что данную ситуацию можно исправить за счёт равномерного распределения финансирования во всех регионах РФ и за счёт строительства современных оборудованных спортивных сооружений (вопросы №5,№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проса выяснилось, что так же многие тренеры сталкиваются с проблемой привлечения и удержания детей в ДЮСШ из-за переориентирования интересов сегодняшних детей (вопросы №3,№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имерно ровное количество опрошенных тренеров относится положительно и отрицательно к тому, что в составе нашей главной мужской команды выступает иностранный игрок получивший гражданство. И только два тренера убеждены, что это игровое время должно распределяться между нашими молодыми игроками (вопрос №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вить проблемы в развитии детского баскетбола  в Р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даточное анкет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оки проведени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.03.08 по 15.04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м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-й этап (февраль – март) – Формулировка проблемы исследования. Выбор методики проведения исследования. Подготовка к исследованию – составление анкетного ли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-й этап (март – апрель) – Проведение анкетирования среди тренеров по баскетболу работающих в ДЮСШ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-й этап (май) – Обработка полученной информации и составление презентаци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кетирование тренеров по баскетболу работающих в ДЮС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опрошенных 20 челове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орма анкетного ли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 Какие проблемы на ваш взгляд существуют в развитии детского баскетбола 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Недостаточность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Отсутствие достаточной мотивации у тре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хватка квалифицированных кад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Как вы считаете, каковы причины возникновения сложной ситуации сложившейся вокруг детского баскетб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Развал советской системы 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 участие Государства в развитии детск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окращение ВУЗов спортивной ори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Каковы, по вашему мнению, причины отсутствия мотивации у детей к занятиям спортом (баскетболом) 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Широкий выбор увлечений для детей (компьютер, музыка, пристрастие к вредным привычкам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Бесперспективность развития спортивной карьеры в игровых видах спорта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Отсутствие морально-волевых 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) С какими проблемами и сложностями сталкивается детский тренер в тренировочном  процес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ривлечение и удержание детей в 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хватка инвентаря и обору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достаточно длительный период соревн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) Какие пути вывода детского спорта (баскетбола) из нестабильной ситуации вам представляются более рациональны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Строительство современных оборудованных спортивных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Активное участие государства в развитии детского спорта (баскетбол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Организация мероприятий по повышению квалификации тренерского состава (тренерские семина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) Если бы вас назначили на пост президента РФБ, что бы сделали в первую очередь для детского баскетб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Равномерное распределение финансирования во всех регионах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еревод ДЮСШ на коммерческую осно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оздание системы для выпускников ДЮСШ позволяющей продолжить карьерный рост (создание “среднего звена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) Как вы относитесь к тому, что в составе главной мужской сборной команды по баскетболу выступает иностранный игрок (Джон Роберт Холден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олож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Отрица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йтр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зультаты ответов на вопрос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«Какие проблемы на ваш взгляд существуют в развитии дет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а в РФ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0  Б)4  В)6 Г)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12"/>
          <p:cNvGraphicFramePr/>
          <p:nvPr/>
        </p:nvGraphicFramePr>
        <p:xfrm>
          <a:off x="2124000" y="2579760"/>
          <a:ext cx="4896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579760"/>
                    <a:ext cx="4896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«Как вы считаете, каковы причины возникновения сложной ситуации сложившейся вокруг детского баскетбола?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9  Б)3  В)8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«Каковы, по вашему мнению, причины отсутствия мотивации у детей к занятиям спортом (баскетболом) в РФ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1  Б)5  В)4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«С какими проблемами и сложностями сталкивается детский тренер в тренировочном  процессе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2  Б)6  В)2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9:39:37Z</dcterms:created>
  <dc:creator>COMPAQ</dc:creator>
  <dc:description/>
  <dc:language>en-US</dc:language>
  <cp:lastModifiedBy>ZooM</cp:lastModifiedBy>
  <dcterms:modified xsi:type="dcterms:W3CDTF">2013-12-03T20:22:39Z</dcterms:modified>
  <cp:revision>7</cp:revision>
  <dc:subject/>
  <dc:title>                  Отчет о КСИ Тема: «Проблема развития детского спорта в РФ (на примере избранного вида спорта - баскетбол). Проор </dc:title>
</cp:coreProperties>
</file>