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9BB-3182-4D46-B0B3-D5BCE062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4E7-2E03-4230-93B7-0A5592F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981-6556-45A7-8521-7B627D71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6EF-5989-4028-BAC3-4E43E56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5A0-3250-4127-8C0A-CD04500D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4363-2D42-4F1D-A914-792FE161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2A30-D796-424A-9C9E-1C64C31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0FDD-CABB-4676-AD1E-26140E3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B79-4493-4471-85BC-EE56359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A62-A952-4AF6-8620-1A086B1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CB5F-E488-422A-A6B0-2A786DA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6D7-4085-4093-9304-6993ACA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13A-E184-426B-8BA5-D7A6649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407-2AAE-4709-98FE-AA6E388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FA22-9B32-4B91-A776-55998DF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A88-522D-487C-B189-FDDEA468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0474-5E04-4199-8A9A-4A82D14A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C83-90C7-49BE-BCB2-DA189D5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3BA-2DF3-4DF3-A43F-994585C1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7A9-62BD-493C-AC93-1A21142F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72F-E6C0-4C9F-BC16-08BE8D2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A5E-456F-4D14-BA61-E2FBD4D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689-6494-4E54-8917-1D7A66CC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EBC-D29F-4418-BFA4-ACA7BB0F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ECD-6B92-42AF-BD09-3449D69619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066-AA3C-43E8-BEBC-47F0085350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32000" y="765000"/>
            <a:ext cx="6480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лат Шалвови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удж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185280" y="136440"/>
            <a:ext cx="24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оз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5640" y="474516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лягина Ве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ивошеева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ротина Алекс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щественно-политическая деятель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началом перестройки Булат Окуджава стал принимать активное участие в политической жизни страны, заняв активную демократическую пози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89 года — член-учредитель русского ПЕН-цен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0 году вышел из КП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92 года — член комиссии по помилованиям при Президенте РФ; с 1994 года — член комиссии по Государственным премиям Р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ыл членом учредительного совета газеты «Московские новости», членом учредительного совета «Общей газеты», членом редколлегии газеты «Вечерний клуб», членом Совета общества «Мемориа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3 году подписал «Письмо 42-х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Содержимое 3" descr="8.jpg"/>
          <p:cNvPicPr/>
          <p:nvPr/>
        </p:nvPicPr>
        <p:blipFill>
          <a:blip r:embed="rId1"/>
          <a:stretch/>
        </p:blipFill>
        <p:spPr>
          <a:xfrm>
            <a:off x="4427640" y="206064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990-е г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990-е годы Окуджава в основном жил на даче в Переделкине. В эти годы Окуджава выступал с концертами в Москве и Санкт-Петербурге, в США, Канаде, Германии и Израиле. 23 июня 1995 года состоялся последний концерт Булата Окуджавы в Штаб-квартире ЮНЕСКО в Пари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Содержимое 3" descr="13.jpg"/>
          <p:cNvPicPr/>
          <p:nvPr/>
        </p:nvPicPr>
        <p:blipFill>
          <a:blip r:embed="rId1"/>
          <a:stretch/>
        </p:blipFill>
        <p:spPr>
          <a:xfrm>
            <a:off x="4932360" y="1341360"/>
            <a:ext cx="396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мер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июня 1997 года Булат Окуджава скончался в Париже в военном госпит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самой смертью Булат Окуджава был крещён с именем Иоанн. Это произошло в Париже по благословению одного из старцев Псково-Печорского монастыря. Похоронен на московском Ваганьковском кладби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640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знание и награ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ая премия и приз «Золотой венец», Югославия (1967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ден Дружбы народов (1984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з «Золотая гитара» на фестивале в Сан-Ремо, Италия (1985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мя Окуджавы присвоено малой планете (1988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степень доктора гуманитарных наук Норвичского университета, США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Пеньо Пенев», Болгария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За мужество в литературе» им. А. Д. Сахарова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ауреат Государственной премии СССР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Русский Букер» (1994) за автобиографический роман «Упразднённый театр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даль «За оборону Кавказ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медаль Советского фонда ми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5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9 году распоряжением Председателя Правительство РФ В. В. Путина был создан Дом-музей Б. Ш. Окуджавы в Переделки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мая 2002 года в Москве был открыт первый памятник Булату Окуджаве. Монумент установлен на углу Арбата и Плотникова переул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сентября 2007 года был открыт памятник Окуджаве в Москве во дворе Центра образования № 109. Автор обеих скульптур — Георгий Франгуля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494160" cy="525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476880" cy="511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1800" y="589752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ре Центра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96920" y="582444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на углу Арб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Фестивали и премия им.Булата Окуджав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7 году учреждена Государственная премия имени Булата Окудж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ждународный фестиваль Булата Окуджав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жегодный московский фестиваль «И друзей созову…», посвящённый Булату Окуджа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ый городской конкурс патриотической авторской песни имени Булата Окуджавы, Перм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раильский международный фестиваль памяти Булата Окуджавы, города Израи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224496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ворческ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ат Окуджава оставил после себя огромное творческое наследие. Это и сборники, и исторические романы, и киносценарии. Огромную честь его творчества составляют песни, многие из которых он писал для кинофильмов. После смерти об Окуджаве были сняты документальные филь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ся в Москве 9 мая 1924 года в семье коммунистов, приехавших из Тифлиса для партийной учёбы в Коммунистической академии. Отец — Шалва Степанович Окуджава, грузин, известный партийный деятель, мать — Ашхен Степановна Налбандян, армянка. Первое место жительства — ул. Арбат, д. 43, коммунальная квартира на 4-м эта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91628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69704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ход на фро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апреле 1942 года, в возрасте 17 лет, Окуджава пошёл на фронт добровольцем. Был направлен в 10-й Отдельный запасной миномётный дивизион. Затем, после двух месяцев обучения, был отправлен на Северо-Кавказский фронт. Был миномётчиком, потом радистом тяжёлой артиллерии. Был ранен под Моздо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2259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пес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г. - его первая песня «Нам в холодных теплушках не спалось» текст которой не сохрани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ая песня была написана в 1946 году — «Старинная студенческая песня» («Неистов и упрям…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нявший меч на наш сою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оин будет худшей ка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я за жизнь его тог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дам и ломаной гита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вожделенно жаждет в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щупать брешь у нас в цепочке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ьмемся за руки, друз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 не пропасть поодиноч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сле войны. Первый сбор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войны Окуджава поступил в Тбилисский государственный университет. Получив диплом, в 1950 году начал работать учителем — сначала в сельской школе в селе Шамордино Калужской области и в районном центре Высокини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54 году, после встречи писателя Владимира Кобликова и поэта Николая Панченко с читателями в Высокиничском районе, Булат подошёл к ним и предложил послушать его стихи. Получив одобрение и поддержку, он перебрался в Калугу, где стал сотрудничать с газетой «Молодой ленинец» и в 1956 году выпустил свой первый сборник «Лири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199548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звращение в Москв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59 году Окуджава вернулся в Москву. В том же году начал выступать как автор песен (стихов и музыки) и исполнять их под гитару, быстро завоёвывая популярность. К этому периоду относится сочинение многих наиболее известных ранних песен Окуджавы («На Тверском бульваре», «Песенка о Лёньке Королёве», «Песенка о голубом шарике», «Сентиментальный марш», «Песенка о полночном троллейбусе», «Не бродяги, не пропойцы», «Московский муравей», «Песенка о комсомольской богине» и 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л редактором в издательстве «Молодая гвардия», затем — заведующим отделом поэзии в «Литературной газете». Участвовал в работе литературного объединения «Магистрал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61 году ушёл со службы и больше по найму не работал, занимаясь исключительно творческой деятель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куджава-автор песен для фильм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2 году  Окуджава впервые появился на экране в фильме «Цепная реакция», в котором исполнил песню «Полночный троллейбу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70 году на экраны вышел фильм «Белорусский вокзал», в котором исполнялась песня Булата Окуджавы «А нам нужна одна победа». Окуджава — автор и других популярных песен для таких кинофильмов, как «Соломенная шляпка», «Женя, Женечка и „катюша“» и др. В общей сложности песни Окуджавы и на его стихи звучат в более чем 80-ти филь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12.jpg"/>
          <p:cNvPicPr/>
          <p:nvPr/>
        </p:nvPicPr>
        <p:blipFill>
          <a:blip r:embed="rId1"/>
          <a:stretch/>
        </p:blipFill>
        <p:spPr>
          <a:xfrm>
            <a:off x="4660920" y="1862280"/>
            <a:ext cx="4303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дис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диск с песнями Окуджавы вышел в Париже в 1968 году. В том же году в Польше вышел диск с песнями Окуджавы в исполнении польских артистов, и одна песня — «Прощание с Польшей» — в нём была в исполнении автора. С середины 70-х годов диски Окуджавы выходили и в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сни Булата Окуджавы, распространяясь в магнитофонных записях, быстро завоёвывали популяр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9924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куджава - проза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1 году Окуджава дебютировал как прозаик: в альманахе «Тарусские страницы» была опубликована его автобиографическая повесть «Будь здоров, школяр». Опубликованы повести: «Бедный Авросимов» («Глоток свободы») о трагических страницах в истории декабристского движения, «Похождения Шипова, или Старинный водевиль» и написанные на историческом материале начала XIX века романы «Путешествие дилетантов» и «Свидание с Бонапарто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9040" y="1812960"/>
            <a:ext cx="29350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09:08Z</dcterms:created>
  <dc:creator>Сиротина СВ</dc:creator>
  <dc:description/>
  <dc:language>en-US</dc:language>
  <cp:lastModifiedBy>Сиротина СВ</cp:lastModifiedBy>
  <dcterms:modified xsi:type="dcterms:W3CDTF">2011-05-16T18:47:28Z</dcterms:modified>
  <cp:revision>4</cp:revision>
  <dc:subject/>
  <dc:title>Слайд 1</dc:title>
</cp:coreProperties>
</file>