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AFC-001D-428B-9BD5-467581F0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1E3-061E-474E-B4A1-0A815E6C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50C-45E6-4179-9928-593CD95C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0D9-7929-407E-99CD-642DC3AE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E3A9-C0A1-4F61-A65A-1FA326E0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0018-2BCE-474E-9630-02A5F6A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A510-18B9-4788-981D-FB9B715B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0128-B4C2-4CF6-9BF0-D210F402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573A-5830-4B4D-94F0-B80960F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AFBD-D233-49C0-84CA-0FA6BE80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EA6-0969-4AFF-859B-F06676E2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DC8-DE23-4405-945C-E9BBE91A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6E59-3E87-4D43-B6D3-165891C2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AC42-A1E9-4CE7-977A-EC6FF47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1EA2-CBFE-4B3B-990D-533347CA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D22E-1318-4E3C-A25F-774DF704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20E5-0A89-43BB-B780-0DED9E14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C6A-1B72-48C1-A662-DDD6928B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36B-375E-4756-A17E-94DF7DAE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50A-1D3A-41E3-8799-6EE30AF6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ADE-AD28-4F43-937F-847A9AF8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3F2-CE5C-448B-A5C6-DE760FC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8CA-1D1B-4D09-B12A-032E82E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C84-EDA5-485F-9C22-5BD33ACB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FE51-7A67-4EA6-9747-01F75498BC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2191-D102-4C29-84D2-08319124E1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332000" y="765000"/>
            <a:ext cx="6480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лат Шалвови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удж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3185280" y="136440"/>
            <a:ext cx="24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Коз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5640" y="474516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лягина Ве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ивошеева И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ротина Алекса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бщественно-политическая деятель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началом перестройки Булат Окуджава стал принимать активное участие в политической жизни страны, заняв активную демократическую пози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1989 года — член-учредитель русского ПЕН-цент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990 году вышел из КПС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1992 года — член комиссии по помилованиям при Президенте РФ; с 1994 года — член комиссии по Государственным премиям Р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ыл членом учредительного совета газеты «Московские новости», членом учредительного совета «Общей газеты», членом редколлегии газеты «Вечерний клуб», членом Совета общества «Мемориал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993 году подписал «Письмо 42-х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Содержимое 3" descr="8.jpg"/>
          <p:cNvPicPr/>
          <p:nvPr/>
        </p:nvPicPr>
        <p:blipFill>
          <a:blip r:embed="rId1"/>
          <a:stretch/>
        </p:blipFill>
        <p:spPr>
          <a:xfrm>
            <a:off x="4427640" y="206064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990-е г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990-е годы Окуджава в основном жил на даче в Переделкине. В эти годы Окуджава выступал с концертами в Москве и Санкт-Петербурге, в США, Канаде, Германии и Израиле. 23 июня 1995 года состоялся последний концерт Булата Окуджавы в Штаб-квартире ЮНЕСКО в Пари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Содержимое 3" descr="13.jpg"/>
          <p:cNvPicPr/>
          <p:nvPr/>
        </p:nvPicPr>
        <p:blipFill>
          <a:blip r:embed="rId1"/>
          <a:stretch/>
        </p:blipFill>
        <p:spPr>
          <a:xfrm>
            <a:off x="4932360" y="1341360"/>
            <a:ext cx="3968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мер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июня 1997 года Булат Окуджава скончался в Париже в военном госпита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самой смертью Булат Окуджава был крещён с именем Иоанн. Это произошло в Париже по благословению одного из старцев Псково-Печорского монастыря. Похоронен на московском Ваганьковском кладби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6403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знание и награ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ая премия и приз «Золотой венец», Югославия (1967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ден Дружбы народов (1984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з «Золотая гитара» на фестивале в Сан-Ремо, Италия (1985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мя Окуджавы присвоено малой планете (1988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чётная степень доктора гуманитарных наук Норвичского университета, США (199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Пеньо Пенев», Болгария (199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За мужество в литературе» им. А. Д. Сахарова (1991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ауреат Государственной премии СССР (1991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Русский Букер» (1994) за автобиографический роман «Упразднённый театр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даль «За оборону Кавказ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чётная медаль Советского фонда ми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5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99 году распоряжением Председателя Правительство РФ В. В. Путина был создан Дом-музей Б. Ш. Окуджавы в Переделки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мая 2002 года в Москве был открыт первый памятник Булату Окуджаве. Монумент установлен на углу Арбата и Плотникова переул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сентября 2007 года был открыт памятник Окуджаве в Москве во дворе Центра образования № 109. Автор обеих скульптур — Георгий Франгуля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494160" cy="525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476880" cy="511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1800" y="589752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. Окуджаве 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оре Центра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96920" y="582444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. Окуджаве на углу Арб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Фестивали и премия им.Булата Окуджав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97 году учреждена Государственная премия имени Булата Окуджа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ждународный фестиваль Булата Окуджав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жегодный московский фестиваль «И друзей созову…», посвящённый Булату Окуджа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ый городской конкурс патриотической авторской песни имени Булата Окуджавы, Перм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раильский международный фестиваль памяти Булата Окуджавы, города Израи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2244960" cy="287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950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ворческое наслед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лат Окуджава оставил после себя огромное творческое наследие. Это и сборники, и исторические романы, и киносценарии. Огромную честь его творчества составляют песни, многие из которых он писал для кинофильмов. После смерти об Окуджаве были сняты документальные филь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лся в Москве 9 мая 1924 года в семье коммунистов, приехавших из Тифлиса для партийной учёбы в Коммунистической академии. Отец — Шалва Степанович Окуджава, грузин, известный партийный деятель, мать — Ашхен Степановна Налбандян, армянка. Первое место жительства — ул. Арбат, д. 43, коммунальная квартира на 4-м эта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191628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69704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ход на фрон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апреле 1942 года, в возрасте 17 лет, Окуджава пошёл на фронт добровольцем. Был направлен в 10-й Отдельный запасной миномётный дивизион. Затем, после двух месяцев обучения, был отправлен на Северо-Кавказский фронт. Был миномётчиком, потом радистом тяжёлой артиллерии. Был ранен под Моздо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2259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вые пес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г. - его первая песня «Нам в холодных теплушках не спалось» текст которой не сохрани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ая песня была написана в 1946 году — «Старинная студенческая песня» («Неистов и упрям…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нявший меч на наш сою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оин будет худшей ка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я за жизнь его тог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дам и ломаной гита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вожделенно жаждет в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щупать брешь у нас в цепочке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ьмемся за руки, друз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 не пропасть поодиноч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сле войны. Первый сбор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 войны Окуджава поступил в Тбилисский государственный университет. Получив диплом, в 1950 году начал работать учителем — сначала в сельской школе в селе Шамордино Калужской области и в районном центре Высокини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54 году, после встречи писателя Владимира Кобликова и поэта Николая Панченко с читателями в Высокиничском районе, Булат подошёл к ним и предложил послушать его стихи. Получив одобрение и поддержку, он перебрался в Калугу, где стал сотрудничать с газетой «Молодой ленинец» и в 1956 году выпустил свой первый сборник «Лири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199548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звращение в Москв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59 году Окуджава вернулся в Москву. В том же году начал выступать как автор песен (стихов и музыки) и исполнять их под гитару, быстро завоёвывая популярность. К этому периоду относится сочинение многих наиболее известных ранних песен Окуджавы («На Тверском бульваре», «Песенка о Лёньке Королёве», «Песенка о голубом шарике», «Сентиментальный марш», «Песенка о полночном троллейбусе», «Не бродяги, не пропойцы», «Московский муравей», «Песенка о комсомольской богине» и д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л редактором в издательстве «Молодая гвардия», затем — заведующим отделом поэзии в «Литературной газете». Участвовал в работе литературного объединения «Магистрал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61 году ушёл со службы и больше по найму не работал, занимаясь исключительно творческой деятель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куджава-автор песен для фильм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62 году  Окуджава впервые появился на экране в фильме «Цепная реакция», в котором исполнил песню «Полночный троллейбу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70 году на экраны вышел фильм «Белорусский вокзал», в котором исполнялась песня Булата Окуджавы «А нам нужна одна победа». Окуджава — автор и других популярных песен для таких кинофильмов, как «Соломенная шляпка», «Женя, Женечка и „катюша“» и др. В общей сложности песни Окуджавы и на его стихи звучат в более чем 80-ти филь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12.jpg"/>
          <p:cNvPicPr/>
          <p:nvPr/>
        </p:nvPicPr>
        <p:blipFill>
          <a:blip r:embed="rId1"/>
          <a:stretch/>
        </p:blipFill>
        <p:spPr>
          <a:xfrm>
            <a:off x="4660920" y="1862280"/>
            <a:ext cx="4303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вые дис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й диск с песнями Окуджавы вышел в Париже в 1968 году. В том же году в Польше вышел диск с песнями Окуджавы в исполнении польских артистов, и одна песня — «Прощание с Польшей» — в нём была в исполнении автора. С середины 70-х годов диски Окуджавы выходили и в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сни Булата Окуджавы, распространяясь в магнитофонных записях, быстро завоёвывали популяр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9924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куджава - проза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61 году Окуджава дебютировал как прозаик: в альманахе «Тарусские страницы» была опубликована его автобиографическая повесть «Будь здоров, школяр». Опубликованы повести: «Бедный Авросимов» («Глоток свободы») о трагических страницах в истории декабристского движения, «Похождения Шипова, или Старинный водевиль» и написанные на историческом материале начала XIX века романы «Путешествие дилетантов» и «Свидание с Бонапарто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9040" y="1812960"/>
            <a:ext cx="29350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6:09:08Z</dcterms:created>
  <dc:creator>Сиротина СВ</dc:creator>
  <dc:description/>
  <dc:language>en-US</dc:language>
  <cp:lastModifiedBy>Сиротина СВ</cp:lastModifiedBy>
  <dcterms:modified xsi:type="dcterms:W3CDTF">2011-05-16T18:47:28Z</dcterms:modified>
  <cp:revision>4</cp:revision>
  <dc:subject/>
  <dc:title>Слайд 1</dc:title>
</cp:coreProperties>
</file>