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D52F-7464-4CD8-B420-4383E74B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CD5-ED71-4E62-862E-58967FE2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2D5-682B-427A-AF05-3C6E8BD6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8CF-F9E0-4B40-85F7-463E56BE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39B4-A7F4-48F4-89C2-2A5F675F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7241-6EC4-4D4A-8567-066D5A24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8378-7483-4BEE-AD16-16F08306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BA35-DDA6-4F09-A94C-473A2016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F1F4-3B4C-434F-BA8F-F1F5EE1B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F6BC-7474-4076-8836-C8873FC4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1D56-8B8A-450E-8FC5-1B89CF05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FEA3-64AB-4D2F-92B9-CAF56D36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C5EF-2A2A-4D9D-AC63-CF8D01AE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EE7A-371F-4450-BF36-6819AF02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7CFC-8541-4C32-8C08-C7332F4A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79E2-56DC-465A-ADE4-8D0B753C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26FC-00AB-4194-88A2-CE5B2CFB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3A7-60F4-4AE8-98C1-421EB7B6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1EA5-73AD-4EDC-B362-6A72D818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7FB8-F07D-4E3E-9C0F-DEAD3739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311C-922C-4A36-8D34-CD4BE443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9100-4239-4859-959E-11ECB608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7CA2-F3D8-40E7-A2F3-574EE073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D560-49B1-4419-A5C1-4628FEC7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E3F4-2BD2-47B8-934C-63EB00E2B5A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09B0-850B-48F7-A455-F40EC51F458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332000" y="765000"/>
            <a:ext cx="64800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лат Шалвови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куджа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3185280" y="136440"/>
            <a:ext cx="24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©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Коз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5640" y="4745160"/>
            <a:ext cx="254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лягина Веро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ивошеева И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ротина Александ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Общественно-политическая деятельность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 началом перестройки Булат Окуджава стал принимать активное участие в политической жизни страны, заняв активную демократическую позици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 1989 года — член-учредитель русского ПЕН-цент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1990 году вышел из КПС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 1992 года — член комиссии по помилованиям при Президенте РФ; с 1994 года — член комиссии по Государственным премиям Р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ыл членом учредительного совета газеты «Московские новости», членом учредительного совета «Общей газеты», членом редколлегии газеты «Вечерний клуб», членом Совета общества «Мемориал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1993 году подписал «Письмо 42-х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Содержимое 3" descr="8.jpg"/>
          <p:cNvPicPr/>
          <p:nvPr/>
        </p:nvPicPr>
        <p:blipFill>
          <a:blip r:embed="rId1"/>
          <a:stretch/>
        </p:blipFill>
        <p:spPr>
          <a:xfrm>
            <a:off x="4427640" y="2060640"/>
            <a:ext cx="453708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990-е го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990-е годы Окуджава в основном жил на даче в Переделкине. В эти годы Окуджава выступал с концертами в Москве и Санкт-Петербурге, в США, Канаде, Германии и Израиле. 23 июня 1995 года состоялся последний концерт Булата Окуджавы в Штаб-квартире ЮНЕСКО в Париж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Содержимое 3" descr="13.jpg"/>
          <p:cNvPicPr/>
          <p:nvPr/>
        </p:nvPicPr>
        <p:blipFill>
          <a:blip r:embed="rId1"/>
          <a:stretch/>
        </p:blipFill>
        <p:spPr>
          <a:xfrm>
            <a:off x="4932360" y="1341360"/>
            <a:ext cx="3968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мер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июня 1997 года Булат Окуджава скончался в Париже в военном госпита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ред самой смертью Булат Окуджава был крещён с именем Иоанн. Это произошло в Париже по благословению одного из старцев Псково-Печорского монастыря. Похоронен на московском Ваганьковском кладбищ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64032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ризнание и награ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ервая премия и приз «Золотой венец», Югославия (1967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рден Дружбы народов (1984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из «Золотая гитара» на фестивале в Сан-Ремо, Италия (1985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мя Окуджавы присвоено малой планете (1988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чётная степень доктора гуманитарных наук Норвичского университета, США (1990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емия «Пеньо Пенев», Болгария (1990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емия «За мужество в литературе» им. А. Д. Сахарова (1991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Лауреат Государственной премии СССР (1991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емия «Русский Букер» (1994) за автобиографический роман «Упразднённый театр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даль «За оборону Кавказа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чётная медаль Советского фонда мир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050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амя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1999 году распоряжением Председателя Правительство РФ В. В. Путина был создан Дом-музей Б. Ш. Окуджавы в Переделки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мая 2002 года в Москве был открыт первый памятник Булату Окуджаве. Монумент установлен на углу Арбата и Плотникова переул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сентября 2007 года был открыт памятник Окуджаве в Москве во дворе Центра образования № 109. Автор обеих скульптур — Георгий Франгуля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44956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3494160" cy="5253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43280" y="692280"/>
            <a:ext cx="3476880" cy="5113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1800" y="5897520"/>
            <a:ext cx="31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мятник Б. Окуджаве 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оре Центра 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96920" y="5824440"/>
            <a:ext cx="42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мятник Б. Окуджаве на углу Арб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Фестивали и премия им.Булата Окуджав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1997 году учреждена Государственная премия имени Булата Окуджав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ждународный фестиваль Булата Окуджав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жегодный московский фестиваль «И друзей созову…», посвящённый Булату Окуджав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рытый городской конкурс патриотической авторской песни имени Булата Окуджавы, Перм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раильский международный фестиваль памяти Булата Окуджавы, города Израил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356000" y="1557360"/>
            <a:ext cx="2244960" cy="2879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012000" y="4437000"/>
            <a:ext cx="295092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ворческое наслед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лат Окуджава оставил после себя огромное творческое наследие. Это и сборники, и исторические романы, и киносценарии. Огромную честь его творчества составляют песни, многие из которых он писал для кинофильмов. После смерти об Окуджаве были сняты документальные филь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Детст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одился в Москве 9 мая 1924 года в семье коммунистов, приехавших из Тифлиса для партийной учёбы в Коммунистической академии. Отец — Шалва Степанович Окуджава, грузин, известный партийный деятель, мать — Ашхен Степановна Налбандян, армянка. Первое место жительства — ул. Арбат, д. 43, коммунальная квартира на 4-м этаж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948360" y="1557360"/>
            <a:ext cx="1916280" cy="2376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1697040" cy="2592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932360" y="414972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Уход на фрон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апреле 1942 года, в возрасте 17 лет, Окуджава пошёл на фронт добровольцем. Был направлен в 10-й Отдельный запасной миномётный дивизион. Затем, после двух месяцев обучения, был отправлен на Северо-Кавказский фронт. Был миномётчиком, потом радистом тяжёлой артиллерии. Был ранен под Моздо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322596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ервые песн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43г. - его первая песня «Нам в холодных теплушках не спалось» текст которой не сохранил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торая песня была написана в 1946 году — «Старинная студенческая песня» («Неистов и упрям…»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нявший меч на наш сою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стоин будет худшей кар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я за жизнь его тог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дам и ломаной гита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вожделенно жаждет ве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щупать брешь у нас в цепочке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зьмемся за руки, друзь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б не пропасть поодиноч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сле войны. Первый сборн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сле войны Окуджава поступил в Тбилисский государственный университет. Получив диплом, в 1950 году начал работать учителем — сначала в сельской школе в селе Шамордино Калужской области и в районном центре Высокинич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1954 году, после встречи писателя Владимира Кобликова и поэта Николая Панченко с читателями в Высокиничском районе, Булат подошёл к ним и предложил послушать его стихи. Получив одобрение и поддержку, он перебрался в Калугу, где стал сотрудничать с газетой «Молодой ленинец» и в 1956 году выпустил свой первый сборник «Лирик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1995480" cy="2808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516720" y="4149720"/>
            <a:ext cx="24843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озвращение в Москв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1959 году Окуджава вернулся в Москву. В том же году начал выступать как автор песен (стихов и музыки) и исполнять их под гитару, быстро завоёвывая популярность. К этому периоду относится сочинение многих наиболее известных ранних песен Окуджавы («На Тверском бульваре», «Песенка о Лёньке Королёве», «Песенка о голубом шарике», «Сентиментальный марш», «Песенка о полночном троллейбусе», «Не бродяги, не пропойцы», «Московский муравей», «Песенка о комсомольской богине» и др.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ал редактором в издательстве «Молодая гвардия», затем — заведующим отделом поэзии в «Литературной газете». Участвовал в работе литературного объединения «Магистраль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1961 году ушёл со службы и больше по найму не работал, занимаясь исключительно творческой деятельност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Окуджава-автор песен для фильмо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1962 году  Окуджава впервые появился на экране в фильме «Цепная реакция», в котором исполнил песню «Полночный троллейбус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1970 году на экраны вышел фильм «Белорусский вокзал», в котором исполнялась песня Булата Окуджавы «А нам нужна одна победа». Окуджава — автор и других популярных песен для таких кинофильмов, как «Соломенная шляпка», «Женя, Женечка и „катюша“» и др. В общей сложности песни Окуджавы и на его стихи звучат в более чем 80-ти фильм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Содержимое 3" descr="12.jpg"/>
          <p:cNvPicPr/>
          <p:nvPr/>
        </p:nvPicPr>
        <p:blipFill>
          <a:blip r:embed="rId1"/>
          <a:stretch/>
        </p:blipFill>
        <p:spPr>
          <a:xfrm>
            <a:off x="4660920" y="1862280"/>
            <a:ext cx="430380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ервые дис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вый диск с песнями Окуджавы вышел в Париже в 1968 году. В том же году в Польше вышел диск с песнями Окуджавы в исполнении польских артистов, и одна песня — «Прощание с Польшей» — в нём была в исполнении автора. С середины 70-х годов диски Окуджавы выходили и в ССС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сни Булата Окуджавы, распространяясь в магнитофонных записях, быстро завоёвывали популяр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9924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Окуджава - проза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1961 году Окуджава дебютировал как прозаик: в альманахе «Тарусские страницы» была опубликована его автобиографическая повесть «Будь здоров, школяр». Опубликованы повести: «Бедный Авросимов» («Глоток свободы») о трагических страницах в истории декабристского движения, «Похождения Шипова, или Старинный водевиль» и написанные на историческом материале начала XIX века романы «Путешествие дилетантов» и «Свидание с Бонапартом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69040" y="1812960"/>
            <a:ext cx="293508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16:09:08Z</dcterms:created>
  <dc:creator>Сиротина СВ</dc:creator>
  <dc:description/>
  <dc:language>en-US</dc:language>
  <cp:lastModifiedBy>Сиротина СВ</cp:lastModifiedBy>
  <dcterms:modified xsi:type="dcterms:W3CDTF">2011-05-16T18:47:28Z</dcterms:modified>
  <cp:revision>4</cp:revision>
  <dc:subject/>
  <dc:title>Слайд 1</dc:title>
</cp:coreProperties>
</file>