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91C-3C69-4B6D-A8BA-CC3A7F26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1B1-6083-4E1A-983F-FFE85BEF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02F-D714-42CE-8D9F-359B6E63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92A-A164-4424-A580-BAC8E32B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0A3-58FA-42A4-9BF5-FC613DDD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594-67BA-44D1-9B8A-C719F926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80E-6865-4A30-B960-CB840AD2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E3C-8401-4760-969F-1BFA2BD0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A39-0DB0-4CD5-ACB9-805FDDF5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72B-887C-4B6A-9118-5D533EEC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0A7-1D95-44F0-BC16-BD193053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44F-6CDC-4538-8432-28CFDB1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76C0-4317-4D89-A05C-AF3AB5D1B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&lt;&lt;9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я – День побед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&gt;&gt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вазава Кристина  7Б класс, школа 345 ,2010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PK-03\Мои документы\7б класс 2009-10\7б Гвазава Кристина 9 мая -день победы\b880b9b935fe.jpg"/>
          <p:cNvPicPr/>
          <p:nvPr/>
        </p:nvPicPr>
        <p:blipFill>
          <a:blip r:embed="rId1"/>
          <a:stretch/>
        </p:blipFill>
        <p:spPr>
          <a:xfrm>
            <a:off x="0" y="0"/>
            <a:ext cx="5238720" cy="3929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 rot="780600">
            <a:off x="2573640" y="4429080"/>
            <a:ext cx="4572000" cy="2014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ский залив, Неву и Ладожское озеро. И лишь впоследствии, между ними осталась протока - которую, за сравнительно молодой возраст, назвали Невой - Новая вода (финск). Петергоф известен своей терассой, на которой строились дворец и каска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PK-03\Мои документы\7б класс 2009-10\7б Гвазава Кристина 9 мая -день победы\big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42920" y="4937040"/>
          <a:ext cx="5181480" cy="192096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1920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лько лет Петродворцу? 299. Он впервые упоминается 12 июля 1705 года, когда Петр выстроил в нем "путевые хоромы" на полдороги в строющийся Кронштадт. Эта дата считается днем рождением города, связанная в нашем представление с предпосылкой к зарождению всемирно известного комплекса столицы фонт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PK-03\Мои документы\7б класс 2009-10\7б Гвазава Кристина 9 мая -день победы\imgB.jpg"/>
          <p:cNvPicPr/>
          <p:nvPr/>
        </p:nvPicPr>
        <p:blipFill>
          <a:blip r:embed="rId1"/>
          <a:stretch/>
        </p:blipFill>
        <p:spPr>
          <a:xfrm>
            <a:off x="0" y="0"/>
            <a:ext cx="6315120" cy="4429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071800" y="4643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 rot="20472600">
            <a:off x="3477600" y="4175280"/>
            <a:ext cx="4714920" cy="14655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Украшением парков и сооружений является великолепная скульптура. Четыре каскада и 150 действующих фонтанов потрясают воображение. Не случайно Петергоф обычно называют столицей фонт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PK-03\Мои документы\7б класс 2009-10\7б Гвазава Кристина 9 мая -день победы\map_city_.gif"/>
          <p:cNvPicPr/>
          <p:nvPr/>
        </p:nvPicPr>
        <p:blipFill>
          <a:blip r:embed="rId1"/>
          <a:stretch/>
        </p:blipFill>
        <p:spPr>
          <a:xfrm>
            <a:off x="1571760" y="0"/>
            <a:ext cx="5841720" cy="3797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 rot="1413600">
            <a:off x="2073240" y="2737800"/>
            <a:ext cx="389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етродворец - столица фонтанов, расположен на южном берегу Финского залива в 30 км. от Петербурга. Славен так же многочисленными дворцово-парковыми ансамблями - их, пожалуй, больше, чем в любом другом приго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PK-03\Мои документы\7б класс 2009-10\7б Гвазава Кристина 9 мая -день победы\ph328.jpg"/>
          <p:cNvPicPr/>
          <p:nvPr/>
        </p:nvPicPr>
        <p:blipFill>
          <a:blip r:embed="rId1"/>
          <a:stretch/>
        </p:blipFill>
        <p:spPr>
          <a:xfrm>
            <a:off x="0" y="0"/>
            <a:ext cx="5857920" cy="43941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 rot="20593200">
            <a:off x="3905640" y="3067560"/>
            <a:ext cx="4572000" cy="33858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й дворец, воссозданный после Великой Отечественной войны, предстает перед нами во всем своем великолеп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альная часть дворца – трехэтажная, с крышей сложной конфигурации в стиле барокко. Высока ее 17 м. Крыша увенчана золоченой ваз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PK-03\Мои документы\7б класс 2009-10\7б Гвазава Кристина 9 мая -день победы\piter.jpg"/>
          <p:cNvPicPr/>
          <p:nvPr/>
        </p:nvPicPr>
        <p:blipFill>
          <a:blip r:embed="rId1"/>
          <a:stretch/>
        </p:blipFill>
        <p:spPr>
          <a:xfrm>
            <a:off x="0" y="0"/>
            <a:ext cx="41781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5143680" y="1785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572000" y="1963800"/>
            <a:ext cx="4572000" cy="4848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озданию именно такого парка приступил по высочайшему повелению архитектор А. Менелас в середине 1826 г. Парк получил название Александрия. Он расположен на территории, которая на западе непосредственно примыкает к Нижнему парку и отделена от него каменной стеной, а на востоке граничит со Знаменской мызой. Площадь парка — 115 гекта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PK-03\Мои документы\7б класс 2009-10\7б Гвазава Кристина 9 мая -день победы\0_4bc8_fc5cef69_XL.jpg"/>
          <p:cNvPicPr/>
          <p:nvPr/>
        </p:nvPicPr>
        <p:blipFill>
          <a:blip r:embed="rId1"/>
          <a:stretch/>
        </p:blipFill>
        <p:spPr>
          <a:xfrm>
            <a:off x="0" y="0"/>
            <a:ext cx="3963960" cy="5286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 rot="20341800">
            <a:off x="4281840" y="2000520"/>
            <a:ext cx="4572000" cy="2562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днако, враг вовремя натянул жеклезную цепь и огонь недостиг его ладей, мирно покачивающихся у причала. Тогда новгородцы пошли на штурм, но и тут потерпели неудачу. И лишь весной следующего года отряд новгородских ополченцев (вольный Новгород не имел регулярной армии, в бой шли его жители) смог сжечь вражеский лагерь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PK-03\Мои документы\7б класс 2009-10\7б Гвазава Кристина 9 мая -день победы\8b608c9084c9.jpg"/>
          <p:cNvPicPr/>
          <p:nvPr/>
        </p:nvPicPr>
        <p:blipFill>
          <a:blip r:embed="rId1"/>
          <a:stretch/>
        </p:blipFill>
        <p:spPr>
          <a:xfrm>
            <a:off x="0" y="0"/>
            <a:ext cx="5924520" cy="37861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 rot="20889600">
            <a:off x="2998800" y="4214880"/>
            <a:ext cx="5715000" cy="146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300 году, шведская армия вошла в Неву и высадилась в устье р. Охта, где основала деревянную крепость Ландскрона (Венец земли), под стенами которой подопевшие новгородцы сперва потерпели поражение. Не удалась их военная хитр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PK-03\Мои документы\7б класс 2009-10\7б Гвазава Кристина 9 мая -день победы\9edb411ab5376d1facc5b84990fca0b7.jpg"/>
          <p:cNvPicPr/>
          <p:nvPr/>
        </p:nvPicPr>
        <p:blipFill>
          <a:blip r:embed="rId1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 rot="20317200">
            <a:off x="3791160" y="3080520"/>
            <a:ext cx="4500360" cy="28371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упалы с 22 на 23 июня, многие из них поклонялись языческим богам, что, впрочем, до петровских времен, не преследовалось. Каждой новгородской пятиной заведовал посадник - изначально, наместник князя, 'посаженный' следить за порядком. Налвоследстие Московской) писцовой кни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оги (пошлины) с жителей взымались по Новгородской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PK-03\Мои документы\7б класс 2009-10\7б Гвазава Кристина 9 мая -день победы\2523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 rot="867600">
            <a:off x="4973040" y="353520"/>
            <a:ext cx="3143160" cy="58546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 современных границах города Петродворца, который одновременно является центром Петродворцового района Санкт-Петербурга, объединено несколько дворцово-парковых ансамблей и отдельных архитектурно-исторических комплексов XVIII-XX вв. Этот уникальный архитектурно-художественный дворцово-парковый комплекс сделал Петродворец всемирно известным. Мировую славу Петергофу – Петродворцу принесло созвездие дворцов, коллекций и, прежде всего, фонтаны и каскад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PK-03\Мои документы\7б класс 2009-10\7б Гвазава Кристина 9 мая -день победы\8643.jpg"/>
          <p:cNvPicPr/>
          <p:nvPr/>
        </p:nvPicPr>
        <p:blipFill>
          <a:blip r:embed="rId1"/>
          <a:stretch/>
        </p:blipFill>
        <p:spPr>
          <a:xfrm>
            <a:off x="4572000" y="2509920"/>
            <a:ext cx="4572000" cy="43480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 rot="1369200">
            <a:off x="466200" y="945000"/>
            <a:ext cx="4217760" cy="1739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(пошлины) с жителей взымались по Новгородской (а воследстие Московской) писцовой книге, документальному источнику, известному с XIV в. Финский залив назывался Варяжск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PK-03\Мои документы\7б класс 2009-10\7б Гвазава Кристина 9 мая -день победы\091108ebb67b0000d518633b45e33b90.jpg"/>
          <p:cNvPicPr/>
          <p:nvPr/>
        </p:nvPicPr>
        <p:blipFill>
          <a:blip r:embed="rId1"/>
          <a:stretch/>
        </p:blipFill>
        <p:spPr>
          <a:xfrm>
            <a:off x="0" y="0"/>
            <a:ext cx="4857840" cy="38782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 rot="20880600">
            <a:off x="3784320" y="4286160"/>
            <a:ext cx="4572000" cy="17398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 роскоши и размаху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етергоф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не уступает знаменитой резиденции французских королей – Версалю, а масштабы фонтанной системы превосходят. В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етергофе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никогда не работали насосы, хотя идея подавать так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PK-03\Мои документы\7б класс 2009-10\7б Гвазава Кристина 9 мая -день победы\967702.jpg"/>
          <p:cNvPicPr/>
          <p:nvPr/>
        </p:nvPicPr>
        <p:blipFill>
          <a:blip r:embed="rId1"/>
          <a:stretch/>
        </p:blipFill>
        <p:spPr>
          <a:xfrm>
            <a:off x="0" y="0"/>
            <a:ext cx="4214880" cy="5921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 rot="952200">
            <a:off x="4287600" y="1428840"/>
            <a:ext cx="4572000" cy="1465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"Императорский Петергоф" /ч. I и II/ продолжает историческую серию "Императорские дворцы". Предыдущие выпуски были посвящены Гатчинскому, Павловскому и Елагиноостровскому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PK-03\Мои документы\7б класс 2009-10\7б Гвазава Кристина 9 мая -день победы\a96ea2b53fb1f01d7daeffb88955e76d.jpg"/>
          <p:cNvPicPr/>
          <p:nvPr/>
        </p:nvPicPr>
        <p:blipFill>
          <a:blip r:embed="rId1"/>
          <a:stretch/>
        </p:blipFill>
        <p:spPr>
          <a:xfrm>
            <a:off x="2562120" y="2244600"/>
            <a:ext cx="6581880" cy="46134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 rot="507000">
            <a:off x="637200" y="318960"/>
            <a:ext cx="4572000" cy="3111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 настоящее время открыты для прогулок и осмотра 14 парков, протянувшихся по побережью Финского залива от Стрельны до Петродворца более чем на 10 километров. Их общая площадь превышает 1000 гекта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 Большом Петергофском дворце, дворцах Монплезир и Марли, Екатерининском и Банном корпусах, павильоне Эрмитаж. Коттедже размещены экспозиции коллекций и выстав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40:31Z</dcterms:created>
  <dc:creator>PK-03</dc:creator>
  <dc:description/>
  <dc:language>en-US</dc:language>
  <cp:lastModifiedBy>WS-SSG</cp:lastModifiedBy>
  <dcterms:modified xsi:type="dcterms:W3CDTF">2010-04-22T09:16:25Z</dcterms:modified>
  <cp:revision>9</cp:revision>
  <dc:subject/>
  <dc:title>&lt;&lt;9мая – День победы &gt;&gt;</dc:title>
</cp:coreProperties>
</file>