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6C15-0FB3-4A18-A531-49483F64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911-0C39-4136-84B7-00D0FF5F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F4BB-23E9-4AF6-B381-74DA3F85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DE51-4A7C-40E5-83CF-B403E6F3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D42-C48B-46EC-86A8-685667D8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A14-31F9-43D1-8324-7883A2D8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A0DD-1669-487A-AA26-0C7ACCD3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E07-8822-4F87-889F-BAF272C1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8CCF-E522-44A3-B4B1-F7BC0DB1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9F9-FAE8-45AE-B221-8DCDE90B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240-0A6C-47A0-AB8F-4ECB6FA9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165-44B8-4013-9EF8-337BC7B6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2A2A-36E4-402A-B247-F84012C734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&lt;&lt;9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я – День побед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&gt;&gt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Гвазава Кристина  7Б класс, школа 345 ,2010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PK-03\Мои документы\7б класс 2009-10\7б Гвазава Кристина 9 мая -день победы\b880b9b935fe.jpg"/>
          <p:cNvPicPr/>
          <p:nvPr/>
        </p:nvPicPr>
        <p:blipFill>
          <a:blip r:embed="rId1"/>
          <a:stretch/>
        </p:blipFill>
        <p:spPr>
          <a:xfrm>
            <a:off x="0" y="0"/>
            <a:ext cx="5238720" cy="39290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 rot="780600">
            <a:off x="2573640" y="4429080"/>
            <a:ext cx="4572000" cy="2014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нский залив, Неву и Ладожское озеро. И лишь впоследствии, между ними осталась протока - которую, за сравнительно молодой возраст, назвали Невой - Новая вода (финск). Петергоф известен своей терассой, на которой строились дворец и каска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PK-03\Мои документы\7б класс 2009-10\7б Гвазава Кристина 9 мая -день победы\big.jpg"/>
          <p:cNvPicPr/>
          <p:nvPr/>
        </p:nvPicPr>
        <p:blipFill>
          <a:blip r:embed="rId1"/>
          <a:stretch/>
        </p:blipFill>
        <p:spPr>
          <a:xfrm>
            <a:off x="3929040" y="0"/>
            <a:ext cx="521496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142920" y="4937040"/>
          <a:ext cx="5181480" cy="1920960"/>
        </p:xfrm>
        <a:graphic>
          <a:graphicData uri="http://schemas.openxmlformats.org/drawingml/2006/table">
            <a:tbl>
              <a:tblPr/>
              <a:tblGrid>
                <a:gridCol w="5181480"/>
              </a:tblGrid>
              <a:tr h="1920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олько лет Петродворцу? 299. Он впервые упоминается 12 июля 1705 года, когда Петр выстроил в нем "путевые хоромы" на полдороги в строющийся Кронштадт. Эта дата считается днем рождением города, связанная в нашем представление с предпосылкой к зарождению всемирно известного комплекса столицы фонт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PK-03\Мои документы\7б класс 2009-10\7б Гвазава Кристина 9 мая -день победы\imgB.jpg"/>
          <p:cNvPicPr/>
          <p:nvPr/>
        </p:nvPicPr>
        <p:blipFill>
          <a:blip r:embed="rId1"/>
          <a:stretch/>
        </p:blipFill>
        <p:spPr>
          <a:xfrm>
            <a:off x="0" y="0"/>
            <a:ext cx="6315120" cy="44290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071800" y="4643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3"/>
          <p:cNvSpPr/>
          <p:nvPr/>
        </p:nvSpPr>
        <p:spPr>
          <a:xfrm rot="20472600">
            <a:off x="3477600" y="4175280"/>
            <a:ext cx="4714920" cy="14655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Calibri"/>
              </a:rPr>
              <a:t>Украшением парков и сооружений является великолепная скульптура. Четыре каскада и 150 действующих фонтанов потрясают воображение. Не случайно Петергоф обычно называют столицей фонта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PK-03\Мои документы\7б класс 2009-10\7б Гвазава Кристина 9 мая -день победы\map_city_.gif"/>
          <p:cNvPicPr/>
          <p:nvPr/>
        </p:nvPicPr>
        <p:blipFill>
          <a:blip r:embed="rId1"/>
          <a:stretch/>
        </p:blipFill>
        <p:spPr>
          <a:xfrm>
            <a:off x="1571760" y="0"/>
            <a:ext cx="5841720" cy="37972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 rot="1413600">
            <a:off x="2073240" y="2737800"/>
            <a:ext cx="3894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Петродворец - столица фонтанов, расположен на южном берегу Финского залива в 30 км. от Петербурга. Славен так же многочисленными дворцово-парковыми ансамблями - их, пожалуй, больше, чем в любом другом пригор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PK-03\Мои документы\7б класс 2009-10\7б Гвазава Кристина 9 мая -день победы\ph328.jpg"/>
          <p:cNvPicPr/>
          <p:nvPr/>
        </p:nvPicPr>
        <p:blipFill>
          <a:blip r:embed="rId1"/>
          <a:stretch/>
        </p:blipFill>
        <p:spPr>
          <a:xfrm>
            <a:off x="0" y="0"/>
            <a:ext cx="5857920" cy="43941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 rot="20593200">
            <a:off x="3905640" y="3067560"/>
            <a:ext cx="4572000" cy="33858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ой дворец, воссозданный после Великой Отечественной войны, предстает перед нами во всем своем великолеп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тральная часть дворца – трехэтажная, с крышей сложной конфигурации в стиле барокко. Высока ее 17 м. Крыша увенчана золоченой вазо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PK-03\Мои документы\7б класс 2009-10\7б Гвазава Кристина 9 мая -день победы\piter.jpg"/>
          <p:cNvPicPr/>
          <p:nvPr/>
        </p:nvPicPr>
        <p:blipFill>
          <a:blip r:embed="rId1"/>
          <a:stretch/>
        </p:blipFill>
        <p:spPr>
          <a:xfrm>
            <a:off x="0" y="0"/>
            <a:ext cx="41781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5143680" y="1785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4572000" y="1963800"/>
            <a:ext cx="4572000" cy="4848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созданию именно такого парка приступил по высочайшему повелению архитектор А. Менелас в середине 1826 г. Парк получил название Александрия. Он расположен на территории, которая на западе непосредственно примыкает к Нижнему парку и отделена от него каменной стеной, а на востоке граничит со Знаменской мызой. Площадь парка — 115 гекта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PK-03\Мои документы\7б класс 2009-10\7б Гвазава Кристина 9 мая -день победы\0_4bc8_fc5cef69_XL.jpg"/>
          <p:cNvPicPr/>
          <p:nvPr/>
        </p:nvPicPr>
        <p:blipFill>
          <a:blip r:embed="rId1"/>
          <a:stretch/>
        </p:blipFill>
        <p:spPr>
          <a:xfrm>
            <a:off x="0" y="0"/>
            <a:ext cx="3963960" cy="52862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 rot="20341800">
            <a:off x="4281840" y="2000520"/>
            <a:ext cx="4572000" cy="2562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Однако, враг вовремя натянул жеклезную цепь и огонь недостиг его ладей, мирно покачивающихся у причала. Тогда новгородцы пошли на штурм, но и тут потерпели неудачу. И лишь весной следующего года отряд новгородских ополченцев (вольный Новгород не имел регулярной армии, в бой шли его жители) смог сжечь вражеский лагерь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PK-03\Мои документы\7б класс 2009-10\7б Гвазава Кристина 9 мая -день победы\8b608c9084c9.jpg"/>
          <p:cNvPicPr/>
          <p:nvPr/>
        </p:nvPicPr>
        <p:blipFill>
          <a:blip r:embed="rId1"/>
          <a:stretch/>
        </p:blipFill>
        <p:spPr>
          <a:xfrm>
            <a:off x="0" y="0"/>
            <a:ext cx="5924520" cy="37861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 rot="20889600">
            <a:off x="2998800" y="4214880"/>
            <a:ext cx="5715000" cy="1465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300 году, шведская армия вошла в Неву и высадилась в устье р. Охта, где основала деревянную крепость Ландскрона (Венец земли), под стенами которой подопевшие новгородцы сперва потерпели поражение. Не удалась их военная хитрос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PK-03\Мои документы\7б класс 2009-10\7б Гвазава Кристина 9 мая -день победы\9edb411ab5376d1facc5b84990fca0b7.jpg"/>
          <p:cNvPicPr/>
          <p:nvPr/>
        </p:nvPicPr>
        <p:blipFill>
          <a:blip r:embed="rId1"/>
          <a:stretch/>
        </p:blipFill>
        <p:spPr>
          <a:xfrm>
            <a:off x="0" y="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 rot="20317200">
            <a:off x="3791160" y="3080520"/>
            <a:ext cx="4500360" cy="28371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Купалы с 22 на 23 июня, многие из них поклонялись языческим богам, что, впрочем, до петровских времен, не преследовалось. Каждой новгородской пятиной заведовал посадник - изначально, наместник князя, 'посаженный' следить за порядком. Налвоследстие Московской) писцовой книг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оги (пошлины) с жителей взымались по Новгородской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PK-03\Мои документы\7б класс 2009-10\7б Гвазава Кристина 9 мая -день победы\2523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33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 rot="867600">
            <a:off x="4973040" y="353520"/>
            <a:ext cx="3143160" cy="58546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 современных границах города Петродворца, который одновременно является центром Петродворцового района Санкт-Петербурга, объединено несколько дворцово-парковых ансамблей и отдельных архитектурно-исторических комплексов XVIII-XX вв. Этот уникальный архитектурно-художественный дворцово-парковый комплекс сделал Петродворец всемирно известным. Мировую славу Петергофу – Петродворцу принесло созвездие дворцов, коллекций и, прежде всего, фонтаны и каскад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PK-03\Мои документы\7б класс 2009-10\7б Гвазава Кристина 9 мая -день победы\8643.jpg"/>
          <p:cNvPicPr/>
          <p:nvPr/>
        </p:nvPicPr>
        <p:blipFill>
          <a:blip r:embed="rId1"/>
          <a:stretch/>
        </p:blipFill>
        <p:spPr>
          <a:xfrm>
            <a:off x="4572000" y="2509920"/>
            <a:ext cx="4572000" cy="43480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 rot="1369200">
            <a:off x="466200" y="945000"/>
            <a:ext cx="4217760" cy="1739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и (пошлины) с жителей взымались по Новгородской (а воследстие Московской) писцовой книге, документальному источнику, известному с XIV в. Финский залив назывался Варяжски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PK-03\Мои документы\7б класс 2009-10\7б Гвазава Кристина 9 мая -день победы\091108ebb67b0000d518633b45e33b90.jpg"/>
          <p:cNvPicPr/>
          <p:nvPr/>
        </p:nvPicPr>
        <p:blipFill>
          <a:blip r:embed="rId1"/>
          <a:stretch/>
        </p:blipFill>
        <p:spPr>
          <a:xfrm>
            <a:off x="0" y="0"/>
            <a:ext cx="4857840" cy="38782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 rot="20880600">
            <a:off x="3784320" y="4286160"/>
            <a:ext cx="4572000" cy="17398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По роскоши и размаху 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Петергоф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не уступает знаменитой резиденции французских королей – Версалю, а масштабы фонтанной системы превосходят. В 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Петергофе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никогда не работали насосы, хотя идея подавать таки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PK-03\Мои документы\7б класс 2009-10\7б Гвазава Кристина 9 мая -день победы\967702.jpg"/>
          <p:cNvPicPr/>
          <p:nvPr/>
        </p:nvPicPr>
        <p:blipFill>
          <a:blip r:embed="rId1"/>
          <a:stretch/>
        </p:blipFill>
        <p:spPr>
          <a:xfrm>
            <a:off x="0" y="0"/>
            <a:ext cx="4214880" cy="59212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 rot="952200">
            <a:off x="4287600" y="1428840"/>
            <a:ext cx="4572000" cy="1465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Calibri"/>
              </a:rPr>
              <a:t>"Императорский Петергоф" /ч. I и II/ продолжает историческую серию "Императорские дворцы". Предыдущие выпуски были посвящены Гатчинскому, Павловскому и Елагиноостровскому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PK-03\Мои документы\7б класс 2009-10\7б Гвазава Кристина 9 мая -день победы\a96ea2b53fb1f01d7daeffb88955e76d.jpg"/>
          <p:cNvPicPr/>
          <p:nvPr/>
        </p:nvPicPr>
        <p:blipFill>
          <a:blip r:embed="rId1"/>
          <a:stretch/>
        </p:blipFill>
        <p:spPr>
          <a:xfrm>
            <a:off x="2562120" y="2244600"/>
            <a:ext cx="6581880" cy="46134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 rot="507000">
            <a:off x="637200" y="318960"/>
            <a:ext cx="4572000" cy="31114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alibri"/>
              </a:rPr>
              <a:t>В настоящее время открыты для прогулок и осмотра 14 парков, протянувшихся по побережью Финского залива от Стрельны до Петродворца более чем на 10 километров. Их общая площадь превышает 1000 гекта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alibri"/>
              </a:rPr>
              <a:t>В Большом Петергофском дворце, дворцах Монплезир и Марли, Екатерининском и Банном корпусах, павильоне Эрмитаж. Коттедже размещены экспозиции коллекций и выстав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5:40:31Z</dcterms:created>
  <dc:creator>PK-03</dc:creator>
  <dc:description/>
  <dc:language>en-US</dc:language>
  <cp:lastModifiedBy>WS-SSG</cp:lastModifiedBy>
  <dcterms:modified xsi:type="dcterms:W3CDTF">2010-04-22T09:16:25Z</dcterms:modified>
  <cp:revision>9</cp:revision>
  <dc:subject/>
  <dc:title>&lt;&lt;9мая – День победы &gt;&gt;</dc:title>
</cp:coreProperties>
</file>