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F48-BC85-4C28-A04B-9ED9F098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6FE-3261-4F88-AFB8-3BD0BC79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58E-73CC-4F71-8460-C0DF5187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CCB-1A04-434A-BFC3-C89992CF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302B-6DDD-484E-94FD-D5817273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EABC-2602-4221-B3D1-36A92ADF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A622-4D91-46D0-AF9B-1B593D2D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BDFC-39B1-44DA-AB1D-816CD8DE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E9B-9335-426E-AA1E-688CCECE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D4D3-CE27-427E-97BE-2884184B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21C9-7843-4E92-89B7-C240F91C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1D1-0910-46DA-8EB2-76952ADB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155A-4DD2-4D61-8B79-2CEF714E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3B3B-51E0-43F0-AF72-ADA1B84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2787-6150-462A-A9D0-D832403A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5929-370E-48B0-A934-C53B9571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4CF7-5FC3-4F34-A188-7E3CA75D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C7E-00A9-443A-94E4-165019E4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1D4-C319-4F06-8909-E741598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ABF-A8AD-49F7-9E69-DDC95AE5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A65-9986-437C-836B-C69EEFFF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475-D79F-4900-972D-F1F1768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8F0-3669-43E9-9A07-CD8C4971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6DA-5F7F-4A69-9D0A-769BCFE7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55EE-D4F9-41FC-9DE3-0778992E66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9365-503F-4EDF-A2E7-3E20575839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7 класс ОБЖ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тмосфера- самая легкая и наиболее подвижная оболочка Зем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года – это состояние атмосферы в данном месте и в данный момент врем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чина ветра- изменение давления воздух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здух перемещается из области высокого давления в область низкого. В зависимости от разницы давления определяется и скорость ветра легкий ветерок- 1-3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раган- 30 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 числу пострадавших ураганы и бури занимают 3 место среди ЧС природного характера, а по материальному ущербу- 2 место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чины- образование циклонов в атмосфере. Скорость перемещения урагана определяется скоростью перемещения цикло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иклоны в Атлантическом океане- называют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ураган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иклоны в западной части Тихого океана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тайфун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раган – это ветер огромной разрушительной силы со скоростью 30 м/с. В европейской части России 30-50 м/с, на Дальнем Востоке – 90 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ря- это ветер, скорость которог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ньше скорости урагана- 15-20 м/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Шквал- кратковременное усиление скорости ветра до 20-30 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Циклон- это мощный атмосферный вихрь с пониженным атмосферным давлением в центре. Поперечник достигает от 100 км до нескольких тысяч к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Центральная часть с низким давлением называется «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глаз бур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нешняя обладает максимальным давлением и наиболее сильным ветром ее называют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«стеной циклон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корость тропических циклонов- 150-200 км/ч (40-55 м/с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корость внетропических 30-40 км/ч (8-11 м/с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опические цикл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ают в тропических широт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рождаются над океанами в низких широтах 10-20 градусов обоих полушарий. Больше их образуется в северной части тропической Атлантики и юго-западной части Тихого океа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территории России в августе-сентябр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Причины возникновения ураганов и бурь, их характеристика, возможные последств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Чем обусловлена разрушительная сила урагана и бур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Как измеряется сила ветра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Привести примеры ураганов и бурь на территории России, их последствия., причина возникнов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7:17:04Z</dcterms:created>
  <dc:creator>54</dc:creator>
  <dc:description/>
  <dc:language>en-US</dc:language>
  <cp:lastModifiedBy>54</cp:lastModifiedBy>
  <dcterms:modified xsi:type="dcterms:W3CDTF">2010-12-04T09:55:58Z</dcterms:modified>
  <cp:revision>3</cp:revision>
  <dc:subject/>
  <dc:title>7 класс ОБЖ. Ураганы, бури, причины их возникновения и возможные последствия</dc:title>
</cp:coreProperties>
</file>