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F9D-AC2F-4892-9E06-13988E16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EE4-1B79-4EE7-9024-CDADB9A5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18B-8E88-4793-9C84-430D8FDB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FA6-EB6D-4FA7-8BC4-C75659FF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ADE2-4648-4F15-B555-299F3D52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D67A-4040-4301-AC24-98056397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9844-5660-4DAB-8479-5D684E1E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A9EE-C7A2-489E-A58B-B48C5857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14C9-057F-4CE6-B184-B8D0F221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5090-5B61-4414-853B-EE1E376A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D75B-FD1E-4EEA-92AF-DDD49BE7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750-4574-4F6F-85AA-0EA75D90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8486-960F-461A-BAC6-9490B07F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0B72-4689-4712-B6FF-3FDAA43E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3946-631B-4427-BE95-2705100C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B6BC-90CA-4D52-B978-57E94DCE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50E3-44E5-4CAD-97D6-EEABA043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EF6-4864-49B8-8B8C-E2E6BC29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26C4-1E81-4740-B21F-7C0CE0D5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47B-6E83-451A-8007-0B238AB7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7CE-4A59-436F-A46B-7B13D052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C9E-1481-4820-9124-45249879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B30-7DD3-4F77-BED2-046FEBCC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C11-8674-4717-8C54-CE60B7FC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21DA-ABA8-4ADD-A673-D5100C3B71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77E9-1D98-4C07-9935-506DB4BBAD1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7 класс ОБЖ.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тмосфера- самая легкая и наиболее подвижная оболочка Зем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года – это состояние атмосферы в данном месте и в данный момент време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ичина ветра- изменение давления воздух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оздух перемещается из области высокого давления в область низкого. В зависимости от разницы давления определяется и скорость ветра легкий ветерок- 1-3м/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раган- 30 м/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 числу пострадавших ураганы и бури занимают 3 место среди ЧС природного характера, а по материальному ущербу- 2 место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ичины- образование циклонов в атмосфере. Скорость перемещения урагана определяется скоростью перемещения цикло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Циклоны в Атлантическом океане- называют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ураган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Циклоны в западной части Тихого океана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тайфун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раган – это ветер огромной разрушительной силы со скоростью 30 м/с. В европейской части России 30-50 м/с, на Дальнем Востоке – 90 м/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уря- это ветер, скорость которог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еньше скорости урагана- 15-20 м/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Шквал- кратковременное усиление скорости ветра до 20-30 м/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Циклон- это мощный атмосферный вихрь с пониженным атмосферным давлением в центре. Поперечник достигает от 100 км до нескольких тысяч к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Центральная часть с низким давлением называется «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глаз бури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нешняя обладает максимальным давлением и наиболее сильным ветром ее называют 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«стеной циклон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раганы, бури, причины их возникновения и возможные последств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корость тропических циклонов- 150-200 км/ч (40-55 м/с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корость внетропических 30-40 км/ч (8-11 м/с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ропические цикло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ают в тропических широт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рождаются над океанами в низких широтах 10-20 градусов обоих полушарий. Больше их образуется в северной части тропической Атлантики и юго-западной части Тихого океа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 территории России в августе-сентябр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Причины возникновения ураганов и бурь, их характеристика, возможные последств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Чем обусловлена разрушительная сила урагана и бур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Как измеряется сила ветра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Привести примеры ураганов и бурь на территории России, их последствия., причина возникнов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07:17:04Z</dcterms:created>
  <dc:creator>54</dc:creator>
  <dc:description/>
  <dc:language>en-US</dc:language>
  <cp:lastModifiedBy>54</cp:lastModifiedBy>
  <dcterms:modified xsi:type="dcterms:W3CDTF">2010-12-04T09:55:58Z</dcterms:modified>
  <cp:revision>3</cp:revision>
  <dc:subject/>
  <dc:title>7 класс ОБЖ. Ураганы, бури, причины их возникновения и возможные последствия</dc:title>
</cp:coreProperties>
</file>