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F94-5286-4637-A6F0-F9DA8121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720-A7E2-4BE0-8A33-A6A64513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EBA-97D3-48BF-84E3-3CB888BD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4F2-EFAD-42A6-99D2-D9506155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7226-16C6-4B0E-8D88-6F6400C5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FAFA-7C85-4EF4-807C-BB39ABFC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DC14-2D2A-4D9F-B46B-0367E445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BB7D-30FF-45FF-90C8-9393F894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3D86-662A-4B00-ADA7-8FC18548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78F3-6E0E-4469-B117-E09430B8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D544-4ABE-4AAE-BAEF-DBA50C6B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E23-09EF-4722-98EC-B7142846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B74A-D7DE-4A14-B0AF-21BC4153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9886-CB98-45EA-930D-CEAA4440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93D1-5A3A-45B0-AF5E-0C92C575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01EC-8CD2-4808-ADCE-A4569701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436F-51B4-424C-8EDF-D4067BD5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3A2-A956-4CD4-A31D-EDA32F2F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254-2E8C-491D-B018-A59ABF78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32D-CAD7-435B-8A99-D1B42616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9CD-2AA8-460A-B1ED-E0D70D5A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00E-FC60-4036-B6B7-8B80D021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3B0-64C1-4972-8762-3C8DD05D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549-7EC2-4A5C-84A0-0405BE90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3871-63E8-47DA-AF47-D1A54DE74B7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5D9B-6721-4A20-9C24-267216CA1E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7 класс ОБЖ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тмосфера- самая легкая и наиболее подвижная оболочка Зем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года – это состояние атмосферы в данном месте и в данный момент врем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чина ветра- изменение давления воздух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оздух перемещается из области высокого давления в область низкого. В зависимости от разницы давления определяется и скорость ветра легкий ветерок- 1-3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раган- 30 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 числу пострадавших ураганы и бури занимают 3 место среди ЧС природного характера, а по материальному ущербу- 2 место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чины- образование циклонов в атмосфере. Скорость перемещения урагана определяется скоростью перемещения цикло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иклоны в Атлантическом океане- называют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ураган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иклоны в западной части Тихого океана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тайфун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раган – это ветер огромной разрушительной силы со скоростью 30 м/с. В европейской части России 30-50 м/с, на Дальнем Востоке – 90 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ря- это ветер, скорость которог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еньше скорости урагана- 15-20 м/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Шквал- кратковременное усиление скорости ветра до 20-30 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Циклон- это мощный атмосферный вихрь с пониженным атмосферным давлением в центре. Поперечник достигает от 100 км до нескольких тысяч к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Центральная часть с низким давлением называется «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глаз бури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нешняя обладает максимальным давлением и наиболее сильным ветром ее называют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«стеной циклон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корость тропических циклонов- 150-200 км/ч (40-55 м/с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корость внетропических 30-40 км/ч (8-11 м/с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опические цикл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ают в тропических широт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рождаются над океанами в низких широтах 10-20 градусов обоих полушарий. Больше их образуется в северной части тропической Атлантики и юго-западной части Тихого океа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 территории России в августе-сентябр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Причины возникновения ураганов и бурь, их характеристика, возможные последств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Чем обусловлена разрушительная сила урагана и бур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Как измеряется сила ветра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Привести примеры ураганов и бурь на территории России, их последствия., причина возникнов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7:17:04Z</dcterms:created>
  <dc:creator>54</dc:creator>
  <dc:description/>
  <dc:language>en-US</dc:language>
  <cp:lastModifiedBy>54</cp:lastModifiedBy>
  <dcterms:modified xsi:type="dcterms:W3CDTF">2010-12-04T09:55:58Z</dcterms:modified>
  <cp:revision>3</cp:revision>
  <dc:subject/>
  <dc:title>7 класс ОБЖ. Ураганы, бури, причины их возникновения и возможные последствия</dc:title>
</cp:coreProperties>
</file>