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9608B-D70B-485E-AEB2-07F9813F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5FB8-FB44-434B-A468-D239800E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2D8D-2561-4B1E-83CD-7C65F3E5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44E1-B348-4E45-9047-E36DDD3F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2F9E-B40C-442E-87B9-F374684B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4205-179A-4DB9-965A-5B72C7F4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9DEA-3D6F-460E-9EC7-82559221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4B8B-CACD-4B26-BA90-0DEC91B7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A0EB-208A-42BF-8B0B-8A8C6C05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4425-16E6-482A-A8EC-90FF5C4C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9FD3-5D07-4A26-A2DE-C5044A5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92D5-6E7F-4B14-8AE9-045F21FC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EE8-3734-43CE-8599-8F072DD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A9BD-A78B-4C09-867C-CEE5FE76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337-FADE-428F-8729-75F9CAB3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D9EE-3187-4A68-8A8F-B6163ED1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72AC-FCC9-46A4-B5C5-A2174B9F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BBE01-8F80-4BAC-B021-BB9C2F5E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EDF7-9F45-49F2-BE85-433D22E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426B-16A4-47D3-AE58-2B1B975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EDE8-D1DE-485B-A8DD-838B161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B59E-819B-4BA7-800E-5F2B5BBC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92B8-0681-46BC-A579-60E08EF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5DE0-C272-427A-B46E-01ED2E4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BA00-0974-41AE-AB21-774A48C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7643-396B-4FDB-A9C5-965BD9D4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0661-2D63-42DB-8323-501ED5C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4E2C-4EF5-449B-A672-B7345DEA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CDE6-DE89-4AEB-A504-F7BB61D0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9610-19DA-49B9-9A90-60CE69AC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87B19-7F62-42D7-9180-71952006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7303-A26E-4A28-820A-B89E1AA9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FA31-4BA5-4692-8FD2-D92F6B7E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C048-EB5B-4BAF-A775-45FB6B23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0689-3071-490F-AF32-90A188E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B206-86CA-44AB-8EAF-6D1B4F2E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28E2-5AEE-4FCE-94DA-D40A9432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3C46-27DB-48BD-863F-C9B8800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74D9-65C6-412C-BEEB-88F8B19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A3B7-2F26-4F73-A94D-A73D2C0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51F5-12A5-402B-B9C5-B23758D5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910B-C1F1-4D7B-86FF-061BD27F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862DD-34C2-4A70-A628-4C6A60D6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B2AE-C21F-42FB-BB26-5EDD34C9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ED6B-7E9A-419A-9155-F4473D95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C193-7DD0-49CE-8AFA-7BEA3C7A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84C8-96E3-4CBF-A0B2-B5647946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45E4-25B2-4F81-AB24-30CD6C5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B041-B3F1-494B-9CA7-D80F93A2C1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3672-A8E2-4901-B14A-7E5CB1576A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7CD2-04A9-49D4-A4AC-00E0F7FBED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4D3-0680-4B3B-8159-434901B726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лологическая сказ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95280" y="1844640"/>
            <a:ext cx="84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 путешествии слова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1116000" y="3716280"/>
            <a:ext cx="7201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Sport"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68360" y="1878120"/>
            <a:ext cx="2879640" cy="12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1" name="Group 17"/>
          <p:cNvGrpSpPr/>
          <p:nvPr/>
        </p:nvGrpSpPr>
        <p:grpSpPr>
          <a:xfrm>
            <a:off x="3637080" y="1878120"/>
            <a:ext cx="2589840" cy="1263240"/>
            <a:chOff x="3637080" y="1878120"/>
            <a:chExt cx="2589840" cy="1263240"/>
          </a:xfrm>
        </p:grpSpPr>
        <p:sp>
          <p:nvSpPr>
            <p:cNvPr id="232" name="WordArt 5"/>
            <p:cNvSpPr txBox="1"/>
            <p:nvPr/>
          </p:nvSpPr>
          <p:spPr>
            <a:xfrm>
              <a:off x="3637080" y="2089080"/>
              <a:ext cx="906120" cy="83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3" name="WordArt 6"/>
            <p:cNvSpPr txBox="1"/>
            <p:nvPr/>
          </p:nvSpPr>
          <p:spPr>
            <a:xfrm>
              <a:off x="4931640" y="1878120"/>
              <a:ext cx="1295280" cy="12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вн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4" name="Group 19"/>
          <p:cNvGrpSpPr/>
          <p:nvPr/>
        </p:nvGrpSpPr>
        <p:grpSpPr>
          <a:xfrm>
            <a:off x="6659640" y="1773360"/>
            <a:ext cx="2232720" cy="1294920"/>
            <a:chOff x="6659640" y="1773360"/>
            <a:chExt cx="2232720" cy="1294920"/>
          </a:xfrm>
        </p:grpSpPr>
        <p:sp>
          <p:nvSpPr>
            <p:cNvPr id="235" name="WordArt 9"/>
            <p:cNvSpPr txBox="1"/>
            <p:nvPr/>
          </p:nvSpPr>
          <p:spPr>
            <a:xfrm>
              <a:off x="6659640" y="2097360"/>
              <a:ext cx="678600" cy="85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6" name="WordArt 10"/>
            <p:cNvSpPr txBox="1"/>
            <p:nvPr/>
          </p:nvSpPr>
          <p:spPr>
            <a:xfrm>
              <a:off x="7533000" y="1773360"/>
              <a:ext cx="1359360" cy="129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ый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7" name="WordArt 11"/>
          <p:cNvSpPr txBox="1"/>
          <p:nvPr/>
        </p:nvSpPr>
        <p:spPr>
          <a:xfrm>
            <a:off x="3995640" y="378936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2"/>
          <p:cNvSpPr txBox="1"/>
          <p:nvPr/>
        </p:nvSpPr>
        <p:spPr>
          <a:xfrm>
            <a:off x="971640" y="443700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ы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9" name="Group 20"/>
          <p:cNvGrpSpPr/>
          <p:nvPr/>
        </p:nvGrpSpPr>
        <p:grpSpPr>
          <a:xfrm>
            <a:off x="3851280" y="260280"/>
            <a:ext cx="1728720" cy="1436760"/>
            <a:chOff x="3851280" y="260280"/>
            <a:chExt cx="1728720" cy="1436760"/>
          </a:xfrm>
        </p:grpSpPr>
        <p:sp>
          <p:nvSpPr>
            <p:cNvPr id="240" name="WordArt 14"/>
            <p:cNvSpPr txBox="1"/>
            <p:nvPr/>
          </p:nvSpPr>
          <p:spPr>
            <a:xfrm>
              <a:off x="3851280" y="260280"/>
              <a:ext cx="1728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не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1" name="WordArt 15"/>
            <p:cNvSpPr txBox="1"/>
            <p:nvPr/>
          </p:nvSpPr>
          <p:spPr>
            <a:xfrm>
              <a:off x="4356000" y="1125360"/>
              <a:ext cx="7207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2" name="WordArt 16"/>
          <p:cNvSpPr txBox="1"/>
          <p:nvPr/>
        </p:nvSpPr>
        <p:spPr>
          <a:xfrm>
            <a:off x="395280" y="5013360"/>
            <a:ext cx="8569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спортивны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diamond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1196963406_1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396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Franklin Gothic Demi Cond"/>
              </a:rPr>
              <a:t>Таким образом, заимствованное слово осваивается в новом язык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7640" y="1628280"/>
            <a:ext cx="4105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граф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фонет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граммат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лексичес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475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1196963406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63640" y="333000"/>
            <a:ext cx="5281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ff"/>
                </a:solidFill>
                <a:latin typeface="Franklin Gothic Demi Cond"/>
              </a:rPr>
              <a:t>Вот так и попутешествовало слово «Спорт» из Страны Английского языка в Страну Русского язы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post-1616-1160674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42920" y="1332720"/>
            <a:ext cx="4033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55640" y="1268280"/>
            <a:ext cx="792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а английского язык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Из+Шрека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1185208471_8_velosiped_1600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В 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C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тране Английского Языка жило-было слово «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»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Оно всегда было весёлым и жизнерадостны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strips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pogranichnik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Franklin Gothic Demi"/>
              </a:rPr>
              <a:t>«</a:t>
            </a:r>
            <a:r>
              <a:rPr b="1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1" lang="ru-RU" sz="4000" spc="-1" strike="noStrike">
                <a:solidFill>
                  <a:srgbClr val="cc0066"/>
                </a:solidFill>
                <a:latin typeface="Franklin Gothic Demi"/>
              </a:rPr>
              <a:t>» жил в доме под названием «Лексическое значение»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big_1192973501_20071021-173315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479700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cc0066"/>
                </a:solidFill>
                <a:latin typeface="Franklin Gothic Demi Cond"/>
              </a:rPr>
              <a:t>Однажды это слово зачиталось о дальних странах и решило поехать в Страну Русского Язык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6"/>
          <p:cNvGrpSpPr/>
          <p:nvPr/>
        </p:nvGrpSpPr>
        <p:grpSpPr>
          <a:xfrm>
            <a:off x="0" y="0"/>
            <a:ext cx="9144000" cy="6840360"/>
            <a:chOff x="0" y="0"/>
            <a:chExt cx="9144000" cy="6840360"/>
          </a:xfrm>
        </p:grpSpPr>
        <p:pic>
          <p:nvPicPr>
            <p:cNvPr id="217" name="Picture 4" descr="ico_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7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normal_iozhik1"/>
            <p:cNvPicPr/>
            <p:nvPr/>
          </p:nvPicPr>
          <p:blipFill>
            <a:blip r:embed="rId2"/>
            <a:stretch/>
          </p:blipFill>
          <p:spPr>
            <a:xfrm>
              <a:off x="0" y="3141720"/>
              <a:ext cx="9144000" cy="369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Там 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«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» </a:t>
            </a: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встретили охотно, и он начал дружить с новыми словам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f00bd75fadf3t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 Cond"/>
              </a:rPr>
              <a:t>Но «Спорт» начал замечать, что он меняет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7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196963348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708000" y="260280"/>
            <a:ext cx="543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Его начали писать новыми буквами – С П О Р Т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Стали произносить по-другому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Но радовался тому, что всё ещё обозначал Имя Существительное мужского рода и определённую область деятельности люд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kro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720" y="333360"/>
            <a:ext cx="4859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Ещё от него в Стране Русского Языка при помощи приставок, суффиксов и окончаний стали образовываться новые сло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zoom dir="in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22:24:56Z</dcterms:created>
  <dc:creator>Usver'</dc:creator>
  <dc:description/>
  <dc:language>en-US</dc:language>
  <cp:lastModifiedBy>ZooM</cp:lastModifiedBy>
  <dcterms:modified xsi:type="dcterms:W3CDTF">2013-12-03T20:47:05Z</dcterms:modified>
  <cp:revision>12</cp:revision>
  <dc:subject/>
  <dc:title>Слайд 1</dc:title>
</cp:coreProperties>
</file>