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557A-934B-4630-9DF9-85A19540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EFD2-98E0-49C6-97C9-7DA1A1E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ED1B-4FF4-44BD-9B8E-4A8951B1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9D60-5873-4D6E-A1B4-4824B993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3B19-346C-4586-BA65-3FE364D8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30A8-12F1-4F15-8F48-7C4F70E5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1633-1A21-41BE-AA66-E8B08CA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017E-A719-4AD7-9621-CBF7623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1DC-C1D6-47DB-847F-C5987622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0B0-2495-4882-9BEF-5601C059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5808-83D7-4E00-A7E9-8EBCA97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8977-CACA-47D5-A249-715041F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E17-71AC-4135-A7EC-94F3F19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CB95-B3C7-4322-B40D-B03E9E0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00E2-BD4B-422E-B5A3-04DBFBC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F187-08F8-4EFC-BC73-738E9120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2DBC-872E-40D7-960E-9C5E3385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31C6-96A3-49D2-B7BF-B712490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1747-D88C-429B-824F-74780A9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5B03-D48E-4B6E-8D21-63A55418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10D5-B3D0-4AFD-94A1-2AF65A9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97B6-6837-4A15-A01D-F0D522FF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C216-6AA4-4F14-9E07-776EFBA5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5AC2-7927-4F60-BA8C-A9247900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BA68-382D-4BDE-A7EB-3D0FE0F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CFDF-E7A5-4DF9-B719-9331A2F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D2DD-CEB3-4745-BE87-5C99A6C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6D15D-2AA7-4EF9-B9F3-82B2B30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BA88-6F5E-4439-8E74-7FE6E91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EF9B-E33D-4453-AC08-B4804AF8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4BF59-FCED-4A9A-AB29-4DCDC9A0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E1EB-42F4-4834-B832-DBC5B7F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9F79-9B9E-4151-96A2-C111C61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5C4E-4325-468D-B3A5-5164C258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F064-29AC-48A9-AED2-447C4692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6A954-8348-46A8-BD4C-8F69428E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DB9D-5C35-4A95-B0BA-7B558133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AC73-ED8D-4123-B629-60357FE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3CC6-2BC7-41C1-8407-676A57D4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C82C-FB6B-4F56-96AD-DA86A8E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1FB04-678E-497B-BBC9-84C6BF57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A4D7-66EC-4C0A-A1CD-715C6232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740A-74A1-455D-BBF1-1EC15A20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6318-A2A8-4F23-A145-C650C75F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E2FF-2773-4476-B3D8-36FC4D7C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CFF2-BD1A-41E0-8B8E-4CBD2E9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6400-162D-48C0-8FB9-D6CB7B3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D6E5-F40E-4CAB-87BA-F071DC3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F11C-9B9B-44A0-8F7E-68D55607AC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FD6-3AC5-417B-8634-DA8E3A651E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BD1C-48E1-4B2B-9D89-249E69C51B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E62D-1D3F-49E6-A14F-9EEF79B224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лологическая сказ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95280" y="1844640"/>
            <a:ext cx="84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путешествии слова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116000" y="3716280"/>
            <a:ext cx="7201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Sport"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68360" y="1878120"/>
            <a:ext cx="28796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Group 17"/>
          <p:cNvGrpSpPr/>
          <p:nvPr/>
        </p:nvGrpSpPr>
        <p:grpSpPr>
          <a:xfrm>
            <a:off x="3637080" y="1878120"/>
            <a:ext cx="2589840" cy="1263240"/>
            <a:chOff x="3637080" y="1878120"/>
            <a:chExt cx="2589840" cy="1263240"/>
          </a:xfrm>
        </p:grpSpPr>
        <p:sp>
          <p:nvSpPr>
            <p:cNvPr id="232" name="WordArt 5"/>
            <p:cNvSpPr txBox="1"/>
            <p:nvPr/>
          </p:nvSpPr>
          <p:spPr>
            <a:xfrm>
              <a:off x="3637080" y="2089080"/>
              <a:ext cx="906120" cy="83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3" name="WordArt 6"/>
            <p:cNvSpPr txBox="1"/>
            <p:nvPr/>
          </p:nvSpPr>
          <p:spPr>
            <a:xfrm>
              <a:off x="4931640" y="1878120"/>
              <a:ext cx="1295280" cy="12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вн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4" name="Group 19"/>
          <p:cNvGrpSpPr/>
          <p:nvPr/>
        </p:nvGrpSpPr>
        <p:grpSpPr>
          <a:xfrm>
            <a:off x="6659640" y="1773360"/>
            <a:ext cx="2232720" cy="1294920"/>
            <a:chOff x="6659640" y="1773360"/>
            <a:chExt cx="2232720" cy="1294920"/>
          </a:xfrm>
        </p:grpSpPr>
        <p:sp>
          <p:nvSpPr>
            <p:cNvPr id="235" name="WordArt 9"/>
            <p:cNvSpPr txBox="1"/>
            <p:nvPr/>
          </p:nvSpPr>
          <p:spPr>
            <a:xfrm>
              <a:off x="6659640" y="2097360"/>
              <a:ext cx="678600" cy="85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WordArt 10"/>
            <p:cNvSpPr txBox="1"/>
            <p:nvPr/>
          </p:nvSpPr>
          <p:spPr>
            <a:xfrm>
              <a:off x="7533000" y="1773360"/>
              <a:ext cx="1359360" cy="129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ый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7" name="WordArt 11"/>
          <p:cNvSpPr txBox="1"/>
          <p:nvPr/>
        </p:nvSpPr>
        <p:spPr>
          <a:xfrm>
            <a:off x="3995640" y="378936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2"/>
          <p:cNvSpPr txBox="1"/>
          <p:nvPr/>
        </p:nvSpPr>
        <p:spPr>
          <a:xfrm>
            <a:off x="971640" y="4437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3851280" y="260280"/>
            <a:ext cx="1728720" cy="1436760"/>
            <a:chOff x="3851280" y="260280"/>
            <a:chExt cx="1728720" cy="1436760"/>
          </a:xfrm>
        </p:grpSpPr>
        <p:sp>
          <p:nvSpPr>
            <p:cNvPr id="240" name="WordArt 14"/>
            <p:cNvSpPr txBox="1"/>
            <p:nvPr/>
          </p:nvSpPr>
          <p:spPr>
            <a:xfrm>
              <a:off x="3851280" y="260280"/>
              <a:ext cx="1728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не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WordArt 15"/>
            <p:cNvSpPr txBox="1"/>
            <p:nvPr/>
          </p:nvSpPr>
          <p:spPr>
            <a:xfrm>
              <a:off x="4356000" y="1125360"/>
              <a:ext cx="7207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2" name="WordArt 16"/>
          <p:cNvSpPr txBox="1"/>
          <p:nvPr/>
        </p:nvSpPr>
        <p:spPr>
          <a:xfrm>
            <a:off x="395280" y="5013360"/>
            <a:ext cx="856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1196963406_1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396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Franklin Gothic Demi Cond"/>
              </a:rPr>
              <a:t>Таким образом, заимствованное слово осваивается в новом язык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7640" y="1628280"/>
            <a:ext cx="410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ф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фоне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мма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лексичес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475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1196963406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63640" y="333000"/>
            <a:ext cx="5281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ff"/>
                </a:solidFill>
                <a:latin typeface="Franklin Gothic Demi Cond"/>
              </a:rPr>
              <a:t>Вот так и попутешествовало слово «Спорт» из Страны Английского языка в Страну Русского язы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post-1616-1160674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42920" y="1332720"/>
            <a:ext cx="4033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55640" y="1268280"/>
            <a:ext cx="79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 английского язык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Из+Шрека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1185208471_8_velosiped_1600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В 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C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тране Английского Языка жило-было слово 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Оно всегда было весёлым и жизнерадостны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pogranichnik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1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» жил в доме под названием «Лексическое значение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ig_1192973501_20071021-173315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cc0066"/>
                </a:solidFill>
                <a:latin typeface="Franklin Gothic Demi Cond"/>
              </a:rPr>
              <a:t>Однажды это слово зачиталось о дальних странах и решило поехать в Страну Русского Язы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6"/>
          <p:cNvGrpSpPr/>
          <p:nvPr/>
        </p:nvGrpSpPr>
        <p:grpSpPr>
          <a:xfrm>
            <a:off x="0" y="0"/>
            <a:ext cx="9144000" cy="6840360"/>
            <a:chOff x="0" y="0"/>
            <a:chExt cx="9144000" cy="6840360"/>
          </a:xfrm>
        </p:grpSpPr>
        <p:pic>
          <p:nvPicPr>
            <p:cNvPr id="217" name="Picture 4" descr="ico_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7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normal_iozhik1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9144000" cy="369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Там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 </a:t>
            </a: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встретили охотно, и он начал дружить с новыми словам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f00bd75fadf3t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 Cond"/>
              </a:rPr>
              <a:t>Но «Спорт» начал замечать, что он меняет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7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196963348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08000" y="260280"/>
            <a:ext cx="54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Его начали писать новыми буквами – С П О Р Т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Стали произносить по-другому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Но радовался тому, что всё ещё обозначал Имя Существительное мужского рода и определённую область деятельности люд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kro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720" y="333360"/>
            <a:ext cx="4859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Ещё от него в Стране Русского Языка при помощи приставок, суффиксов и окончаний стали образовываться новые сло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zoom dir="in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22:24:56Z</dcterms:created>
  <dc:creator>Usver'</dc:creator>
  <dc:description/>
  <dc:language>en-US</dc:language>
  <cp:lastModifiedBy>ZooM</cp:lastModifiedBy>
  <dcterms:modified xsi:type="dcterms:W3CDTF">2013-12-03T20:47:05Z</dcterms:modified>
  <cp:revision>12</cp:revision>
  <dc:subject/>
  <dc:title>Слайд 1</dc:title>
</cp:coreProperties>
</file>