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9FE8A-B7AC-4069-BA36-0F28D915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1EB27-FB56-4036-96E2-C9A06C4B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A9DC8-0BFB-45B7-9329-1CCAAB94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BE23E-B866-4A06-A20A-E099A3F3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61E9-8A26-4CBF-B7F0-BB538821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51B1-514E-4643-ABF0-4BCC562F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18B1-C836-4A55-9EBD-2185D0A5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6976-A0E0-4363-95FB-1E42EC25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B472-203B-4FB5-A928-33FB216B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B1E1-CD07-4ADB-AD7C-75F710DC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1F29-F2DC-4BCB-9C03-F6A9E66B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2C579-F487-483E-A609-C7AD3E2B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C009-21CD-416B-BF89-5D4EEBBD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ECF9-4607-4FF2-B442-E905E886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407B-6811-4ECB-821C-49FBEEFC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2ADA-DEE4-4BCB-93D6-3ED9FBD4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D8EC-E40E-4AF8-B67A-1C0219F6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3898B-A557-44D6-9BBC-5B5E5D16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C597B-80F1-4043-85CC-2077AE3E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0CBE8-15CF-4AD8-B207-F3518D9B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F48AF-1567-48B3-9A70-43B012F7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BE291-F8DD-47DB-9B6C-F868F21E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39DC1-7CEC-48E9-930C-D700E969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1E6DA-D378-4474-B865-1220C606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29CBF-D479-4ED0-B60D-D2D82E00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47BBC-E30C-4C05-8E80-DF4D7A2F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7411E-53A0-4FF4-8E8A-72678616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63362-E55B-4B38-A321-B29175D1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F820C-98E5-4834-93E6-93A0E246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4A46C-5E2B-4665-93A4-5F7613CF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C0C9B-04F2-4E55-A134-93792DFD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7E38A-232A-41AA-AAC4-D5FEDFB0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1B246-F33F-4E0B-90BA-E7B165AC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789BC-19BE-4C1A-B6DC-86B2AD9B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A8996-EBF9-4583-B796-88C27D68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A6043-B453-4873-86AF-EE4DB110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8E774-A665-4780-A59A-3D0F6C62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DC287-6CDC-432A-A0EC-4CEE47BA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4107F-6C9C-4D3A-8645-B8F70ADC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A213D-A1AC-47AB-B25D-C2582ECC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767B4-15AF-40F4-A620-C3ECEC71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F85F5-DA37-4ECA-BD92-9A0D9412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D8100-F3E4-4C3B-82CB-61F52111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28D37-6C2D-4EE0-8574-77592B39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DD924-7BDE-4274-BFD6-032A70C0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CE589-26F0-4FAE-BABE-4338C946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4D51F-BB01-4953-825F-A7A53C8F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BDE0D-B8E9-4A00-96A8-87D1A6E7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C6AF-CC9A-4A57-BA26-265AF758E1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EAE7-3C30-4724-B951-DD002195D57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10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10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10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  <p:sp>
            <p:nvSpPr>
              <p:cNvPr id="10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ff"/>
                  </a:solidFill>
                  <a:latin typeface="Franklin Gothic Demi Cond"/>
                </a:endParaRPr>
              </a:p>
            </p:txBody>
          </p:sp>
        </p:grpSp>
        <p:sp>
          <p:nvSpPr>
            <p:cNvPr id="10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10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70DD-F42A-4EE0-973D-3C275E633A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Franklin Gothic Demi 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1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1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1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1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  <p:sp>
          <p:nvSpPr>
            <p:cNvPr id="1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ff"/>
                </a:solidFill>
                <a:latin typeface="Franklin Gothic Demi Cond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Franklin Gothic Demi C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5F90-2EA9-4369-9CB7-7086FF71AB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Franklin Gothic Demi 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илологическая сказ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395280" y="1844640"/>
            <a:ext cx="8424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 путешествии слова 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WordArt 5"/>
          <p:cNvSpPr txBox="1"/>
          <p:nvPr/>
        </p:nvSpPr>
        <p:spPr>
          <a:xfrm>
            <a:off x="1116000" y="3716280"/>
            <a:ext cx="72010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Sport"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4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468360" y="1878120"/>
            <a:ext cx="2879640" cy="12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РТ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1" name="Group 17"/>
          <p:cNvGrpSpPr/>
          <p:nvPr/>
        </p:nvGrpSpPr>
        <p:grpSpPr>
          <a:xfrm>
            <a:off x="3637080" y="1878120"/>
            <a:ext cx="2589840" cy="1263240"/>
            <a:chOff x="3637080" y="1878120"/>
            <a:chExt cx="2589840" cy="1263240"/>
          </a:xfrm>
        </p:grpSpPr>
        <p:sp>
          <p:nvSpPr>
            <p:cNvPr id="232" name="WordArt 5"/>
            <p:cNvSpPr txBox="1"/>
            <p:nvPr/>
          </p:nvSpPr>
          <p:spPr>
            <a:xfrm>
              <a:off x="3637080" y="2089080"/>
              <a:ext cx="906120" cy="83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+</a:t>
              </a:r>
              <a:endPara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33" name="WordArt 6"/>
            <p:cNvSpPr txBox="1"/>
            <p:nvPr/>
          </p:nvSpPr>
          <p:spPr>
            <a:xfrm>
              <a:off x="4931640" y="1878120"/>
              <a:ext cx="1295280" cy="126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ивн</a:t>
              </a:r>
              <a:endPara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34" name="Group 19"/>
          <p:cNvGrpSpPr/>
          <p:nvPr/>
        </p:nvGrpSpPr>
        <p:grpSpPr>
          <a:xfrm>
            <a:off x="6659640" y="1773360"/>
            <a:ext cx="2232720" cy="1294920"/>
            <a:chOff x="6659640" y="1773360"/>
            <a:chExt cx="2232720" cy="1294920"/>
          </a:xfrm>
        </p:grpSpPr>
        <p:sp>
          <p:nvSpPr>
            <p:cNvPr id="235" name="WordArt 9"/>
            <p:cNvSpPr txBox="1"/>
            <p:nvPr/>
          </p:nvSpPr>
          <p:spPr>
            <a:xfrm>
              <a:off x="6659640" y="2097360"/>
              <a:ext cx="678600" cy="857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+</a:t>
              </a:r>
              <a:endPara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36" name="WordArt 10"/>
            <p:cNvSpPr txBox="1"/>
            <p:nvPr/>
          </p:nvSpPr>
          <p:spPr>
            <a:xfrm>
              <a:off x="7533000" y="1773360"/>
              <a:ext cx="1359360" cy="129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8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ый</a:t>
              </a:r>
              <a:endPara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37" name="WordArt 11"/>
          <p:cNvSpPr txBox="1"/>
          <p:nvPr/>
        </p:nvSpPr>
        <p:spPr>
          <a:xfrm>
            <a:off x="3995640" y="3789360"/>
            <a:ext cx="15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12"/>
          <p:cNvSpPr txBox="1"/>
          <p:nvPr/>
        </p:nvSpPr>
        <p:spPr>
          <a:xfrm>
            <a:off x="971640" y="4437000"/>
            <a:ext cx="720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ртивный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9" name="Group 20"/>
          <p:cNvGrpSpPr/>
          <p:nvPr/>
        </p:nvGrpSpPr>
        <p:grpSpPr>
          <a:xfrm>
            <a:off x="3851280" y="260280"/>
            <a:ext cx="1728720" cy="1436760"/>
            <a:chOff x="3851280" y="260280"/>
            <a:chExt cx="1728720" cy="1436760"/>
          </a:xfrm>
        </p:grpSpPr>
        <p:sp>
          <p:nvSpPr>
            <p:cNvPr id="240" name="WordArt 14"/>
            <p:cNvSpPr txBox="1"/>
            <p:nvPr/>
          </p:nvSpPr>
          <p:spPr>
            <a:xfrm>
              <a:off x="3851280" y="260280"/>
              <a:ext cx="172872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не</a:t>
              </a:r>
              <a:endPara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1" name="WordArt 15"/>
            <p:cNvSpPr txBox="1"/>
            <p:nvPr/>
          </p:nvSpPr>
          <p:spPr>
            <a:xfrm>
              <a:off x="4356000" y="1125360"/>
              <a:ext cx="7207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+</a:t>
              </a:r>
              <a:endPara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42" name="WordArt 16"/>
          <p:cNvSpPr txBox="1"/>
          <p:nvPr/>
        </p:nvSpPr>
        <p:spPr>
          <a:xfrm>
            <a:off x="395280" y="5013360"/>
            <a:ext cx="8569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спортивный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5000">
    <p:diamond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3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1196963406_11"/>
          <p:cNvPicPr/>
          <p:nvPr/>
        </p:nvPicPr>
        <p:blipFill>
          <a:blip r:embed="rId1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3960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ff"/>
                </a:solidFill>
                <a:latin typeface="Franklin Gothic Demi Cond"/>
              </a:rPr>
              <a:t>Таким образом, заимствованное слово осваивается в новом язык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87640" y="1628280"/>
            <a:ext cx="4105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Franklin Gothic Demi"/>
              </a:rPr>
              <a:t>- графическ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Franklin Gothic Demi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Franklin Gothic Demi"/>
              </a:rPr>
              <a:t>- фонетическ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Franklin Gothic Demi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Franklin Gothic Demi"/>
              </a:rPr>
              <a:t>- грамматическ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Franklin Gothic Demi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Franklin Gothic Demi"/>
              </a:rPr>
              <a:t>- лексичес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hecker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725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75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475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1196963406_09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563640" y="333000"/>
            <a:ext cx="52815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ff"/>
                </a:solidFill>
                <a:latin typeface="Franklin Gothic Demi Cond"/>
              </a:rPr>
              <a:t>Вот так и попутешествовало слово «Спорт» из Страны Английского языка в Страну Русского язы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circl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post-1616-11606747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42920" y="1332720"/>
            <a:ext cx="4033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3933720"/>
            <a:ext cx="82915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755640" y="1268280"/>
            <a:ext cx="7920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ана английского языка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6" name="Из+Шрека.mp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l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1185208471_8_velosiped_1600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Franklin Gothic Demi"/>
              </a:rPr>
              <a:t>В </a:t>
            </a:r>
            <a:r>
              <a:rPr b="0" lang="en-US" sz="4000" spc="-1" strike="noStrike">
                <a:solidFill>
                  <a:srgbClr val="cc0066"/>
                </a:solidFill>
                <a:latin typeface="Franklin Gothic Demi"/>
              </a:rPr>
              <a:t>C</a:t>
            </a:r>
            <a:r>
              <a:rPr b="0" lang="ru-RU" sz="4000" spc="-1" strike="noStrike">
                <a:solidFill>
                  <a:srgbClr val="cc0066"/>
                </a:solidFill>
                <a:latin typeface="Franklin Gothic Demi"/>
              </a:rPr>
              <a:t>тране Английского Языка жило-было слово «</a:t>
            </a:r>
            <a:r>
              <a:rPr b="0" lang="en-US" sz="4000" spc="-1" strike="noStrike">
                <a:solidFill>
                  <a:srgbClr val="cc0066"/>
                </a:solidFill>
                <a:latin typeface="Franklin Gothic Demi"/>
              </a:rPr>
              <a:t>Sport</a:t>
            </a:r>
            <a:r>
              <a:rPr b="0" lang="ru-RU" sz="4000" spc="-1" strike="noStrike">
                <a:solidFill>
                  <a:srgbClr val="cc0066"/>
                </a:solidFill>
                <a:latin typeface="Franklin Gothic Demi"/>
              </a:rPr>
              <a:t>»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Franklin Gothic Demi"/>
              </a:rPr>
              <a:t>Оно всегда было весёлым и жизнерадостным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8000">
    <p:strips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pogranichnik"/>
          <p:cNvPicPr/>
          <p:nvPr/>
        </p:nvPicPr>
        <p:blipFill>
          <a:blip r:embed="rId1"/>
          <a:stretch/>
        </p:blipFill>
        <p:spPr>
          <a:xfrm>
            <a:off x="0" y="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157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Franklin Gothic Demi"/>
              </a:rPr>
              <a:t>«</a:t>
            </a:r>
            <a:r>
              <a:rPr b="1" lang="en-US" sz="4000" spc="-1" strike="noStrike">
                <a:solidFill>
                  <a:srgbClr val="cc0066"/>
                </a:solidFill>
                <a:latin typeface="Franklin Gothic Demi"/>
              </a:rPr>
              <a:t>Sport</a:t>
            </a:r>
            <a:r>
              <a:rPr b="1" lang="ru-RU" sz="4000" spc="-1" strike="noStrike">
                <a:solidFill>
                  <a:srgbClr val="cc0066"/>
                </a:solidFill>
                <a:latin typeface="Franklin Gothic Demi"/>
              </a:rPr>
              <a:t>» жил в доме под названием «Лексическое значение»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5000"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big_1192973501_20071021-173315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4797000"/>
            <a:ext cx="8362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600" spc="-1" strike="noStrike">
                <a:solidFill>
                  <a:srgbClr val="cc0066"/>
                </a:solidFill>
                <a:latin typeface="Franklin Gothic Demi Cond"/>
              </a:rPr>
              <a:t>Однажды это слово зачиталось о дальних странах и решило поехать в Страну Русского Язык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8000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6"/>
          <p:cNvGrpSpPr/>
          <p:nvPr/>
        </p:nvGrpSpPr>
        <p:grpSpPr>
          <a:xfrm>
            <a:off x="0" y="0"/>
            <a:ext cx="9144000" cy="6840360"/>
            <a:chOff x="0" y="0"/>
            <a:chExt cx="9144000" cy="6840360"/>
          </a:xfrm>
        </p:grpSpPr>
        <p:pic>
          <p:nvPicPr>
            <p:cNvPr id="217" name="Picture 4" descr="ico_s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37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normal_iozhik1"/>
            <p:cNvPicPr/>
            <p:nvPr/>
          </p:nvPicPr>
          <p:blipFill>
            <a:blip r:embed="rId2"/>
            <a:stretch/>
          </p:blipFill>
          <p:spPr>
            <a:xfrm>
              <a:off x="0" y="3141720"/>
              <a:ext cx="9144000" cy="369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41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Franklin Gothic Demi Cond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Franklin Gothic Demi Cond"/>
              </a:rPr>
              <a:t>Там </a:t>
            </a:r>
            <a:r>
              <a:rPr b="0" lang="ru-RU" sz="4000" spc="-1" strike="noStrike">
                <a:solidFill>
                  <a:srgbClr val="cc0066"/>
                </a:solidFill>
                <a:latin typeface="Franklin Gothic Demi"/>
              </a:rPr>
              <a:t>«</a:t>
            </a:r>
            <a:r>
              <a:rPr b="0" lang="en-US" sz="4000" spc="-1" strike="noStrike">
                <a:solidFill>
                  <a:srgbClr val="cc0066"/>
                </a:solidFill>
                <a:latin typeface="Franklin Gothic Demi"/>
              </a:rPr>
              <a:t>Sport</a:t>
            </a:r>
            <a:r>
              <a:rPr b="0" lang="ru-RU" sz="4000" spc="-1" strike="noStrike">
                <a:solidFill>
                  <a:srgbClr val="cc0066"/>
                </a:solidFill>
                <a:latin typeface="Franklin Gothic Demi"/>
              </a:rPr>
              <a:t>» </a:t>
            </a:r>
            <a:r>
              <a:rPr b="0" lang="ru-RU" sz="4400" spc="-1" strike="noStrike">
                <a:solidFill>
                  <a:srgbClr val="cc0066"/>
                </a:solidFill>
                <a:latin typeface="Franklin Gothic Demi Cond"/>
              </a:rPr>
              <a:t>встретили охотно, и он начал дружить с новыми словами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8000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f00bd75fadf3t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Franklin Gothic Demi Cond"/>
              </a:rPr>
              <a:t>Но «Спорт» начал замечать, что он меняется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7000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1196963348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708000" y="260280"/>
            <a:ext cx="54356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514"/>
                </a:solidFill>
                <a:latin typeface="Franklin Gothic Demi Cond"/>
              </a:rPr>
              <a:t>Его начали писать новыми буквами – С П О Р Т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514"/>
                </a:solidFill>
                <a:latin typeface="Franklin Gothic Demi Cond"/>
              </a:rPr>
              <a:t>Стали произносить по-другому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514"/>
                </a:solidFill>
                <a:latin typeface="Franklin Gothic Demi Cond"/>
              </a:rPr>
              <a:t>Но радовался тому, что всё ещё обозначал Имя Существительное мужского рода и определённую область деятельности люде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5000">
    <p:newsflash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kros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84720" y="333360"/>
            <a:ext cx="48592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4000" spc="-1" strike="noStrike">
                <a:solidFill>
                  <a:srgbClr val="cc0066"/>
                </a:solidFill>
                <a:latin typeface="Franklin Gothic Demi"/>
              </a:rPr>
              <a:t>Ещё от него в Стране Русского Языка при помощи приставок, суффиксов и окончаний стали образовываться новые сло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10000">
    <p:zoom dir="in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22:24:56Z</dcterms:created>
  <dc:creator>Usver'</dc:creator>
  <dc:description/>
  <dc:language>en-US</dc:language>
  <cp:lastModifiedBy>ZooM</cp:lastModifiedBy>
  <dcterms:modified xsi:type="dcterms:W3CDTF">2013-12-03T20:47:05Z</dcterms:modified>
  <cp:revision>12</cp:revision>
  <dc:subject/>
  <dc:title>Слайд 1</dc:title>
</cp:coreProperties>
</file>