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push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39.jpeg" ContentType="image/jpeg"/>
  <Override PartName="/ppt/media/image1.png" ContentType="image/png"/>
  <Override PartName="/ppt/media/image29.wmf" ContentType="image/x-wmf"/>
  <Override PartName="/ppt/media/image22.png" ContentType="image/png"/>
  <Override PartName="/ppt/media/camera.wav" ContentType="audio/x-wav"/>
  <Override PartName="/ppt/media/breeze.wav" ContentType="audio/x-wav"/>
  <Override PartName="/ppt/media/wind.wav" ContentType="audio/x-wav"/>
  <Override PartName="/ppt/media/chimes.wav" ContentType="audio/x-wav"/>
  <Override PartName="/ppt/media/image36.wmf" ContentType="image/x-wmf"/>
  <Override PartName="/ppt/media/image26.jpeg" ContentType="image/jpeg"/>
  <Override PartName="/ppt/media/image30.wmf" ContentType="image/x-wmf"/>
  <Override PartName="/ppt/media/image27.jpeg" ContentType="image/jpeg"/>
  <Override PartName="/ppt/media/image37.jpeg" ContentType="image/jpeg"/>
  <Override PartName="/ppt/media/image28.wmf" ContentType="image/x-wmf"/>
  <Override PartName="/ppt/media/image10.png" ContentType="image/png"/>
  <Override PartName="/ppt/media/image31.jpeg" ContentType="image/jpeg"/>
  <Override PartName="/ppt/media/image35.wmf" ContentType="image/x-wmf"/>
  <Override PartName="/ppt/media/image38.jpeg" ContentType="image/jpeg"/>
  <Override PartName="/ppt/media/image40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5.png" ContentType="image/png"/>
  <Override PartName="/ppt/media/image23.wmf" ContentType="image/x-wmf"/>
  <Override PartName="/ppt/media/whoosh.wav" ContentType="audio/x-wav"/>
  <Override PartName="/ppt/media/suction.wav" ContentType="audio/x-wav"/>
  <Override PartName="/ppt/media/image24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6.png" ContentType="image/png"/>
  <Override PartName="/ppt/media/bomb.wav" ContentType="audio/x-wav"/>
  <Override PartName="/ppt/media/arrow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56A-241D-496E-AB6C-251CDBE7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BE0-3752-4B8B-9EC9-773896E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0F5-294A-484D-AB93-E08D941D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CB0-6C49-4366-85CB-18F53FC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22C-C0F7-4F7B-80E9-42F3C68C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0BE5-FFC2-4C8C-90C7-9865494F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159C-CA23-4813-84A4-50C8C4DE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68A3-9E19-474A-ADDC-21F3CB9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6DFE-2AA1-4749-B4A1-96F615FF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345-8F72-454C-83B0-68EB9CE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C063-59A3-4D91-9035-880854C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238-846C-4B02-AD99-AE3326E0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70B-F6DE-4836-9869-F0278FA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B1E-06E7-4681-8DD0-2D6B860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76A6-98FD-4895-93A2-2034267E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2CC-E386-47C1-AB9F-47D900A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DB24-061C-4912-B067-1A87D0CA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03B-946B-4955-8269-A1917A86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8AA-34FC-4798-9C42-135E448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DDB-A2D3-4128-9E2D-82384E2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BEE-68F1-415A-9601-8A8EC8AE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DB8-C2E4-424F-A27E-910D09F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1F2-49A9-4045-BE7A-A48FF26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3CF-0445-48B2-801B-CCBC9DA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5E3-93AF-4137-B058-E562E753D9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D4D-9E0F-456C-B8C8-9AE47A5724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voltage.wav" TargetMode="External"/><Relationship Id="rId4" Type="http://schemas.openxmlformats.org/officeDocument/2006/relationships/hyperlink" Target="file:///tmp/home/.config/libreoffice/4/user/gallery/voltage.wav" TargetMode="External"/><Relationship Id="rId5" Type="http://schemas.openxmlformats.org/officeDocument/2006/relationships/hyperlink" Target="file:///tmp/home/.config/libreoffice/4/user/gallery/voltage.wav" TargetMode="External"/><Relationship Id="rId6" Type="http://schemas.openxmlformats.org/officeDocument/2006/relationships/hyperlink" Target="file:///tmp/home/.config/libreoffice/4/user/gallery/voltage.wav" TargetMode="External"/><Relationship Id="rId7" Type="http://schemas.openxmlformats.org/officeDocument/2006/relationships/hyperlink" Target="file:///tmp/home/.config/libreoffice/4/user/gallery/voltage.wav" TargetMode="External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89560" y="3745080"/>
            <a:ext cx="441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абота ученика  9-а класса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МОУ СОШ №1 г Тынды</a:t>
            </a:r>
            <a:br>
              <a:rPr sz="2000"/>
            </a:br>
            <a:r>
              <a:rPr b="1" i="1" lang="en-US" sz="2000" spc="-1" strike="noStrike">
                <a:solidFill>
                  <a:srgbClr val="c64b00"/>
                </a:solidFill>
                <a:latin typeface="Arial"/>
              </a:rPr>
              <a:t>Фомина Александра Петровича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уководитель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Собко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3640" y="1255680"/>
            <a:ext cx="82915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c64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ММЕТРИЯ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c64b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7680" y="569124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г. Ты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427280" y="404640"/>
            <a:ext cx="4470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ами фигур, обладающих центральной симметрией, являются окружность и параллелограмм. Центром симметрии окружности является центр окружности, а центром симметрии параллелограмма — точка пересечения его диагоналей. Прямая также обладает центральной симметрией, однако в отличие от окружности и параллелограмма, которые имеют только один центр симметрии у прямой их бесконечно много — любая точка прямой является ее центром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имером фигуры, не имеющей центра симметрии, является произвольный треугольник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2492280"/>
            <a:ext cx="16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ы, обладающие центральной симмет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breez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прямой</a:t>
            </a:r>
            <a:endParaRPr b="1" lang="en-US" sz="32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" y="974880"/>
            <a:ext cx="526716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усть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 –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фиксированная прямая. Возьмём произвольную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и опустим перпендикуляр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O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 прямую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На продолжении перпендикуляра за точку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отложим отрезок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O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равный отрезку О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Точка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зывается симметричной точке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Если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лежит на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то симметричная ей точка есть сама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Очевидно что точка, симметрична точке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есть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реобразование фигуры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в фигур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при котором каждая её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переходит в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симметричную относительно данной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называется преобразованием симметрии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0600" y="1146240"/>
            <a:ext cx="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11800" y="1916280"/>
            <a:ext cx="185760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29440" y="90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187164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81920" y="18716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96320" y="187020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3600" y="1544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800" y="15145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65948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28920" y="5202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breeze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9600" y="231840"/>
            <a:ext cx="775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Если преобразование симметрии относительно прямой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переводит фигуру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в себя, то эта фигура называется симметричной относительно прямой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, а прямая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называется осью симметрии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угла является прямая, содержащая его биссектри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равнобедренного треугольника является прямая, которой принадлежит медиана треугольника, проведённая к основанию. Равносторонний треугольник имеет три оси сим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окружности является любая прямая проходящая через цен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2920" y="4784400"/>
            <a:ext cx="3198600" cy="4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breeze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Эллипс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  центр   симметрии   и   две  оси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1628640"/>
            <a:ext cx="5616720" cy="31687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3213000"/>
            <a:ext cx="5616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628640"/>
            <a:ext cx="71640" cy="316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относительно плоскост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4365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плоскости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61920" y="1700280"/>
            <a:ext cx="44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А и 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ся симметричными относительно плоскости а, если эта плоскость проходит через середину отрезка А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пендикулярна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точка плоскости а считается симметричной самой себе (относительно 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плоскости а (плоскости симметрии фигуры), если для каждой точки фигуры имеется симметричная относительно плоскости а точка этой же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51200" y="668160"/>
            <a:ext cx="49482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плоскости а. Для каждо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й ж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проходящая через ось тела вращения, является плоскостью симметрии эт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образование симметрии относительно плоскости а переводит фигуру в себя, то эта фигура называется симметричной относительно плоскости а, а плоскость а называется плоскостью симметрии эт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12960" y="228600"/>
            <a:ext cx="2212920" cy="2973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9240" y="3546360"/>
            <a:ext cx="2336760" cy="27702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suction.wav"/>
      </p:stSnd>
    </p:sndAc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158920" cy="191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089080" cy="1730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220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плоскостей симметрии — это плоскости, проходящие через середины параллельных ребер куба (плоскость а на рисунке), а также плоскости, про­ходящие через противоположные ребра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871640" cy="2203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9480" y="3314880"/>
            <a:ext cx="46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 а, проходящая через ребр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 перпендикулярно противоположному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— плоскость симметрии тетраэдра. У тетраэдра 6 плоскостей симмет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60640" y="5661000"/>
            <a:ext cx="61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из плоскостей симметрии правильного октаэдра осевое сечение правильного октаэдра. У правильного октаэдра 9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800" y="55767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10360" y="10000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99880" y="52754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окт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93680" y="3284640"/>
            <a:ext cx="2074680" cy="23050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suction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54640" y="1052640"/>
            <a:ext cx="418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любого предмета в плоском зеркале симметрично этому предмету относительно плоскости зеркала. Поэтому симметрию относительно плоскости называют такж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еркальной симметр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6600" y="479736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лоскость, проходящая через центр шара,— плоскость симметрии ша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845080" cy="381636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suction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пространстве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15520" y="1307880"/>
            <a:ext cx="7574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)    Центральн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1239840" y="389412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6880" y="2222640"/>
            <a:ext cx="80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Как и в случае плоскости, точки А и 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 в пространстве называются симметричными относительно точки О, если О — середина отрезка А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Фигура называется симметричной относительно точки О (центра симметрии фигуры), если для каждой ее точки имеется симметричная относительно центра О точка этой же фиг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408720" cy="324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3933720"/>
            <a:ext cx="82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симметрии параллелепипеда — точка пересечения его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пространства между параллельными плоскостями (слой) имеет бесконечно много центров симметрии. Все они расположены на среди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—центр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0280" y="647280"/>
            <a:ext cx="78994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Monotype Corsiva"/>
              </a:rPr>
              <a:t>Математика владеет не только истиной, но и красотой …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                                        </a:t>
            </a: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Б. Рассел</a:t>
            </a:r>
            <a:r>
              <a:rPr b="0" i="1" lang="en-US" sz="3200" spc="-1" strike="noStrike">
                <a:solidFill>
                  <a:srgbClr val="9900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 рисунках изображены центрально-симметричные фигуры в пространст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1280" y="2133720"/>
            <a:ext cx="3166920" cy="1079280"/>
          </a:xfrm>
          <a:prstGeom prst="line">
            <a:avLst/>
          </a:prstGeom>
          <a:ln w="38160">
            <a:solidFill>
              <a:srgbClr val="bd9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314172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565360"/>
            <a:ext cx="14436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206064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840" y="2668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5440" y="2133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07560" y="1660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72080" y="18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268280"/>
            <a:ext cx="53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  а А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точки О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5157720"/>
            <a:ext cx="66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центра О — для каждой ее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О 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й же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6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241800" cy="2651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7200" y="420372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осей симметрии — это прямые, проходящие через центр куба перпендикулярно его граням (прямы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 , а также прямые, проходящие через середины противоположных ребер (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б)    Осевая симметрия</a:t>
            </a:r>
            <a:r>
              <a:rPr b="0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br>
              <a:rPr sz="3200"/>
            </a:b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2520720" cy="2663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167440" y="4411800"/>
            <a:ext cx="39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рямая, проходящая через центр шара,— ось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7440" y="299736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, проходящая через середины противоположных ребе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,— ось симметрии тетраэдра. У правильного тетраэдра   три   оси  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376360" cy="22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534960" y="2238480"/>
          <a:ext cx="182520" cy="2152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788000" y="30567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 — это поверхность, полученная вращением окружности 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ось тора).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ось симметрии 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2400480" cy="244800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213000" cy="388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1360" y="4538520"/>
            <a:ext cx="344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вращения получается вращением крив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прямая — ось симметрии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22880" y="476280"/>
            <a:ext cx="4570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а может иметь одну или несколько осей (центров)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куб имеет только один центр симметрии и несколько осей симметрии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ют фигуры, которые имеют бесконечно много центров и осей симметрии. Простейшими из таких фигур являются прямая и плоскость. Любая точка плоскости является ее центром симметрии. Любая прямая, перпендикулярная к данной плоскости, является ее осью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ругой стороны, существуют фигуры, не имеющие центров и осей симметрии. Например, тетраэдр не имеет ни одного центра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06400" y="189000"/>
            <a:ext cx="867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154160"/>
            <a:ext cx="92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ll MT"/>
              </a:rPr>
              <a:t>Симметрия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 – это гармония формы и определённый порядок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03200" y="2046240"/>
            <a:ext cx="2928960" cy="2603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492880" y="2013120"/>
            <a:ext cx="3008160" cy="2566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12200" y="46879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91280" y="4595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6840" y="5083200"/>
            <a:ext cx="32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02360" y="508644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4" name="push.wav"/>
      </p:stSnd>
    </p:sndAc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Правильный тетраэдр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85840" y="2253960"/>
            <a:ext cx="40388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еет три оси симметрии и шесть плоскостей симметрии, но не имеет центра симметри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2060640"/>
            <a:ext cx="432000" cy="37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58560" y="2060640"/>
            <a:ext cx="136836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060640"/>
            <a:ext cx="151308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5084640"/>
            <a:ext cx="180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59280" y="5013360"/>
            <a:ext cx="1081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5013360"/>
            <a:ext cx="288144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76000" cy="431640"/>
          </a:xfrm>
          <a:prstGeom prst="leftArrow">
            <a:avLst>
              <a:gd name="adj1" fmla="val 57713"/>
              <a:gd name="adj2" fmla="val 6834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d9d69"/>
                </a:solidFill>
                <a:latin typeface="Arial"/>
              </a:rPr>
              <a:t>Правильный октаэдр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91120" y="1557360"/>
            <a:ext cx="463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центр симметрии, шесть осей симметрии и девять плоскостей симметрии. Укажите какие-нибудь ось и плоскость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267360" cy="432108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Звездчатый октаэдр Кеплера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но рассматривать как объе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е двух правильных тетраэдров. Имеет центр симметрии и несколько осей и плоскостей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091120" y="1628640"/>
            <a:ext cx="3440160" cy="381636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Треугольник Рело</a:t>
            </a:r>
            <a:br>
              <a:rPr sz="2000"/>
            </a:b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419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унок имеет три оси симметрии. Треугольник Рело, как и окружность,—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значает, что его можно вращать между двумя параллельными прямыми, расстояние между которыми рав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метр треугольника Рело, т. е. сумма длин дуг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, В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одна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= Н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ся она так. Берется равносторонний треуголь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 центрами в точк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,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тся дуг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К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Q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произвольного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с центрами в этих же точках проводятся дуг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D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кривая имеет три оси симметрии. Длина кривой рав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836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87012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432000"/>
          </a:xfrm>
          <a:prstGeom prst="rightArrow">
            <a:avLst>
              <a:gd name="adj1" fmla="val 50000"/>
              <a:gd name="adj2" fmla="val 77184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Кривая Вавиани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ивая Вавиани — линия пересечения сферы радиуса а и цилиндра диаметра а. Имеет две плоскости симметрии. Предложена итальянским архитектором Вавиани (1622—1703) для окна в сферическом куполе здания. Попытайтесь найти расположение плоскостей симметрии кривой Вавиан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928960" cy="35276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Arial"/>
              </a:rPr>
              <a:t>Основные вопрос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87272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- это гармония и красота? Равновесие? Устойчивость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Зачем человеку нужно знать о симметр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656240" y="2479680"/>
            <a:ext cx="404640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01600" y="260280"/>
            <a:ext cx="3738600" cy="3821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окружающем нас мире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5160" y="1484280"/>
            <a:ext cx="832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ё красивое радует нас. Мы невольно отмечаем для себя красивый закат, удивительные листья растений, строгие формы кристаллов. Когда мы рассказываем об увиденном, то мысленно всё ещё созерцаем. Постепенно у нас формируется картина окружающего мира, мы находим общее в различных предметах. Например, лист клевера и лист клена различны по форме, но их объединяет что-то общее. Наверное каждый скажет: эти листья имеют симметрию - у них есть ось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 наблюдается не только у листьев. Любуясь закатом солнца на море, мы также видим симметрию- направо и налево от солнца всё одинаково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есть на дошедших до нас картинах древних художников. Очень часто симметрия используется в архите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wind.wav"/>
      </p:stSnd>
    </p:sndAc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49360" y="243000"/>
            <a:ext cx="82296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широко распространена в природе. Ее можно наблюдать в форме листьев и цветов растений, в расположении различных органов животных, в форме кристаллических тел.Симметрия широко используется на практике, в строительстве и техник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059440" y="4371840"/>
            <a:ext cx="3290760" cy="2194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057640" y="2071800"/>
            <a:ext cx="3094200" cy="2062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868320" y="1995480"/>
            <a:ext cx="2604960" cy="23526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1155600" y="4444920"/>
            <a:ext cx="2090880" cy="198288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chimes.wav"/>
      </p:stSnd>
    </p:sndAc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2139840" cy="21589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рисунках вы можете обнаружить соразмерность форм, правильное расположение частей предметов, что можно рассматривать как определённую форму симметр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6064200" y="1444680"/>
            <a:ext cx="18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2448000" cy="2158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387360" y="4186080"/>
            <a:ext cx="2448000" cy="210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3295440" cy="206712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2968560" y="4183200"/>
            <a:ext cx="3119400" cy="2130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8" name="chimes.wav"/>
      </p:stSnd>
    </p:sndAc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768920" y="136368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 rot="20637600">
            <a:off x="598320" y="434880"/>
            <a:ext cx="3600720" cy="4492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922320" y="2629080"/>
            <a:ext cx="359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7080" y="1001880"/>
            <a:ext cx="79120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Ведь и назначение и цель гармонии - упорядочить части, вообще говоря, различные по природе, неким совершенным соотношением так, чтобы они одна другой соответствовали, создавая крас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                                                        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Л.Б. Альб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71800" y="425520"/>
            <a:ext cx="59436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листочке, я в кристал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живописи, архитектур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геометрии, я 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Одним я нравлюсь, друг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аходят меня скуч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о все признают,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– элемент кра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80880" y="1111320"/>
            <a:ext cx="1617840" cy="2427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58840" y="4738680"/>
            <a:ext cx="2855880" cy="1903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19760" y="4856040"/>
            <a:ext cx="2705040" cy="1803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960"/>
                            </p:stCondLst>
                            <p:childTnLst>
                              <p:par>
                                <p:cTn id="1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920"/>
                            </p:stCondLst>
                            <p:childTnLst>
                              <p:par>
                                <p:cTn id="10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880"/>
                            </p:stCondLst>
                            <p:childTnLst>
                              <p:par>
                                <p:cTn id="1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760"/>
                            </p:stCondLst>
                            <p:childTnLst>
                              <p:par>
                                <p:cTn id="1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56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280"/>
                            </p:stCondLst>
                            <p:childTnLst>
                              <p:par>
                                <p:cTn id="1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Математики шутят…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901960" y="1600200"/>
            <a:ext cx="6006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Monotype Corsiva"/>
              </a:rPr>
              <a:t>Шутка об осевой симметри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жды чужеземец, восхищённый красотой знаменитого бухарского минарета Калян, воскликну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 строите такие высокие минареты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росто, - ответил ходжа Насреддин и, не преминув блеснуть своим обычным остроумием, пояснил: «Сначала выкапываем глубокий колодец, а потом выворачиваем его наизнанку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74760" y="1835280"/>
            <a:ext cx="2313000" cy="412416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4b00"/>
                </a:solidFill>
                <a:latin typeface="Arial"/>
              </a:rPr>
              <a:t>Информационные ресурсы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-200880" y="1595520"/>
            <a:ext cx="98506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Погорелов А.В. Геометрия 7-11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Руденко В.Н. Бахулин Г.А. Геометрия 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Атанасян Л.С. Геометрия 7-9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ольшая энциклопедия Кирилла и Мефодия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Зенкевич И.Г. Эстетика урока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Яшекова Г. Математика справочник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утузов В.Ф. Математика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8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1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4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7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3" dur="1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Цель работ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тему «Симметрия на плоскости и в пространств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ь вопрос «Симметрия в окружающем нас мир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bomb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250920" y="620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250920" y="119700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/>
          </p:cNvPr>
          <p:cNvSpPr/>
          <p:nvPr/>
        </p:nvSpPr>
        <p:spPr>
          <a:xfrm>
            <a:off x="250920" y="1773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/>
          </p:cNvPr>
          <p:cNvSpPr/>
          <p:nvPr/>
        </p:nvSpPr>
        <p:spPr>
          <a:xfrm>
            <a:off x="250920" y="2349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/>
          </p:cNvPr>
          <p:cNvSpPr/>
          <p:nvPr/>
        </p:nvSpPr>
        <p:spPr>
          <a:xfrm>
            <a:off x="250920" y="2924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/>
          </p:cNvPr>
          <p:cNvSpPr/>
          <p:nvPr/>
        </p:nvSpPr>
        <p:spPr>
          <a:xfrm>
            <a:off x="250920" y="350028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8"/>
          </p:cNvPr>
          <p:cNvSpPr/>
          <p:nvPr/>
        </p:nvSpPr>
        <p:spPr>
          <a:xfrm>
            <a:off x="243000" y="407664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arrow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Основные понятия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— это гармония формы и определенный порядок. Но это слишком общее разъяснение. Каким образом можно конкретизировать понятие симметрии? Нужно привлечь математику, точнее, геометрию, и попытаться классифицировать различные виды симметрии. Прежде чем перейти к общепринятой терминологии, обратимся к рисункам, которые помогут уяснить задачу классификации симметри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whoosh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04640"/>
            <a:ext cx="82803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4b00"/>
                </a:solidFill>
                <a:latin typeface="Arial"/>
              </a:rPr>
              <a:t>СИММЕТРИЯ</a:t>
            </a: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т греч. symmetria — соразмерность), в широком смысле — инвариантность (неизменность) структуры, свойств, формы материального объекта относительно его преобразо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. е. изменений ряда физических услови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 лежит в основе законов сохран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,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448080" y="2965320"/>
            <a:ext cx="52052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2640" y="4276800"/>
            <a:ext cx="52988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рямой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3920" y="5575320"/>
            <a:ext cx="527688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472280" y="-181800"/>
            <a:ext cx="830520" cy="480708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19360" y="19890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64b00"/>
                </a:solidFill>
                <a:latin typeface="Arial"/>
              </a:rPr>
              <a:t>Виды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 flipH="1" flipV="1" rot="10800000">
            <a:off x="2484000" y="2348280"/>
            <a:ext cx="1007280" cy="3699720"/>
          </a:xfrm>
          <a:prstGeom prst="bentConnector3">
            <a:avLst>
              <a:gd name="adj1" fmla="val -22845"/>
            </a:avLst>
          </a:prstGeom>
          <a:ln w="57240">
            <a:solidFill>
              <a:srgbClr val="bd9d6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268360" y="3429000"/>
            <a:ext cx="122400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724280"/>
            <a:ext cx="115128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hoosh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точки.</a:t>
            </a: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c64b00"/>
                </a:solidFill>
                <a:latin typeface="Arial"/>
              </a:rPr>
              <a:t>ЦЕНТРАЛЬНАЯ СИММЕТРИЯ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симметрия относительно точки, которая задается следующим образом:</a:t>
            </a:r>
            <a:endParaRPr b="1" lang="en-US" sz="2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30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дадим фиксированную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орая называется центром симметрии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оизвольной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им в соответствие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инадлежащую прямой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А = О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а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и В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ы, относительно точки 0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 Пуст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ая фигура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симметрии. Преобразование 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игур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котором каждая ее 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ит в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ую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преобразованием симметрии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4076640"/>
            <a:ext cx="324000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263700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4005360"/>
            <a:ext cx="14472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256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3088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5000" y="4076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06200" y="40370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2160" y="2421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28560" y="5075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0" y="3605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breez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6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4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64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4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4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64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05:21Z</dcterms:created>
  <dc:creator>Aleksandr</dc:creator>
  <dc:description/>
  <dc:language>en-US</dc:language>
  <cp:lastModifiedBy>User</cp:lastModifiedBy>
  <dcterms:modified xsi:type="dcterms:W3CDTF">2007-01-27T09:01:43Z</dcterms:modified>
  <cp:revision>82</cp:revision>
  <dc:subject/>
  <dc:title>Симметрия и окружающий мир.</dc:title>
</cp:coreProperties>
</file>