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push.wav" ContentType="audio/x-wav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image9.png" ContentType="image/png"/>
  <Override PartName="/ppt/media/image8.png" ContentType="image/png"/>
  <Override PartName="/ppt/media/image39.jpeg" ContentType="image/jpeg"/>
  <Override PartName="/ppt/media/image1.png" ContentType="image/png"/>
  <Override PartName="/ppt/media/image29.wmf" ContentType="image/x-wmf"/>
  <Override PartName="/ppt/media/image22.png" ContentType="image/png"/>
  <Override PartName="/ppt/media/camera.wav" ContentType="audio/x-wav"/>
  <Override PartName="/ppt/media/breeze.wav" ContentType="audio/x-wav"/>
  <Override PartName="/ppt/media/wind.wav" ContentType="audio/x-wav"/>
  <Override PartName="/ppt/media/chimes.wav" ContentType="audio/x-wav"/>
  <Override PartName="/ppt/media/image36.wmf" ContentType="image/x-wmf"/>
  <Override PartName="/ppt/media/image26.jpeg" ContentType="image/jpeg"/>
  <Override PartName="/ppt/media/image30.wmf" ContentType="image/x-wmf"/>
  <Override PartName="/ppt/media/image27.jpeg" ContentType="image/jpeg"/>
  <Override PartName="/ppt/media/image37.jpeg" ContentType="image/jpeg"/>
  <Override PartName="/ppt/media/image28.wmf" ContentType="image/x-wmf"/>
  <Override PartName="/ppt/media/image10.png" ContentType="image/png"/>
  <Override PartName="/ppt/media/image31.jpeg" ContentType="image/jpeg"/>
  <Override PartName="/ppt/media/image35.wmf" ContentType="image/x-wmf"/>
  <Override PartName="/ppt/media/image38.jpeg" ContentType="image/jpeg"/>
  <Override PartName="/ppt/media/image40.png" ContentType="image/png"/>
  <Override PartName="/ppt/media/image34.jpeg" ContentType="image/jpeg"/>
  <Override PartName="/ppt/media/image7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5.png" ContentType="image/png"/>
  <Override PartName="/ppt/media/image23.wmf" ContentType="image/x-wmf"/>
  <Override PartName="/ppt/media/whoosh.wav" ContentType="audio/x-wav"/>
  <Override PartName="/ppt/media/suction.wav" ContentType="audio/x-wav"/>
  <Override PartName="/ppt/media/image24.wmf" ContentType="image/x-wmf"/>
  <Override PartName="/ppt/media/image4.png" ContentType="image/png"/>
  <Override PartName="/ppt/media/image33.png" ContentType="image/png"/>
  <Override PartName="/ppt/media/image3.png" ContentType="image/png"/>
  <Override PartName="/ppt/media/image6.png" ContentType="image/png"/>
  <Override PartName="/ppt/media/bomb.wav" ContentType="audio/x-wav"/>
  <Override PartName="/ppt/media/arrow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446F-6325-4FF4-B8A9-B3900634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B989-8A95-4FA2-8700-10BD3773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F597-4A29-4587-B2F0-06CC2CE3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979-4B84-4043-9A5C-497B89C3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2981-131D-437F-91B1-D5DFEB3C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4837-810B-40B8-BFA4-D6482FE3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1460-D280-44FE-8D36-5C2C1440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C8B7-ECB5-4723-A12F-675963E4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D991-A8D1-48BD-9205-B83DAE01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1021-64DD-407C-85F5-5EF07237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CBEE-4E44-430B-8FFF-35329304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89B5-515F-4470-9570-B2DC8632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4BA7-37A1-437D-906A-70179687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135B-B120-4CF7-9891-E9BF9C4E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65F7-213A-4309-A9B0-4B4C2477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C5A3-3916-4E6C-B227-6F2DE9ED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22F4-21AE-4ABC-847A-F5E175BB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363-7F40-46B8-B4FD-3B0C6EE1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E69-BAAA-4AD3-BEB6-79EF525B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669-DCA6-4A01-B56F-318B0172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170D-7CD0-428C-A388-ACC3F195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0E57-C197-4C26-BC65-DF996DB3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BEC6-C3FB-41FA-B566-943BE4E7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C0A-7E9C-41C4-876D-6ECA2520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5e1b1"/>
                </a:gs>
                <a:gs pos="50000">
                  <a:srgbClr val="f5f0bd"/>
                </a:gs>
                <a:gs pos="100000">
                  <a:srgbClr val="e5e1b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AE94-A5E3-47F8-9513-972A9D43C6E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d9d6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64b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5e1b1"/>
                </a:gs>
                <a:gs pos="50000">
                  <a:srgbClr val="f5f0bd"/>
                </a:gs>
                <a:gs pos="100000">
                  <a:srgbClr val="e5e1b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d9d69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A36C-2736-4CCF-99BC-47D343D4E90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d9d69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64b00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audio" Target="../media/suction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voltage.wav" TargetMode="External"/><Relationship Id="rId4" Type="http://schemas.openxmlformats.org/officeDocument/2006/relationships/hyperlink" Target="file:///tmp/home/.config/libreoffice/4/user/gallery/voltage.wav" TargetMode="External"/><Relationship Id="rId5" Type="http://schemas.openxmlformats.org/officeDocument/2006/relationships/hyperlink" Target="file:///tmp/home/.config/libreoffice/4/user/gallery/voltage.wav" TargetMode="External"/><Relationship Id="rId6" Type="http://schemas.openxmlformats.org/officeDocument/2006/relationships/hyperlink" Target="file:///tmp/home/.config/libreoffice/4/user/gallery/voltage.wav" TargetMode="External"/><Relationship Id="rId7" Type="http://schemas.openxmlformats.org/officeDocument/2006/relationships/hyperlink" Target="file:///tmp/home/.config/libreoffice/4/user/gallery/voltage.wav" TargetMode="External"/><Relationship Id="rId8" Type="http://schemas.openxmlformats.org/officeDocument/2006/relationships/hyperlink" Target="file:///tmp/home/.config/libreoffice/4/user/gallery/voltage.wav" TargetMode="External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489560" y="3745080"/>
            <a:ext cx="441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4b00"/>
                </a:solidFill>
                <a:latin typeface="Arial"/>
              </a:rPr>
              <a:t>Работа ученика  9-а класса </a:t>
            </a:r>
            <a:br>
              <a:rPr sz="2000"/>
            </a:br>
            <a:r>
              <a:rPr b="1" lang="en-US" sz="2000" spc="-1" strike="noStrike">
                <a:solidFill>
                  <a:srgbClr val="c64b00"/>
                </a:solidFill>
                <a:latin typeface="Arial"/>
              </a:rPr>
              <a:t>МОУ СОШ №1 г Тынды</a:t>
            </a:r>
            <a:br>
              <a:rPr sz="2000"/>
            </a:br>
            <a:r>
              <a:rPr b="1" i="1" lang="en-US" sz="2000" spc="-1" strike="noStrike">
                <a:solidFill>
                  <a:srgbClr val="c64b00"/>
                </a:solidFill>
                <a:latin typeface="Arial"/>
              </a:rPr>
              <a:t>Фомина Александра Петровича</a:t>
            </a:r>
            <a:br>
              <a:rPr sz="2000"/>
            </a:br>
            <a:r>
              <a:rPr b="1" lang="en-US" sz="2000" spc="-1" strike="noStrike">
                <a:solidFill>
                  <a:srgbClr val="c64b00"/>
                </a:solidFill>
                <a:latin typeface="Arial"/>
              </a:rPr>
              <a:t>Руководитель </a:t>
            </a:r>
            <a:br>
              <a:rPr sz="2000"/>
            </a:br>
            <a:r>
              <a:rPr b="1" lang="en-US" sz="2000" spc="-1" strike="noStrike">
                <a:solidFill>
                  <a:srgbClr val="c64b00"/>
                </a:solidFill>
                <a:latin typeface="Arial"/>
              </a:rPr>
              <a:t>Собко Людмил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93640" y="1255680"/>
            <a:ext cx="8291520" cy="17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c64b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ИММЕТРИЯ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c64b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87680" y="569124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4b00"/>
                </a:solidFill>
                <a:latin typeface="Arial"/>
              </a:rPr>
              <a:t>г. Ты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4b00"/>
                </a:solidFill>
                <a:latin typeface="Arial"/>
              </a:rPr>
              <a:t>20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427280" y="404640"/>
            <a:ext cx="44701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ерами фигур, обладающих центральной симметрией, являются окружность и параллелограмм. Центром симметрии окружности является центр окружности, а центром симметрии параллелограмма — точка пересечения его диагоналей. Прямая также обладает центральной симметрией, однако в отличие от окружности и параллелограмма, которые имеют только один центр симметрии у прямой их бесконечно много — любая точка прямой является ее центром симметрии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Примером фигуры, не имеющей центра симметрии, является произвольный треугольник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"/>
          <p:cNvSpPr/>
          <p:nvPr/>
        </p:nvSpPr>
        <p:spPr>
          <a:xfrm>
            <a:off x="2063880" y="419040"/>
            <a:ext cx="1584360" cy="144000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85680" y="79056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32120" y="110808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925560" y="2243160"/>
            <a:ext cx="1414440" cy="1001520"/>
          </a:xfrm>
          <a:prstGeom prst="line">
            <a:avLst/>
          </a:prstGeom>
          <a:ln w="28440">
            <a:solidFill>
              <a:srgbClr val="208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133720"/>
            <a:ext cx="190800" cy="122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25560" y="2349360"/>
            <a:ext cx="1401840" cy="779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49240" y="4762440"/>
            <a:ext cx="2016360" cy="865080"/>
          </a:xfrm>
          <a:prstGeom prst="parallelogram">
            <a:avLst>
              <a:gd name="adj" fmla="val 58271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66920" y="4762440"/>
            <a:ext cx="100800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87040" y="4775040"/>
            <a:ext cx="1978200" cy="814680"/>
          </a:xfrm>
          <a:prstGeom prst="line">
            <a:avLst/>
          </a:prstGeom>
          <a:ln w="28440">
            <a:solidFill>
              <a:srgbClr val="208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71640" y="2492280"/>
            <a:ext cx="16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гуры, обладающие центральной симметр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32040" y="513720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13600" y="48020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3440" y="271476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41160" y="238428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2421000"/>
            <a:ext cx="1008360" cy="863640"/>
          </a:xfrm>
          <a:prstGeom prst="rect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2" name="breeze.wav"/>
      </p:stSnd>
    </p:sndAc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8520" y="18684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4b00"/>
                </a:solidFill>
                <a:latin typeface="Arial"/>
              </a:rPr>
              <a:t>Симметрия относительно прямой</a:t>
            </a:r>
            <a:endParaRPr b="1" lang="en-US" sz="32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90" name=""/>
          <p:cNvSpPr/>
          <p:nvPr/>
        </p:nvSpPr>
        <p:spPr>
          <a:xfrm>
            <a:off x="316080" y="974880"/>
            <a:ext cx="5267160" cy="52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Пусть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g – 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фиксированная прямая. Возьмём произвольную точку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 и опустим перпендикуляр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 AO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 на прямую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g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На продолжении перпендикуляра за точку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 A 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отложим отрезок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OA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Bell MT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, равный отрезку О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. Точка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ell MT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 называется симметричной точке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 A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 относительно прямой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g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Если точка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 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лежит на прямой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g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, то симметричная ей точка есть сама точка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. Очевидно что точка, симметрична точке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ell MT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, есть точка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Преобразование фигуры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F 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в фигуру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ell MT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, при котором каждая её точка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 переходит в точку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ell MT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, симметричную относительно данной прямой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g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, называется преобразованием симметрии относительно прямой </a:t>
            </a: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g</a:t>
            </a:r>
            <a:r>
              <a:rPr b="1" lang="ru-RU" sz="1800" spc="-1" strike="noStrike">
                <a:solidFill>
                  <a:srgbClr val="000000"/>
                </a:solidFill>
                <a:latin typeface="Bell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40600" y="1146240"/>
            <a:ext cx="0" cy="22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11800" y="1916280"/>
            <a:ext cx="185760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29440" y="9018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54560" y="1871640"/>
            <a:ext cx="1303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81920" y="1871640"/>
            <a:ext cx="12996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96320" y="1870200"/>
            <a:ext cx="12996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33600" y="15447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85800" y="15145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Bell M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184880" y="4151160"/>
            <a:ext cx="14400" cy="188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284880" y="4848120"/>
            <a:ext cx="172728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92840" y="4645080"/>
            <a:ext cx="0" cy="14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4659480"/>
            <a:ext cx="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965920" y="5630760"/>
            <a:ext cx="43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994360" y="6067440"/>
            <a:ext cx="79848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79960" y="5602320"/>
            <a:ext cx="0" cy="49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4687920"/>
            <a:ext cx="37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32640" y="6067440"/>
            <a:ext cx="81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18240" y="465948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547040" y="4659120"/>
            <a:ext cx="0" cy="14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8373960" y="564624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896240" y="5646600"/>
            <a:ext cx="49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896240" y="4687560"/>
            <a:ext cx="0" cy="9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02520" y="3935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85880" y="44449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Bell M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76440" y="44895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24760" y="4775040"/>
            <a:ext cx="12996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40320" y="4805280"/>
            <a:ext cx="1303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35760" y="4788000"/>
            <a:ext cx="1303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28920" y="5202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103600" y="527220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Bell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  <p:sndAc>
      <p:stSnd>
        <p:snd r:embed="rId2" name="breeze.wav"/>
      </p:stSnd>
    </p:sndAc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79600" y="231840"/>
            <a:ext cx="7753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Если преобразование симметрии относительно прямой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 g </a:t>
            </a: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переводит фигуру 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 в себя, то эта фигура называется симметричной относительно прямой 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, а прямая 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g </a:t>
            </a: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называется осью симметрии фиг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Осью симметрии угла является прямая, содержащая его биссектрис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Осью равнобедренного треугольника является прямая, которой принадлежит медиана треугольника, проведённая к основанию. Равносторонний треугольник имеет три оси симмет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Bell MT"/>
              </a:rPr>
              <a:t>Осью симметрии окружности является любая прямая проходящая через цент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096920" y="3870000"/>
            <a:ext cx="1706760" cy="958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82520" y="4844880"/>
            <a:ext cx="1616400" cy="74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12920" y="4784400"/>
            <a:ext cx="3198600" cy="4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4329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45240" y="3780000"/>
            <a:ext cx="2073240" cy="1690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81680" y="3519360"/>
            <a:ext cx="15840" cy="21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3825720"/>
            <a:ext cx="205740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883120" y="3657600"/>
            <a:ext cx="1889280" cy="188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27680" y="42163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4240" y="4632480"/>
            <a:ext cx="269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  <p:sndAc>
      <p:stSnd>
        <p:snd r:embed="rId2" name="breeze.wav"/>
      </p:stSnd>
    </p:sndAc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2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64b00"/>
                </a:solidFill>
                <a:latin typeface="Arial"/>
              </a:rPr>
              <a:t>Эллипс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5013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меет   центр   симметрии   и   две  оси симметри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"/>
          <p:cNvSpPr/>
          <p:nvPr/>
        </p:nvSpPr>
        <p:spPr>
          <a:xfrm>
            <a:off x="2050920" y="1628640"/>
            <a:ext cx="5616720" cy="3168720"/>
          </a:xfrm>
          <a:prstGeom prst="ellipse">
            <a:avLst/>
          </a:prstGeom>
          <a:solidFill>
            <a:srgbClr val="cdbb77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0920" y="3213000"/>
            <a:ext cx="56167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1628640"/>
            <a:ext cx="71640" cy="3168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whoosh.wav"/>
      </p:stSnd>
    </p:sndAc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64b00"/>
                </a:solidFill>
                <a:latin typeface="Arial"/>
              </a:rPr>
              <a:t>Симметрия относительно плоскости.</a:t>
            </a: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44" name=""/>
          <p:cNvSpPr/>
          <p:nvPr/>
        </p:nvSpPr>
        <p:spPr>
          <a:xfrm>
            <a:off x="539640" y="4365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метричны относительно плоскости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561920" y="1700280"/>
            <a:ext cx="4421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А и 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зываются симметричными относительно плоскости а, если эта плоскость проходит через середину отрезка АА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ерпендикулярна 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ая точка плоскости а считается симметричной самой себе (относительно 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гура называется симметричной относительно плоскости а (плоскости симметрии фигуры), если для каждой точки фигуры имеется симметричная относительно плоскости а точка этой же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105080" cy="2216160"/>
          </a:xfrm>
          <a:prstGeom prst="rect">
            <a:avLst/>
          </a:prstGeom>
          <a:ln w="0">
            <a:noFill/>
          </a:ln>
        </p:spPr>
      </p:pic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whoosh.wav"/>
      </p:stSnd>
    </p:sndAc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751200" y="668160"/>
            <a:ext cx="494820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гур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метрична относительно плоскости а. Для каждой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гуры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симметричная относительно плоскост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й же фиг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скость, проходящая через ось тела вращения, является плоскостью симметрии эт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еобразование симметрии относительно плоскости а переводит фигуру в себя, то эта фигура называется симметричной относительно плоскости а, а плоскость а называется плоскостью симметрии этой фиг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912960" y="228600"/>
            <a:ext cx="2212920" cy="29732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849240" y="3546360"/>
            <a:ext cx="2336760" cy="277020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4" name="suction.wav"/>
      </p:stSnd>
    </p:sndAc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3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7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6000"/>
                            </p:stCondLst>
                            <p:childTnLst>
                              <p:par>
                                <p:cTn id="5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1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2158920" cy="1917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5580000" y="333360"/>
            <a:ext cx="2089080" cy="17305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95280" y="220500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б имеет 9 плоскостей симметрии — это плоскости, проходящие через середины параллельных ребер куба (плоскость а на рисунке), а также плоскости, про­ходящие через противоположные ребра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7020000" y="3141720"/>
            <a:ext cx="1871640" cy="22035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319480" y="3314880"/>
            <a:ext cx="464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 а, проходящая через ребр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го тетраэдра перпендикулярно противоположному ребр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— плоскость симметрии тетраэдра. У тетраэдра 6 плоскостей симмет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60640" y="5661000"/>
            <a:ext cx="61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 из плоскостей симметрии правильного октаэдра осевое сечение правильного октаэдра. У правильного октаэдра 9 плоскостей сим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1800" y="557676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авильный тетраэ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610360" y="1000080"/>
            <a:ext cx="5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99880" y="527544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авильный октаэ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193680" y="3284640"/>
            <a:ext cx="2074680" cy="2305080"/>
          </a:xfrm>
          <a:prstGeom prst="rect">
            <a:avLst/>
          </a:prstGeom>
          <a:ln w="0">
            <a:noFill/>
          </a:ln>
        </p:spPr>
      </p:pic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6" name="suction.wav"/>
      </p:stSnd>
    </p:sndAc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454640" y="1052640"/>
            <a:ext cx="4186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ображение любого предмета в плоском зеркале симметрично этому предмету относительно плоскости зеркала. Поэтому симметрию относительно плоскости называют такж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еркальной симметр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6600" y="4797360"/>
            <a:ext cx="35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ая плоскость, проходящая через центр шара,— плоскость симметрии шар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826920" y="836640"/>
            <a:ext cx="2845080" cy="3816360"/>
          </a:xfrm>
          <a:prstGeom prst="rect">
            <a:avLst/>
          </a:prstGeom>
          <a:ln w="0">
            <a:noFill/>
          </a:ln>
        </p:spPr>
      </p:pic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3" name="suction.wav"/>
      </p:stSnd>
    </p:sndAc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2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102888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64b00"/>
                </a:solidFill>
                <a:latin typeface="Arial"/>
              </a:rPr>
              <a:t>Симметрия в пространстве</a:t>
            </a: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15520" y="1307880"/>
            <a:ext cx="757404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а)    Центральная симметрия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"/>
          <p:cNvSpPr/>
          <p:nvPr/>
        </p:nvSpPr>
        <p:spPr>
          <a:xfrm>
            <a:off x="1239840" y="3894120"/>
            <a:ext cx="69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6880" y="2222640"/>
            <a:ext cx="808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15014f"/>
                </a:solidFill>
                <a:latin typeface="Arial"/>
              </a:rPr>
              <a:t>Как и в случае плоскости, точки А и А</a:t>
            </a:r>
            <a:r>
              <a:rPr b="0" i="1" lang="en-US" sz="1200" spc="-1" strike="noStrike">
                <a:solidFill>
                  <a:srgbClr val="15014f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15014f"/>
                </a:solidFill>
                <a:latin typeface="Arial"/>
              </a:rPr>
              <a:t> в пространстве называются симметричными относительно точки О, если О — середина отрезка АА</a:t>
            </a:r>
            <a:r>
              <a:rPr b="0" i="1" lang="en-US" sz="1200" spc="-1" strike="noStrike">
                <a:solidFill>
                  <a:srgbClr val="15014f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15014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014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5014f"/>
                </a:solidFill>
                <a:latin typeface="Arial"/>
              </a:rPr>
              <a:t>Фигура называется симметричной относительно точки О (центра симметрии фигуры), если для каждой ее точки имеется симметричная относительно центра О точка этой же фиг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whoosh.wav"/>
      </p:stSnd>
    </p:sndAc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8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4000"/>
                            </p:stCondLst>
                            <p:childTnLst>
                              <p:par>
                                <p:cTn id="6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2" dur="2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042920" y="260280"/>
            <a:ext cx="6408720" cy="3240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24000" y="3933720"/>
            <a:ext cx="821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р симметрии параллелепипеда — точка пересечения его диагона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ть пространства между параллельными плоскостями (слой) имеет бесконечно много центров симметрии. Все они расположены на срединн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—центр симметрии ш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whoosh.wav"/>
      </p:stSnd>
    </p:sndAc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8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20280" y="647280"/>
            <a:ext cx="789948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99"/>
                </a:solidFill>
                <a:latin typeface="Monotype Corsiva"/>
              </a:rPr>
              <a:t>Математика владеет не только истиной, но и красотой …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Monotype Corsiva"/>
              </a:rPr>
              <a:t>                                        </a:t>
            </a:r>
            <a:r>
              <a:rPr b="1" i="1" lang="en-US" sz="3200" spc="-1" strike="noStrike">
                <a:solidFill>
                  <a:srgbClr val="990099"/>
                </a:solidFill>
                <a:latin typeface="Monotype Corsiva"/>
              </a:rPr>
              <a:t>Б. Рассел</a:t>
            </a:r>
            <a:r>
              <a:rPr b="0" i="1" lang="en-US" sz="3200" spc="-1" strike="noStrike">
                <a:solidFill>
                  <a:srgbClr val="99009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blinds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84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68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52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На рисунках изображены центрально-симметричные фигуры в пространств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22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11280" y="2133720"/>
            <a:ext cx="3166920" cy="1079280"/>
          </a:xfrm>
          <a:prstGeom prst="line">
            <a:avLst/>
          </a:prstGeom>
          <a:ln w="38160">
            <a:solidFill>
              <a:srgbClr val="bd9d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9640" y="3141720"/>
            <a:ext cx="144720" cy="14292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95640" y="2565360"/>
            <a:ext cx="144360" cy="14292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35280" y="2060640"/>
            <a:ext cx="144720" cy="14292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8840" y="266868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25440" y="2133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07560" y="166068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72080" y="183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aramond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1268280"/>
            <a:ext cx="53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  а А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метричны относительно точки О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19280" y="5157720"/>
            <a:ext cx="66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гур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метрична относительно центра О — для каждой ее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симметричная относительно О точ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й же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211640" y="2565360"/>
            <a:ext cx="4176720" cy="2087640"/>
          </a:xfrm>
          <a:prstGeom prst="rect">
            <a:avLst/>
          </a:prstGeom>
          <a:ln w="0">
            <a:noFill/>
          </a:ln>
        </p:spPr>
      </p:pic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whoosh.wav"/>
      </p:stSnd>
    </p:sndAc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60"/>
                            </p:stCondLst>
                            <p:childTnLst>
                              <p:par>
                                <p:cTn id="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8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3241800" cy="26510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87200" y="4203720"/>
            <a:ext cx="41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б имеет 9 осей симметрии — это прямые, проходящие через центр куба перпендикулярно его граням (прямы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рисунке) , а также прямые, проходящие через середины противоположных ребер (пряма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рисунк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б)    Осевая симметрия</a:t>
            </a:r>
            <a:r>
              <a:rPr b="0" lang="en-US" sz="4400" spc="-1" strike="noStrike">
                <a:solidFill>
                  <a:srgbClr val="bd9d69"/>
                </a:solidFill>
                <a:latin typeface="Garamond"/>
              </a:rPr>
              <a:t> </a:t>
            </a:r>
            <a:br>
              <a:rPr sz="3200"/>
            </a:b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6012000" y="1557360"/>
            <a:ext cx="2520720" cy="2663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167440" y="4411800"/>
            <a:ext cx="39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ая прямая, проходящая через центр шара,— ось симметрии ш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whoosh.wav"/>
      </p:stSnd>
    </p:sndAc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17440" y="2997360"/>
            <a:ext cx="385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ая, проходящая через середины противоположных ребе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го тетраэдра,— ось симметрии тетраэдра. У правильного тетраэдра   три   оси   сим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5651640" y="404640"/>
            <a:ext cx="2376360" cy="222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5" name=""/>
          <p:cNvGraphicFramePr/>
          <p:nvPr/>
        </p:nvGraphicFramePr>
        <p:xfrm>
          <a:off x="534960" y="2238480"/>
          <a:ext cx="182520" cy="2152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4788000" y="305676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р — это поверхность, полученная вращением окружности вокруг прям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ось тора). Пряма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ось симметрии т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900000" y="189000"/>
            <a:ext cx="2400480" cy="244800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whoosh.wav"/>
      </p:stSnd>
    </p:sndAc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213000" cy="388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71360" y="4538520"/>
            <a:ext cx="344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рхность вращения получается вращением крив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круг прям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а прямая — ось симметрии поверх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322880" y="476280"/>
            <a:ext cx="4570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гура может иметь одну или несколько осей (центров) симмет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ример, куб имеет только один центр симметрии и несколько осей симметрии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ществуют фигуры, которые имеют бесконечно много центров и осей симметрии. Простейшими из таких фигур являются прямая и плоскость. Любая точка плоскости является ее центром симметрии. Любая прямая, перпендикулярная к данной плоскости, является ее осью симмет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другой стороны, существуют фигуры, не имеющие центров и осей симметрии. Например, тетраэдр не имеет ни одного центра симмет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whoosh.wav"/>
      </p:stSnd>
    </p:sndAc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1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6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1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4" dur="1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3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806400" y="189000"/>
            <a:ext cx="8670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4b00"/>
                </a:solidFill>
                <a:latin typeface="Arial"/>
              </a:rPr>
              <a:t>Геометрический подход к симметрии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8360" y="1154160"/>
            <a:ext cx="92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ell MT"/>
              </a:rPr>
              <a:t>Симметрия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 – это гармония формы и определённый порядок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03200" y="2046240"/>
            <a:ext cx="2928960" cy="26035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5492880" y="2013120"/>
            <a:ext cx="3008160" cy="25668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312200" y="46879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косаэ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91280" y="45957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одекаэ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6840" y="5083200"/>
            <a:ext cx="32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косаэд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ет   15   осей   симметрии   и 15 плоскостей симметрии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02360" y="508644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ет   15   осей   симметрии   и 15 плоскостей сим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  <p:sndAc>
      <p:stSnd>
        <p:snd r:embed="rId4" name="push.wav"/>
      </p:stSnd>
    </p:sndAc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0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000"/>
                            </p:stCondLst>
                            <p:childTnLst>
                              <p:par>
                                <p:cTn id="8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000"/>
                            </p:stCondLst>
                            <p:childTnLst>
                              <p:par>
                                <p:cTn id="8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7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64b00"/>
                </a:solidFill>
                <a:latin typeface="Arial"/>
              </a:rPr>
              <a:t>Правильный тетраэдр</a:t>
            </a: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785840" y="2253960"/>
            <a:ext cx="4038840" cy="32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меет три оси симметрии и шесть плоскостей симметрии, но не имеет центра симметри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"/>
          <p:cNvSpPr/>
          <p:nvPr/>
        </p:nvSpPr>
        <p:spPr>
          <a:xfrm>
            <a:off x="2627280" y="2060640"/>
            <a:ext cx="432000" cy="37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258560" y="2060640"/>
            <a:ext cx="136836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060640"/>
            <a:ext cx="1513080" cy="29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58920" y="5084640"/>
            <a:ext cx="1800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059280" y="5013360"/>
            <a:ext cx="108108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258920" y="5013360"/>
            <a:ext cx="2881440" cy="71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250920" y="6237360"/>
            <a:ext cx="576000" cy="431640"/>
          </a:xfrm>
          <a:prstGeom prst="leftArrow">
            <a:avLst>
              <a:gd name="adj1" fmla="val 57713"/>
              <a:gd name="adj2" fmla="val 68341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whoosh.wav"/>
      </p:stSnd>
    </p:sndAc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1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9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1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d9d69"/>
                </a:solidFill>
                <a:latin typeface="Arial"/>
              </a:rPr>
              <a:t>Правильный октаэдр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191120" y="1557360"/>
            <a:ext cx="4635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меет центр симметрии, шесть осей симметрии и девять плоскостей симметрии. Укажите какие-нибудь ось и плоскость симметри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267360" cy="4321080"/>
          </a:xfrm>
          <a:prstGeom prst="rect">
            <a:avLst/>
          </a:prstGeom>
          <a:ln w="0">
            <a:noFill/>
          </a:ln>
        </p:spPr>
      </p:pic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whoosh.wav"/>
      </p:stSnd>
    </p:sndAc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Arial"/>
              </a:rPr>
              <a:t>Звездчатый октаэдр Кеплера</a:t>
            </a: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84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ожно рассматривать как объе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не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ие двух правильных тетраэдров. Имеет центр симметрии и несколько осей и плоскостей симметри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5091120" y="1628640"/>
            <a:ext cx="3440160" cy="3816360"/>
          </a:xfrm>
          <a:prstGeom prst="rect">
            <a:avLst/>
          </a:prstGeom>
          <a:ln w="0">
            <a:noFill/>
          </a:ln>
        </p:spPr>
      </p:pic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whoosh.wav"/>
      </p:stSnd>
    </p:sndAc>
  </p:transition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Arial"/>
              </a:rPr>
              <a:t>Треугольник Рело</a:t>
            </a:r>
            <a:br>
              <a:rPr sz="2000"/>
            </a:b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4419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унок имеет три оси симметрии. Треугольник Рело, как и окружность,— кривая постоянной ширины, равно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означает, что его можно вращать между двумя параллельными прямыми, расстояние между которыми равн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метр треугольника Рело, т. е. сумма длин дуг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, В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ен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е одна кривая постоянной ширины, равно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 = НЕ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ится она так. Берется равносторонний треугольни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 центрами в точках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,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одятся дуг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К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Q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ностей произвольного радиус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Н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тем с центрами в этих же точках проводятся дуг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H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D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ностей радиус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Е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 кривая имеет три оси симметрии. Длина кривой рав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83664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08200" y="870120"/>
            <a:ext cx="189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576360" cy="432000"/>
          </a:xfrm>
          <a:prstGeom prst="rightArrow">
            <a:avLst>
              <a:gd name="adj1" fmla="val 50000"/>
              <a:gd name="adj2" fmla="val 77184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whoosh.wav"/>
      </p:stSnd>
    </p:sndAc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8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4" dur="8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6" dur="8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64b00"/>
                </a:solidFill>
                <a:latin typeface="Arial"/>
              </a:rPr>
              <a:t>Кривая Вавиани</a:t>
            </a: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4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ривая Вавиани — линия пересечения сферы радиуса а и цилиндра диаметра а. Имеет две плоскости симметрии. Предложена итальянским архитектором Вавиани (1622—1703) для окна в сферическом куполе здания. Попытайтесь найти расположение плоскостей симметрии кривой Вавиан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928960" cy="352764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whoosh.wav"/>
      </p:stSnd>
    </p:sndAc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3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4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5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4b00"/>
                </a:solidFill>
                <a:latin typeface="Arial"/>
              </a:rPr>
              <a:t>Основные вопросы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872720"/>
            <a:ext cx="8229600" cy="35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4b00"/>
                </a:solidFill>
                <a:latin typeface="Arial"/>
              </a:rPr>
              <a:t>Симметрия- это гармония и красота? Равновесие? Устойчивость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4b00"/>
                </a:solidFill>
                <a:latin typeface="Arial"/>
              </a:rPr>
              <a:t>Зачем человеку нужно знать о симметрии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camera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656240" y="2479680"/>
            <a:ext cx="404640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201600" y="260280"/>
            <a:ext cx="3738600" cy="382104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64b00"/>
                </a:solidFill>
                <a:latin typeface="Arial"/>
              </a:rPr>
              <a:t>Симметрия в окружающем нас мире.</a:t>
            </a: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25160" y="1484280"/>
            <a:ext cx="832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ё красивое радует нас. Мы невольно отмечаем для себя красивый закат, удивительные листья растений, строгие формы кристаллов. Когда мы рассказываем об увиденном, то мысленно всё ещё созерцаем. Постепенно у нас формируется картина окружающего мира, мы находим общее в различных предметах. Например, лист клевера и лист клена различны по форме, но их объединяет что-то общее. Наверное каждый скажет: эти листья имеют симметрию - у них есть ось симметрии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мметрия  наблюдается не только у листьев. Любуясь закатом солнца на море, мы также видим симметрию- направо и налево от солнца всё одинаково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мметрия есть на дошедших до нас картинах древних художников. Очень часто симметрия используется в архитекту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4" name="wind.wav"/>
      </p:stSnd>
    </p:sndAc>
  </p:transition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8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2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6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49360" y="243000"/>
            <a:ext cx="822960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мметрия широко распространена в природе. Ее можно наблюдать в форме листьев и цветов растений, в расположении различных органов животных, в форме кристаллических тел.Симметрия широко используется на практике, в строительстве и техник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5059440" y="4371840"/>
            <a:ext cx="3290760" cy="21942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5057640" y="2071800"/>
            <a:ext cx="3094200" cy="20620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868320" y="1995480"/>
            <a:ext cx="2604960" cy="23526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5"/>
          <a:stretch/>
        </p:blipFill>
        <p:spPr>
          <a:xfrm>
            <a:off x="1155600" y="4444920"/>
            <a:ext cx="2090880" cy="1982880"/>
          </a:xfrm>
          <a:prstGeom prst="rect">
            <a:avLst/>
          </a:prstGeom>
          <a:ln w="0">
            <a:noFill/>
          </a:ln>
        </p:spPr>
      </p:pic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6" name="chimes.wav"/>
      </p:stSnd>
    </p:sndAc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0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3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8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348000" y="1341360"/>
            <a:ext cx="1660680" cy="26002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395280" y="1413000"/>
            <a:ext cx="2139840" cy="215892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рисунках вы можете обнаружить соразмерность форм, правильное расположение частей предметов, что можно рассматривать как определённую форму симметрии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"/>
          <p:cNvSpPr/>
          <p:nvPr/>
        </p:nvSpPr>
        <p:spPr>
          <a:xfrm>
            <a:off x="6064200" y="1444680"/>
            <a:ext cx="189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6227640" y="4149720"/>
            <a:ext cx="2448000" cy="21589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387360" y="4186080"/>
            <a:ext cx="2448000" cy="21099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6"/>
          <a:stretch/>
        </p:blipFill>
        <p:spPr>
          <a:xfrm>
            <a:off x="5508720" y="1484280"/>
            <a:ext cx="3295440" cy="206712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7"/>
          <a:stretch/>
        </p:blipFill>
        <p:spPr>
          <a:xfrm>
            <a:off x="2968560" y="4183200"/>
            <a:ext cx="3119400" cy="2130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8" name="chimes.wav"/>
      </p:stSnd>
    </p:sndAc>
  </p:transition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4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1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4768920" y="1363680"/>
            <a:ext cx="4100400" cy="51134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 rot="20637600">
            <a:off x="598320" y="434880"/>
            <a:ext cx="3600720" cy="44928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922320" y="2629080"/>
            <a:ext cx="359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57080" y="1001880"/>
            <a:ext cx="791208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en-US" sz="3200" spc="-1" strike="noStrike">
                <a:solidFill>
                  <a:srgbClr val="003399"/>
                </a:solidFill>
                <a:latin typeface="Monotype Corsiva"/>
              </a:rPr>
              <a:t>Ведь и назначение и цель гармонии - упорядочить части, вообще говоря, различные по природе, неким совершенным соотношением так, чтобы они одна другой соответствовали, создавая красо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Monotype Corsiva"/>
              </a:rPr>
              <a:t>                                                        </a:t>
            </a:r>
            <a:r>
              <a:rPr b="1" i="1" lang="en-US" sz="3200" spc="-1" strike="noStrike">
                <a:solidFill>
                  <a:srgbClr val="003399"/>
                </a:solidFill>
                <a:latin typeface="Monotype Corsiva"/>
              </a:rPr>
              <a:t>Л.Б. Альбе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Monotype Corsiv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971800" y="425520"/>
            <a:ext cx="59436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Monotype Corsiva"/>
              </a:rPr>
              <a:t>Я в листочке, я в кристалл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Monotype Corsiva"/>
              </a:rPr>
              <a:t>Я в живописи, архитектур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Monotype Corsiva"/>
              </a:rPr>
              <a:t>Я в геометрии, я в челове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Monotype Corsiva"/>
              </a:rPr>
              <a:t>Одним я нравлюсь, друг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Monotype Corsiva"/>
              </a:rPr>
              <a:t>Находят меня скучн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Monotype Corsiva"/>
              </a:rPr>
              <a:t>Но все признают, ч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64b00"/>
                </a:solidFill>
                <a:latin typeface="Monotype Corsiva"/>
              </a:rPr>
              <a:t>Я – элемент красо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380880" y="1111320"/>
            <a:ext cx="1617840" cy="24271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58840" y="4738680"/>
            <a:ext cx="2855880" cy="19033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819760" y="4856040"/>
            <a:ext cx="2705040" cy="1803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0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9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960"/>
                            </p:stCondLst>
                            <p:childTnLst>
                              <p:par>
                                <p:cTn id="10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5" dur="8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6" dur="8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920"/>
                            </p:stCondLst>
                            <p:childTnLst>
                              <p:par>
                                <p:cTn id="10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8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880"/>
                            </p:stCondLst>
                            <p:childTnLst>
                              <p:par>
                                <p:cTn id="1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6" dur="8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8" dur="8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3760"/>
                            </p:stCondLst>
                            <p:childTnLst>
                              <p:par>
                                <p:cTn id="1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2" dur="8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3" dur="8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4" dur="8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4560"/>
                            </p:stCondLst>
                            <p:childTnLst>
                              <p:par>
                                <p:cTn id="1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8" dur="8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9" dur="8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0" dur="8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280"/>
                            </p:stCondLst>
                            <p:childTnLst>
                              <p:par>
                                <p:cTn id="1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5" dur="8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6" dur="8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4b00"/>
                </a:solidFill>
                <a:latin typeface="Arial"/>
              </a:rPr>
              <a:t>Математики шутят…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901960" y="1600200"/>
            <a:ext cx="6006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Monotype Corsiva"/>
              </a:rPr>
              <a:t>Шутка об осевой симметрии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жды чужеземец, восхищённый красотой знаменитого бухарского минарета Калян, воскликнул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вы строите такие высокие минареты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нь просто, - ответил ходжа Насреддин и, не преминув блеснуть своим обычным остроумием, пояснил: «Сначала выкапываем глубокий колодец, а потом выворачиваем его наизнанку»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74760" y="1835280"/>
            <a:ext cx="2313000" cy="4124160"/>
          </a:xfrm>
          <a:prstGeom prst="rect">
            <a:avLst/>
          </a:prstGeom>
          <a:ln w="0">
            <a:noFill/>
          </a:ln>
        </p:spPr>
      </p:pic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4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9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64b00"/>
                </a:solidFill>
                <a:latin typeface="Arial"/>
              </a:rPr>
              <a:t>Информационные ресурсы</a:t>
            </a:r>
            <a:endParaRPr b="1" lang="en-US" sz="36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96" name=""/>
          <p:cNvSpPr/>
          <p:nvPr/>
        </p:nvSpPr>
        <p:spPr>
          <a:xfrm>
            <a:off x="-200880" y="1595520"/>
            <a:ext cx="98506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Погорелов А.В. Геометрия 7-11, Геометрия 10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Руденко В.Н. Бахулин Г.А. Геометрия 7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Атанасян Л.С. Геометрия 7-9, Геометрия 10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Большая энциклопедия Кирилла и Мефодия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Зенкевич И.Г. Эстетика урока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Яшекова Г. Математика справочник шк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Бутузов В.Ф. Математика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5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8" dur="1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1" dur="1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4" dur="1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7" dur="1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0" dur="10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3" dur="10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4b00"/>
                </a:solidFill>
                <a:latin typeface="Arial"/>
              </a:rPr>
              <a:t>Цель работы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учить тему «Симметрия на плоскости и в пространстве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следовать вопрос «Симметрия в окружающем нас мире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bomb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Основные понят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относительно точк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относительно прямой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относительно плоск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в пространств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Геометрический подход к симметри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в окружающем нас мир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54936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Основные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относительно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относительно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относительно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в простран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Геометрический подход к сим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имметрия в окружающем нас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250920" y="620640"/>
            <a:ext cx="574560" cy="43200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22" h="21600">
                <a:moveTo>
                  <a:pt x="0" y="0"/>
                </a:moveTo>
                <a:lnTo>
                  <a:pt x="28722" y="0"/>
                </a:lnTo>
                <a:lnTo>
                  <a:pt x="28722" y="21600"/>
                </a:lnTo>
                <a:lnTo>
                  <a:pt x="0" y="21600"/>
                </a:lnTo>
                <a:close/>
              </a:path>
              <a:path fill="lightenLess" w="28722" h="21600">
                <a:moveTo>
                  <a:pt x="0" y="0"/>
                </a:moveTo>
                <a:lnTo>
                  <a:pt x="28722" y="0"/>
                </a:lnTo>
                <a:lnTo>
                  <a:pt x="27322" y="1400"/>
                </a:lnTo>
                <a:lnTo>
                  <a:pt x="1400" y="1400"/>
                </a:lnTo>
                <a:close/>
              </a:path>
              <a:path fill="darken" w="28722" h="21600">
                <a:moveTo>
                  <a:pt x="28722" y="0"/>
                </a:moveTo>
                <a:lnTo>
                  <a:pt x="28722" y="21600"/>
                </a:lnTo>
                <a:lnTo>
                  <a:pt x="27322" y="20200"/>
                </a:lnTo>
                <a:lnTo>
                  <a:pt x="27322" y="1400"/>
                </a:lnTo>
                <a:close/>
              </a:path>
              <a:path fill="darkenLess" w="28722" h="21600">
                <a:moveTo>
                  <a:pt x="28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22" y="20200"/>
                </a:lnTo>
                <a:close/>
              </a:path>
              <a:path fill="lighten" w="28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db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3"/>
          </p:cNvPr>
          <p:cNvSpPr/>
          <p:nvPr/>
        </p:nvSpPr>
        <p:spPr>
          <a:xfrm>
            <a:off x="250920" y="119700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db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4"/>
          </p:cNvPr>
          <p:cNvSpPr/>
          <p:nvPr/>
        </p:nvSpPr>
        <p:spPr>
          <a:xfrm>
            <a:off x="250920" y="1773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db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5"/>
          </p:cNvPr>
          <p:cNvSpPr/>
          <p:nvPr/>
        </p:nvSpPr>
        <p:spPr>
          <a:xfrm>
            <a:off x="250920" y="234936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db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6"/>
          </p:cNvPr>
          <p:cNvSpPr/>
          <p:nvPr/>
        </p:nvSpPr>
        <p:spPr>
          <a:xfrm>
            <a:off x="250920" y="292428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db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7"/>
          </p:cNvPr>
          <p:cNvSpPr/>
          <p:nvPr/>
        </p:nvSpPr>
        <p:spPr>
          <a:xfrm>
            <a:off x="250920" y="350028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db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8"/>
          </p:cNvPr>
          <p:cNvSpPr/>
          <p:nvPr/>
        </p:nvSpPr>
        <p:spPr>
          <a:xfrm>
            <a:off x="243000" y="407664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db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9" name="arrow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64b00"/>
                </a:solidFill>
                <a:latin typeface="Arial"/>
              </a:rPr>
              <a:t>Основные понятия.</a:t>
            </a: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мметрия— это гармония формы и определенный порядок. Но это слишком общее разъяснение. Каким образом можно конкретизировать понятие симметрии? Нужно привлечь математику, точнее, геометрию, и попытаться классифицировать различные виды симметрии. Прежде чем перейти к общепринятой терминологии, обратимся к рисункам, которые помогут уяснить задачу классификации симметрии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whoosh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04640"/>
            <a:ext cx="828036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4b00"/>
                </a:solidFill>
                <a:latin typeface="Arial"/>
              </a:rPr>
              <a:t>СИММЕТРИЯ</a:t>
            </a:r>
            <a:r>
              <a:rPr b="1" lang="en-US" sz="4000" spc="-1" strike="noStrike">
                <a:solidFill>
                  <a:srgbClr val="bd9d69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от греч. symmetria — соразмерность), в широком смысле — инвариантность (неизменность) структуры, свойств, формы материального объекта относительно его преобразова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т. е. изменений ряда физических услови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мметрия лежит в основе законов сохран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whoosh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64b00"/>
                </a:solidFill>
                <a:latin typeface="Arial"/>
              </a:rPr>
              <a:t>Геометрический подход к симметрии.</a:t>
            </a:r>
            <a:endParaRPr b="1" lang="en-US" sz="4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,.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3448080" y="2965320"/>
            <a:ext cx="5205240" cy="914400"/>
          </a:xfrm>
          <a:prstGeom prst="rect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симметрия относительно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2640" y="4276800"/>
            <a:ext cx="5298840" cy="914400"/>
          </a:xfrm>
          <a:prstGeom prst="rect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симметрия относительно прямой</a:t>
            </a:r>
            <a:r>
              <a:rPr b="1" i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63920" y="5575320"/>
            <a:ext cx="5276880" cy="914400"/>
          </a:xfrm>
          <a:prstGeom prst="rect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симметрия относительно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4472280" y="-181800"/>
            <a:ext cx="830520" cy="4807080"/>
          </a:xfrm>
          <a:prstGeom prst="rect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19360" y="1989000"/>
            <a:ext cx="45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64b00"/>
                </a:solidFill>
                <a:latin typeface="Arial"/>
              </a:rPr>
              <a:t>Виды симме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/>
          <p:nvPr/>
        </p:nvCxnSpPr>
        <p:spPr>
          <a:xfrm flipH="1" flipV="1" rot="10800000">
            <a:off x="2484000" y="2348280"/>
            <a:ext cx="1007280" cy="3699720"/>
          </a:xfrm>
          <a:prstGeom prst="bentConnector3">
            <a:avLst>
              <a:gd name="adj1" fmla="val -22845"/>
            </a:avLst>
          </a:prstGeom>
          <a:ln w="57240">
            <a:solidFill>
              <a:srgbClr val="bd9d69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2268360" y="3429000"/>
            <a:ext cx="1224000" cy="0"/>
          </a:xfrm>
          <a:prstGeom prst="line">
            <a:avLst/>
          </a:prstGeom>
          <a:ln w="57240">
            <a:solidFill>
              <a:srgbClr val="bd9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4724280"/>
            <a:ext cx="1151280" cy="0"/>
          </a:xfrm>
          <a:prstGeom prst="line">
            <a:avLst/>
          </a:prstGeom>
          <a:ln w="57240">
            <a:solidFill>
              <a:srgbClr val="bd9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whoosh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c64b00"/>
                </a:solidFill>
                <a:latin typeface="Arial"/>
              </a:rPr>
              <a:t>Симметрия относительно точки.</a:t>
            </a:r>
            <a:br>
              <a:rPr sz="2800"/>
            </a:br>
            <a:br>
              <a:rPr sz="2000"/>
            </a:br>
            <a:r>
              <a:rPr b="1" lang="en-US" sz="2000" spc="-1" strike="noStrike">
                <a:solidFill>
                  <a:srgbClr val="bd9d69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c64b00"/>
                </a:solidFill>
                <a:latin typeface="Arial"/>
              </a:rPr>
              <a:t>ЦЕНТРАЛЬНАЯ СИММЕТРИЯ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симметрия относительно точки, которая задается следующим образом:</a:t>
            </a:r>
            <a:endParaRPr b="1" lang="en-US" sz="20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4305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Зададим фиксированную точку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торая называется центром симметрии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Произвольной точк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авим в соответствие точку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принадлежащую прямой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О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 что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А = ОА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мметрична точк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носительно точк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чки В и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мметричны, относительно точки 0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 Пусть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нная фигура 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 —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нтр симметрии. Преобразование фигуры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фигуру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котором каждая ее точк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ходит в точку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гуры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мметричную относительно точк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ывается преобразованием симметрии относительно точк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5148360" y="4076640"/>
            <a:ext cx="3240000" cy="0"/>
          </a:xfrm>
          <a:prstGeom prst="line">
            <a:avLst/>
          </a:prstGeom>
          <a:ln w="57240">
            <a:solidFill>
              <a:srgbClr val="208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80000" y="2637000"/>
            <a:ext cx="2246400" cy="27954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4005360"/>
            <a:ext cx="144360" cy="14436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76720" y="4005360"/>
            <a:ext cx="144720" cy="14436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44000" y="4005360"/>
            <a:ext cx="144360" cy="14436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08720" y="2565360"/>
            <a:ext cx="144360" cy="14436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40720" y="5330880"/>
            <a:ext cx="144360" cy="144360"/>
          </a:xfrm>
          <a:prstGeom prst="ellipse">
            <a:avLst/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95000" y="407664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06200" y="403704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А</a:t>
            </a:r>
            <a:r>
              <a:rPr b="1" lang="en-US" sz="1000" spc="-1" strike="noStrike">
                <a:solidFill>
                  <a:srgbClr val="000000"/>
                </a:solidFill>
                <a:latin typeface="Garamond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22160" y="242100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28560" y="50752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В</a:t>
            </a:r>
            <a:r>
              <a:rPr b="1" lang="en-US" sz="1000" spc="-1" strike="noStrike">
                <a:solidFill>
                  <a:srgbClr val="000000"/>
                </a:solidFill>
                <a:latin typeface="Garamond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14000" y="36050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prstGeom prst="rightArrow">
            <a:avLst>
              <a:gd name="adj1" fmla="val 50000"/>
              <a:gd name="adj2" fmla="val 77248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76360" cy="431640"/>
          </a:xfrm>
          <a:prstGeom prst="leftArrow">
            <a:avLst>
              <a:gd name="adj1" fmla="val 57713"/>
              <a:gd name="adj2" fmla="val 68383"/>
            </a:avLst>
          </a:prstGeom>
          <a:solidFill>
            <a:srgbClr val="cdbb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breeze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6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4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4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4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64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64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64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64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3:05:21Z</dcterms:created>
  <dc:creator>Aleksandr</dc:creator>
  <dc:description/>
  <dc:language>en-US</dc:language>
  <cp:lastModifiedBy>User</cp:lastModifiedBy>
  <dcterms:modified xsi:type="dcterms:W3CDTF">2007-01-27T09:01:43Z</dcterms:modified>
  <cp:revision>82</cp:revision>
  <dc:subject/>
  <dc:title>Симметрия и окружающий мир.</dc:title>
</cp:coreProperties>
</file>