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5.gif" ContentType="image/gif"/>
  <Override PartName="/ppt/media/image27.png" ContentType="image/png"/>
  <Override PartName="/ppt/media/image30.wmf" ContentType="image/x-wmf"/>
  <Override PartName="/ppt/media/image26.wmf" ContentType="image/x-wmf"/>
  <Override PartName="/ppt/media/image25.wmf" ContentType="image/x-wmf"/>
  <Override PartName="/ppt/media/image24.png" ContentType="image/png"/>
  <Override PartName="/ppt/media/image31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3.png" ContentType="image/png"/>
  <Override PartName="/ppt/media/image36.wmf" ContentType="image/x-wmf"/>
  <Override PartName="/ppt/media/image6.wmf" ContentType="image/x-wmf"/>
  <Override PartName="/ppt/media/image11.png" ContentType="image/png"/>
  <Override PartName="/ppt/media/image43.gif" ContentType="image/gif"/>
  <Override PartName="/ppt/media/image34.jpeg" ContentType="image/jpeg"/>
  <Override PartName="/ppt/media/image15.png" ContentType="image/png"/>
  <Override PartName="/ppt/media/image35.wmf" ContentType="image/x-wmf"/>
  <Override PartName="/ppt/media/image39.gif" ContentType="image/gif"/>
  <Override PartName="/ppt/media/image41.gif" ContentType="image/gif"/>
  <Override PartName="/ppt/media/image44.png" ContentType="image/png"/>
  <Override PartName="/ppt/media/image45.jpeg" ContentType="image/jpeg"/>
  <Override PartName="/ppt/media/image37.gif" ContentType="image/gif"/>
  <Override PartName="/ppt/media/image42.gif" ContentType="image/gif"/>
  <Override PartName="/ppt/media/image7.wmf" ContentType="image/x-wmf"/>
  <Override PartName="/ppt/media/image12.png" ContentType="image/png"/>
  <Override PartName="/ppt/media/image9.png" ContentType="image/png"/>
  <Override PartName="/ppt/media/image40.gif" ContentType="image/gif"/>
  <Override PartName="/ppt/media/image33.png" ContentType="image/png"/>
  <Override PartName="/ppt/media/image3.png" ContentType="image/png"/>
  <Override PartName="/ppt/media/image2.png" ContentType="image/png"/>
  <Override PartName="/ppt/media/image4.wmf" ContentType="image/x-wmf"/>
  <Override PartName="/ppt/media/image38.gif" ContentType="image/gif"/>
  <Override PartName="/ppt/media/image8.gif" ContentType="image/gif"/>
  <Override PartName="/ppt/media/image10.png" ContentType="image/pn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22FF-8643-4EA4-9DFF-D56D9C1E8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0C84-4336-434C-8CA1-63ADDAA3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686F-11B9-453D-BA63-35EFCF82C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3CFF-AA55-4EEB-A201-EEAAF47F9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E377-DCF7-471C-83A1-4D684A10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1C15-2621-4CA7-B537-316CBC63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0529-D685-4B37-83B3-CC743415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F162-CE39-4421-8D10-C366C146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F70B-F1E5-40D9-BF37-CE25CCA0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0531-C81E-489A-9FE1-5940ACD2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2ED9-E1D5-42B2-BE78-0201DC04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F555-D0FC-4AF0-A312-388D627C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5DAF-4375-4E99-8C7F-AD50F4ED047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gi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gif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gif"/><Relationship Id="rId3" Type="http://schemas.openxmlformats.org/officeDocument/2006/relationships/image" Target="../media/image40.gif"/><Relationship Id="rId4" Type="http://schemas.openxmlformats.org/officeDocument/2006/relationships/image" Target="../media/image41.gif"/><Relationship Id="rId5" Type="http://schemas.openxmlformats.org/officeDocument/2006/relationships/image" Target="../media/image42.gif"/><Relationship Id="rId6" Type="http://schemas.openxmlformats.org/officeDocument/2006/relationships/image" Target="../media/image43.gif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С тех пор, как существует мирозданье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Такого нет, кто б не нуждался в знань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Какой мы не возьмем язык и век -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Всегда стремился к знанью человек…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1_Love_Li_blue.wma" descr=""/>
          <p:cNvPicPr/>
          <p:nvPr/>
        </p:nvPicPr>
        <p:blipFill>
          <a:blip r:embed="rId1"/>
          <a:stretch/>
        </p:blipFill>
        <p:spPr>
          <a:xfrm>
            <a:off x="4448160" y="330516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44" name="02_La_vie_en_rose.wma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22618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93cddd"/>
                </a:solidFill>
                <a:latin typeface="Book Antiqua"/>
              </a:rPr>
              <a:t>Шестой участн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ы на птичку посмотри: лап у птиц ровн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олько месяцев в году содержат по 30 дне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именьшее простое числ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найти площадь прямоугольни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авните дроби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4024440" y="97920"/>
            <a:ext cx="1095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465440" y="58392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4024440" y="97920"/>
            <a:ext cx="1095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4286160" y="4572000"/>
            <a:ext cx="1143000" cy="71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3cddd"/>
                </a:solidFill>
                <a:latin typeface="Book Antiqua"/>
              </a:rPr>
              <a:t>Седьмой участ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меня собачка есть, у нее хвостов аж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олько месяцев в году содержат по 31 ден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зультат деле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игура имеющая 3 стороны и 3 вершин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делите целую ча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5286240" y="4500720"/>
            <a:ext cx="327240" cy="73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j0250085"/>
          <p:cNvPicPr/>
          <p:nvPr/>
        </p:nvPicPr>
        <p:blipFill>
          <a:blip r:embed="rId1"/>
          <a:stretch/>
        </p:blipFill>
        <p:spPr>
          <a:xfrm>
            <a:off x="6588000" y="3429000"/>
            <a:ext cx="2298960" cy="24922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"/>
          <p:cNvSpPr/>
          <p:nvPr/>
        </p:nvSpPr>
        <p:spPr>
          <a:xfrm>
            <a:off x="395280" y="40464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Book Antiqua"/>
              </a:rPr>
              <a:t>2 отборочный 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3"/>
          <p:cNvSpPr txBox="1"/>
          <p:nvPr/>
        </p:nvSpPr>
        <p:spPr>
          <a:xfrm>
            <a:off x="611280" y="1268280"/>
            <a:ext cx="7848360" cy="256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ждый сам за себ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826920" y="450864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Максимальный балл -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Первый участ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ра лошадей пробежала 30 км. Сколько километров пробежала каждая лошад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аких единицах измеряется величина угл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рманное вычислительное устройств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Второй участ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вое играли в шашки четыре часа. Сколько играл кажды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олько градусов содержит прямой уго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мирная глобальная се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Третий участник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рело пять свечей. Две из них потушили. Сколько свечей останетс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олько вершин у куб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тройство, при помощи которого человек вводит информацию в компьютер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Четвертый участ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какой угол поворачивается солдат по команде «кругом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дороге шли два мальчика и сто рублей нашли. За ними еще четыре. Сколько они найду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 устройство, «мозг» компьютера, который управляет всеми устройствами компьютер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Пятый участ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Мамеда было десять овец. Все, кроме девяти,  околели. Сколько овец осталось у Мамед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сть прямой ограниченная двумя точка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тройство для получения копи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 Antiqua"/>
              </a:rPr>
              <a:t>Игра со зрител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Какие числа называются натуральным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колько гномов у Белоснежк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Что такое периметр треугольника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Есть ли края у плоскост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колько месяцев в году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колько дециметров в метре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Для чего нужен транспортир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Какую дробь называют правильной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колько рогов у трех коров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Наименьшее двузначное число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Является ли 5 делителем 45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Какую часть часа составляют 45 минут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Какая нога собаке ни к чему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Какое число называется четным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Какой угол больше прямой или развернутый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Какая по счету в русском алфавите буква «З»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Бублик разрезали на 3 части. Сколько сделали разрезов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колько минут длятся 4 часа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Найдите периметр треугольника со сторонами 4,6, 7см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G:\РИСУНКИ1\Школьные рамки для работы в фотошопе - 1Сентября, Аватарки, фотошоп онлайн, супер фотоэффекты онлайн, сделать аватарку онлайн, кисти, рамки, 3d модели, раскраски, ава, фильмы_files\wassat.gif"/>
          <p:cNvPicPr/>
          <p:nvPr/>
        </p:nvPicPr>
        <p:blipFill>
          <a:blip r:embed="rId1"/>
          <a:stretch/>
        </p:blipFill>
        <p:spPr>
          <a:xfrm>
            <a:off x="7858080" y="178596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G:\РИСУНКИ1\Школьные рамки для работы в фотошопе - 1Сентября, Аватарки, фотошоп онлайн, супер фотоэффекты онлайн, сделать аватарку онлайн, кисти, рамки, 3d модели, раскраски, ава, фильмы_files\belay.gif"/>
          <p:cNvPicPr/>
          <p:nvPr/>
        </p:nvPicPr>
        <p:blipFill>
          <a:blip r:embed="rId2"/>
          <a:stretch/>
        </p:blipFill>
        <p:spPr>
          <a:xfrm>
            <a:off x="5286240" y="3429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G:\РИСУНКИ1\Школьные рамки для работы в фотошопе - 1Сентября, Аватарки, фотошоп онлайн, супер фотоэффекты онлайн, сделать аватарку онлайн, кисти, рамки, 3d модели, раскраски, ава, фильмы_files\angry.gif"/>
          <p:cNvPicPr/>
          <p:nvPr/>
        </p:nvPicPr>
        <p:blipFill>
          <a:blip r:embed="rId3"/>
          <a:stretch/>
        </p:blipFill>
        <p:spPr>
          <a:xfrm>
            <a:off x="4214880" y="221472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G:\РИСУНКИ1\Школьные рамки для работы в фотошопе - 1Сентября, Аватарки, фотошоп онлайн, супер фотоэффекты онлайн, сделать аватарку онлайн, кисти, рамки, 3d модели, раскраски, ава, фильмы_files\am.gif"/>
          <p:cNvPicPr/>
          <p:nvPr/>
        </p:nvPicPr>
        <p:blipFill>
          <a:blip r:embed="rId4"/>
          <a:stretch/>
        </p:blipFill>
        <p:spPr>
          <a:xfrm>
            <a:off x="5715000" y="1071720"/>
            <a:ext cx="928800" cy="1055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G:\РИСУНКИ1\Школьные рамки для работы в фотошопе - 1Сентября, Аватарки, фотошоп онлайн, супер фотоэффекты онлайн, сделать аватарку онлайн, кисти, рамки, 3d модели, раскраски, ава, фильмы_files\fellow.gif"/>
          <p:cNvPicPr/>
          <p:nvPr/>
        </p:nvPicPr>
        <p:blipFill>
          <a:blip r:embed="rId5"/>
          <a:stretch/>
        </p:blipFill>
        <p:spPr>
          <a:xfrm>
            <a:off x="5857920" y="2214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G:\РИСУНКИ1\Школьные рамки для работы в фотошопе - 1Сентября, Аватарки, фотошоп онлайн, супер фотоэффекты онлайн, сделать аватарку онлайн, кисти, рамки, 3d модели, раскраски, ава, фильмы_files\lol.gif"/>
          <p:cNvPicPr/>
          <p:nvPr/>
        </p:nvPicPr>
        <p:blipFill>
          <a:blip r:embed="rId6"/>
          <a:stretch/>
        </p:blipFill>
        <p:spPr>
          <a:xfrm>
            <a:off x="7858080" y="3857760"/>
            <a:ext cx="1071720" cy="1071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G:\РИСУНКИ1\Школьные рамки для работы в фотошопе - 1Сентября, Аватарки, фотошоп онлайн, супер фотоэффекты онлайн, сделать аватарку онлайн, кисти, рамки, 3d модели, раскраски, ава, фильмы_files\recourse.gif"/>
          <p:cNvPicPr/>
          <p:nvPr/>
        </p:nvPicPr>
        <p:blipFill>
          <a:blip r:embed="rId7"/>
          <a:stretch/>
        </p:blipFill>
        <p:spPr>
          <a:xfrm>
            <a:off x="7786800" y="564372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G:\РИСУНКИ1\Школьные рамки для работы в фотошопе - 1Сентября, Аватарки, фотошоп онлайн, супер фотоэффекты онлайн, сделать аватарку онлайн, кисти, рамки, 3d модели, раскраски, ава, фильмы_files\request.gif"/>
          <p:cNvPicPr/>
          <p:nvPr/>
        </p:nvPicPr>
        <p:blipFill>
          <a:blip r:embed="rId8"/>
          <a:stretch/>
        </p:blipFill>
        <p:spPr>
          <a:xfrm>
            <a:off x="7572240" y="285840"/>
            <a:ext cx="1162080" cy="1162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G:\РИСУНКИ1\Школьные рамки для работы в фотошопе - 1Сентября, Аватарки, фотошоп онлайн, супер фотоэффекты онлайн, сделать аватарку онлайн, кисти, рамки, 3d модели, раскраски, ава, фильмы_files\tongue.gif"/>
          <p:cNvPicPr/>
          <p:nvPr/>
        </p:nvPicPr>
        <p:blipFill>
          <a:blip r:embed="rId9"/>
          <a:stretch/>
        </p:blipFill>
        <p:spPr>
          <a:xfrm>
            <a:off x="6143760" y="5000760"/>
            <a:ext cx="1238040" cy="1238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G:\РИСУНКИ1\Школьные рамки для работы в фотошопе - 1Сентября, Аватарки, фотошоп онлайн, супер фотоэффекты онлайн, сделать аватарку онлайн, кисти, рамки, 3d модели, раскраски, ава, фильмы_files\wink.gif"/>
          <p:cNvPicPr/>
          <p:nvPr/>
        </p:nvPicPr>
        <p:blipFill>
          <a:blip r:embed="rId10"/>
          <a:stretch/>
        </p:blipFill>
        <p:spPr>
          <a:xfrm>
            <a:off x="928800" y="357120"/>
            <a:ext cx="880920" cy="881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95280" y="40464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 Antiqua"/>
              </a:rPr>
              <a:t>3 отборочный 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3"/>
          <p:cNvSpPr txBox="1"/>
          <p:nvPr/>
        </p:nvSpPr>
        <p:spPr>
          <a:xfrm>
            <a:off x="755640" y="1341360"/>
            <a:ext cx="6408720" cy="23511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ретий лишний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826920" y="450864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Максимальный балл -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j0281221"/>
          <p:cNvPicPr/>
          <p:nvPr/>
        </p:nvPicPr>
        <p:blipFill>
          <a:blip r:embed="rId1"/>
          <a:stretch/>
        </p:blipFill>
        <p:spPr>
          <a:xfrm>
            <a:off x="6443640" y="3716280"/>
            <a:ext cx="2305080" cy="1940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j0232164"/>
          <p:cNvPicPr/>
          <p:nvPr/>
        </p:nvPicPr>
        <p:blipFill>
          <a:blip r:embed="rId2"/>
          <a:stretch/>
        </p:blipFill>
        <p:spPr>
          <a:xfrm>
            <a:off x="7236000" y="189000"/>
            <a:ext cx="1712880" cy="1272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WordArt 2" descr=""/>
          <p:cNvPicPr/>
          <p:nvPr/>
        </p:nvPicPr>
        <p:blipFill>
          <a:blip r:embed="rId1"/>
          <a:stretch/>
        </p:blipFill>
        <p:spPr>
          <a:xfrm>
            <a:off x="444600" y="463680"/>
            <a:ext cx="7894440" cy="2822400"/>
          </a:xfrm>
          <a:prstGeom prst="rect">
            <a:avLst/>
          </a:prstGeom>
          <a:ln w="0">
            <a:noFill/>
          </a:ln>
        </p:spPr>
      </p:pic>
      <p:sp>
        <p:nvSpPr>
          <p:cNvPr id="46" name="WordArt 3"/>
          <p:cNvSpPr txBox="1"/>
          <p:nvPr/>
        </p:nvSpPr>
        <p:spPr>
          <a:xfrm>
            <a:off x="3132000" y="3860640"/>
            <a:ext cx="2297160" cy="64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естой клас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7" name="Picture 4" descr="j0338458"/>
          <p:cNvPicPr/>
          <p:nvPr/>
        </p:nvPicPr>
        <p:blipFill>
          <a:blip r:embed="rId2"/>
          <a:stretch/>
        </p:blipFill>
        <p:spPr>
          <a:xfrm>
            <a:off x="0" y="4941720"/>
            <a:ext cx="2208240" cy="1730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j0205402"/>
          <p:cNvPicPr/>
          <p:nvPr/>
        </p:nvPicPr>
        <p:blipFill>
          <a:blip r:embed="rId3"/>
          <a:stretch/>
        </p:blipFill>
        <p:spPr>
          <a:xfrm>
            <a:off x="7734240" y="0"/>
            <a:ext cx="1409760" cy="104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Documents and Settings\Admin\Local Settings\Temporary Internet Files\Content.IE5\NYFPMMXD\MCj04282890000[1].wmf"/>
          <p:cNvPicPr/>
          <p:nvPr/>
        </p:nvPicPr>
        <p:blipFill>
          <a:blip r:embed="rId4"/>
          <a:stretch/>
        </p:blipFill>
        <p:spPr>
          <a:xfrm>
            <a:off x="7143840" y="4857840"/>
            <a:ext cx="1828800" cy="1609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Первый участ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инимальная единица измерения информаци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казке «Конек-горбунок» мы встречаем слова: «Приезжаю - тьма народу! Ну ни выходу, ни входу!» Сколько было народ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е из чисел лишне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5357880" y="4214880"/>
            <a:ext cx="2251080" cy="7938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"/>
          <p:cNvSpPr/>
          <p:nvPr/>
        </p:nvSpPr>
        <p:spPr>
          <a:xfrm>
            <a:off x="0" y="714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43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Второй участ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акой системе счисления кодируется вся информация в компьютер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из великих русских писателей составлял задачи по арифметик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е из чисел лишн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" descr=""/>
          <p:cNvPicPr/>
          <p:nvPr/>
        </p:nvPicPr>
        <p:blipFill>
          <a:blip r:embed="rId1"/>
          <a:stretch/>
        </p:blipFill>
        <p:spPr>
          <a:xfrm>
            <a:off x="5372280" y="3714840"/>
            <a:ext cx="2446200" cy="6429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0" y="714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43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Третий участ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ую систему счисления мы используем в жизн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В математике есть своя красота, как в поэзии». Кто произнес эти слова, даже не любя математи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ая дробь лишня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5143680" y="4286160"/>
            <a:ext cx="2589120" cy="6429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430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807"/>
                </a:solidFill>
                <a:latin typeface="Book Antiqua"/>
              </a:rPr>
              <a:t>Для болельщ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7140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грядке сидели 4 воробья. Кот подкрался и схватил одного воробья. Сколько воробьев осталось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вое подошли к реке. У берега стояла лодка, которая может вместить лишь одного, но оба переправились. Как это могло случиться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рач прописал три укола. Через полчаса на укол. Через сколько часов будет сделаны все уколы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гол в 1,5 ° рассматривают в лупу, увеличивающую в 4 раза. Какой величины покажется угол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кие бывают современные фотоаппараты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английском языке слово «вычислять» означает…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имвол – разделитель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стояние, в котором включенный компьютер не реагирует на действия пользователя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стейший вычислительный прибор, которым пользовались на протяжении веков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чинающий пользователь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7" descr="j0290709"/>
          <p:cNvPicPr/>
          <p:nvPr/>
        </p:nvPicPr>
        <p:blipFill>
          <a:blip r:embed="rId1"/>
          <a:stretch/>
        </p:blipFill>
        <p:spPr>
          <a:xfrm>
            <a:off x="7429680" y="214200"/>
            <a:ext cx="1490400" cy="144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95280" y="40464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3"/>
          <p:cNvSpPr txBox="1"/>
          <p:nvPr/>
        </p:nvSpPr>
        <p:spPr>
          <a:xfrm>
            <a:off x="755640" y="1268280"/>
            <a:ext cx="648036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нкурс  самый умны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5" name="Picture 7" descr="j0284020"/>
          <p:cNvPicPr/>
          <p:nvPr/>
        </p:nvPicPr>
        <p:blipFill>
          <a:blip r:embed="rId1"/>
          <a:stretch/>
        </p:blipFill>
        <p:spPr>
          <a:xfrm>
            <a:off x="6372360" y="3860640"/>
            <a:ext cx="1639800" cy="165600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4"/>
          <p:cNvSpPr/>
          <p:nvPr/>
        </p:nvSpPr>
        <p:spPr>
          <a:xfrm>
            <a:off x="857160" y="50004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Book Antiqua"/>
              </a:rPr>
              <a:t>4 отборочный т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 Antiqua"/>
              </a:rPr>
              <a:t>Первый участ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Переведите на русский язык греческие слова – моно, ди, поли и латинские – уни, би, муль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Без чего не могут обойтись охотники, барабанщики, математи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Сколько подвигов совершил Герак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Список, из которого можно выбрать команду. В этой строке находятся слова: файл, правка, вид,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 Antiqua"/>
              </a:rPr>
              <a:t>Второй участ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Какая цифра в переводе с латинского означает «никакая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Что есть у каждого слова, растения и уравне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Какой раздел математики называют «искусством чисел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Какой значок всегда присутствует на Рабочем столе и не может быть спрятан в Корзин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395280" y="40464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3"/>
          <p:cNvSpPr txBox="1"/>
          <p:nvPr/>
        </p:nvSpPr>
        <p:spPr>
          <a:xfrm>
            <a:off x="755640" y="1268280"/>
            <a:ext cx="648036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гадай слов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826920" y="450864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Максимальный балл - 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bd05097_"/>
          <p:cNvPicPr/>
          <p:nvPr/>
        </p:nvPicPr>
        <p:blipFill>
          <a:blip r:embed="rId1"/>
          <a:stretch/>
        </p:blipFill>
        <p:spPr>
          <a:xfrm>
            <a:off x="6012000" y="3933720"/>
            <a:ext cx="258732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полни пропуски  числительны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1600200"/>
          <a:ext cx="4043520" cy="4471920"/>
        </p:xfrm>
        <a:graphic>
          <a:graphicData uri="http://schemas.openxmlformats.org/drawingml/2006/table">
            <a:tbl>
              <a:tblPr/>
              <a:tblGrid>
                <a:gridCol w="2189160"/>
                <a:gridCol w="1854360"/>
              </a:tblGrid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По … 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И … р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 … 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9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…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л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 … 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4643280" y="1571760"/>
          <a:ext cx="4043520" cy="4429080"/>
        </p:xfrm>
        <a:graphic>
          <a:graphicData uri="http://schemas.openxmlformats.org/drawingml/2006/table">
            <a:tbl>
              <a:tblPr/>
              <a:tblGrid>
                <a:gridCol w="2213280"/>
                <a:gridCol w="1830240"/>
              </a:tblGrid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Про … 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Те …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 … ж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ви … 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и … 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Заголовок 1" descr=""/>
          <p:cNvPicPr/>
          <p:nvPr/>
        </p:nvPicPr>
        <p:blipFill>
          <a:blip r:embed="rId1"/>
          <a:stretch/>
        </p:blipFill>
        <p:spPr>
          <a:xfrm>
            <a:off x="450720" y="0"/>
            <a:ext cx="8242560" cy="1427040"/>
          </a:xfrm>
          <a:prstGeom prst="rect">
            <a:avLst/>
          </a:prstGeom>
          <a:ln w="0">
            <a:noFill/>
          </a:ln>
        </p:spPr>
      </p:pic>
      <p:pic>
        <p:nvPicPr>
          <p:cNvPr id="149" name="Содержимое 3" descr="Рисунок 6"/>
          <p:cNvPicPr/>
          <p:nvPr/>
        </p:nvPicPr>
        <p:blipFill>
          <a:blip r:embed="rId2"/>
          <a:stretch/>
        </p:blipFill>
        <p:spPr>
          <a:xfrm>
            <a:off x="571680" y="1600200"/>
            <a:ext cx="8072280" cy="47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324000" y="153360"/>
            <a:ext cx="83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«Математику уже за то учить надо, что она ум в порядок приводит»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Arial"/>
              </a:rPr>
              <a:t>Михаил Васильевич Ломоно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285840" y="2656800"/>
            <a:ext cx="835164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«Кто с детских лет занимается математикой, тот развивает внимание, тренирует свой мозг, свою волю, воспитывает настойчивость и упорство в достижении цели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Arial"/>
              </a:rPr>
              <a:t>Алексей Иванович Маркушевич</a:t>
            </a:r>
            <a:r>
              <a:rPr b="0" lang="ru-RU" sz="1800" spc="-1" strike="noStrike">
                <a:solidFill>
                  <a:srgbClr val="7f7f7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1" descr="j0240393"/>
          <p:cNvPicPr/>
          <p:nvPr/>
        </p:nvPicPr>
        <p:blipFill>
          <a:blip r:embed="rId1"/>
          <a:stretch/>
        </p:blipFill>
        <p:spPr>
          <a:xfrm>
            <a:off x="5508720" y="4076640"/>
            <a:ext cx="1855800" cy="1819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4" descr="j0295690"/>
          <p:cNvPicPr/>
          <p:nvPr/>
        </p:nvPicPr>
        <p:blipFill>
          <a:blip r:embed="rId2"/>
          <a:stretch/>
        </p:blipFill>
        <p:spPr>
          <a:xfrm>
            <a:off x="611280" y="549360"/>
            <a:ext cx="1731960" cy="14018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26"/>
          <p:cNvSpPr/>
          <p:nvPr/>
        </p:nvSpPr>
        <p:spPr>
          <a:xfrm>
            <a:off x="1571760" y="2143080"/>
            <a:ext cx="6308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Arial"/>
              </a:rPr>
              <a:t>Молодцы!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G:\РИСУНКИ1\Школьные рамки для работы в фотошопе - 1Сентября, Аватарки, фотошоп онлайн, супер фотоэффекты онлайн, сделать аватарку онлайн, кисти, рамки, 3d модели, раскраски, ава, фильмы_files\love.gif"/>
          <p:cNvPicPr/>
          <p:nvPr/>
        </p:nvPicPr>
        <p:blipFill>
          <a:blip r:embed="rId3"/>
          <a:stretch/>
        </p:blipFill>
        <p:spPr>
          <a:xfrm>
            <a:off x="2571840" y="3786120"/>
            <a:ext cx="1714320" cy="2260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G:\РИСУНКИ1\Школьные рамки для работы в фотошопе - 1Сентября, Аватарки, фотошоп онлайн, супер фотоэффекты онлайн, сделать аватарку онлайн, кисти, рамки, 3d модели, раскраски, ава, фильмы_files\tongue.gif"/>
          <p:cNvPicPr/>
          <p:nvPr/>
        </p:nvPicPr>
        <p:blipFill>
          <a:blip r:embed="rId4"/>
          <a:stretch/>
        </p:blipFill>
        <p:spPr>
          <a:xfrm>
            <a:off x="5286240" y="571680"/>
            <a:ext cx="1571760" cy="1571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1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741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745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4"/>
          <p:cNvSpPr txBox="1"/>
          <p:nvPr/>
        </p:nvSpPr>
        <p:spPr>
          <a:xfrm>
            <a:off x="468360" y="765000"/>
            <a:ext cx="648180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здравляем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6" name="Picture 5" descr="MMj03544720000[1]"/>
          <p:cNvPicPr/>
          <p:nvPr/>
        </p:nvPicPr>
        <p:blipFill>
          <a:blip r:embed="rId1"/>
          <a:stretch/>
        </p:blipFill>
        <p:spPr>
          <a:xfrm>
            <a:off x="3276720" y="5373720"/>
            <a:ext cx="1179360" cy="1224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MMj03368560000[1]"/>
          <p:cNvPicPr/>
          <p:nvPr/>
        </p:nvPicPr>
        <p:blipFill>
          <a:blip r:embed="rId2"/>
          <a:stretch/>
        </p:blipFill>
        <p:spPr>
          <a:xfrm>
            <a:off x="179280" y="0"/>
            <a:ext cx="1179720" cy="1368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j0283839"/>
          <p:cNvPicPr/>
          <p:nvPr/>
        </p:nvPicPr>
        <p:blipFill>
          <a:blip r:embed="rId3"/>
          <a:stretch/>
        </p:blipFill>
        <p:spPr>
          <a:xfrm>
            <a:off x="539640" y="3933720"/>
            <a:ext cx="1898640" cy="1677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j0315854"/>
          <p:cNvPicPr/>
          <p:nvPr/>
        </p:nvPicPr>
        <p:blipFill>
          <a:blip r:embed="rId4"/>
          <a:stretch/>
        </p:blipFill>
        <p:spPr>
          <a:xfrm>
            <a:off x="6443640" y="184464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j0284106"/>
          <p:cNvPicPr/>
          <p:nvPr/>
        </p:nvPicPr>
        <p:blipFill>
          <a:blip r:embed="rId5"/>
          <a:stretch/>
        </p:blipFill>
        <p:spPr>
          <a:xfrm>
            <a:off x="6130800" y="4365720"/>
            <a:ext cx="1282680" cy="1782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j0286786"/>
          <p:cNvPicPr/>
          <p:nvPr/>
        </p:nvPicPr>
        <p:blipFill>
          <a:blip r:embed="rId6"/>
          <a:stretch/>
        </p:blipFill>
        <p:spPr>
          <a:xfrm>
            <a:off x="4210200" y="2976480"/>
            <a:ext cx="1398600" cy="17478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2"/>
          <p:cNvSpPr/>
          <p:nvPr/>
        </p:nvSpPr>
        <p:spPr>
          <a:xfrm>
            <a:off x="1671480" y="281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olas"/>
              </a:rPr>
              <a:t>Учитесь думать, объяснят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olas"/>
              </a:rPr>
              <a:t>Учитесь мыслить, рассужда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olas"/>
              </a:rPr>
              <a:t>Ведь в математике, друзья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olas"/>
              </a:rPr>
              <a:t>Без логики никак нельз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Прямоугольник 3" descr=""/>
          <p:cNvPicPr/>
          <p:nvPr/>
        </p:nvPicPr>
        <p:blipFill>
          <a:blip r:embed="rId1"/>
          <a:stretch/>
        </p:blipFill>
        <p:spPr>
          <a:xfrm>
            <a:off x="1603440" y="212760"/>
            <a:ext cx="6076800" cy="1201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E:\анимашки\рисунки\2157232417 a.jpg"/>
          <p:cNvPicPr/>
          <p:nvPr/>
        </p:nvPicPr>
        <p:blipFill>
          <a:blip r:embed="rId2"/>
          <a:stretch/>
        </p:blipFill>
        <p:spPr>
          <a:xfrm>
            <a:off x="285840" y="4429080"/>
            <a:ext cx="1695240" cy="1579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C:\Documents and Settings\Admin\Local Settings\Temporary Internet Files\Content.IE5\NYFPMMXD\MCj04282890000[1].wmf"/>
          <p:cNvPicPr/>
          <p:nvPr/>
        </p:nvPicPr>
        <p:blipFill>
          <a:blip r:embed="rId3"/>
          <a:stretch/>
        </p:blipFill>
        <p:spPr>
          <a:xfrm>
            <a:off x="6572160" y="4500720"/>
            <a:ext cx="1828800" cy="160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5"/>
          <p:cNvSpPr/>
          <p:nvPr/>
        </p:nvSpPr>
        <p:spPr>
          <a:xfrm>
            <a:off x="755640" y="170028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АРТВ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3276720" y="1987560"/>
            <a:ext cx="12967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5076720" y="169848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КВАД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826920" y="515628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АТРОДО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9"/>
          <p:cNvSpPr/>
          <p:nvPr/>
        </p:nvSpPr>
        <p:spPr>
          <a:xfrm>
            <a:off x="3780000" y="5372280"/>
            <a:ext cx="1079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076720" y="515628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КООРДИН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826920" y="357192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ОРУЛЬТЕГ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3635280" y="3859200"/>
            <a:ext cx="9367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5076720" y="357192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ТРЕУГО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10"/>
          <p:cNvSpPr/>
          <p:nvPr/>
        </p:nvSpPr>
        <p:spPr>
          <a:xfrm>
            <a:off x="642960" y="57168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ОНВАРЕТН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3"/>
          <p:cNvSpPr/>
          <p:nvPr/>
        </p:nvSpPr>
        <p:spPr>
          <a:xfrm>
            <a:off x="3780000" y="836640"/>
            <a:ext cx="7934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12"/>
          <p:cNvSpPr/>
          <p:nvPr/>
        </p:nvSpPr>
        <p:spPr>
          <a:xfrm>
            <a:off x="5210280" y="714240"/>
            <a:ext cx="29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НЕРАВЕ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95280" y="40464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Book Antiqua"/>
              </a:rPr>
              <a:t>1 отборочный 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5"/>
          <p:cNvSpPr txBox="1"/>
          <p:nvPr/>
        </p:nvSpPr>
        <p:spPr>
          <a:xfrm>
            <a:off x="1835280" y="1700280"/>
            <a:ext cx="4160880" cy="19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змин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826920" y="450864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Максимальный балл -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j0281218"/>
          <p:cNvPicPr/>
          <p:nvPr/>
        </p:nvPicPr>
        <p:blipFill>
          <a:blip r:embed="rId1"/>
          <a:stretch/>
        </p:blipFill>
        <p:spPr>
          <a:xfrm>
            <a:off x="6372360" y="189000"/>
            <a:ext cx="2368440" cy="2235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MMj02969670000[1]"/>
          <p:cNvPicPr/>
          <p:nvPr/>
        </p:nvPicPr>
        <p:blipFill>
          <a:blip r:embed="rId2"/>
          <a:stretch/>
        </p:blipFill>
        <p:spPr>
          <a:xfrm>
            <a:off x="5357880" y="4929120"/>
            <a:ext cx="1409760" cy="1306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dee8"/>
                </a:solidFill>
                <a:latin typeface="Book Antiqua"/>
              </a:rPr>
              <a:t>Первый участ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рит твоя голова: пять плюс один получится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му равна треть суто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овите числитель дроб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ва площадь квадрата со стороной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олько центнеров в тон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5929200" y="3214800"/>
            <a:ext cx="295560" cy="64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3cddd"/>
                </a:solidFill>
                <a:latin typeface="Book Antiqua"/>
              </a:rPr>
              <a:t>Второй участ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шел зайчик погулять, лап у зайца ровн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му равна шестая часть суто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овите знаменатель дроб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ва площадь прямоугольника со сторонами 5 см и 3 с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олько существует цифр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6429240" y="3214800"/>
            <a:ext cx="295560" cy="66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3cddd"/>
                </a:solidFill>
                <a:latin typeface="Book Antiqua"/>
              </a:rPr>
              <a:t>Третий участ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одит в народе такая молва: шесть минус три получится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какое число невозможно делени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ибольшая правильная дробь со знаменателем 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му равна сторона квадрата, площадь которого 2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именьшее трехзначное числ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3143160" y="5000760"/>
            <a:ext cx="285840" cy="33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3cddd"/>
                </a:solidFill>
                <a:latin typeface="Book Antiqua"/>
              </a:rPr>
              <a:t>Четвертый участ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ворил учитель Ире, что два больше     чем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называются числа, которые складываю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именьшее натуральное числ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му равна десятая часть сантиметр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олько углов у треугольни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3cddd"/>
                </a:solidFill>
                <a:latin typeface="Book Antiqua"/>
              </a:rPr>
              <a:t>Пятый участ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ньше в десять раз, чем метр, всем известн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называют числа, которые умножаю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именьшая неправильная дробь со знаменателем 6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мма длин сторон многоугольни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струмент для построения окружно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1:21:15Z</dcterms:created>
  <dc:creator>таня</dc:creator>
  <dc:description/>
  <dc:language>en-US</dc:language>
  <cp:lastModifiedBy>1</cp:lastModifiedBy>
  <dcterms:modified xsi:type="dcterms:W3CDTF">2010-11-20T05:07:38Z</dcterms:modified>
  <cp:revision>81</cp:revision>
  <dc:subject/>
  <dc:title>Слайд 1</dc:title>
</cp:coreProperties>
</file>