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27.png" ContentType="image/png"/>
  <Override PartName="/ppt/media/image30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3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3.png" ContentType="image/png"/>
  <Override PartName="/ppt/media/image36.wmf" ContentType="image/x-wmf"/>
  <Override PartName="/ppt/media/image6.wmf" ContentType="image/x-wmf"/>
  <Override PartName="/ppt/media/image11.png" ContentType="image/png"/>
  <Override PartName="/ppt/media/image43.gif" ContentType="image/gif"/>
  <Override PartName="/ppt/media/image34.jpeg" ContentType="image/jpeg"/>
  <Override PartName="/ppt/media/image15.png" ContentType="image/png"/>
  <Override PartName="/ppt/media/image35.wmf" ContentType="image/x-wmf"/>
  <Override PartName="/ppt/media/image39.gif" ContentType="image/gif"/>
  <Override PartName="/ppt/media/image41.gif" ContentType="image/gif"/>
  <Override PartName="/ppt/media/image44.png" ContentType="image/png"/>
  <Override PartName="/ppt/media/image45.jpeg" ContentType="image/jpeg"/>
  <Override PartName="/ppt/media/image37.gif" ContentType="image/gif"/>
  <Override PartName="/ppt/media/image42.gif" ContentType="image/gif"/>
  <Override PartName="/ppt/media/image7.wmf" ContentType="image/x-wmf"/>
  <Override PartName="/ppt/media/image12.png" ContentType="image/png"/>
  <Override PartName="/ppt/media/image9.png" ContentType="image/png"/>
  <Override PartName="/ppt/media/image40.gif" ContentType="image/gif"/>
  <Override PartName="/ppt/media/image33.png" ContentType="image/png"/>
  <Override PartName="/ppt/media/image3.png" ContentType="image/png"/>
  <Override PartName="/ppt/media/image2.png" ContentType="image/png"/>
  <Override PartName="/ppt/media/image4.wmf" ContentType="image/x-wmf"/>
  <Override PartName="/ppt/media/image38.gif" ContentType="image/gif"/>
  <Override PartName="/ppt/media/image8.gif" ContentType="image/gif"/>
  <Override PartName="/ppt/media/image10.png" ContentType="image/pn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FAD-BD49-4085-BFBA-839A185D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F29-533F-40CA-9725-8182BF11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DBD-7898-46AA-9C65-46DB6A76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DE7-462D-4401-A689-2BAE0CFD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1D6-708A-401B-8518-94632234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FDA-05AA-4802-A650-F459D668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6E2-3A36-4494-BC86-21C279CD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FD8-66ED-42BC-ADF6-0B68F561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C88-6AAF-48DD-9EA9-7168404A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84D-9322-48D6-8FC3-42774680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5FC-7D0F-4C3F-BB0A-C1BA3D8D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9A7-9D34-4901-8A26-B7AE5E2D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9657-6E56-4C00-AB38-13A7C1DAB2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С тех пор, как существует мироздань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Такого нет, кто б не нуждался в знань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Какой мы не возьмем язык и век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Всегда стремился к знанью человек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1_Love_Li_blue.wma" descr=""/>
          <p:cNvPicPr/>
          <p:nvPr/>
        </p:nvPicPr>
        <p:blipFill>
          <a:blip r:embed="rId1"/>
          <a:stretch/>
        </p:blipFill>
        <p:spPr>
          <a:xfrm>
            <a:off x="4448160" y="33051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4" name="02_La_vie_en_rose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2618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93cddd"/>
                </a:solidFill>
                <a:latin typeface="Book Antiqua"/>
              </a:rPr>
              <a:t>Шестой участ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на птичку посмотри: лап у птиц ров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месяцев в году содержат по 30 дн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ее простое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йти площадь прямоуголь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е дроб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024440" y="9792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024440" y="9792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286160" y="4572000"/>
            <a:ext cx="114300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Седьм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собачка есть, у нее хвостов аж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месяцев в году содержат по 31 ден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 дел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гура имеющая 3 стороны и 3 верш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ите целую ч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5286240" y="4500720"/>
            <a:ext cx="32724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j0250085"/>
          <p:cNvPicPr/>
          <p:nvPr/>
        </p:nvPicPr>
        <p:blipFill>
          <a:blip r:embed="rId1"/>
          <a:stretch/>
        </p:blipFill>
        <p:spPr>
          <a:xfrm>
            <a:off x="6588000" y="3429000"/>
            <a:ext cx="2298960" cy="2492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2 отборочный 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611280" y="1268280"/>
            <a:ext cx="7848360" cy="25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ждый сам за себ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а лошадей пробежала 30 км. Сколько километров пробежала каждая лошад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их единицах измеряется величина уг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манное вычислительное устройст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е играли в шашки четыре часа. Сколько играл кажд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градусов содержит прямой уго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ирная глобальная се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Третий участник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ело пять свечей. Две из них потушили. Сколько свечей остане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вершин у куб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ойство, при помощи которого человек вводит информацию в компьют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Четвер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акой угол поворачивается солдат по команде «кругом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ороге шли два мальчика и сто рублей нашли. За ними еще четыре. Сколько они найду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устройство, «мозг» компьютера, который управляет всеми устройствами компьют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я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амеда было десять овец. Все, кроме девяти,  околели. Сколько овец осталось у Маме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ь прямой ограниченная двумя точк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ойство для получения коп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Игра со зр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ие числа называются натуральным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гномов у Белоснежк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Что такое периметр треугольник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Есть ли края у плоскост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месяцев в год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дециметров в метр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ля чего нужен транспорти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ую дробь называют правильно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рогов у трех коров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аименьшее двузначное числ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Является ли 5 делителем 45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ую часть часа составляют 45 минут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ая нога собаке ни к чем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ое число называется четны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ой угол больше прямой или развернуты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ая по счету в русском алфавите буква «З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Бублик разрезали на 3 части. Сколько сделали разрезов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минут длятся 4 час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айдите периметр треугольника со сторонами 4,6, 7с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wassat.gif"/>
          <p:cNvPicPr/>
          <p:nvPr/>
        </p:nvPicPr>
        <p:blipFill>
          <a:blip r:embed="rId1"/>
          <a:stretch/>
        </p:blipFill>
        <p:spPr>
          <a:xfrm>
            <a:off x="7858080" y="17859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belay.gif"/>
          <p:cNvPicPr/>
          <p:nvPr/>
        </p:nvPicPr>
        <p:blipFill>
          <a:blip r:embed="rId2"/>
          <a:stretch/>
        </p:blipFill>
        <p:spPr>
          <a:xfrm>
            <a:off x="5286240" y="3429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angry.gif"/>
          <p:cNvPicPr/>
          <p:nvPr/>
        </p:nvPicPr>
        <p:blipFill>
          <a:blip r:embed="rId3"/>
          <a:stretch/>
        </p:blipFill>
        <p:spPr>
          <a:xfrm>
            <a:off x="4214880" y="22147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am.gif"/>
          <p:cNvPicPr/>
          <p:nvPr/>
        </p:nvPicPr>
        <p:blipFill>
          <a:blip r:embed="rId4"/>
          <a:stretch/>
        </p:blipFill>
        <p:spPr>
          <a:xfrm>
            <a:off x="5715000" y="1071720"/>
            <a:ext cx="928800" cy="1055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fellow.gif"/>
          <p:cNvPicPr/>
          <p:nvPr/>
        </p:nvPicPr>
        <p:blipFill>
          <a:blip r:embed="rId5"/>
          <a:stretch/>
        </p:blipFill>
        <p:spPr>
          <a:xfrm>
            <a:off x="5857920" y="2214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lol.gif"/>
          <p:cNvPicPr/>
          <p:nvPr/>
        </p:nvPicPr>
        <p:blipFill>
          <a:blip r:embed="rId6"/>
          <a:stretch/>
        </p:blipFill>
        <p:spPr>
          <a:xfrm>
            <a:off x="7858080" y="385776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recourse.gif"/>
          <p:cNvPicPr/>
          <p:nvPr/>
        </p:nvPicPr>
        <p:blipFill>
          <a:blip r:embed="rId7"/>
          <a:stretch/>
        </p:blipFill>
        <p:spPr>
          <a:xfrm>
            <a:off x="7786800" y="5643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request.gif"/>
          <p:cNvPicPr/>
          <p:nvPr/>
        </p:nvPicPr>
        <p:blipFill>
          <a:blip r:embed="rId8"/>
          <a:stretch/>
        </p:blipFill>
        <p:spPr>
          <a:xfrm>
            <a:off x="7572240" y="28584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tongue.gif"/>
          <p:cNvPicPr/>
          <p:nvPr/>
        </p:nvPicPr>
        <p:blipFill>
          <a:blip r:embed="rId9"/>
          <a:stretch/>
        </p:blipFill>
        <p:spPr>
          <a:xfrm>
            <a:off x="6143760" y="500076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wink.gif"/>
          <p:cNvPicPr/>
          <p:nvPr/>
        </p:nvPicPr>
        <p:blipFill>
          <a:blip r:embed="rId10"/>
          <a:stretch/>
        </p:blipFill>
        <p:spPr>
          <a:xfrm>
            <a:off x="928800" y="35712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3 отборочный 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755640" y="1341360"/>
            <a:ext cx="6408720" cy="2351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тий лишн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j0281221"/>
          <p:cNvPicPr/>
          <p:nvPr/>
        </p:nvPicPr>
        <p:blipFill>
          <a:blip r:embed="rId1"/>
          <a:stretch/>
        </p:blipFill>
        <p:spPr>
          <a:xfrm>
            <a:off x="6443640" y="3716280"/>
            <a:ext cx="2305080" cy="194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j0232164"/>
          <p:cNvPicPr/>
          <p:nvPr/>
        </p:nvPicPr>
        <p:blipFill>
          <a:blip r:embed="rId2"/>
          <a:stretch/>
        </p:blipFill>
        <p:spPr>
          <a:xfrm>
            <a:off x="7236000" y="189000"/>
            <a:ext cx="1712880" cy="1272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WordArt 2" descr=""/>
          <p:cNvPicPr/>
          <p:nvPr/>
        </p:nvPicPr>
        <p:blipFill>
          <a:blip r:embed="rId1"/>
          <a:stretch/>
        </p:blipFill>
        <p:spPr>
          <a:xfrm>
            <a:off x="444600" y="463680"/>
            <a:ext cx="7894440" cy="282240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>
            <a:off x="3132000" y="3860640"/>
            <a:ext cx="2297160" cy="6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естой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Picture 4" descr="j0338458"/>
          <p:cNvPicPr/>
          <p:nvPr/>
        </p:nvPicPr>
        <p:blipFill>
          <a:blip r:embed="rId2"/>
          <a:stretch/>
        </p:blipFill>
        <p:spPr>
          <a:xfrm>
            <a:off x="0" y="4941720"/>
            <a:ext cx="2208240" cy="173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j0205402"/>
          <p:cNvPicPr/>
          <p:nvPr/>
        </p:nvPicPr>
        <p:blipFill>
          <a:blip r:embed="rId3"/>
          <a:stretch/>
        </p:blipFill>
        <p:spPr>
          <a:xfrm>
            <a:off x="7734240" y="0"/>
            <a:ext cx="140976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\Local Settings\Temporary Internet Files\Content.IE5\NYFPMMXD\MCj04282890000[1].wmf"/>
          <p:cNvPicPr/>
          <p:nvPr/>
        </p:nvPicPr>
        <p:blipFill>
          <a:blip r:embed="rId4"/>
          <a:stretch/>
        </p:blipFill>
        <p:spPr>
          <a:xfrm>
            <a:off x="7143840" y="4857840"/>
            <a:ext cx="182880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имальная единица измер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казке «Конек-горбунок» мы встречаем слова: «Приезжаю - тьма народу! Ну ни выходу, ни входу!» Сколько было нар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из чисел лишне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357880" y="4214880"/>
            <a:ext cx="2251080" cy="793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0" y="714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3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системе счисления кодируется вся информация в компьюте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великих русских писателей составлял задачи по арифмети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из чисел лиш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5372280" y="3714840"/>
            <a:ext cx="2446200" cy="642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0" y="714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3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Трети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систему счисления мы используем в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 математике есть своя красота, как в поэзии». Кто произнес эти слова, даже не любя матема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дробь лишня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5143680" y="4286160"/>
            <a:ext cx="2589120" cy="642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3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Book Antiqua"/>
              </a:rPr>
              <a:t>Для болельщ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714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грядке сидели 4 воробья. Кот подкрался и схватил одного воробья. Сколько воробьев осталось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е подошли к реке. У берега стояла лодка, которая может вместить лишь одного, но оба переправились. Как это могло случиться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рач прописал три укола. Через полчаса на укол. Через сколько часов будет сделаны все уколы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гол в 1,5 ° рассматривают в лупу, увеличивающую в 4 раза. Какой величины покажется угол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ие бывают современные фотоаппараты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английском языке слово «вычислять» означает…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мвол – разделит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тояние, в котором включенный компьютер не реагирует на действия пользовател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тейший вычислительный прибор, которым пользовались на протяжении век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чинающий пользоват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j0290709"/>
          <p:cNvPicPr/>
          <p:nvPr/>
        </p:nvPicPr>
        <p:blipFill>
          <a:blip r:embed="rId1"/>
          <a:stretch/>
        </p:blipFill>
        <p:spPr>
          <a:xfrm>
            <a:off x="7429680" y="214200"/>
            <a:ext cx="1490400" cy="14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755640" y="1268280"/>
            <a:ext cx="648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  самый ум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7" descr="j0284020"/>
          <p:cNvPicPr/>
          <p:nvPr/>
        </p:nvPicPr>
        <p:blipFill>
          <a:blip r:embed="rId1"/>
          <a:stretch/>
        </p:blipFill>
        <p:spPr>
          <a:xfrm>
            <a:off x="6372360" y="3860640"/>
            <a:ext cx="1639800" cy="1656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857160" y="500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Book Antiqua"/>
              </a:rPr>
              <a:t>4 отборочный 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ереведите на русский язык греческие слова – моно, ди, поли и латинские – уни, би, муль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Без чего не могут обойтись охотники, барабанщики, матема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Сколько подвигов совершил Герак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Список, из которого можно выбрать команду. В этой строке находятся слова: файл, правка, вид,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акая цифра в переводе с латинского означает «никакая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Что есть у каждого слова, растения и уравн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акой раздел математики называют «искусством чисел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акой значок всегда присутствует на Рабочем столе и не может быть спрятан в Корзин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3"/>
          <p:cNvSpPr txBox="1"/>
          <p:nvPr/>
        </p:nvSpPr>
        <p:spPr>
          <a:xfrm>
            <a:off x="755640" y="1268280"/>
            <a:ext cx="648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гадай сло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bd05097_"/>
          <p:cNvPicPr/>
          <p:nvPr/>
        </p:nvPicPr>
        <p:blipFill>
          <a:blip r:embed="rId1"/>
          <a:stretch/>
        </p:blipFill>
        <p:spPr>
          <a:xfrm>
            <a:off x="6012000" y="3933720"/>
            <a:ext cx="25873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олни пропуски  числитель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4043520" cy="4471920"/>
        </p:xfrm>
        <a:graphic>
          <a:graphicData uri="http://schemas.openxmlformats.org/drawingml/2006/table">
            <a:tbl>
              <a:tblPr/>
              <a:tblGrid>
                <a:gridCol w="2189160"/>
                <a:gridCol w="1854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о … 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 … р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 … 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…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 …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643280" y="1571760"/>
          <a:ext cx="4043520" cy="4429080"/>
        </p:xfrm>
        <a:graphic>
          <a:graphicData uri="http://schemas.openxmlformats.org/drawingml/2006/table">
            <a:tbl>
              <a:tblPr/>
              <a:tblGrid>
                <a:gridCol w="2213280"/>
                <a:gridCol w="1830240"/>
              </a:tblGrid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о … 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е 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 … ж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ви … 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 … 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149" name="Содержимое 3" descr="Рисунок 6"/>
          <p:cNvPicPr/>
          <p:nvPr/>
        </p:nvPicPr>
        <p:blipFill>
          <a:blip r:embed="rId2"/>
          <a:stretch/>
        </p:blipFill>
        <p:spPr>
          <a:xfrm>
            <a:off x="571680" y="1600200"/>
            <a:ext cx="807228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24000" y="15336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Математику уже за то учить надо, что она ум в порядок приводит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Arial"/>
              </a:rPr>
              <a:t>Михаил Васильевич Ломон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85840" y="2656800"/>
            <a:ext cx="83516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Кто с детских лет занимается математикой, тот развивает внимание, тренирует свой мозг, свою волю, воспитывает настойчивость и упорство в достижении цел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Arial"/>
              </a:rPr>
              <a:t>Алексей Иванович Маркушевич</a:t>
            </a: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1" descr="j0240393"/>
          <p:cNvPicPr/>
          <p:nvPr/>
        </p:nvPicPr>
        <p:blipFill>
          <a:blip r:embed="rId1"/>
          <a:stretch/>
        </p:blipFill>
        <p:spPr>
          <a:xfrm>
            <a:off x="5508720" y="4076640"/>
            <a:ext cx="1855800" cy="1819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j0295690"/>
          <p:cNvPicPr/>
          <p:nvPr/>
        </p:nvPicPr>
        <p:blipFill>
          <a:blip r:embed="rId2"/>
          <a:stretch/>
        </p:blipFill>
        <p:spPr>
          <a:xfrm>
            <a:off x="611280" y="549360"/>
            <a:ext cx="1731960" cy="14018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6"/>
          <p:cNvSpPr/>
          <p:nvPr/>
        </p:nvSpPr>
        <p:spPr>
          <a:xfrm>
            <a:off x="1571760" y="2143080"/>
            <a:ext cx="630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love.gif"/>
          <p:cNvPicPr/>
          <p:nvPr/>
        </p:nvPicPr>
        <p:blipFill>
          <a:blip r:embed="rId3"/>
          <a:stretch/>
        </p:blipFill>
        <p:spPr>
          <a:xfrm>
            <a:off x="2571840" y="3786120"/>
            <a:ext cx="1714320" cy="226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tongue.gif"/>
          <p:cNvPicPr/>
          <p:nvPr/>
        </p:nvPicPr>
        <p:blipFill>
          <a:blip r:embed="rId4"/>
          <a:stretch/>
        </p:blipFill>
        <p:spPr>
          <a:xfrm>
            <a:off x="5286240" y="571680"/>
            <a:ext cx="1571760" cy="1571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41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4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468360" y="765000"/>
            <a:ext cx="64818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дравляем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5" descr="MMj03544720000[1]"/>
          <p:cNvPicPr/>
          <p:nvPr/>
        </p:nvPicPr>
        <p:blipFill>
          <a:blip r:embed="rId1"/>
          <a:stretch/>
        </p:blipFill>
        <p:spPr>
          <a:xfrm>
            <a:off x="3276720" y="5373720"/>
            <a:ext cx="1179360" cy="122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MMj03368560000[1]"/>
          <p:cNvPicPr/>
          <p:nvPr/>
        </p:nvPicPr>
        <p:blipFill>
          <a:blip r:embed="rId2"/>
          <a:stretch/>
        </p:blipFill>
        <p:spPr>
          <a:xfrm>
            <a:off x="179280" y="0"/>
            <a:ext cx="1179720" cy="1368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j0283839"/>
          <p:cNvPicPr/>
          <p:nvPr/>
        </p:nvPicPr>
        <p:blipFill>
          <a:blip r:embed="rId3"/>
          <a:stretch/>
        </p:blipFill>
        <p:spPr>
          <a:xfrm>
            <a:off x="539640" y="3933720"/>
            <a:ext cx="1898640" cy="167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j0315854"/>
          <p:cNvPicPr/>
          <p:nvPr/>
        </p:nvPicPr>
        <p:blipFill>
          <a:blip r:embed="rId4"/>
          <a:stretch/>
        </p:blipFill>
        <p:spPr>
          <a:xfrm>
            <a:off x="6443640" y="1844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j0284106"/>
          <p:cNvPicPr/>
          <p:nvPr/>
        </p:nvPicPr>
        <p:blipFill>
          <a:blip r:embed="rId5"/>
          <a:stretch/>
        </p:blipFill>
        <p:spPr>
          <a:xfrm>
            <a:off x="6130800" y="4365720"/>
            <a:ext cx="1282680" cy="178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j0286786"/>
          <p:cNvPicPr/>
          <p:nvPr/>
        </p:nvPicPr>
        <p:blipFill>
          <a:blip r:embed="rId6"/>
          <a:stretch/>
        </p:blipFill>
        <p:spPr>
          <a:xfrm>
            <a:off x="4210200" y="2976480"/>
            <a:ext cx="1398600" cy="17478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167148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Учитесь думать, объясня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Учитесь мыслить, рассуж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Ведь в математике, друз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Без логики никак нельз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Прямоугольник 3" descr=""/>
          <p:cNvPicPr/>
          <p:nvPr/>
        </p:nvPicPr>
        <p:blipFill>
          <a:blip r:embed="rId1"/>
          <a:stretch/>
        </p:blipFill>
        <p:spPr>
          <a:xfrm>
            <a:off x="1603440" y="212760"/>
            <a:ext cx="6076800" cy="1201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E:\анимашки\рисунки\2157232417 a.jpg"/>
          <p:cNvPicPr/>
          <p:nvPr/>
        </p:nvPicPr>
        <p:blipFill>
          <a:blip r:embed="rId2"/>
          <a:stretch/>
        </p:blipFill>
        <p:spPr>
          <a:xfrm>
            <a:off x="285840" y="4429080"/>
            <a:ext cx="1695240" cy="1579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Documents and Settings\Admin\Local Settings\Temporary Internet Files\Content.IE5\NYFPMMXD\MCj04282890000[1].wmf"/>
          <p:cNvPicPr/>
          <p:nvPr/>
        </p:nvPicPr>
        <p:blipFill>
          <a:blip r:embed="rId3"/>
          <a:stretch/>
        </p:blipFill>
        <p:spPr>
          <a:xfrm>
            <a:off x="6572160" y="4500720"/>
            <a:ext cx="182880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755640" y="17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АРТВ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276720" y="1987560"/>
            <a:ext cx="129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076720" y="16984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826920" y="515628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ТРОДО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3780000" y="5372280"/>
            <a:ext cx="1079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076720" y="5156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КООРД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826920" y="35719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РУЛЬТЕГ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3635280" y="3859200"/>
            <a:ext cx="93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076720" y="35719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0"/>
          <p:cNvSpPr/>
          <p:nvPr/>
        </p:nvSpPr>
        <p:spPr>
          <a:xfrm>
            <a:off x="642960" y="5716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НВАРЕТН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3780000" y="836640"/>
            <a:ext cx="7934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2"/>
          <p:cNvSpPr/>
          <p:nvPr/>
        </p:nvSpPr>
        <p:spPr>
          <a:xfrm>
            <a:off x="5210280" y="71424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НЕ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1 отборочный 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835280" y="1700280"/>
            <a:ext cx="4160880" cy="19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мин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j0281218"/>
          <p:cNvPicPr/>
          <p:nvPr/>
        </p:nvPicPr>
        <p:blipFill>
          <a:blip r:embed="rId1"/>
          <a:stretch/>
        </p:blipFill>
        <p:spPr>
          <a:xfrm>
            <a:off x="6372360" y="189000"/>
            <a:ext cx="2368440" cy="2235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Mj02969670000[1]"/>
          <p:cNvPicPr/>
          <p:nvPr/>
        </p:nvPicPr>
        <p:blipFill>
          <a:blip r:embed="rId2"/>
          <a:stretch/>
        </p:blipFill>
        <p:spPr>
          <a:xfrm>
            <a:off x="5357880" y="4929120"/>
            <a:ext cx="1409760" cy="130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dee8"/>
                </a:solidFill>
                <a:latin typeface="Book Antiqua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ит твоя голова: пять плюс один получи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треть суто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числитель дроб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площадь квадрата со стороной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центнеров в тон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929200" y="3214800"/>
            <a:ext cx="295560" cy="64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шел зайчик погулять, лап у зайца ров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шестая часть сут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знаменатель дроб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площадь прямоугольника со сторонами 5 см и 3 с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существует циф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6429240" y="3214800"/>
            <a:ext cx="295560" cy="66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Трети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ит в народе такая молва: шесть минус три получи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акое число невозможно дел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ьшая правильная дробь со знаменателем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сторона квадрата, площадь которого 2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ее трехзначное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3143160" y="5000760"/>
            <a:ext cx="285840" cy="33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Четвер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ворил учитель Ире, что два больше     чем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ются числа, которые складыв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ее натуральное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десятая часть сантимет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углов у треуголь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Пя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ьше в десять раз, чем метр, всем извест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ют числа, которые умнож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ая неправильная дробь со знаменателем 6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длин сторон многоуголь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построения окруж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1:21:15Z</dcterms:created>
  <dc:creator>таня</dc:creator>
  <dc:description/>
  <dc:language>en-US</dc:language>
  <cp:lastModifiedBy>1</cp:lastModifiedBy>
  <dcterms:modified xsi:type="dcterms:W3CDTF">2010-11-20T05:07:38Z</dcterms:modified>
  <cp:revision>81</cp:revision>
  <dc:subject/>
  <dc:title>Слайд 1</dc:title>
</cp:coreProperties>
</file>