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192-1C2E-41FB-9D33-9948F2D4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9B4-DAF7-48BF-BC11-7205E95F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29B-B180-41CE-ACBF-475DBF1D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84C-152A-4469-915C-5E552152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4B6-39C5-434B-850E-5DF6A07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F4C-AD1D-4218-888A-5485D31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328-CED8-4A3D-BA4B-AF77E75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497-2E3B-48DC-A2EE-6612532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59C-0D1D-4A56-A6B2-A333A0B4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9DA-8B6F-45C6-9935-28F3A31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2C2-9FB5-4FEA-B895-9201E36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3DF-4D4D-4DED-86E0-A49027A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042-3FF5-4C8A-B688-0A6BA55DC7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7200" spc="-1" strike="noStrike">
                <a:solidFill>
                  <a:srgbClr val="e5ffff"/>
                </a:solidFill>
                <a:latin typeface="Tahoma"/>
              </a:rPr>
              <a:t> - </a:t>
            </a: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21264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Это молодежная культур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01_kino_hochu_peremen.mp3" descr=""/>
          <p:cNvPicPr/>
          <p:nvPr/>
        </p:nvPicPr>
        <p:blipFill>
          <a:blip r:embed="rId1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46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АРТ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направление представляет собой сочетание элементов рока, классической музыки и джаза, а также различных национальных культур. Наряду с арт – роком, употребляются такие понятия, как симфо – рок, классик – рок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 – рок берет начало со второй половины 1960 – х годов. Истоки арт – рока можно найти в позднем (1965 – 70 ) творчестве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, которые много экспериментировали со звучанием отдельных акустических инструментов и целых симфонических составо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– 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ELP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ейт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рсон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ег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йк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л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мер – уда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й группой сделаны в рок – стиле произведения Бартона, Мусоргского («Картинки с выставк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Чайковский марш из Щелкунчика ELP.mp3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6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38088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эмм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ли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иттер - 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ормился как стиль в первой половине 1970 – х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глэмм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характерен акцент на визуальной стороне: обильный грим, яркая одежда, а так же простая гармония, голос (вокал) является главным выразителем чувств, многократное повторение фраз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Глэм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- рок – группа «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KISS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94400" y="1484280"/>
            <a:ext cx="354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группа, была создана в 1972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ин Симменс, Питер Крисс, Пол Стенли, Эйс Фрей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кисс1"/>
          <p:cNvPicPr/>
          <p:nvPr/>
        </p:nvPicPr>
        <p:blipFill>
          <a:blip r:embed="rId1"/>
          <a:stretch/>
        </p:blipFill>
        <p:spPr>
          <a:xfrm>
            <a:off x="179280" y="1341360"/>
            <a:ext cx="5400720" cy="361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95280" y="4989600"/>
            <a:ext cx="849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ша задача – помочь слушателям освободиться от давления мыслительных процессов, поскольку оно мешает им как следует расслабиться» - говорили сами музыкант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церты поражали воображение обилием трюков: взрывные устройства, полицейские мигалки и сирены, самовозгорающиеся гитары и друг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ередине 70 – х годов группа стала одной из наиболее сценичных групп мир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исс"/>
          <p:cNvPicPr/>
          <p:nvPr/>
        </p:nvPicPr>
        <p:blipFill>
          <a:blip r:embed="rId1"/>
          <a:stretch/>
        </p:blipFill>
        <p:spPr>
          <a:xfrm>
            <a:off x="4932360" y="404640"/>
            <a:ext cx="396072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исс2"/>
          <p:cNvPicPr/>
          <p:nvPr/>
        </p:nvPicPr>
        <p:blipFill>
          <a:blip r:embed="rId2"/>
          <a:stretch/>
        </p:blipFill>
        <p:spPr>
          <a:xfrm>
            <a:off x="250920" y="3213000"/>
            <a:ext cx="4592520" cy="3446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68360" y="333360"/>
            <a:ext cx="4319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ISS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едстали на сцене в виде четырех эффектно одетых монстров, лица которых скрывал грим – Симмонс «ящер», Стэнли «красавчик», Фрейли «космический», Крисс «кот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Track17.mp3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745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Х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формился как стиль в 1970 – х го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ч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ард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а характеризуется заметной тяжестью, высокой плотностью, усилением ритма, виртуозной импров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стиль в буквальном смысле вышел на простор больших сцен, стадионов, где предстал на суд массовой аудито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Хард –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ок – группа 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Scorpions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5640" y="1483920"/>
            <a:ext cx="498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ецкая группа, образована в 1965 г. В Гонновере. Выступали с концертами в разных странах. В период перестройки группа посетила Советский Союз, дали концерты в Москве и Ленинграде. Позже группа еще несколько раз приезжала с концертами в Россию, выступала даже с симфоническим оркестром в Кремлевском дворце съез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00 году группа выпустила альбом с Берлинским симфоническим оркестром, записали свои песни в симфонической обработ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го группа записала 19 альбо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скорпионз"/>
          <p:cNvPicPr/>
          <p:nvPr/>
        </p:nvPicPr>
        <p:blipFill>
          <a:blip r:embed="rId1"/>
          <a:stretch/>
        </p:blipFill>
        <p:spPr>
          <a:xfrm>
            <a:off x="179280" y="1413000"/>
            <a:ext cx="3659400" cy="5197320"/>
          </a:xfrm>
          <a:prstGeom prst="rect">
            <a:avLst/>
          </a:prstGeom>
          <a:ln w="0">
            <a:noFill/>
          </a:ln>
        </p:spPr>
      </p:pic>
      <p:pic>
        <p:nvPicPr>
          <p:cNvPr id="83" name="Scorpions - Wind Of Change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8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ХЭВИ - МЕТАЛ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ЭВИ – МЕТАЛЛИСТО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яли следующие качества: тяготение к быстрым темпам, жесткому звучанию, виртуозное солирование, основную роль играли гитары и ударн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тика песен: культ силы и агрессии, героика, мифологические мотивы, любовная тем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идж музыкантов: кожаная одежда, железные цепи, длинные вол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ппа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Metallica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9071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рок – группа, образована в 1981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Джеймс Хатфилд (вока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рк Хэммет (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фф Бартон (бас – 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рс Ульрих (ударны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91 году группа побывала с концертом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тила группа 13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металлика"/>
          <p:cNvPicPr/>
          <p:nvPr/>
        </p:nvPicPr>
        <p:blipFill>
          <a:blip r:embed="rId1"/>
          <a:stretch/>
        </p:blipFill>
        <p:spPr>
          <a:xfrm>
            <a:off x="250920" y="1844640"/>
            <a:ext cx="3297240" cy="4869000"/>
          </a:xfrm>
          <a:prstGeom prst="rect">
            <a:avLst/>
          </a:prstGeom>
          <a:ln w="0">
            <a:noFill/>
          </a:ln>
        </p:spPr>
      </p:pic>
      <p:pic>
        <p:nvPicPr>
          <p:cNvPr id="89" name="metallica_-_fuel_(live)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750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ок – группа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КИНО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кино"/>
          <p:cNvPicPr/>
          <p:nvPr/>
        </p:nvPicPr>
        <p:blipFill>
          <a:blip r:embed="rId1"/>
          <a:stretch/>
        </p:blipFill>
        <p:spPr>
          <a:xfrm>
            <a:off x="1403280" y="1538280"/>
            <a:ext cx="6337440" cy="4970520"/>
          </a:xfrm>
          <a:prstGeom prst="rect">
            <a:avLst/>
          </a:prstGeom>
          <a:ln w="0">
            <a:noFill/>
          </a:ln>
        </p:spPr>
      </p:pic>
      <p:pic>
        <p:nvPicPr>
          <p:cNvPr id="46" name="ЦОЙ - группа крови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23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ПАНК -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шелся на середину 1970 – х г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стиль отличается резкостью, быстрым темпом, хаотичными изменениями ритмического рисунка и гарм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ном играли любители, не обладавшие даже минимальной музыкальной подготов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ША первыми группами панк – рока были «МС 5»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City F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Doll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ПАНК – РОК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Сектор газа «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4248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а в 1987 году в Вороне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Юрий Клинских (Х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ексей Уша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гей Тупик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рь Кущ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84 году выпустили панк – оперу «Кащей Бессмертны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000 году смерть Юрия Клинских от инфаркта остановила деятельность группы. Выпустила 17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1210614683_4208ad9382b0"/>
          <p:cNvPicPr/>
          <p:nvPr/>
        </p:nvPicPr>
        <p:blipFill>
          <a:blip r:embed="rId1"/>
          <a:stretch/>
        </p:blipFill>
        <p:spPr>
          <a:xfrm>
            <a:off x="250920" y="1989000"/>
            <a:ext cx="432108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#10_11_Pora domoy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449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Б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ардов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втор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сня представляет собой современный жанр устной, так называемой поющейся, поэзии, появившейся на рубеже 1950 – 1960 – х годов в неформальной культуре молодых интеллектуалов и студ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, принадлежащие выдающемуся барду Булату Окуджаве, наиболее точно выражают сущность бардовской песни, которая не пишется по заказу, а рождается спонтанно и является свободным выражением потребности высказаться, поделиться наболевшим: « Каждый пишет, как он дышит, не стараясь угоди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ыдающиеся 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БАРДЫ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улат Окудж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рий Визбо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ладимир Высоц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лий Ки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лег Митя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лександр Розенбаум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Александр Розенбау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640" y="1296720"/>
            <a:ext cx="5113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вец, поэт, компози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сни начал писать в 1968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рофессиональной сцене с 1980 года, а с 1983 года - с сольными концер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го песнях – и шумная Одесса, и московские дворы, и донские степи, и выстраданный Афганист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2004 года реализовал новый проект из 12 – ти томов – дисков « Философия». Песни группированы по определенным томам, каждый из которых посвящен определенной теме: «философия войны», «философия любви», «философия воспоминании»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Розенбаум"/>
          <p:cNvPicPr/>
          <p:nvPr/>
        </p:nvPicPr>
        <p:blipFill>
          <a:blip r:embed="rId1"/>
          <a:stretch/>
        </p:blipFill>
        <p:spPr>
          <a:xfrm>
            <a:off x="179280" y="1413000"/>
            <a:ext cx="3781440" cy="4952880"/>
          </a:xfrm>
          <a:prstGeom prst="rect">
            <a:avLst/>
          </a:prstGeom>
          <a:ln w="0">
            <a:noFill/>
          </a:ln>
        </p:spPr>
      </p:pic>
      <p:pic>
        <p:nvPicPr>
          <p:cNvPr id="103" name="01_Александр Розенбаум - Я вижу свет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948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лияние 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 – МУЗЫКИ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19890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казала сильное влияние на общество, особенно на молодежь. Под влиянием рока рождались различные молодежные клубы (движ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рождением новых рок – групп появился и так назы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анат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фанатизма были свои плюсы и минус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802562"/>
          <p:cNvPicPr/>
          <p:nvPr/>
        </p:nvPicPr>
        <p:blipFill>
          <a:blip r:embed="rId1"/>
          <a:stretch/>
        </p:blipFill>
        <p:spPr>
          <a:xfrm>
            <a:off x="324000" y="1773360"/>
            <a:ext cx="3687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БАЙКЕР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123m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209872531_54794"/>
          <p:cNvPicPr/>
          <p:nvPr/>
        </p:nvPicPr>
        <p:blipFill>
          <a:blip r:embed="rId2"/>
          <a:stretch/>
        </p:blipFill>
        <p:spPr>
          <a:xfrm>
            <a:off x="5219640" y="3573360"/>
            <a:ext cx="3624480" cy="29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180423872_206732"/>
          <p:cNvPicPr/>
          <p:nvPr/>
        </p:nvPicPr>
        <p:blipFill>
          <a:blip r:embed="rId3"/>
          <a:stretch/>
        </p:blipFill>
        <p:spPr>
          <a:xfrm>
            <a:off x="5753160" y="404640"/>
            <a:ext cx="31399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ПА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8409082"/>
          <p:cNvPicPr/>
          <p:nvPr/>
        </p:nvPicPr>
        <p:blipFill>
          <a:blip r:embed="rId1"/>
          <a:stretch/>
        </p:blipFill>
        <p:spPr>
          <a:xfrm>
            <a:off x="179280" y="1700280"/>
            <a:ext cx="2963880" cy="41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05082902"/>
          <p:cNvPicPr/>
          <p:nvPr/>
        </p:nvPicPr>
        <p:blipFill>
          <a:blip r:embed="rId2"/>
          <a:stretch/>
        </p:blipFill>
        <p:spPr>
          <a:xfrm>
            <a:off x="3635280" y="1773360"/>
            <a:ext cx="532944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РОК –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КУЛЬТУРА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Кино - Звезда По Имени Солнце.mp3" descr=""/>
          <p:cNvPicPr/>
          <p:nvPr/>
        </p:nvPicPr>
        <p:blipFill>
          <a:blip r:embed="rId1"/>
          <a:stretch/>
        </p:blipFill>
        <p:spPr>
          <a:xfrm>
            <a:off x="8028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358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-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 родилась в 60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д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а в США и Великобрит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явление рока тесно связано с техническим, экономическим, политическим и социальным развитием. Именно технический прогресс дал толчок развитию рока. Подтверждением тому служит тот факт, что рок процветает лишь в наиболее развитых странах. Технический прогресс послужил рождению и усложнению музыкальной аппаратуры (электрогитары, синтезатор, различные звуковые процессоры, звукоусиливающая аппарату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степенно становилась предметом самовыражения молодого поколения: рождались молодежные движения, которые при помощи рок – музыки могли говорить о своих проблемах, о своем отношении к жизни, обществу, о своих интересах, о том, что их не устраивает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правления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рок (художественный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эмм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д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ти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н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эви – 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рд - 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–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дитя</a:t>
            </a: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запад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ИТМ –ЭНД – 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ОК – Н – РОЛ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РО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The</a:t>
            </a: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Beatles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0" y="1413000"/>
            <a:ext cx="3970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а родилась в 1959 году в Ливерпуле (Великобритания).Первая группа, вызвавшая интерес к рок – н – роллу у молодежи. Состав группы: Джон Леннон, Пол Маккартни, Джордж Харрисон, Ринго Ста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строли: Париж, США, Дания, Голландия, Гонконг, Австрия, Новая Зелландия, Канада. В 1965 году английский королевский дом наградил группу орденом «За бога и империю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битлз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2930400"/>
          </a:xfrm>
          <a:prstGeom prst="rect">
            <a:avLst/>
          </a:prstGeom>
          <a:ln w="0">
            <a:noFill/>
          </a:ln>
        </p:spPr>
      </p:pic>
      <p:pic>
        <p:nvPicPr>
          <p:cNvPr id="58" name="Beatles - Yesterday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74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а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осила огромный доход государственной каз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5 году во всем мире люди слушали 115 миллионов пласти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4 году выпущено дисков на сумму в 50 миллионов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 о группе « Да, да, да!», за шесть недель показа в кинотеатрах, принес доход в 24 миллиона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ные товары (футболки, мягкие игрушки ) за год принесли 400 миллионов фунто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тличительные черты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от других музыкальных направлений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обая ритмическая пульсация в ба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ьзование электромузыкальных инструмен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едение музыкантов на сце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ение на сцене различных спецэффек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48:14Z</dcterms:created>
  <dc:creator>User</dc:creator>
  <dc:description/>
  <dc:language>en-US</dc:language>
  <cp:lastModifiedBy>Коля</cp:lastModifiedBy>
  <dcterms:modified xsi:type="dcterms:W3CDTF">2013-03-20T19:35:47Z</dcterms:modified>
  <cp:revision>39</cp:revision>
  <dc:subject/>
  <dc:title>Рок - музыка</dc:title>
</cp:coreProperties>
</file>