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EBE-FA82-4152-A662-B88F34A3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97E-364C-4BD6-9963-42CEF0C4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C92-2E67-4811-BD04-505E6675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DD0-0292-450B-B397-CF3F0802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BA3F-3FDF-4D8D-829B-3486D524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092E-E535-4400-B471-36C477AE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238E-5011-465E-A897-D60E892B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2CF9-39F4-491F-925D-F4F5B886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CBC6-E737-4810-97BC-B2B214FB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82DD-C289-41F1-A25D-44157C54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5DD0-D9E6-4192-A377-44C00AAB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9B0-2F39-40FC-9D72-05513681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A72C-88B4-48E1-A58A-D6845923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5791-352D-4DC0-A04C-580DCC75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0EA3-3A36-485B-AB93-CC0878F8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2CFE-FE3E-4B78-A095-B98B3F0C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1AFE-7D53-443F-B7DD-F2377EAC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BF6-B18F-4592-AC12-55F0289E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49B-6F98-4850-B36E-9813ED92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451-DF4D-41B7-BDBF-C0E8B83F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F82-6BA1-4A1A-B695-9172F496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F5B-F2BA-446A-A7A9-DE0EDD32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15F-432E-4ED9-8D9D-C1B96ED8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031-8A91-463D-8CA2-515B9187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C45E-47B0-4760-8F63-D2E8F6637C5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0E4C-82B3-47FB-B916-645B1B16E0F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5" TargetMode="External"/><Relationship Id="rId2" Type="http://schemas.openxmlformats.org/officeDocument/2006/relationships/hyperlink" Target="http://ru.wikipedia.org/wiki/1941" TargetMode="External"/><Relationship Id="rId3" Type="http://schemas.openxmlformats.org/officeDocument/2006/relationships/hyperlink" Target="http://ru.wikipedia.org/wiki/&#1064;&#1077;&#1082;&#1089;&#1087;&#1080;&#1088;,_&#1059;&#1080;&#1083;&#1100;&#1103;&#1084;" TargetMode="External"/><Relationship Id="rId4" Type="http://schemas.openxmlformats.org/officeDocument/2006/relationships/hyperlink" Target="http://ru.wikipedia.org/wiki/1944" TargetMode="External"/><Relationship Id="rId5" Type="http://schemas.openxmlformats.org/officeDocument/2006/relationships/hyperlink" Target="http://ru.wikipedia.org/wiki/1960" TargetMode="External"/><Relationship Id="rId6" Type="http://schemas.openxmlformats.org/officeDocument/2006/relationships/hyperlink" Target="http://ru.wikipedia.org/wiki/1950" TargetMode="External"/><Relationship Id="rId7" Type="http://schemas.openxmlformats.org/officeDocument/2006/relationships/hyperlink" Target="http://ru.wikipedia.org/wiki/&#1041;&#1105;&#1088;&#1085;&#1089;,_&#1056;&#1086;&#1073;&#1077;&#1088;&#1090;" TargetMode="External"/><Relationship Id="rId8" Type="http://schemas.openxmlformats.org/officeDocument/2006/relationships/hyperlink" Target="http://ru.wikipedia.org/wiki/&#1052;&#1072;&#1088;&#1096;&#1072;&#1082;,_&#1057;&#1072;&#1084;&#1091;&#1080;&#1083;_&#1071;&#1082;&#1086;&#1074;&#1083;&#1077;&#1074;&#1080;&#1095;" TargetMode="External"/><Relationship Id="rId9" Type="http://schemas.openxmlformats.org/officeDocument/2006/relationships/hyperlink" Target="http://ru.wikipedia.org/wiki/1955" TargetMode="External"/><Relationship Id="rId10" Type="http://schemas.openxmlformats.org/officeDocument/2006/relationships/hyperlink" Target="http://ru.wikipedia.org/wiki/&#1045;&#1089;&#1077;&#1085;&#1080;&#1085;,_&#1057;&#1077;&#1088;&#1075;&#1077;&#1081;_&#1040;&#1083;&#1077;&#1082;&#1089;&#1072;&#1085;&#1076;&#1088;&#1086;&#1074;&#1080;&#1095;" TargetMode="External"/><Relationship Id="rId11" Type="http://schemas.openxmlformats.org/officeDocument/2006/relationships/hyperlink" Target="http://ru.wikipedia.org/wiki/1956" TargetMode="External"/><Relationship Id="rId12" Type="http://schemas.openxmlformats.org/officeDocument/2006/relationships/hyperlink" Target="http://ru.wikipedia.org/wiki/&#1055;&#1086;&#1101;&#1084;&#1072;_(&#1084;&#1091;&#1079;&#1099;&#1082;&#1072;)" TargetMode="External"/><Relationship Id="rId13" Type="http://schemas.openxmlformats.org/officeDocument/2006/relationships/hyperlink" Target="http://ru.wikipedia.org/wiki/&#1045;&#1089;&#1077;&#1085;&#1080;&#1085;,_&#1057;&#1077;&#1088;&#1075;&#1077;&#1081;_&#1040;&#1083;&#1077;&#1082;&#1089;&#1072;&#1085;&#1076;&#1088;&#1086;&#1074;&#1080;&#1095;" TargetMode="External"/><Relationship Id="rId14" Type="http://schemas.openxmlformats.org/officeDocument/2006/relationships/hyperlink" Target="http://ru.wikipedia.org/wiki/1956" TargetMode="External"/><Relationship Id="rId15" Type="http://schemas.openxmlformats.org/officeDocument/2006/relationships/hyperlink" Target="http://ru.wikipedia.org/wiki/&#1041;&#1083;&#1086;&#1082;,_&#1040;&#1083;&#1077;&#1082;&#1089;&#1072;&#1085;&#1076;&#1088;_&#1040;&#1083;&#1077;&#1082;&#1089;&#1072;&#1085;&#1076;&#1088;&#1086;&#1074;&#1080;&#1095;" TargetMode="External"/><Relationship Id="rId16" Type="http://schemas.openxmlformats.org/officeDocument/2006/relationships/hyperlink" Target="http://ru.wikipedia.org/wiki/1961" TargetMode="External"/><Relationship Id="rId17" Type="http://schemas.openxmlformats.org/officeDocument/2006/relationships/hyperlink" Target="http://ru.wikipedia.org/wiki/1969" TargetMode="External"/><Relationship Id="rId18" Type="http://schemas.openxmlformats.org/officeDocument/2006/relationships/hyperlink" Target="http://ru.wikipedia.org/wiki/&#1058;&#1102;&#1090;&#1095;&#1077;&#1074;,_&#1060;&#1105;&#1076;&#1086;&#1088;_&#1048;&#1074;&#1072;&#1085;&#1086;&#1074;&#1080;&#1095;" TargetMode="External"/><Relationship Id="rId19" Type="http://schemas.openxmlformats.org/officeDocument/2006/relationships/hyperlink" Target="http://ru.wikipedia.org/wiki/1965" TargetMode="External"/><Relationship Id="rId20" Type="http://schemas.openxmlformats.org/officeDocument/2006/relationships/hyperlink" Target="http://ru.wikipedia.org/wiki/1973" TargetMode="External"/><Relationship Id="rId21" Type="http://schemas.openxmlformats.org/officeDocument/2006/relationships/hyperlink" Target="http://ru.wikipedia.org/wiki/&#1041;&#1083;&#1086;&#1082;,_&#1040;&#1083;&#1077;&#1082;&#1089;&#1072;&#1085;&#1076;&#1088;_&#1040;&#1083;&#1077;&#1082;&#1089;&#1072;&#1085;&#1076;&#1088;&#1086;&#1074;&#1080;&#1095;" TargetMode="External"/><Relationship Id="rId22" Type="http://schemas.openxmlformats.org/officeDocument/2006/relationships/slide" Target="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51" TargetMode="External"/><Relationship Id="rId2" Type="http://schemas.openxmlformats.org/officeDocument/2006/relationships/hyperlink" Target="http://ru.wikipedia.org/wiki/1943" TargetMode="External"/><Relationship Id="rId3" Type="http://schemas.openxmlformats.org/officeDocument/2006/relationships/hyperlink" Target="http://ru.wikipedia.org/wiki/&#1055;&#1091;&#1096;&#1082;&#1080;&#1085;,_&#1040;&#1083;&#1077;&#1082;&#1089;&#1072;&#1085;&#1076;&#1088;_&#1057;&#1077;&#1088;&#1075;&#1077;&#1077;&#1074;&#1080;&#1095;" TargetMode="External"/><Relationship Id="rId4" Type="http://schemas.openxmlformats.org/officeDocument/2006/relationships/hyperlink" Target="http://ru.wikipedia.org/wiki/&#1052;&#1077;&#1090;&#1077;&#1083;&#1100;_(&#1087;&#1086;&#1074;&#1077;&#1089;&#1090;&#1100;)" TargetMode="External"/><Relationship Id="rId5" Type="http://schemas.openxmlformats.org/officeDocument/2006/relationships/hyperlink" Target="http://ru.wikipedia.org/wiki/1964" TargetMode="External"/><Relationship Id="rId6" Type="http://schemas.openxmlformats.org/officeDocument/2006/relationships/hyperlink" Target="http://ru.wikipedia.org/wiki/&#1057;&#1102;&#1080;&#1090;&#1072;" TargetMode="External"/><Relationship Id="rId7" Type="http://schemas.openxmlformats.org/officeDocument/2006/relationships/hyperlink" Target="http://ru.wikipedia.org/wiki/&#1042;&#1088;&#1077;&#1084;&#1103;,_&#1074;&#1087;&#1077;&#1088;&#1105;&#1076;!_(&#1089;&#1102;&#1080;&#1090;&#1072;)" TargetMode="External"/><Relationship Id="rId8" Type="http://schemas.openxmlformats.org/officeDocument/2006/relationships/hyperlink" Target="http://ru.wikipedia.org/wiki/1965" TargetMode="External"/><Relationship Id="rId9" Type="http://schemas.openxmlformats.org/officeDocument/2006/relationships/hyperlink" Target="http://ru.wikipedia.org/wiki/&#1042;&#1088;&#1077;&#1084;&#1103;,_&#1074;&#1087;&#1077;&#1088;&#1105;&#1076;!_(&#1092;&#1080;&#1083;&#1100;&#1084;)" TargetMode="External"/><Relationship Id="rId10" Type="http://schemas.openxmlformats.org/officeDocument/2006/relationships/hyperlink" Target="http://ru.wikipedia.org/wiki/&#1042;&#1088;&#1077;&#1084;&#1103;_(&#1087;&#1088;&#1086;&#1075;&#1088;&#1072;&#1084;&#1084;&#1072;)" TargetMode="Externa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usic.tonnel.ru/music/438939748_438939748forumtonnel.gi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4" TargetMode="External"/><Relationship Id="rId2" Type="http://schemas.openxmlformats.org/officeDocument/2006/relationships/hyperlink" Target="http://ru.wikipedia.org/wiki/1935" TargetMode="External"/><Relationship Id="rId3" Type="http://schemas.openxmlformats.org/officeDocument/2006/relationships/hyperlink" Target="http://ru.wikipedia.org/wiki/1944" TargetMode="External"/><Relationship Id="rId4" Type="http://schemas.openxmlformats.org/officeDocument/2006/relationships/hyperlink" Target="http://ru.wikipedia.org/wiki/1945" TargetMode="External"/><Relationship Id="rId5" Type="http://schemas.openxmlformats.org/officeDocument/2006/relationships/hyperlink" Target="http://ru.wikipedia.org/wiki/1945" TargetMode="External"/><Relationship Id="rId6" Type="http://schemas.openxmlformats.org/officeDocument/2006/relationships/hyperlink" Target="http://ru.wikipedia.org/wiki/&#1057;&#1090;&#1072;&#1083;&#1080;&#1085;&#1089;&#1082;&#1072;&#1103;_&#1087;&#1088;&#1077;&#1084;&#1080;&#1103;" TargetMode="External"/><Relationship Id="rId7" Type="http://schemas.openxmlformats.org/officeDocument/2006/relationships/hyperlink" Target="http://ru.wikipedia.org/wiki/1946" TargetMode="External"/><Relationship Id="rId8" Type="http://schemas.openxmlformats.org/officeDocument/2006/relationships/hyperlink" Target="http://ru.wikipedia.org/wiki/1940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86920" y="1700280"/>
            <a:ext cx="6473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Свиридов Георгий Васильевич -  музыкально -общественный деятель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виридов Г.В. 1954 г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Рисунок 0" descr="bio01.jpg"/>
          <p:cNvPicPr/>
          <p:nvPr/>
        </p:nvPicPr>
        <p:blipFill>
          <a:blip r:embed="rId1"/>
          <a:stretch/>
        </p:blipFill>
        <p:spPr>
          <a:xfrm>
            <a:off x="2638440" y="1268280"/>
            <a:ext cx="3357720" cy="453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изведения Свиридова Г.В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txBody>
          <a:bodyPr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Вокальная музык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6 романсов на слова А.Пушкина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35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7 романсов на слова М.Лермонтова (1938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3 романса на стихи А.Блока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41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омансы для голоса и фортепиано на стих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Уильяма Шекспир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1944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60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окальный цикл «Страна отцов» для тенора, баса и фортепиано на стихи А. И. Исаакяна, состоит из 11 романсов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1950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омансы для голоса и фортепиано на стих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Роберта Бернс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в переводах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Самуила Маршак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1955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окальный цикл для тенора, баритона и фортепиано «У меня отец крестьянин» на стих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Сергея Есенин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1956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окально-симфоническая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оэм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«Памят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Сергея Есенин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»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1956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окальный цикл (поэма) «Петербургские песни» для четырех певцов-солистов, фортепиано, скрипки и виолончели на стих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Александра Блок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1961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—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69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оманс «Эти бедные селенья» для голоса, фортепиано и гобоя на слов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Фёдора Тютчев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1965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Хоровой концерт «Памяти А. А. Юрлова» для смешанного хора, поющего без слов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1973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Гимны Родины для хора (1978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10 романсов на слова А.Блока (1972—1980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Ладога», поэма для хора на слова A. Прокофьева (1980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есни», концерт для хора a cappella на слов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1"/>
              </a:rPr>
              <a:t>Александра Блок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1980—1981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етербург», вокальная поэма (1995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еснопения и молитвы» (для хора без сопровождения)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2" action="ppaction://hlinksldjump"/>
              </a:rPr>
              <a:t>[12]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1476360" y="-116920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изведения Свиридова Г.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Музыка к кинофильма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узыкальная комедия «Огоньки» (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51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узыкальная комедия «Раскинулось море широко» (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43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узыкальные иллюстрации к повест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Александра Пушкин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«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Метель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» (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1964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Сюит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«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Время, вперёд!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» (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1965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 музыка к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одноимённому кинофильму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М. Швейцера — тема заставк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программы «Время»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выпуска новостей СССР в 21 час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«Красные колокола», сюита из музыки к кинофильму (1984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«Метель»,музыкальные иллюстрации к повести А.С.Пушкина() и д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6" descr="6[1]"/>
          <p:cNvPicPr/>
          <p:nvPr/>
        </p:nvPicPr>
        <p:blipFill>
          <a:blip r:embed="rId1"/>
          <a:stretch/>
        </p:blipFill>
        <p:spPr>
          <a:xfrm>
            <a:off x="1835280" y="765000"/>
            <a:ext cx="5545080" cy="532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32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 всей вероятности, возврат к национальной традиции, не только в смысле интонационного языка, но и по существу, в смысле нравственно-этического содержания — вот истинное, новизна для нашего времен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иридов В.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242" descr="Картинка 89 из 3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00280"/>
            <a:ext cx="410364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24000" y="341280"/>
            <a:ext cx="846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изведения Свиридова Г.В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Инструментальная музы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7 маленьких пьес для фортепиано (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34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—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35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ната для фортепиано (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1944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винтет для фортепиано и струнных (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1945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рио для фортепиано, скрипки и виолончели (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1945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;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Сталинская прем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1946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артита Ми минор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артита Фа минор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рио Ля минор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имфоническая музы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мерная симфония для струнных (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1940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окально-симфоническая поэма «Памяти Сергея Есенина» (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1956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«Весенняя кантата» для хора и симфонического оркестра (1972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9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Rectangle 43"/>
          <p:cNvSpPr/>
          <p:nvPr/>
        </p:nvSpPr>
        <p:spPr>
          <a:xfrm>
            <a:off x="-4367160" y="91584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еправильно пишут о моем пристрастии к литературе или что я считаю литературу первой в иерархии искусств. Последнее — совсем чепуха.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Я же пристрастен к слову (!!!), как к началу начал, сокровенной сущности жизни и мира. Литература же и ее собственные формы — это совсем иное. Многое мне в этом (в литературе собственно) чуждо. Наиболее действенным из искусств представляется мне синтез слова и музыки. Этим я и занимаюс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иридов Г.В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1:38:06Z</dcterms:created>
  <dc:creator>user</dc:creator>
  <dc:description/>
  <dc:language>en-US</dc:language>
  <cp:lastModifiedBy>Пользователь</cp:lastModifiedBy>
  <dcterms:modified xsi:type="dcterms:W3CDTF">2013-08-16T16:34:56Z</dcterms:modified>
  <cp:revision>27</cp:revision>
  <dc:subject/>
  <dc:title>Дипломная работа на тему: «Совершенствование стратегического управления на предприятии (на примере ООО «ТК-доп»</dc:title>
</cp:coreProperties>
</file>