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97E-4EE9-4F3E-92D8-8F2AECA8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0EA-0813-4CC4-964C-94F3A327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617-7447-4BAD-84A5-709EE528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8D5-4179-4697-A7B6-0F221E0F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5AD0-D0E1-4036-8AED-210AA678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8A01-7888-47CC-A7DA-55DB5FB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4EA4-F2CE-4605-890D-340B1DC2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188F-014C-4691-B67D-EE3232F6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EFFF-36AD-410E-A5DB-2E64A23F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3220-4E3A-4DF8-B8FA-326EB2A7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D489-5C4C-4CE1-B8CA-71A41C02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4E8-D4FD-4571-BC99-CD6B3F8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532D-0DFF-4BB3-BBEA-045442F8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8AD1-F0B7-4BE2-BB11-22223032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9AF2-2052-4B6B-B472-2EA9CEBD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09AE-DCEA-4D0B-A824-47550416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A856-2E36-4DAA-A966-F88594E5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1A5-45EB-47B5-ADCB-193BAFAB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E4C-E5E7-4293-8B42-63AF0B33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78E-8559-41C3-BD82-E618FFF2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220-26D9-4C69-B9C3-07B77BB9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F78-349A-4DCB-9710-3572494C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BA2-5B4C-4E93-BA17-7BDB5365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E32-95E5-4CDC-88B8-019CE9C4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B814-01DD-4AD3-A055-F33C74E528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77EE-2183-4ED6-83E5-C20801C2F6D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5" TargetMode="External"/><Relationship Id="rId2" Type="http://schemas.openxmlformats.org/officeDocument/2006/relationships/hyperlink" Target="http://ru.wikipedia.org/wiki/1941" TargetMode="External"/><Relationship Id="rId3" Type="http://schemas.openxmlformats.org/officeDocument/2006/relationships/hyperlink" Target="http://ru.wikipedia.org/wiki/&#1064;&#1077;&#1082;&#1089;&#1087;&#1080;&#1088;,_&#1059;&#1080;&#1083;&#1100;&#1103;&#1084;" TargetMode="External"/><Relationship Id="rId4" Type="http://schemas.openxmlformats.org/officeDocument/2006/relationships/hyperlink" Target="http://ru.wikipedia.org/wiki/1944" TargetMode="External"/><Relationship Id="rId5" Type="http://schemas.openxmlformats.org/officeDocument/2006/relationships/hyperlink" Target="http://ru.wikipedia.org/wiki/1960" TargetMode="External"/><Relationship Id="rId6" Type="http://schemas.openxmlformats.org/officeDocument/2006/relationships/hyperlink" Target="http://ru.wikipedia.org/wiki/1950" TargetMode="External"/><Relationship Id="rId7" Type="http://schemas.openxmlformats.org/officeDocument/2006/relationships/hyperlink" Target="http://ru.wikipedia.org/wiki/&#1041;&#1105;&#1088;&#1085;&#1089;,_&#1056;&#1086;&#1073;&#1077;&#1088;&#1090;" TargetMode="External"/><Relationship Id="rId8" Type="http://schemas.openxmlformats.org/officeDocument/2006/relationships/hyperlink" Target="http://ru.wikipedia.org/wiki/&#1052;&#1072;&#1088;&#1096;&#1072;&#1082;,_&#1057;&#1072;&#1084;&#1091;&#1080;&#1083;_&#1071;&#1082;&#1086;&#1074;&#1083;&#1077;&#1074;&#1080;&#1095;" TargetMode="External"/><Relationship Id="rId9" Type="http://schemas.openxmlformats.org/officeDocument/2006/relationships/hyperlink" Target="http://ru.wikipedia.org/wiki/1955" TargetMode="External"/><Relationship Id="rId10" Type="http://schemas.openxmlformats.org/officeDocument/2006/relationships/hyperlink" Target="http://ru.wikipedia.org/wiki/&#1045;&#1089;&#1077;&#1085;&#1080;&#1085;,_&#1057;&#1077;&#1088;&#1075;&#1077;&#1081;_&#1040;&#1083;&#1077;&#1082;&#1089;&#1072;&#1085;&#1076;&#1088;&#1086;&#1074;&#1080;&#1095;" TargetMode="External"/><Relationship Id="rId11" Type="http://schemas.openxmlformats.org/officeDocument/2006/relationships/hyperlink" Target="http://ru.wikipedia.org/wiki/1956" TargetMode="External"/><Relationship Id="rId12" Type="http://schemas.openxmlformats.org/officeDocument/2006/relationships/hyperlink" Target="http://ru.wikipedia.org/wiki/&#1055;&#1086;&#1101;&#1084;&#1072;_(&#1084;&#1091;&#1079;&#1099;&#1082;&#1072;)" TargetMode="External"/><Relationship Id="rId13" Type="http://schemas.openxmlformats.org/officeDocument/2006/relationships/hyperlink" Target="http://ru.wikipedia.org/wiki/&#1045;&#1089;&#1077;&#1085;&#1080;&#1085;,_&#1057;&#1077;&#1088;&#1075;&#1077;&#1081;_&#1040;&#1083;&#1077;&#1082;&#1089;&#1072;&#1085;&#1076;&#1088;&#1086;&#1074;&#1080;&#1095;" TargetMode="External"/><Relationship Id="rId14" Type="http://schemas.openxmlformats.org/officeDocument/2006/relationships/hyperlink" Target="http://ru.wikipedia.org/wiki/1956" TargetMode="External"/><Relationship Id="rId15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16" Type="http://schemas.openxmlformats.org/officeDocument/2006/relationships/hyperlink" Target="http://ru.wikipedia.org/wiki/1961" TargetMode="External"/><Relationship Id="rId17" Type="http://schemas.openxmlformats.org/officeDocument/2006/relationships/hyperlink" Target="http://ru.wikipedia.org/wiki/1969" TargetMode="External"/><Relationship Id="rId18" Type="http://schemas.openxmlformats.org/officeDocument/2006/relationships/hyperlink" Target="http://ru.wikipedia.org/wiki/&#1058;&#1102;&#1090;&#1095;&#1077;&#1074;,_&#1060;&#1105;&#1076;&#1086;&#1088;_&#1048;&#1074;&#1072;&#1085;&#1086;&#1074;&#1080;&#1095;" TargetMode="External"/><Relationship Id="rId19" Type="http://schemas.openxmlformats.org/officeDocument/2006/relationships/hyperlink" Target="http://ru.wikipedia.org/wiki/1965" TargetMode="External"/><Relationship Id="rId20" Type="http://schemas.openxmlformats.org/officeDocument/2006/relationships/hyperlink" Target="http://ru.wikipedia.org/wiki/1973" TargetMode="External"/><Relationship Id="rId21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2" Type="http://schemas.openxmlformats.org/officeDocument/2006/relationships/slide" Target="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51" TargetMode="External"/><Relationship Id="rId2" Type="http://schemas.openxmlformats.org/officeDocument/2006/relationships/hyperlink" Target="http://ru.wikipedia.org/wiki/1943" TargetMode="External"/><Relationship Id="rId3" Type="http://schemas.openxmlformats.org/officeDocument/2006/relationships/hyperlink" Target="http://ru.wikipedia.org/wiki/&#1055;&#1091;&#1096;&#1082;&#1080;&#1085;,_&#1040;&#1083;&#1077;&#1082;&#1089;&#1072;&#1085;&#1076;&#1088;_&#1057;&#1077;&#1088;&#1075;&#1077;&#1077;&#1074;&#1080;&#1095;" TargetMode="External"/><Relationship Id="rId4" Type="http://schemas.openxmlformats.org/officeDocument/2006/relationships/hyperlink" Target="http://ru.wikipedia.org/wiki/&#1052;&#1077;&#1090;&#1077;&#1083;&#1100;_(&#1087;&#1086;&#1074;&#1077;&#1089;&#1090;&#1100;)" TargetMode="External"/><Relationship Id="rId5" Type="http://schemas.openxmlformats.org/officeDocument/2006/relationships/hyperlink" Target="http://ru.wikipedia.org/wiki/1964" TargetMode="External"/><Relationship Id="rId6" Type="http://schemas.openxmlformats.org/officeDocument/2006/relationships/hyperlink" Target="http://ru.wikipedia.org/wiki/&#1057;&#1102;&#1080;&#1090;&#1072;" TargetMode="External"/><Relationship Id="rId7" Type="http://schemas.openxmlformats.org/officeDocument/2006/relationships/hyperlink" Target="http://ru.wikipedia.org/wiki/&#1042;&#1088;&#1077;&#1084;&#1103;,_&#1074;&#1087;&#1077;&#1088;&#1105;&#1076;!_(&#1089;&#1102;&#1080;&#1090;&#1072;)" TargetMode="External"/><Relationship Id="rId8" Type="http://schemas.openxmlformats.org/officeDocument/2006/relationships/hyperlink" Target="http://ru.wikipedia.org/wiki/1965" TargetMode="External"/><Relationship Id="rId9" Type="http://schemas.openxmlformats.org/officeDocument/2006/relationships/hyperlink" Target="http://ru.wikipedia.org/wiki/&#1042;&#1088;&#1077;&#1084;&#1103;,_&#1074;&#1087;&#1077;&#1088;&#1105;&#1076;!_(&#1092;&#1080;&#1083;&#1100;&#1084;)" TargetMode="External"/><Relationship Id="rId10" Type="http://schemas.openxmlformats.org/officeDocument/2006/relationships/hyperlink" Target="http://ru.wikipedia.org/wiki/&#1042;&#1088;&#1077;&#1084;&#1103;_(&#1087;&#1088;&#1086;&#1075;&#1088;&#1072;&#1084;&#1084;&#1072;)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usic.tonnel.ru/music/438939748_438939748forumtonnel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4" TargetMode="External"/><Relationship Id="rId2" Type="http://schemas.openxmlformats.org/officeDocument/2006/relationships/hyperlink" Target="http://ru.wikipedia.org/wiki/1935" TargetMode="External"/><Relationship Id="rId3" Type="http://schemas.openxmlformats.org/officeDocument/2006/relationships/hyperlink" Target="http://ru.wikipedia.org/wiki/1944" TargetMode="External"/><Relationship Id="rId4" Type="http://schemas.openxmlformats.org/officeDocument/2006/relationships/hyperlink" Target="http://ru.wikipedia.org/wiki/1945" TargetMode="External"/><Relationship Id="rId5" Type="http://schemas.openxmlformats.org/officeDocument/2006/relationships/hyperlink" Target="http://ru.wikipedia.org/wiki/1945" TargetMode="External"/><Relationship Id="rId6" Type="http://schemas.openxmlformats.org/officeDocument/2006/relationships/hyperlink" Target="http://ru.wikipedia.org/wiki/&#1057;&#1090;&#1072;&#1083;&#1080;&#1085;&#1089;&#1082;&#1072;&#1103;_&#1087;&#1088;&#1077;&#1084;&#1080;&#1103;" TargetMode="External"/><Relationship Id="rId7" Type="http://schemas.openxmlformats.org/officeDocument/2006/relationships/hyperlink" Target="http://ru.wikipedia.org/wiki/1946" TargetMode="External"/><Relationship Id="rId8" Type="http://schemas.openxmlformats.org/officeDocument/2006/relationships/hyperlink" Target="http://ru.wikipedia.org/wiki/1940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86920" y="1700280"/>
            <a:ext cx="6473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Свиридов Георгий Васильевич -  музыкально -общественный деятель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виридов Г.В. 1954 г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Рисунок 0" descr="bio01.jpg"/>
          <p:cNvPicPr/>
          <p:nvPr/>
        </p:nvPicPr>
        <p:blipFill>
          <a:blip r:embed="rId1"/>
          <a:stretch/>
        </p:blipFill>
        <p:spPr>
          <a:xfrm>
            <a:off x="2638440" y="1268280"/>
            <a:ext cx="3357720" cy="453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изведения Свиридова Г.В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txBody>
          <a:bodyPr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окальная музы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6 романсов на слова А.Пушкина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7 романсов на слова М.Лермонтова (1938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3 романса на стихи А.Блока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41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омансы для голоса и фортепиано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Уильяма Шекспи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1944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60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ый цикл «Страна отцов» для тенора, баса и фортепиано на стихи А. И. Исаакяна, состоит из 11 романс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1950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омансы для голоса и фортепиано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Роберта Бернс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 переводах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амуила Марша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1955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ый цикл для тенора, баритона и фортепиано «У меня отец крестьянин»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ергея Есенин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1956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о-симфоническая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оэм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«Памят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Сергея Есенин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»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1956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ый цикл (поэма) «Петербургские песни» для четырех певцов-солистов, фортепиано, скрипки и виолончели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Александра Бло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1961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—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69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оманс «Эти бедные селенья» для голоса, фортепиано и гобоя на слов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Фёдора Тютчев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1965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Хоровой концерт «Памяти А. А. Юрлова» для смешанного хора, поющего без сл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1973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Гимны Родины для хора (1978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10 романсов на слова А.Блока (1972—1980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Ладога», поэма для хора на слова A. Прокофьева (1980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есни», концерт для хора a cappella на слов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Александра Бло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1980—1981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етербург», вокальная поэма (1995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еснопения и молитвы» (для хора без сопровождения)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2" action="ppaction://hlinksldjump"/>
              </a:rPr>
              <a:t>[12]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1476360" y="-116920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изведения Свиридова Г.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узыка к кинофильма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узыкальная комедия «Огоньки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51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узыкальная комедия «Раскинулось море широко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43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узыкальные иллюстрации к повест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лександра Пушки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«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Метель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1964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юи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«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ремя, вперёд!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1965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музыка 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дноимённому кинофильм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М. Швейцера — тема застав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рограммы «Время»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выпуска новостей СССР в 21 час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Красные колокола», сюита из музыки к кинофильму (1984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Метель»,музыкальные иллюстрации к повести А.С.Пушкина() и д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6" descr="6[1]"/>
          <p:cNvPicPr/>
          <p:nvPr/>
        </p:nvPicPr>
        <p:blipFill>
          <a:blip r:embed="rId1"/>
          <a:stretch/>
        </p:blipFill>
        <p:spPr>
          <a:xfrm>
            <a:off x="1835280" y="765000"/>
            <a:ext cx="5545080" cy="532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32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 всей вероятности, возврат к национальной традиции, не только в смысле интонационного языка, но и по существу, в смысле нравственно-этического содержания — вот истинное, новизна для нашего времен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иридов В.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242" descr="Картинка 89 из 3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00280"/>
            <a:ext cx="410364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24000" y="341280"/>
            <a:ext cx="846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изведения Свиридова Г.В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Инструментальная музы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7 маленьких пьес для фортепиано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4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—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35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ната для фортепиано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1944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винтет для фортепиано и струнных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1945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рио для фортепиано, скрипки и виолончели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1945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;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талинская прем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1946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артита Ми мино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артита Фа мино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рио Ля мино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имфоническая музы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мерная симфония для струнных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1940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окально-симфоническая поэма «Памяти Сергея Есенина» (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1956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«Весенняя кантата» для хора и симфонического оркестра (1972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9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-4367160" y="9158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правильно пишут о моем пристрастии к литературе или что я считаю литературу первой в иерархии искусств. Последнее — совсем чепуха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Я же пристрастен к слову (!!!), как к началу начал, сокровенной сущности жизни и мира. Литература же и ее собственные формы — это совсем иное. Многое мне в этом (в литературе собственно) чуждо. Наиболее действенным из искусств представляется мне синтез слова и музыки. Этим я и занимаюс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иридов Г.В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1:38:06Z</dcterms:created>
  <dc:creator>user</dc:creator>
  <dc:description/>
  <dc:language>en-US</dc:language>
  <cp:lastModifiedBy>Пользователь</cp:lastModifiedBy>
  <dcterms:modified xsi:type="dcterms:W3CDTF">2013-08-16T16:34:56Z</dcterms:modified>
  <cp:revision>27</cp:revision>
  <dc:subject/>
  <dc:title>Дипломная работа на тему: «Совершенствование стратегического управления на предприятии (на примере ООО «ТК-доп»</dc:title>
</cp:coreProperties>
</file>