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F94-5E2B-471E-93B3-1E071BF1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EF1-6EEB-45B0-AD58-9E73B06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D02-9FA3-49CE-BAA3-28650EA3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F58-9AAB-41C9-A21A-E75F6F5A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5E69-6CC0-40E5-B583-993C6A3D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7440-5C62-41DA-B998-DD81225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A602-BC96-4E3A-BEED-E328E027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DA1E-63FC-4ADF-A201-1A499D07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84B0-EFCC-4F38-A8CB-E67CCBC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DE7C-99B8-4B52-8082-910B30C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D13-9205-4800-9077-3BCDCC4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518-8ED0-427E-AAF4-90AFFC69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DE58-8590-4384-BBCC-14600EE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E365-D775-457E-B7DE-D48353EB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420-9094-4E20-9192-B5D24F2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212D-2896-4208-9E27-1B37CC8C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A9A9-B73B-4ADD-8B69-7F5732E5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9DF-71CA-4249-8BAB-EC033D0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C37-2603-406E-9F8E-C196B67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387-42F5-4C97-9213-35E00AE8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D03-369A-42C0-AD25-A1C037C2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B2D-D7ED-4C37-88B2-FFC810B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1F0-7733-4DB9-8FEC-09317E5A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0DE-30B9-453C-96DB-337C728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0CB2-C59E-47A0-93B3-5531EAED13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73A6-9143-4482-9F53-964D8A6603F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5" TargetMode="External"/><Relationship Id="rId2" Type="http://schemas.openxmlformats.org/officeDocument/2006/relationships/hyperlink" Target="http://ru.wikipedia.org/wiki/1941" TargetMode="External"/><Relationship Id="rId3" Type="http://schemas.openxmlformats.org/officeDocument/2006/relationships/hyperlink" Target="http://ru.wikipedia.org/wiki/&#1064;&#1077;&#1082;&#1089;&#1087;&#1080;&#1088;,_&#1059;&#1080;&#1083;&#1100;&#1103;&#1084;" TargetMode="External"/><Relationship Id="rId4" Type="http://schemas.openxmlformats.org/officeDocument/2006/relationships/hyperlink" Target="http://ru.wikipedia.org/wiki/1944" TargetMode="External"/><Relationship Id="rId5" Type="http://schemas.openxmlformats.org/officeDocument/2006/relationships/hyperlink" Target="http://ru.wikipedia.org/wiki/1960" TargetMode="External"/><Relationship Id="rId6" Type="http://schemas.openxmlformats.org/officeDocument/2006/relationships/hyperlink" Target="http://ru.wikipedia.org/wiki/1950" TargetMode="External"/><Relationship Id="rId7" Type="http://schemas.openxmlformats.org/officeDocument/2006/relationships/hyperlink" Target="http://ru.wikipedia.org/wiki/&#1041;&#1105;&#1088;&#1085;&#1089;,_&#1056;&#1086;&#1073;&#1077;&#1088;&#1090;" TargetMode="External"/><Relationship Id="rId8" Type="http://schemas.openxmlformats.org/officeDocument/2006/relationships/hyperlink" Target="http://ru.wikipedia.org/wiki/&#1052;&#1072;&#1088;&#1096;&#1072;&#1082;,_&#1057;&#1072;&#1084;&#1091;&#1080;&#1083;_&#1071;&#1082;&#1086;&#1074;&#1083;&#1077;&#1074;&#1080;&#1095;" TargetMode="External"/><Relationship Id="rId9" Type="http://schemas.openxmlformats.org/officeDocument/2006/relationships/hyperlink" Target="http://ru.wikipedia.org/wiki/1955" TargetMode="External"/><Relationship Id="rId10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1" Type="http://schemas.openxmlformats.org/officeDocument/2006/relationships/hyperlink" Target="http://ru.wikipedia.org/wiki/1956" TargetMode="External"/><Relationship Id="rId12" Type="http://schemas.openxmlformats.org/officeDocument/2006/relationships/hyperlink" Target="http://ru.wikipedia.org/wiki/&#1055;&#1086;&#1101;&#1084;&#1072;_(&#1084;&#1091;&#1079;&#1099;&#1082;&#1072;)" TargetMode="External"/><Relationship Id="rId13" Type="http://schemas.openxmlformats.org/officeDocument/2006/relationships/hyperlink" Target="http://ru.wikipedia.org/wiki/&#1045;&#1089;&#1077;&#1085;&#1080;&#1085;,_&#1057;&#1077;&#1088;&#1075;&#1077;&#1081;_&#1040;&#1083;&#1077;&#1082;&#1089;&#1072;&#1085;&#1076;&#1088;&#1086;&#1074;&#1080;&#1095;" TargetMode="External"/><Relationship Id="rId14" Type="http://schemas.openxmlformats.org/officeDocument/2006/relationships/hyperlink" Target="http://ru.wikipedia.org/wiki/1956" TargetMode="External"/><Relationship Id="rId15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16" Type="http://schemas.openxmlformats.org/officeDocument/2006/relationships/hyperlink" Target="http://ru.wikipedia.org/wiki/1961" TargetMode="External"/><Relationship Id="rId17" Type="http://schemas.openxmlformats.org/officeDocument/2006/relationships/hyperlink" Target="http://ru.wikipedia.org/wiki/1969" TargetMode="External"/><Relationship Id="rId18" Type="http://schemas.openxmlformats.org/officeDocument/2006/relationships/hyperlink" Target="http://ru.wikipedia.org/wiki/&#1058;&#1102;&#1090;&#1095;&#1077;&#1074;,_&#1060;&#1105;&#1076;&#1086;&#1088;_&#1048;&#1074;&#1072;&#1085;&#1086;&#1074;&#1080;&#1095;" TargetMode="External"/><Relationship Id="rId19" Type="http://schemas.openxmlformats.org/officeDocument/2006/relationships/hyperlink" Target="http://ru.wikipedia.org/wiki/1965" TargetMode="External"/><Relationship Id="rId20" Type="http://schemas.openxmlformats.org/officeDocument/2006/relationships/hyperlink" Target="http://ru.wikipedia.org/wiki/1973" TargetMode="External"/><Relationship Id="rId21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2" Type="http://schemas.openxmlformats.org/officeDocument/2006/relationships/slide" Target="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1" TargetMode="External"/><Relationship Id="rId2" Type="http://schemas.openxmlformats.org/officeDocument/2006/relationships/hyperlink" Target="http://ru.wikipedia.org/wiki/1943" TargetMode="External"/><Relationship Id="rId3" Type="http://schemas.openxmlformats.org/officeDocument/2006/relationships/hyperlink" Target="http://ru.wikipedia.org/wiki/&#1055;&#1091;&#1096;&#1082;&#1080;&#1085;,_&#1040;&#1083;&#1077;&#1082;&#1089;&#1072;&#1085;&#1076;&#1088;_&#1057;&#1077;&#1088;&#1075;&#1077;&#1077;&#1074;&#1080;&#1095;" TargetMode="External"/><Relationship Id="rId4" Type="http://schemas.openxmlformats.org/officeDocument/2006/relationships/hyperlink" Target="http://ru.wikipedia.org/wiki/&#1052;&#1077;&#1090;&#1077;&#1083;&#1100;_(&#1087;&#1086;&#1074;&#1077;&#1089;&#1090;&#1100;)" TargetMode="External"/><Relationship Id="rId5" Type="http://schemas.openxmlformats.org/officeDocument/2006/relationships/hyperlink" Target="http://ru.wikipedia.org/wiki/1964" TargetMode="External"/><Relationship Id="rId6" Type="http://schemas.openxmlformats.org/officeDocument/2006/relationships/hyperlink" Target="http://ru.wikipedia.org/wiki/&#1057;&#1102;&#1080;&#1090;&#1072;" TargetMode="External"/><Relationship Id="rId7" Type="http://schemas.openxmlformats.org/officeDocument/2006/relationships/hyperlink" Target="http://ru.wikipedia.org/wiki/&#1042;&#1088;&#1077;&#1084;&#1103;,_&#1074;&#1087;&#1077;&#1088;&#1105;&#1076;!_(&#1089;&#1102;&#1080;&#1090;&#1072;)" TargetMode="External"/><Relationship Id="rId8" Type="http://schemas.openxmlformats.org/officeDocument/2006/relationships/hyperlink" Target="http://ru.wikipedia.org/wiki/1965" TargetMode="External"/><Relationship Id="rId9" Type="http://schemas.openxmlformats.org/officeDocument/2006/relationships/hyperlink" Target="http://ru.wikipedia.org/wiki/&#1042;&#1088;&#1077;&#1084;&#1103;,_&#1074;&#1087;&#1077;&#1088;&#1105;&#1076;!_(&#1092;&#1080;&#1083;&#1100;&#1084;)" TargetMode="External"/><Relationship Id="rId10" Type="http://schemas.openxmlformats.org/officeDocument/2006/relationships/hyperlink" Target="http://ru.wikipedia.org/wiki/&#1042;&#1088;&#1077;&#1084;&#1103;_(&#1087;&#1088;&#1086;&#1075;&#1088;&#1072;&#1084;&#1084;&#1072;)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usic.tonnel.ru/music/438939748_438939748forumtonnel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4" TargetMode="External"/><Relationship Id="rId2" Type="http://schemas.openxmlformats.org/officeDocument/2006/relationships/hyperlink" Target="http://ru.wikipedia.org/wiki/1935" TargetMode="External"/><Relationship Id="rId3" Type="http://schemas.openxmlformats.org/officeDocument/2006/relationships/hyperlink" Target="http://ru.wikipedia.org/wiki/1944" TargetMode="External"/><Relationship Id="rId4" Type="http://schemas.openxmlformats.org/officeDocument/2006/relationships/hyperlink" Target="http://ru.wikipedia.org/wiki/1945" TargetMode="External"/><Relationship Id="rId5" Type="http://schemas.openxmlformats.org/officeDocument/2006/relationships/hyperlink" Target="http://ru.wikipedia.org/wiki/1945" TargetMode="External"/><Relationship Id="rId6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7" Type="http://schemas.openxmlformats.org/officeDocument/2006/relationships/hyperlink" Target="http://ru.wikipedia.org/wiki/1946" TargetMode="External"/><Relationship Id="rId8" Type="http://schemas.openxmlformats.org/officeDocument/2006/relationships/hyperlink" Target="http://ru.wikipedia.org/wiki/1940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86920" y="1700280"/>
            <a:ext cx="6473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Свиридов Георгий Васильевич -  музыкально -общественный деятель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виридов Г.В. 1954 г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Рисунок 0" descr="bio01.jpg"/>
          <p:cNvPicPr/>
          <p:nvPr/>
        </p:nvPicPr>
        <p:blipFill>
          <a:blip r:embed="rId1"/>
          <a:stretch/>
        </p:blipFill>
        <p:spPr>
          <a:xfrm>
            <a:off x="2638440" y="1268280"/>
            <a:ext cx="335772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кальная музы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6 романсов на слова А.Пушкин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7 романсов на слова М.Лермонтова (193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3 романса на стихи А.Блока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Уильяма Шекспи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4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6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«Страна отцов» для тенора, баса и фортепиано на стихи А. И. Исаакяна, состоит из 11 романс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1950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ы для голоса и фортепиано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Роберта Бернс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 переводах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амуила Марша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195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для тенора, баритона и фортепиано «У меня отец крестьянин»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о-симфоническая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оэм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«Памят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Сергея Есенин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1956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окальный цикл (поэма) «Петербургские песни» для четырех певцов-солистов, фортепиано, скрипки и виолончели на стих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1961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69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Романс «Эти бедные селенья» для голоса, фортепиано и гобоя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Фёдора Тютчев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1965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Хоровой концерт «Памяти А. А. Юрлова» для смешанного хора, поющего без сл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1973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Гимны Родины для хора (1978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10 романсов на слова А.Блока (1972—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Ладога», поэма для хора на слова A. Прокофьева (1980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и», концерт для хора a cappella на слов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Александра Блок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(1980—1981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тербург», вокальная поэма (1995)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«Песнопения и молитвы» (для хора без сопровождения)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2" action="ppaction://hlinksldjump"/>
              </a:rPr>
              <a:t>[12]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1476360" y="-1169208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Музыка к кинофильма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Огоньки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51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ая комедия «Раскинулось море широко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43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узыкальные иллюстрации к повест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лександра Пушки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Метель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64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юи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«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ремя, вперёд!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» (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65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музыка 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дноимённому кинофильм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М. Швейцера — тема застав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рограммы «Время»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выпуска новостей СССР в 21 час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Красные колокола», сюита из музыки к кинофильму (1984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«Метель»,музыкальные иллюстрации к повести А.С.Пушкина() и др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6" descr="6[1]"/>
          <p:cNvPicPr/>
          <p:nvPr/>
        </p:nvPicPr>
        <p:blipFill>
          <a:blip r:embed="rId1"/>
          <a:stretch/>
        </p:blipFill>
        <p:spPr>
          <a:xfrm>
            <a:off x="1835280" y="765000"/>
            <a:ext cx="5545080" cy="532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32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 всей вероятности, возврат к национальной традиции, не только в смысле интонационного языка, но и по существу, в смысле нравственно-этического содержания — вот истинное, новизна для нашего времен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В.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242" descr="Картинка 89 из 3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00280"/>
            <a:ext cx="4103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24000" y="341280"/>
            <a:ext cx="846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изведения Свиридова Г.В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нструментальн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7 маленьких пьес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3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ната для фортепиано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1944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винтет для фортепиано и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для фортепиано, скрипки и виолончели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1945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;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талинская прем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194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Ми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артита Фа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рио Ля мин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имфоническая музы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мерная симфония для струнных (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1940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кально-симфоническая поэма «Памяти Сергея Есенина» (</a:t>
            </a: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1956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«Весенняя кантата» для хора и симфонического оркестра (1972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9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-4367160" y="9158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о пишут о моем пристрастии к литературе или что я считаю литературу первой в иерархии искусств. Последнее — совсем чепуха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Я же пристрастен к слову (!!!), как к началу начал, сокровенной сущности жизни и мира. Литература же и ее собственные формы — это совсем иное. Многое мне в этом (в литературе собственно) чуждо. Наиболее действенным из искусств представляется мне синтез слова и музыки. Этим я и занимаюс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иридов Г.В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1:38:06Z</dcterms:created>
  <dc:creator>user</dc:creator>
  <dc:description/>
  <dc:language>en-US</dc:language>
  <cp:lastModifiedBy>Пользователь</cp:lastModifiedBy>
  <dcterms:modified xsi:type="dcterms:W3CDTF">2013-08-16T16:34:56Z</dcterms:modified>
  <cp:revision>27</cp:revision>
  <dc:subject/>
  <dc:title>Дипломная работа на тему: «Совершенствование стратегического управления на предприятии (на примере ООО «ТК-доп»</dc:title>
</cp:coreProperties>
</file>