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902-F77A-4C5C-9CA3-251B77F3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092-E80C-4B12-A2AA-F544C79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016-4ABD-465B-9152-350C6E4E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579-F58C-4806-B4F1-BB2A2822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695C-C200-4E2B-88EC-27108014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F356-AAAB-46EE-88C2-9374F057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E8D7-7E98-4DC1-992F-17C60EEB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3055-C130-48DA-90E8-7CAEE91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D19-515B-4A93-B4F4-200B998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66B-54FC-4092-BECC-1062B026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D9C7-0A33-450E-873A-9E6018D7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389-5C41-4BF0-BC5C-0F09A110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5E92-57C6-42AA-96B8-ACB9F34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FE7E-DCC1-40CB-9057-9511AAE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372-C84F-4F7E-8C7C-E45D07A8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2273-6802-4D75-BE18-AFC1A1B8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F0F3-791D-4145-B3EF-C2F25EE7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C2C-DF93-44B5-BC6C-ED0218A6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8F4-D49C-4CF5-8258-5994864A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36D-B594-494B-8BA6-2099043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DEC-F193-41B0-AD73-EDF6BBBD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896-D6AD-4E99-A50D-9C3E092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B45-4F23-4FD2-B001-F931AF7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B1D-D76C-4F7B-B5F9-349BB1B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5B3-9089-4C2E-B011-C78E8FE015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88CB-167E-4996-B120-364735B554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INTER SPOR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8436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рова Елена Михайлов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читель английского язы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ОУ «СОШ № 56 УИМ г Магнитогорск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nounce properly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hockey, to play hockey, a hockey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t]: not, sport, Kate, skate, badmint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gym, a sledge, to sledge, likes to sledg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the, this, this is, these, these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ŋ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spring, sing, skating, ski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i]: Jill, skip, swim, is, tennis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[i:]: ski, green, see, ski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[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o: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]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ball, football, basketball, s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9349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swer the question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ports games do you play in winter \ summer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your favourite kind of sport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 you a football fa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re do you like to play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sports games do you like to play with your friend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ING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100160"/>
          <a:ext cx="8229600" cy="463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o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l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i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ket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se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g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ce hock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k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ump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ble tenn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dmin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un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led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232240" y="0"/>
            <a:ext cx="3911760" cy="4060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103640" cy="3075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19640" y="3989520"/>
            <a:ext cx="3924360" cy="2868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59280" cy="3040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0" y="3025800"/>
            <a:ext cx="55450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estion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, to, hockey, play, likes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Who likes to play hockey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, you, pool, do, want, swimming, to, the, t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Do you want to go to the swimming pool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, ice, dance, on, can, the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800000"/>
                </a:solidFill>
                <a:latin typeface="Verdana"/>
              </a:rPr>
              <a:t>(Can you dance on the ice?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 Interview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you ski in win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 like skating on the ic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 you a good hockey play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 you like to sledge in win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c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do / No, I don’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am / No, I am no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s, I do / No, I don’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// fotki.yandex.r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ANK YOU FOR CO-OPERATION!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225440" cy="122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8:47:12Z</dcterms:created>
  <dc:creator>Admin</dc:creator>
  <dc:description/>
  <dc:language>en-US</dc:language>
  <cp:lastModifiedBy>Admin</cp:lastModifiedBy>
  <dcterms:modified xsi:type="dcterms:W3CDTF">2012-10-02T06:41:11Z</dcterms:modified>
  <cp:revision>20</cp:revision>
  <dc:subject/>
  <dc:title>s</dc:title>
</cp:coreProperties>
</file>