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BB6-993A-4142-A933-A5924156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F3B-9707-4096-84CB-7134C4AE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510-A404-4332-ACE5-F907D22C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279-1BCE-4880-A41B-82F1A908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E117-ABC2-43F5-9B27-D28EC9D9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02A9-8376-4FF1-A62F-06AD77C2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F39F-CF88-4518-A4FA-705FFDAF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94AE-800C-4FAF-9CEB-CE5E50AE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0BAE-63D8-47BE-87AF-AB603A1C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B8B2-AE6E-4ED8-B73A-2B266C17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BBF5-2784-49E5-9141-4FE9D29E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B26-AB10-4EBA-994E-66FB3594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5E55-925A-410F-BE24-5980B02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9D1D-9204-42BC-AEFB-59F87E82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D65A-F0F8-41A6-99F2-497E271F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097F-5ADF-428A-83D6-1C9853AC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DC77-A449-4510-9E7B-8DB5CFF4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4C7-2950-4594-AFB4-17C3593B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8A7-A2B8-4FA4-AE6B-AF85D461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3E8-895F-4DAE-8BB3-E22C68F3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1A4-77D4-46DD-A20A-9FFA428C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AAA-0AF1-43A2-BFFB-14B670E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A94-18A6-412A-8EB2-01199BA7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4F1-CE90-4EBA-90F9-E24992F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AE3B-47E0-4498-B080-46A02A5986A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AA74-9D17-4678-A04C-611AF08269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INTER SPOR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484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рова Елена Михайл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читель английского язы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ОУ «СОШ № 56 УИМ г Магнитогорск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67640" y="5373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nounce properly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hockey, to play hockey, a hockey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t]: not, sport, Kate, skate, badmint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gym, a sledge, to sledge, likes to sledg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]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the, this, this is, these, these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]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spring, sing, skating, ski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i]: Jill, skip, swim, is, tennis,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i:]: ski, green, see, ski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o: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]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ball, football, basketball, sp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9349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swer the question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ports games do you play in winter \ summer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your favourite kind of sport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 you a football fa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do you like to play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ports games do you like to play with your friend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667640" y="5373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ING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100160"/>
          <a:ext cx="8229600" cy="4630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o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sket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se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g 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e hock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wimm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mp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le 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dmin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un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ed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232240" y="0"/>
            <a:ext cx="3911760" cy="4060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103640" cy="307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19640" y="3989520"/>
            <a:ext cx="3924360" cy="2868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59280" cy="3040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0" y="3025800"/>
            <a:ext cx="5545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estion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, to, hockey, play, likes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(Who likes to play hockey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, you, pool, do, want, swimming, to, the, t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(Do you want to go to the swimming pool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, ice, dance, on, can, the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(Can you dance on the ice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n Interview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you ski in wint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 you like skating on the ic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you a good hockey play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 you like to sledge in wint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c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do / No, I don’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am / No, I am no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do / No, I don’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// fotki.yandex.r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ANK YOU FOR CO-OPERATION!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8:47:12Z</dcterms:created>
  <dc:creator>Admin</dc:creator>
  <dc:description/>
  <dc:language>en-US</dc:language>
  <cp:lastModifiedBy>Admin</cp:lastModifiedBy>
  <dcterms:modified xsi:type="dcterms:W3CDTF">2012-10-02T06:41:11Z</dcterms:modified>
  <cp:revision>20</cp:revision>
  <dc:subject/>
  <dc:title>s</dc:title>
</cp:coreProperties>
</file>