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BA1-7D83-4D53-834F-1BF36C97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DDE-3F1B-4432-AAB6-610E20A3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0B7-2C54-448E-90B1-7DEB27B7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CE1-F10B-4340-A48B-0618D591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C14C-C5A4-4563-9E48-8810036C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699-3878-4747-9EC7-3928842A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0612-E999-45BF-8003-83C8EEFC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E7D-AEEA-493A-9CFD-11B13C9B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E66B-943D-471D-A800-A0A8E0C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AE19-4A57-4894-B576-36099763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0524-2A3B-419A-B248-1B45191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DC1-0188-4F5E-84F2-B0E34D4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912B-CB46-45D9-991A-24E22743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82F-CA2A-4142-BF0B-0726739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79E-9321-4DF3-B8FD-837B094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ADAB-A344-4D7C-A707-C7EB549E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D0D3-FBC1-47B1-8B3C-54145520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C2F-4A55-4B2D-81DC-BAA6A0F5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0A2-4779-4CDD-98A6-4084782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0F5-FDC5-4377-8582-E535DA0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FAE-C49D-47BD-87C7-7601797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993-37B3-434D-8D7A-8CC96FBB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0CA-07D5-4D2D-8BF6-43C6BD2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26F-9B0C-4D16-B672-115CEFB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5749-4228-4F35-A87A-05F7B65A7C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11A-A70E-4A81-A79A-80E679ED60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INTER SPOR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84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рова Елена Михайл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читель английского язы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ОУ «СОШ № 56 УИМ г Магнитогорск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nounce properly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hockey, to play hockey, a hockey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t]: not, sport, Kate, skate, 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gym, a sledge, to sledge, likes to sledg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the, this, this is, these, these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spring, sing, skating, ski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]: Jill, skip, swim, is, tennis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:]: ski, green, see, ski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o: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ball, football, basketball, s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349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swer the 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play in winter \ summer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your favourite kind of sport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you a football fa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do you like to pla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like to play with your frien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ING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100160"/>
          <a:ext cx="8229600" cy="463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g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 hock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m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le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dmin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n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ed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32240" y="0"/>
            <a:ext cx="3911760" cy="4060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103640" cy="307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19640" y="3989520"/>
            <a:ext cx="3924360" cy="286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3040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3025800"/>
            <a:ext cx="5545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, to, hockey, play, likes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Who likes to play hockey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, you, pool, do, want, swimming, to, the, t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Do you want to go to the swimming pool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, ice, dance, on, can, the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Can you dance on the ice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 Interview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you ski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skating on the i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you a good hockey play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to sledge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c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am / No, I am no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// fotki.yandex.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ANK YOU FOR CO-OPERATION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8:47:12Z</dcterms:created>
  <dc:creator>Admin</dc:creator>
  <dc:description/>
  <dc:language>en-US</dc:language>
  <cp:lastModifiedBy>Admin</cp:lastModifiedBy>
  <dcterms:modified xsi:type="dcterms:W3CDTF">2012-10-02T06:41:11Z</dcterms:modified>
  <cp:revision>20</cp:revision>
  <dc:subject/>
  <dc:title>s</dc:title>
</cp:coreProperties>
</file>