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A8B-15A0-4071-BC2F-C8BB5F68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C50-2C6D-464D-B779-2A826C0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80F-9A3D-402A-9F11-9BF4316C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6D7-9F4C-4F35-93EF-EDC8F64E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F397-6C2E-46EF-B6B9-E00DCDE1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DE4-0681-4119-A70B-5CC05D05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C33-38B4-415A-9323-A7E8F282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E204-DA43-48B5-A633-E7EE520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DCC-5586-44D2-AF4B-2F42D55C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16A-08F9-4234-AF9D-69E9011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EB8-461A-4C73-A94D-4F30340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470-34B7-46B9-AA99-CD07A59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BA9-F358-4E31-826B-0D538661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F92B-800B-46A1-992B-1641C0E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BCC-996A-4539-ADFB-EB2AF3E3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B16E-E39C-4BCC-A785-0DE4EF4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0C0-C459-43E2-99DE-B151E067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465-91DF-4CB5-9940-736E889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CAA-7C5F-4605-8EAD-55E21BE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182-D598-4BDA-9A00-16EA616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478-A202-4371-B503-0FB579A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C40-4952-415E-9135-9FDB35D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FEE-5555-47B1-B9BF-B461A12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3CA-2871-4B8B-B69A-3A43CAB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4E1-B135-4310-9824-C439F89981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7EF-22B4-46B3-9092-B00A055B7B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pereklichka/18436226/190160/190160_original.jpg" TargetMode="External"/><Relationship Id="rId2" Type="http://schemas.openxmlformats.org/officeDocument/2006/relationships/hyperlink" Target="http://img0.liveinternet.ru/images/attach/c/1//49/546/49546280_x_abd6f1ff.jpg" TargetMode="External"/><Relationship Id="rId3" Type="http://schemas.openxmlformats.org/officeDocument/2006/relationships/hyperlink" Target="http://img1.liveinternet.ru/images/attach/c/0/32/732/32732258_002.jpg" TargetMode="External"/><Relationship Id="rId4" Type="http://schemas.openxmlformats.org/officeDocument/2006/relationships/hyperlink" Target="http://www.stihi.ru/pics/2009/02/14/6147.jpg" TargetMode="External"/><Relationship Id="rId5" Type="http://schemas.openxmlformats.org/officeDocument/2006/relationships/hyperlink" Target="http://fs51.www.ex.ua/show/62222580/62222580.jpg?1600" TargetMode="External"/><Relationship Id="rId6" Type="http://schemas.openxmlformats.org/officeDocument/2006/relationships/hyperlink" Target="http://info-portal.best-active.ru/images/Music/talkov.jpg" TargetMode="External"/><Relationship Id="rId7" Type="http://schemas.openxmlformats.org/officeDocument/2006/relationships/hyperlink" Target="http://sirenebo.narod.ru/logo27.jpg" TargetMode="External"/><Relationship Id="rId8" Type="http://schemas.openxmlformats.org/officeDocument/2006/relationships/hyperlink" Target="http://urbanculture.in/images/thumb/0/07/&#1044;&#1078;&#1080;&#1075;&#1091;&#1088;&#1072;&#1076;&#1072;_&#1090;&#1072;&#1083;&#1100;&#1082;&#1086;&#1074;.jpg/250px-&#1044;&#1078;&#1080;&#1075;&#1091;&#1088;&#1072;&#1076;&#1072;_&#1090;&#1072;&#1083;&#1100;&#1082;&#1086;&#1074;.jpg" TargetMode="External"/><Relationship Id="rId9" Type="http://schemas.openxmlformats.org/officeDocument/2006/relationships/hyperlink" Target="http://podelise.ru/tw_files/26138/d-26137959/26137959_html_686b30e0.jpg" TargetMode="External"/><Relationship Id="rId10" Type="http://schemas.openxmlformats.org/officeDocument/2006/relationships/hyperlink" Target="http://podelise.ru/tw_files/26138/d-26137959/26137959_html_686b30e0.jpg" TargetMode="External"/><Relationship Id="rId11" Type="http://schemas.openxmlformats.org/officeDocument/2006/relationships/hyperlink" Target="http://podelise.ru/tw_files/26138/d-26137959/26137959_html_686b30e0.jpg" TargetMode="External"/><Relationship Id="rId12" Type="http://schemas.openxmlformats.org/officeDocument/2006/relationships/hyperlink" Target="http://podelise.ru/tw_files/26138/d-26137959/26137959_html_686b30e0.jpg" TargetMode="External"/><Relationship Id="rId13" Type="http://schemas.openxmlformats.org/officeDocument/2006/relationships/hyperlink" Target="http://podelise.ru/tw_files/26138/d-26137959/26137959_html_686b30e0.jpg" TargetMode="External"/><Relationship Id="rId14" Type="http://schemas.openxmlformats.org/officeDocument/2006/relationships/hyperlink" Target="http://btula.ru/thumb.php?id=data/mods/news_images/77def0ff8ee95f3b230af2e7634bffdb.jpg&amp;w=350" TargetMode="External"/><Relationship Id="rId15" Type="http://schemas.openxmlformats.org/officeDocument/2006/relationships/hyperlink" Target="http://btula.ru/thumb.php?id=data/mods/news_images/77def0ff8ee95f3b230af2e7634bffdb.jpg&amp;w=350" TargetMode="External"/><Relationship Id="rId16" Type="http://schemas.openxmlformats.org/officeDocument/2006/relationships/hyperlink" Target="http://btula.ru/thumb.php?id=data/mods/news_images/77def0ff8ee95f3b230af2e7634bffdb.jpg&amp;w=350" TargetMode="External"/><Relationship Id="rId17" Type="http://schemas.openxmlformats.org/officeDocument/2006/relationships/hyperlink" Target="http://btula.ru/thumb.php?id=data/mods/news_images/77def0ff8ee95f3b230af2e7634bffdb.jpg&amp;w=350" TargetMode="External"/><Relationship Id="rId18" Type="http://schemas.openxmlformats.org/officeDocument/2006/relationships/hyperlink" Target="http://btula.ru/thumb.php?id=data/mods/news_images/77def0ff8ee95f3b230af2e7634bffdb.jpg&amp;w=350" TargetMode="External"/><Relationship Id="rId19" Type="http://schemas.openxmlformats.org/officeDocument/2006/relationships/hyperlink" Target="http://btula.ru/thumb.php?id=data/mods/news_images/77def0ff8ee95f3b230af2e7634bffdb.jpg&amp;w=350" TargetMode="External"/><Relationship Id="rId20" Type="http://schemas.openxmlformats.org/officeDocument/2006/relationships/hyperlink" Target="http://btula.ru/thumb.php?id=data/mods/news_images/77def0ff8ee95f3b230af2e7634bffdb.jpg&amp;w=350" TargetMode="External"/><Relationship Id="rId21" Type="http://schemas.openxmlformats.org/officeDocument/2006/relationships/hyperlink" Target="http://btula.ru/thumb.php?id=data/mods/news_images/77def0ff8ee95f3b230af2e7634bffdb.jpg&amp;w=350" TargetMode="External"/><Relationship Id="rId22" Type="http://schemas.openxmlformats.org/officeDocument/2006/relationships/hyperlink" Target="http://btula.ru/thumb.php?id=data/mods/news_images/77def0ff8ee95f3b230af2e7634bffdb.jpg&amp;w=350" TargetMode="External"/><Relationship Id="rId2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albums2u.com/uploads/posts/2010-11/1289218454_igor-talkov-poslednij-koncert-1991_128.jpg" TargetMode="External"/><Relationship Id="rId2" Type="http://schemas.openxmlformats.org/officeDocument/2006/relationships/hyperlink" Target="https://encrypted-tbn2.gstatic.com/images?q=tbn:ANd9GcQ7Mf1IFoxIOGZBTrvendhG9QX7qylFV2EUAYRhImJ6kxsgf-KlNA" TargetMode="External"/><Relationship Id="rId3" Type="http://schemas.openxmlformats.org/officeDocument/2006/relationships/hyperlink" Target="http://i.livelib.ru/boocover/1000222062/l/3c16/Igor_Talkov__Igor_Talkov._Stihi_pesni_vospominaniya.jpg" TargetMode="External"/><Relationship Id="rId4" Type="http://schemas.openxmlformats.org/officeDocument/2006/relationships/hyperlink" Target="http://russrock.ru/uploads/talkov/spasatelnyi_krug.jpg" TargetMode="External"/><Relationship Id="rId5" Type="http://schemas.openxmlformats.org/officeDocument/2006/relationships/hyperlink" Target="http://www.shansonprofi.ru/img/books/c12890631430.jpg" TargetMode="External"/><Relationship Id="rId6" Type="http://schemas.openxmlformats.org/officeDocument/2006/relationships/hyperlink" Target="http://www.peoples.ru/art/music/pop/talkov/talkov_grave_120420071024156S8.jpg" TargetMode="External"/><Relationship Id="rId7" Type="http://schemas.openxmlformats.org/officeDocument/2006/relationships/hyperlink" Target="http://www.normalkino.com/_ld/183/18337.jpg" TargetMode="External"/><Relationship Id="rId8" Type="http://schemas.openxmlformats.org/officeDocument/2006/relationships/hyperlink" Target="http://s002.radikal.ru/i198/1111/80/6c64cb755d0d.jpg" TargetMode="External"/><Relationship Id="rId9" Type="http://schemas.openxmlformats.org/officeDocument/2006/relationships/hyperlink" Target="http://mobirobi.net/uploads/posts/2012-05/1336866334_za-posledney-chertoy.jpg" TargetMode="External"/><Relationship Id="rId10" Type="http://schemas.openxmlformats.org/officeDocument/2006/relationships/hyperlink" Target="http://www.yaom.ru/img_tv/tvza-poslednej-chertoj_img_0.jpg" TargetMode="External"/><Relationship Id="rId11" Type="http://schemas.openxmlformats.org/officeDocument/2006/relationships/hyperlink" Target="http://www.yaom.ru/img_tv/tvza-poslednej-chertoj_img_0.jpg" TargetMode="External"/><Relationship Id="rId12" Type="http://schemas.openxmlformats.org/officeDocument/2006/relationships/hyperlink" Target="http://www.yaom.ru/img_tv/tvza-poslednej-chertoj_img_0.jpg" TargetMode="External"/><Relationship Id="rId13" Type="http://schemas.openxmlformats.org/officeDocument/2006/relationships/hyperlink" Target="http://www.yaom.ru/img_tv/tvza-poslednej-chertoj_img_0.jpg" TargetMode="External"/><Relationship Id="rId14" Type="http://schemas.openxmlformats.org/officeDocument/2006/relationships/hyperlink" Target="http://www.yaom.ru/img_tv/tvza-poslednej-chertoj_img_0.jpg" TargetMode="External"/><Relationship Id="rId1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ergesenin.ru/wp-content/uploads/2011/12/esenin.jpg" TargetMode="External"/><Relationship Id="rId2" Type="http://schemas.openxmlformats.org/officeDocument/2006/relationships/hyperlink" Target="http://lermontov.niv.ru/images/lermontov/lermontov_23.jpg" TargetMode="External"/><Relationship Id="rId3" Type="http://schemas.openxmlformats.org/officeDocument/2006/relationships/hyperlink" Target="http://i.getmovies.ru/covers/41080_w464_h260_fc.jpg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04920" y="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Поэты не рождаются случай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5257800"/>
            <a:ext cx="4343400" cy="1334160"/>
          </a:xfrm>
          <a:prstGeom prst="rect">
            <a:avLst/>
          </a:prstGeom>
          <a:solidFill>
            <a:srgbClr val="bc7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ндарькова Татья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подаватель русского языка и литературы БОУ НПО «ПУ № 33» г.Называев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431784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809880" y="182736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ыл парень красив и тол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тоял за Россию – не тро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амилией грустной – 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с песнями круче, чем кр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6362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72000" y="762120"/>
            <a:ext cx="43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ремя не люб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оих героев, оно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езвозмездно уступает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удущему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320400">
            <a:off x="973080" y="2285640"/>
            <a:ext cx="3165480" cy="4572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350400">
            <a:off x="5638680" y="274320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80880" y="-81000"/>
            <a:ext cx="4557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Рисунок 1" descr="игорь семья.jpg"/>
          <p:cNvPicPr/>
          <p:nvPr/>
        </p:nvPicPr>
        <p:blipFill>
          <a:blip r:embed="rId3"/>
          <a:stretch/>
        </p:blipFill>
        <p:spPr>
          <a:xfrm>
            <a:off x="2666880" y="152280"/>
            <a:ext cx="441972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876560" y="380520"/>
            <a:ext cx="4267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Я считаю себя русским патриотом, потому что мне не безразлично, что происходит с Росси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4016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867280" cy="3581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2280" y="4495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орь был глубоковерующим челове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6350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524560" y="45720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5181120" y="33526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ладимир Молчанов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оздатель и вед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рограммы «До и пос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луночи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735360" y="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«Спасательный круг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 rot="717000">
            <a:off x="6629400" y="762120"/>
            <a:ext cx="2182680" cy="3429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 rot="21117600">
            <a:off x="0" y="380520"/>
            <a:ext cx="3505320" cy="2745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 rot="20616600">
            <a:off x="1371240" y="2819520"/>
            <a:ext cx="2819520" cy="403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 rot="517800">
            <a:off x="4724280" y="3047760"/>
            <a:ext cx="300528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Я - бард. Я пишу и пою песни о том, что меня волнует... Мой метод борьбы с несправедливостью и со злом, за правду и добро - мои песни…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078440" cy="5638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313240" y="533520"/>
            <a:ext cx="366552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68580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оссия – боль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циальные песни – крик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й за добро – сут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беда над злом – цел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ой долг – донести до ум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а слушателя то, о ч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лит и кричит моя ду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1120" y="228600"/>
            <a:ext cx="4651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цена! Я дошёл до тебя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стою, и пою наконец-то!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убеждён, что занял по праву свободное место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9448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407200" y="380880"/>
            <a:ext cx="373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эты Родины мо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судь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оков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 rot="20305800">
            <a:off x="4114800" y="3047760"/>
            <a:ext cx="5295960" cy="35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2427120" cy="3581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184400" y="3657600"/>
            <a:ext cx="1993680" cy="3200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586240" cy="3219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3257640" y="1143000"/>
            <a:ext cx="2967120" cy="4267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553080" y="0"/>
            <a:ext cx="231624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14600" y="5257800"/>
            <a:ext cx="48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сни, стихи Таль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егодня оформлены в прекра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ни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844800" cy="63248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 rot="283800">
            <a:off x="2133360" y="4097160"/>
            <a:ext cx="4038480" cy="27608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" descr="князь 3.jpg"/>
          <p:cNvPicPr/>
          <p:nvPr/>
        </p:nvPicPr>
        <p:blipFill>
          <a:blip r:embed="rId4"/>
          <a:stretch/>
        </p:blipFill>
        <p:spPr>
          <a:xfrm rot="461400">
            <a:off x="6019560" y="2971800"/>
            <a:ext cx="2862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" descr="за последней.jpg"/>
          <p:cNvPicPr/>
          <p:nvPr/>
        </p:nvPicPr>
        <p:blipFill>
          <a:blip r:embed="rId2"/>
          <a:stretch/>
        </p:blipFill>
        <p:spPr>
          <a:xfrm>
            <a:off x="152280" y="0"/>
            <a:ext cx="2855880" cy="5100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71800" y="488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ильмом «За последней чертой» связан удивительный факт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1" descr="d1f72fe662c0.jpg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230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191120" y="22860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История России – моё давнее и сильное увлечение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ня 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зал вопрос: «Почему мы так плохо живё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живём ху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ругих? Почему постоянно страдаем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4106880" cy="58672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ывается одно из его заветных желаний – три концерта в государственном зале «Росс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«России» - о 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алько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ег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честност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14640" cy="49528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54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ын и жена Игоря Таль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оя Танька – как хрустальный стакан: как ни повернёшь, светится, играет гранями, до того чиста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62440" cy="5562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562720" y="5181120"/>
            <a:ext cx="3581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мориальная доска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К «Юбилейны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6200" y="0"/>
            <a:ext cx="525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, не допев купле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огда в их честь оркестр играет  ту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ктеры, музыканты и поэт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Целители уставших наших ду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лесах их песни птицы допева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полях для них цветы в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вь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 вдаль, но никогда не умир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в песнях и в стихах своих жив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950000" y="-360"/>
            <a:ext cx="419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Сыну России от русского народа»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а фраза, крик душ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го челове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гравирова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гильной плите Талькова на Ваганьковском кладбищ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3429000" cy="57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души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олот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ая иск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ч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2904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сылки на использованный материа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ic.pics.livejournal.com/pereklichka/18436226/190160/190160_original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img0.liveinternet.ru/images/attach/c/1//49/546/49546280_x_abd6f1ff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mg1.liveinternet.ru/images/attach/c/0/32/732/32732258_002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www.stihi.ru/pics/2009/02/14/614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fs51.www.ex.ua/show/62222580/62222580.jpg?16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info-portal.best-active.ru/images/Music/talkov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sirenebo.narod.ru/logo2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urbanculture.in/images/thumb/0/07/Джигурада_тальков.jpg/250px-Джигурада_тальков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podelise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tw_fil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/26138/d-26137959/26137959_html_686b30e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5"/>
              </a:rPr>
              <a:t>btula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6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7"/>
              </a:rPr>
              <a:t>thumb.php?id=data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8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9"/>
              </a:rPr>
              <a:t>mod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0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1"/>
              </a:rPr>
              <a:t>news_imag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2"/>
              </a:rPr>
              <a:t>/77def0ff8ee95f3b230af2e7634bffdb.jpg&amp;w=3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albums2u.com/uploads/posts/2010-11/1289218454_igor-talkov-poslednij-koncert-1991_12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s://encrypted-tbn2.gstatic.com/images?q=tbn:ANd9GcQ7Mf1IFoxIOGZBTrvendhG9QX7qylFV2EUAYRhImJ6kxsgf-Kl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livelib.ru/boocover/1000222062/l/3c16/Igor_Talkov__Igor_Talkov._Stihi_pesni_vospominaniya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russrock.ru/uploads/talkov/spasatelnyi_krug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www.shansonprofi.ru/img/books/c1289063143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peoples.ru/art/music/pop/talkov/talkov_grave_120420071024156S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normalkino.com/_ld/183/1833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s002.radikal.ru/i198/1111/80/6c64cb755d0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mobirobi.net/uploads/posts/2012-05/1336866334_za-posledney-chertoy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www.yaom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img_tv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/tvza-poslednej-chertoj_img_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sergesenin.ru/wp-content/uploads/2011/12/esen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lermontov.niv.ru/images/lermontov/lermontov_23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getmovies.ru/covers/41080_w464_h260_fc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photo.matrixhome.net/upload/blog/58d/58d9782f26d81b42200319c3c631eb6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tallinnconcerthall.com/wp-content/uploads/2012/07/alexander-pushkin255b1255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img1.liveinternet.ru/images/attach/c/8/99/827/99827205_mayak_kel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upload.wikimedia.org/wikipedia/ru/thumb/f/fe/Маяк.jpg/220px-Маяк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ikleiner.ru/pic/portrety-006m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40524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1320" y="304920"/>
            <a:ext cx="305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добно бойк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удальц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в созвуч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играл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ругие ду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дав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покойно б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х сердц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10552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здумье     Пушкин произнос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Пора! Поко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е прос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отвергает сам по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908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114800" cy="5372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52280" y="1571760"/>
            <a:ext cx="3876840" cy="528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И в нём Есенин с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Маяковским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86200" y="541008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 подадут друг другу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72200" y="2886120"/>
            <a:ext cx="2971800" cy="3971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2739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чувством родины высок,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окно туманное ча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лядит печальными глаз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агадочный и мудрый Б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 видит: жизнь пойдёт свет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грянут в ней другие гим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о будут вечно так ран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эты Родины мо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2057400" cy="1930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934320" y="2209680"/>
            <a:ext cx="2209680" cy="2206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162920" y="4267080"/>
            <a:ext cx="1779480" cy="24386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7315200" y="152280"/>
            <a:ext cx="1571760" cy="22100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" descr="Безымянный.bmp"/>
          <p:cNvPicPr/>
          <p:nvPr/>
        </p:nvPicPr>
        <p:blipFill>
          <a:blip r:embed="rId7"/>
          <a:stretch/>
        </p:blipFill>
        <p:spPr>
          <a:xfrm>
            <a:off x="152280" y="4419720"/>
            <a:ext cx="1843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7T13:26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