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1.png" ContentType="image/pn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31.png" ContentType="image/pn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711-E530-4854-A936-8BB60247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8187-3252-4052-B07A-B708B540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A21-E229-464F-B49F-A0F705FA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4A3-79B1-44D2-A9BE-40F5F34C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3686-3064-458F-8B07-D81D8AD7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4E24-90D2-43F6-9878-10C071DF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7F1F-B402-4E36-81A6-BE5D30CB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66AE-A77A-489A-B094-E12CDD2B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9917-9E14-458E-AAB8-E6A18826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454D-3277-42D9-97B0-B8A744C4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9EBF-F1A7-49AB-AB8B-230A71F7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C38B-EB01-49BA-9F47-C89CB0F8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91A9-E856-4FFF-981B-11646FA1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DC41-EF98-455B-9B02-DAED5E97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684D-E8FA-47D3-9A16-D7D444A3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CC14-EAD4-499C-AA7D-9E483440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358F-67C9-4C42-A0E4-90DE635C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DD0-3DC9-4D3D-91B9-1AF8C03C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2E7-FF73-434A-A609-489644BE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FFCD-16A9-4237-B326-69365EF1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978-2629-4B33-A326-6C1F4247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90E1-D63E-4C16-A35A-801649BB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0A7-65C7-4804-89F9-DA20CB68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5CC-7B65-4375-93FB-4D40AFCE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C896-106C-4E44-8853-EE81169D388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BDBD-E409-4D43-8A3A-8135B1F327E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c.pics.livejournal.com/pereklichka/18436226/190160/190160_original.jpg" TargetMode="External"/><Relationship Id="rId2" Type="http://schemas.openxmlformats.org/officeDocument/2006/relationships/hyperlink" Target="http://img0.liveinternet.ru/images/attach/c/1//49/546/49546280_x_abd6f1ff.jpg" TargetMode="External"/><Relationship Id="rId3" Type="http://schemas.openxmlformats.org/officeDocument/2006/relationships/hyperlink" Target="http://img1.liveinternet.ru/images/attach/c/0/32/732/32732258_002.jpg" TargetMode="External"/><Relationship Id="rId4" Type="http://schemas.openxmlformats.org/officeDocument/2006/relationships/hyperlink" Target="http://www.stihi.ru/pics/2009/02/14/6147.jpg" TargetMode="External"/><Relationship Id="rId5" Type="http://schemas.openxmlformats.org/officeDocument/2006/relationships/hyperlink" Target="http://fs51.www.ex.ua/show/62222580/62222580.jpg?1600" TargetMode="External"/><Relationship Id="rId6" Type="http://schemas.openxmlformats.org/officeDocument/2006/relationships/hyperlink" Target="http://info-portal.best-active.ru/images/Music/talkov.jpg" TargetMode="External"/><Relationship Id="rId7" Type="http://schemas.openxmlformats.org/officeDocument/2006/relationships/hyperlink" Target="http://sirenebo.narod.ru/logo27.jpg" TargetMode="External"/><Relationship Id="rId8" Type="http://schemas.openxmlformats.org/officeDocument/2006/relationships/hyperlink" Target="http://urbanculture.in/images/thumb/0/07/&#1044;&#1078;&#1080;&#1075;&#1091;&#1088;&#1072;&#1076;&#1072;_&#1090;&#1072;&#1083;&#1100;&#1082;&#1086;&#1074;.jpg/250px-&#1044;&#1078;&#1080;&#1075;&#1091;&#1088;&#1072;&#1076;&#1072;_&#1090;&#1072;&#1083;&#1100;&#1082;&#1086;&#1074;.jpg" TargetMode="External"/><Relationship Id="rId9" Type="http://schemas.openxmlformats.org/officeDocument/2006/relationships/hyperlink" Target="http://podelise.ru/tw_files/26138/d-26137959/26137959_html_686b30e0.jpg" TargetMode="External"/><Relationship Id="rId10" Type="http://schemas.openxmlformats.org/officeDocument/2006/relationships/hyperlink" Target="http://podelise.ru/tw_files/26138/d-26137959/26137959_html_686b30e0.jpg" TargetMode="External"/><Relationship Id="rId11" Type="http://schemas.openxmlformats.org/officeDocument/2006/relationships/hyperlink" Target="http://podelise.ru/tw_files/26138/d-26137959/26137959_html_686b30e0.jpg" TargetMode="External"/><Relationship Id="rId12" Type="http://schemas.openxmlformats.org/officeDocument/2006/relationships/hyperlink" Target="http://podelise.ru/tw_files/26138/d-26137959/26137959_html_686b30e0.jpg" TargetMode="External"/><Relationship Id="rId13" Type="http://schemas.openxmlformats.org/officeDocument/2006/relationships/hyperlink" Target="http://podelise.ru/tw_files/26138/d-26137959/26137959_html_686b30e0.jpg" TargetMode="External"/><Relationship Id="rId14" Type="http://schemas.openxmlformats.org/officeDocument/2006/relationships/hyperlink" Target="http://btula.ru/thumb.php?id=data/mods/news_images/77def0ff8ee95f3b230af2e7634bffdb.jpg&amp;w=350" TargetMode="External"/><Relationship Id="rId15" Type="http://schemas.openxmlformats.org/officeDocument/2006/relationships/hyperlink" Target="http://btula.ru/thumb.php?id=data/mods/news_images/77def0ff8ee95f3b230af2e7634bffdb.jpg&amp;w=350" TargetMode="External"/><Relationship Id="rId16" Type="http://schemas.openxmlformats.org/officeDocument/2006/relationships/hyperlink" Target="http://btula.ru/thumb.php?id=data/mods/news_images/77def0ff8ee95f3b230af2e7634bffdb.jpg&amp;w=350" TargetMode="External"/><Relationship Id="rId17" Type="http://schemas.openxmlformats.org/officeDocument/2006/relationships/hyperlink" Target="http://btula.ru/thumb.php?id=data/mods/news_images/77def0ff8ee95f3b230af2e7634bffdb.jpg&amp;w=350" TargetMode="External"/><Relationship Id="rId18" Type="http://schemas.openxmlformats.org/officeDocument/2006/relationships/hyperlink" Target="http://btula.ru/thumb.php?id=data/mods/news_images/77def0ff8ee95f3b230af2e7634bffdb.jpg&amp;w=350" TargetMode="External"/><Relationship Id="rId19" Type="http://schemas.openxmlformats.org/officeDocument/2006/relationships/hyperlink" Target="http://btula.ru/thumb.php?id=data/mods/news_images/77def0ff8ee95f3b230af2e7634bffdb.jpg&amp;w=350" TargetMode="External"/><Relationship Id="rId20" Type="http://schemas.openxmlformats.org/officeDocument/2006/relationships/hyperlink" Target="http://btula.ru/thumb.php?id=data/mods/news_images/77def0ff8ee95f3b230af2e7634bffdb.jpg&amp;w=350" TargetMode="External"/><Relationship Id="rId21" Type="http://schemas.openxmlformats.org/officeDocument/2006/relationships/hyperlink" Target="http://btula.ru/thumb.php?id=data/mods/news_images/77def0ff8ee95f3b230af2e7634bffdb.jpg&amp;w=350" TargetMode="External"/><Relationship Id="rId22" Type="http://schemas.openxmlformats.org/officeDocument/2006/relationships/hyperlink" Target="http://btula.ru/thumb.php?id=data/mods/news_images/77def0ff8ee95f3b230af2e7634bffdb.jpg&amp;w=350" TargetMode="External"/><Relationship Id="rId2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albums2u.com/uploads/posts/2010-11/1289218454_igor-talkov-poslednij-koncert-1991_128.jpg" TargetMode="External"/><Relationship Id="rId2" Type="http://schemas.openxmlformats.org/officeDocument/2006/relationships/hyperlink" Target="https://encrypted-tbn2.gstatic.com/images?q=tbn:ANd9GcQ7Mf1IFoxIOGZBTrvendhG9QX7qylFV2EUAYRhImJ6kxsgf-KlNA" TargetMode="External"/><Relationship Id="rId3" Type="http://schemas.openxmlformats.org/officeDocument/2006/relationships/hyperlink" Target="http://i.livelib.ru/boocover/1000222062/l/3c16/Igor_Talkov__Igor_Talkov._Stihi_pesni_vospominaniya.jpg" TargetMode="External"/><Relationship Id="rId4" Type="http://schemas.openxmlformats.org/officeDocument/2006/relationships/hyperlink" Target="http://russrock.ru/uploads/talkov/spasatelnyi_krug.jpg" TargetMode="External"/><Relationship Id="rId5" Type="http://schemas.openxmlformats.org/officeDocument/2006/relationships/hyperlink" Target="http://www.shansonprofi.ru/img/books/c12890631430.jpg" TargetMode="External"/><Relationship Id="rId6" Type="http://schemas.openxmlformats.org/officeDocument/2006/relationships/hyperlink" Target="http://www.peoples.ru/art/music/pop/talkov/talkov_grave_120420071024156S8.jpg" TargetMode="External"/><Relationship Id="rId7" Type="http://schemas.openxmlformats.org/officeDocument/2006/relationships/hyperlink" Target="http://www.normalkino.com/_ld/183/18337.jpg" TargetMode="External"/><Relationship Id="rId8" Type="http://schemas.openxmlformats.org/officeDocument/2006/relationships/hyperlink" Target="http://s002.radikal.ru/i198/1111/80/6c64cb755d0d.jpg" TargetMode="External"/><Relationship Id="rId9" Type="http://schemas.openxmlformats.org/officeDocument/2006/relationships/hyperlink" Target="http://mobirobi.net/uploads/posts/2012-05/1336866334_za-posledney-chertoy.jpg" TargetMode="External"/><Relationship Id="rId10" Type="http://schemas.openxmlformats.org/officeDocument/2006/relationships/hyperlink" Target="http://www.yaom.ru/img_tv/tvza-poslednej-chertoj_img_0.jpg" TargetMode="External"/><Relationship Id="rId11" Type="http://schemas.openxmlformats.org/officeDocument/2006/relationships/hyperlink" Target="http://www.yaom.ru/img_tv/tvza-poslednej-chertoj_img_0.jpg" TargetMode="External"/><Relationship Id="rId12" Type="http://schemas.openxmlformats.org/officeDocument/2006/relationships/hyperlink" Target="http://www.yaom.ru/img_tv/tvza-poslednej-chertoj_img_0.jpg" TargetMode="External"/><Relationship Id="rId13" Type="http://schemas.openxmlformats.org/officeDocument/2006/relationships/hyperlink" Target="http://www.yaom.ru/img_tv/tvza-poslednej-chertoj_img_0.jpg" TargetMode="External"/><Relationship Id="rId14" Type="http://schemas.openxmlformats.org/officeDocument/2006/relationships/hyperlink" Target="http://www.yaom.ru/img_tv/tvza-poslednej-chertoj_img_0.jpg" TargetMode="External"/><Relationship Id="rId1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sergesenin.ru/wp-content/uploads/2011/12/esenin.jpg" TargetMode="External"/><Relationship Id="rId2" Type="http://schemas.openxmlformats.org/officeDocument/2006/relationships/hyperlink" Target="http://lermontov.niv.ru/images/lermontov/lermontov_23.jpg" TargetMode="External"/><Relationship Id="rId3" Type="http://schemas.openxmlformats.org/officeDocument/2006/relationships/hyperlink" Target="http://i.getmovies.ru/covers/41080_w464_h260_fc.jpg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04920" y="0"/>
            <a:ext cx="8686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Литературная гостиная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Поэты не рождаются случайн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48320" y="5257800"/>
            <a:ext cx="4343400" cy="1334160"/>
          </a:xfrm>
          <a:prstGeom prst="rect">
            <a:avLst/>
          </a:prstGeom>
          <a:solidFill>
            <a:srgbClr val="bc7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ондарькова Татьяна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еподаватель русского языка и литературы БОУ НПО «ПУ № 33» г.Называев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1" descr="6.jpg"/>
          <p:cNvPicPr/>
          <p:nvPr/>
        </p:nvPicPr>
        <p:blipFill>
          <a:blip r:embed="rId1"/>
          <a:stretch/>
        </p:blipFill>
        <p:spPr>
          <a:xfrm>
            <a:off x="0" y="0"/>
            <a:ext cx="431784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809880" y="1827360"/>
            <a:ext cx="5334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Был парень красив и толк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тоял за Россию – не трон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 фамилией грустной – Таль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 с песнями круче, чем кров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762800" cy="63626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4572000" y="762120"/>
            <a:ext cx="4343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ремя не люби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воих героев, оно 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безвозмездно уступает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будущему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.Таль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 rot="21320400">
            <a:off x="973080" y="2285640"/>
            <a:ext cx="3165480" cy="45720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350400">
            <a:off x="5638680" y="2743200"/>
            <a:ext cx="3076560" cy="41148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80880" y="-81000"/>
            <a:ext cx="4557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Рисунок 1" descr="игорь семья.jpg"/>
          <p:cNvPicPr/>
          <p:nvPr/>
        </p:nvPicPr>
        <p:blipFill>
          <a:blip r:embed="rId3"/>
          <a:stretch/>
        </p:blipFill>
        <p:spPr>
          <a:xfrm>
            <a:off x="2666880" y="152280"/>
            <a:ext cx="4419720" cy="25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876560" y="380520"/>
            <a:ext cx="4267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Я считаю себя русским патриотом, потому что мне не безразлично, что происходит с Россией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40165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3276720" y="3276720"/>
            <a:ext cx="5867280" cy="35812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152280" y="4495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горь был глубоковерующим человек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67360" cy="63500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5524560" y="457200"/>
            <a:ext cx="3619440" cy="27147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5181120" y="3352680"/>
            <a:ext cx="3962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Владимир Молчанов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создатель и ведущ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программы «До и посл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полуночи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735360" y="0"/>
            <a:ext cx="51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«Спасательный круг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 rot="717000">
            <a:off x="6629400" y="762120"/>
            <a:ext cx="2182680" cy="34290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 rot="21117600">
            <a:off x="0" y="380520"/>
            <a:ext cx="3505320" cy="27450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 rot="20616600">
            <a:off x="1371240" y="2819520"/>
            <a:ext cx="2819520" cy="40384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 rot="517800">
            <a:off x="4724280" y="3047760"/>
            <a:ext cx="3005280" cy="35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«Я - бард. Я пишу и пою песни о том, что меня волнует... Мой метод борьбы с несправедливостью и со злом, за правду и добро - мои песни…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078440" cy="56386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5313240" y="533520"/>
            <a:ext cx="3665520" cy="56386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286000" y="685800"/>
            <a:ext cx="5410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Россия – боль моей душ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оциальные песни – крик моей душ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Бой за добро – суть моей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обеда над злом – цель моей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Мой долг – донести до ум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ердца слушателя то, о ч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болит и кричит моя душ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.Таль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91120" y="228600"/>
            <a:ext cx="4651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цена! Я дошёл до тебя.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 стою, и пою наконец-то!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 убеждён, что занял по праву свободное место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94488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5407200" y="380880"/>
            <a:ext cx="373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оэты Родины моей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акие судьб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роков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 rot="20305800">
            <a:off x="4114800" y="3047760"/>
            <a:ext cx="5295960" cy="35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393840" y="0"/>
            <a:ext cx="2427120" cy="35812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1184400" y="3657600"/>
            <a:ext cx="1993680" cy="32004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6324480" y="3352680"/>
            <a:ext cx="2586240" cy="32194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3257640" y="1143000"/>
            <a:ext cx="2967120" cy="42670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5"/>
          <a:stretch/>
        </p:blipFill>
        <p:spPr>
          <a:xfrm>
            <a:off x="6553080" y="0"/>
            <a:ext cx="2316240" cy="30481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2514600" y="5257800"/>
            <a:ext cx="481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есни, стихи Талько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егодня оформлены в прекрас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ни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3844800" cy="63248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 rot="283800">
            <a:off x="2133360" y="4097160"/>
            <a:ext cx="4038480" cy="276084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1" descr="князь 3.jpg"/>
          <p:cNvPicPr/>
          <p:nvPr/>
        </p:nvPicPr>
        <p:blipFill>
          <a:blip r:embed="rId4"/>
          <a:stretch/>
        </p:blipFill>
        <p:spPr>
          <a:xfrm rot="461400">
            <a:off x="6019560" y="2971800"/>
            <a:ext cx="28620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6705720" cy="502920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1" descr="за последней.jpg"/>
          <p:cNvPicPr/>
          <p:nvPr/>
        </p:nvPicPr>
        <p:blipFill>
          <a:blip r:embed="rId2"/>
          <a:stretch/>
        </p:blipFill>
        <p:spPr>
          <a:xfrm>
            <a:off x="152280" y="0"/>
            <a:ext cx="2855880" cy="51004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2971800" y="48888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 фильмом «За последней чертой» связан удивительный факт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Рисунок 1" descr="d1f72fe662c0.jpg"/>
          <p:cNvPicPr/>
          <p:nvPr/>
        </p:nvPicPr>
        <p:blipFill>
          <a:blip r:embed="rId1"/>
          <a:stretch/>
        </p:blipFill>
        <p:spPr>
          <a:xfrm>
            <a:off x="0" y="380880"/>
            <a:ext cx="3962520" cy="623088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191120" y="228600"/>
            <a:ext cx="4952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«История России – моё давнее и сильное увлечение.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ня всег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рзал вопрос: «Почему мы так плохо живём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чему живём хуж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ругих? Почему постоянно страдаем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5334120" y="990720"/>
            <a:ext cx="4106880" cy="58672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1066320" y="121896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бывается одно из его заветных желаний – три концерта в государственном зале «Россия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«России» - о 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ил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Талькова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 его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честности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14640" cy="495288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80520" y="5181120"/>
            <a:ext cx="854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Сын и жена Игоря Талько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Моя Танька – как хрустальный стакан: как ни повернёшь, светится, играет гранями, до того чиста…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886200" y="121932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862440" cy="55627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562720" y="5181120"/>
            <a:ext cx="3581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емориальная доска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К «Юбилейны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708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886200" y="0"/>
            <a:ext cx="525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ни уходят, не допев куплет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Когда в их честь оркестр играет  туш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Актеры, музыканты и поэты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Целители уставших наших душ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 лесах их песни птицы допеваю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 полях для них цветы вен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овью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ни уходят вдаль, но никогда не умир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 в песнях и в стихах своих жив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876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4950000" y="-360"/>
            <a:ext cx="419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«Сыну России от русского народа»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а фраза, крик душ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усского человек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гравирована 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гильной плите Талькова на Ваганьковском кладбищ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3429000" cy="57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акие души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золот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акая искре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оч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829040" y="0"/>
            <a:ext cx="4314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92160"/>
            <a:ext cx="9144000" cy="67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сылки на использованный материа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ic.pics.livejournal.com/pereklichka/18436226/190160/190160_original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://img0.liveinternet.ru/images/attach/c/1//49/546/49546280_x_abd6f1ff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http://img1.liveinternet.ru/images/attach/c/0/32/732/32732258_002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http://www.stihi.ru/pics/2009/02/14/6147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http://fs51.www.ex.ua/show/62222580/62222580.jpg?16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http://info-portal.best-active.ru/images/Music/talkov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http://sirenebo.narod.ru/logo27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http://urbanculture.in/images/thumb/0/07/Джигурада_тальков.jpg/250px-Джигурада_тальков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9"/>
              </a:rPr>
              <a:t>http:/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0"/>
              </a:rPr>
              <a:t>podelise.ru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1"/>
              </a:rPr>
              <a:t>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2"/>
              </a:rPr>
              <a:t>tw_files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3"/>
              </a:rPr>
              <a:t>/26138/d-26137959/26137959_html_686b30e0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4"/>
              </a:rPr>
              <a:t>http:/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5"/>
              </a:rPr>
              <a:t>btula.ru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6"/>
              </a:rPr>
              <a:t>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7"/>
              </a:rPr>
              <a:t>thumb.php?id=data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8"/>
              </a:rPr>
              <a:t>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9"/>
              </a:rPr>
              <a:t>mods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20"/>
              </a:rPr>
              <a:t>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21"/>
              </a:rPr>
              <a:t>news_images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22"/>
              </a:rPr>
              <a:t>/77def0ff8ee95f3b230af2e7634bffdb.jpg&amp;w=35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85406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albums2u.com/uploads/posts/2010-11/1289218454_igor-talkov-poslednij-koncert-1991_128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s://encrypted-tbn2.gstatic.com/images?q=tbn:ANd9GcQ7Mf1IFoxIOGZBTrvendhG9QX7qylFV2EUAYRhImJ6kxsgf-Kl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http://i.livelib.ru/boocover/1000222062/l/3c16/Igor_Talkov__Igor_Talkov._Stihi_pesni_vospominaniya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http://russrock.ru/uploads/talkov/spasatelnyi_krug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http://www.shansonprofi.ru/img/books/c12890631430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http://www.peoples.ru/art/music/pop/talkov/talkov_grave_120420071024156S8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http://www.normalkino.com/_ld/183/18337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http://s002.radikal.ru/i198/1111/80/6c64cb755d0d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9"/>
              </a:rPr>
              <a:t>http://mobirobi.net/uploads/posts/2012-05/1336866334_za-posledney-chertoy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0"/>
              </a:rPr>
              <a:t>http:/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1"/>
              </a:rPr>
              <a:t>www.yaom.ru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2"/>
              </a:rPr>
              <a:t>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3"/>
              </a:rPr>
              <a:t>img_tv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4"/>
              </a:rPr>
              <a:t>/tvza-poslednej-chertoj_img_0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30168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www.sergesenin.ru/wp-content/uploads/2011/12/esenin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://lermontov.niv.ru/images/lermontov/lermontov_23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http://i.getmovies.ru/covers/41080_w464_h260_fc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photo.matrixhome.net/upload/blog/58d/58d9782f26d81b42200319c3c631eb67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tallinnconcerthall.com/wp-content/uploads/2012/07/alexander-pushkin255b1255d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img1.liveinternet.ru/images/attach/c/8/99/827/99827205_mayak_kelin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upload.wikimedia.org/wikipedia/ru/thumb/f/fe/Маяк.jpg/220px-Маяк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www.ikleiner.ru/pic/portrety-006m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405240" y="0"/>
            <a:ext cx="573876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01320" y="304920"/>
            <a:ext cx="3051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одобно бойк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удальца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ни в созвучь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е играл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Другие ду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е дава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покойно би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х сердц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5105520" y="304920"/>
            <a:ext cx="4038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 раздумье     Пушкин произноси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-Пора! Поко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ердце просит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 отвергает сам по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29084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114800" cy="53722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152280" y="1571760"/>
            <a:ext cx="3876840" cy="52862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И в нём Есенин с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    Маяковским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86200" y="5410080"/>
            <a:ext cx="5486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Не подадут друг другу ру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6172200" y="2886120"/>
            <a:ext cx="2971800" cy="39718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0" y="273960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 чувством родины высок,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 окно туманное час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Глядит печальными глаз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Загадочный и мудрый Бл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н видит: жизнь пойдёт светл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 грянут в ней другие гимн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о будут вечно так рани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оэты Родины мо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638680" cy="6858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2057400" cy="19306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1871640" cy="22860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6934320" y="2209680"/>
            <a:ext cx="2209680" cy="22068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7162920" y="4267080"/>
            <a:ext cx="1779480" cy="24386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6"/>
          <a:stretch/>
        </p:blipFill>
        <p:spPr>
          <a:xfrm>
            <a:off x="7315200" y="152280"/>
            <a:ext cx="1571760" cy="221004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1" descr="Безымянный.bmp"/>
          <p:cNvPicPr/>
          <p:nvPr/>
        </p:nvPicPr>
        <p:blipFill>
          <a:blip r:embed="rId7"/>
          <a:stretch/>
        </p:blipFill>
        <p:spPr>
          <a:xfrm>
            <a:off x="152280" y="4419720"/>
            <a:ext cx="18432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8-17T13:26:42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